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059-ADBC-4A6A-9DB9-E5CAECC1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B78-929D-485A-9468-5D04EEE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10C-4EB2-4B7C-802D-21FF0C83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BC4-D777-4637-B07A-C817449A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227C-DBBA-4400-B26A-A1D6C01F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89F0-B544-4EE5-8841-D9E950F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756-A96C-45F1-912C-FDFE55CF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38D1-92D0-43AC-9BC7-98DD859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834-DB54-4D20-B54D-C13E67D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B2C1-4B53-4372-B016-F911A833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9D0-8379-46ED-BA94-A92439A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9DA-C574-49A8-BBA0-B264551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B038-E511-4C7D-8080-A92ED6B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C8F-54DA-43FF-87E5-88796CB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EA2F-DE6E-4EB5-929D-C5E8AF5E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402D-D1EA-48C2-BB88-C1BD38C7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37B-3828-47BC-AF04-D0D13868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ED2-4E67-43EF-83E6-6619160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2F6-FD43-4CC8-997A-4F526A91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CEA-5E19-478F-844E-3458E73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379-80B8-4F61-85DE-645145FE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C7A-DA3C-4BC4-B58D-0A5544A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083-5F68-4C2C-B9D8-D719EA3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080-F330-48B1-82F4-7104ED5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9429-0124-4DE1-9D64-1FB3A1B038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54AC-E148-4D44-B95B-61E08384DD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Накануне второй мировой войны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339640" y="4149720"/>
            <a:ext cx="6545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В пользу Советов нужно сказать, что Советскому Союзу было жизненно необходимо отодвинуть как можно дальше свои исходные позиции германских армий с тем,  чтобы русские получили время и могли собрать силы со всех концов своей колоссальной империи…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. ЧЕРЧИ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ходе военных конфликтов у озера Хасан и реки Халхин-Гол состоялась проба сил  Японии и ССС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японское правительство решило не участвовать в войне против ССС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НА ПОБЕД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сноармейцев 127 тыс. убитых, раненых, пропавших без в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нны 48 тыс. убитых, раненых, пропавших без в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ССР   исключен из Лиги н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3893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тоги договора  о мире с Финляндией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СССР отходили Карельский перешеек, другие затребованные террит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авался в аренду на 30 лет полуостров Хан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ница с Финляндией стала сходной которая была установлена  при Петр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0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ЬША    БЕЛЬГИЯ    ФРАНЦИЯ  ССС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ЛЛАНДИЯ               АНГЛ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КСЕМБУРГ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17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23400">
            <a:off x="1403280" y="1557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7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0105400">
            <a:off x="6948360" y="1628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авный стратегический просчет Гитлера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Полный разгром Англии дело времени и незначительных военных усилий  поэтому сначала нужно уничтожить Советский Союз  и только затем  покончить с Англи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Поскольку Россию в любом случае необходимо разгромить, то лучше это сделать сейча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вропа: предвоенное смят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Аншлюс Германии и Авст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Мюнхенское соглашение.(1938 / 09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СССР и Германия – пакт о ненападении.(1939 /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а сил на Восто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ско- финляндская война 1939 – 1940 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ширение границ на Запа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йтралитет с Япон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ицкриг в Евро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аши задач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ять  причины изменения внешней политики нашей страны в конце 30-х 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делать выводы о боеготовности Красной Армии по результатам советско- финской войны на 1939 – 1940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ить основные мотивы конфликтов Советского Союза и Япо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причины блицкрига в Евро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тветьте на вопросы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ители каких стран подписали Мюнхенское соглаш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м суть подписанного договор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ие сроки Судетская область Чехословакии будет «эвакуирована» Германи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ь ли в документе информация о присутствии представителей Чехословакии на данных переговорах? О чем это говори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510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какой срок заключался догово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чем суть договора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о значение этого договор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чем суть секретного дополнительного протокола, заключенного между Германией и Советским Союзо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ие территории являлись сферой интересов Германии? Советского Союза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ую оценку можно дать  этому договор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Причины изменения внешнеполитического курса СССР.  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ановление фашисткой диктатуры в Германии в 1933г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нения расстановки политических сил на международной ар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5090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2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19:41Z</dcterms:created>
  <dc:creator>Классик</dc:creator>
  <dc:description/>
  <dc:language>en-US</dc:language>
  <cp:lastModifiedBy>Классик</cp:lastModifiedBy>
  <dcterms:modified xsi:type="dcterms:W3CDTF">2007-11-26T21:21:30Z</dcterms:modified>
  <cp:revision>5</cp:revision>
  <dc:subject/>
  <dc:title>Накануне второй мировой войны.</dc:title>
</cp:coreProperties>
</file>