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png" ContentType="image/png"/>
  <Override PartName="/ppt/media/image40.gif" ContentType="image/gif"/>
  <Override PartName="/ppt/media/image34.png" ContentType="image/png"/>
  <Override PartName="/ppt/media/image41.gif" ContentType="image/gif"/>
  <Override PartName="/ppt/media/image39.gif" ContentType="image/gif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A455-04BF-40E6-A719-40A829DDE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20B-42C2-4856-A26D-151639005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тетрадях. Фронт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5BE-148E-4640-8C52-C319DA862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новой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9A2A-EC27-4A4A-9817-FC70EDAF1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новой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9BB-916B-4D11-BB3C-6AC6A23E8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кла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984C-0BEF-400F-B0DE-E9121D219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75E7-FD87-4B0B-890E-924324AB0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353-62F6-435D-88D1-9140C290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031-F97D-451A-846C-5884E83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B8E-2FF2-4485-876C-5157BE56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A50-6522-401A-861F-A3F237CD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6A4-660D-42F6-A934-76BD05DA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46D-4E7A-4DFA-9444-DCF8A83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3EB-C536-4117-AD50-420D95AE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91E5-7390-487A-B3C8-5FE9FC6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D0A3-12E0-4E81-BB7B-926D9C8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B8D5-99D8-433E-9EFE-B2CEAA04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B29-64B9-429E-A473-DEED296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884-6955-4096-A9E5-E338D80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F69-6C75-48CB-8666-396BD88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E266-D6E1-4A8C-B7E2-B5E88B5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59B3-50D4-47B0-9E35-B4C9F1D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071-A3F3-4015-B9B9-EBDE2D97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5F01-A726-4407-9380-EA07E163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9494-DBC0-4D6A-95A2-64328B99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2B95-2405-4D45-9128-2D8D9034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6282-C430-45DD-8644-F4C77531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7CD2-2C44-4BED-B7FE-21E899B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C4C0-353B-4DF3-9681-63F4F85F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539-C117-4F53-A236-84177A0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D24F-8982-48B3-B13C-313B9575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03D4-4533-4338-91EE-398588A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6E89-EEF1-49A8-987F-2016DE8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A8B0-8ED4-415E-B670-7323A82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7B65-E6E4-4DDC-B780-90BE710A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D33C7-6598-4B0E-A8C4-8ABC94D2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F400-2D4F-4D31-A2E5-F0A81707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A772-3F7B-49BB-8317-A922A21C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C761-2672-4778-8E9E-C1F2616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B5B4-8AA2-47DC-BCF9-854C8DDF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462-66A8-4C44-8B80-733A5B1D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4933-E209-4F43-853F-D9524235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EF5C-218F-4EE2-AA55-027D576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7496-FE8B-40CD-869C-932F2C3E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5C6E-059E-4159-91D2-20F8935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A5BE-F8A7-4866-B35F-E793AAE5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3875-A36C-4E05-8784-6AA01C3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7D20-BB4D-4BEE-9532-DBC22A59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86C3-21B5-4A64-AA65-DAA1371F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FB51-72FA-4134-861F-3AF03220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0D8F4-15DF-4F21-8DA1-1A407C9D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CE0-4AE0-4035-A6CB-B5E3E041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5091-CE7D-4530-A1D6-217C15C6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44FC-E82F-41F2-B5D6-92F62D0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217F-A079-401E-B724-2E22F9D5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EC3D-8636-4EA8-932F-D1A72099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BC993-ED06-4F50-80A4-E82CB64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FBA0-90C3-4ED7-9EB7-F6A294A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D547-5987-41E8-A026-9D27265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7B75-ADAE-42FD-BBD1-17915043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44DB8-D740-4DA1-8DD7-6D540FBE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CECA-F944-4093-A472-FB1BFF5A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6FD-A84E-4B8E-A914-B28182F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4008-B062-47DA-B819-BBD4437C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899F-24D0-485C-9B97-D221838E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B1C9-6306-40EC-B13A-9F3F8D15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91B0-51CD-4AE6-8ADA-4EC78C97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D077-A40C-438F-93CD-BEB7BD8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EF1A-98FD-4482-9CA0-011C811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E0C12-AFBF-4D37-9BE3-CFC1DF51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F7022-8C3A-446B-B60E-0665BF78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7B3D-283E-41F3-B9B5-AC82A84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E637F-EF19-408D-B2F2-CD7E72E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AC1-3CC4-495B-8DE6-972129D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1C5E-E070-4C4D-A7D6-1E1AA1A3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D5DCE-A90D-4128-8124-6BFFFF87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563B-4B38-461D-928C-ED72FFB7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9F58-8039-47A2-8EB9-55ABC700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02CED-F5AC-4B3B-83B2-FA60F4C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F656-08C8-4E58-BB68-4C43C9C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E783D-8D58-41B6-BF6E-8CDFB59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7AC7-107E-4235-91F3-3E773FC8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E34D-ADBB-44E5-9CFC-4794DD38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5F6C0-B854-4AC5-9A0A-A7FD6DFC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D7C-60C3-4BBD-AEAE-D10C282D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B3050-4A04-4869-AF2E-EA40CC0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B7D0D-F26D-470A-A15E-10E1051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A11E-5AA2-49F7-93EF-CF227D1C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3744-7CE6-4F68-9CD1-D87CE463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2CDA-23C2-403D-BF81-82A163B0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49A-A9E3-441C-96D5-34EB9036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2D38-6AC0-4522-81D3-FF69D748A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8568-7270-4AFD-9330-E27A7E5ED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3A5-C033-436A-9D08-AF49622EE3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F3E-AE7F-4DFA-B9A8-61C076F47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DDF-EBF3-4CAA-8378-79A1509E2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6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6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8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A74F-0847-4764-B4E1-C66CAA2CD99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407-BEAC-4B04-8172-B3FEB1DC52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39.gif"/><Relationship Id="rId6" Type="http://schemas.openxmlformats.org/officeDocument/2006/relationships/image" Target="../media/image41.gif"/><Relationship Id="rId7" Type="http://schemas.openxmlformats.org/officeDocument/2006/relationships/image" Target="../media/image40.gif"/><Relationship Id="rId8" Type="http://schemas.openxmlformats.org/officeDocument/2006/relationships/image" Target="../media/image39.gif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9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16.wmf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0.jpeg"/><Relationship Id="rId11" Type="http://schemas.openxmlformats.org/officeDocument/2006/relationships/image" Target="../media/image30.jpeg"/><Relationship Id="rId12" Type="http://schemas.openxmlformats.org/officeDocument/2006/relationships/image" Target="../media/image30.jpeg"/><Relationship Id="rId13" Type="http://schemas.openxmlformats.org/officeDocument/2006/relationships/image" Target="../media/image30.jpeg"/><Relationship Id="rId14" Type="http://schemas.openxmlformats.org/officeDocument/2006/relationships/image" Target="../media/image28.jpeg"/><Relationship Id="rId15" Type="http://schemas.openxmlformats.org/officeDocument/2006/relationships/image" Target="../media/image30.jpeg"/><Relationship Id="rId16" Type="http://schemas.openxmlformats.org/officeDocument/2006/relationships/image" Target="../media/image30.jpeg"/><Relationship Id="rId17" Type="http://schemas.openxmlformats.org/officeDocument/2006/relationships/image" Target="../media/image30.jpeg"/><Relationship Id="rId18" Type="http://schemas.openxmlformats.org/officeDocument/2006/relationships/image" Target="../media/image30.jpeg"/><Relationship Id="rId19" Type="http://schemas.openxmlformats.org/officeDocument/2006/relationships/image" Target="../media/image28.jpeg"/><Relationship Id="rId20" Type="http://schemas.openxmlformats.org/officeDocument/2006/relationships/image" Target="../media/image30.jpeg"/><Relationship Id="rId21" Type="http://schemas.openxmlformats.org/officeDocument/2006/relationships/image" Target="../media/image30.jpeg"/><Relationship Id="rId22" Type="http://schemas.openxmlformats.org/officeDocument/2006/relationships/image" Target="../media/image30.jpeg"/><Relationship Id="rId23" Type="http://schemas.openxmlformats.org/officeDocument/2006/relationships/image" Target="../media/image28.jpeg"/><Relationship Id="rId24" Type="http://schemas.openxmlformats.org/officeDocument/2006/relationships/image" Target="../media/image28.jpeg"/><Relationship Id="rId25" Type="http://schemas.openxmlformats.org/officeDocument/2006/relationships/image" Target="../media/image28.jpeg"/><Relationship Id="rId26" Type="http://schemas.openxmlformats.org/officeDocument/2006/relationships/image" Target="../media/image28.jpeg"/><Relationship Id="rId27" Type="http://schemas.openxmlformats.org/officeDocument/2006/relationships/image" Target="../media/image28.jpeg"/><Relationship Id="rId28" Type="http://schemas.openxmlformats.org/officeDocument/2006/relationships/image" Target="../media/image28.jpeg"/><Relationship Id="rId29" Type="http://schemas.openxmlformats.org/officeDocument/2006/relationships/image" Target="../media/image30.jpeg"/><Relationship Id="rId30" Type="http://schemas.openxmlformats.org/officeDocument/2006/relationships/image" Target="../media/image30.jpeg"/><Relationship Id="rId31" Type="http://schemas.openxmlformats.org/officeDocument/2006/relationships/image" Target="../media/image30.jpeg"/><Relationship Id="rId32" Type="http://schemas.openxmlformats.org/officeDocument/2006/relationships/image" Target="../media/image30.jpeg"/><Relationship Id="rId33" Type="http://schemas.openxmlformats.org/officeDocument/2006/relationships/image" Target="../media/image28.jpeg"/><Relationship Id="rId34" Type="http://schemas.openxmlformats.org/officeDocument/2006/relationships/image" Target="../media/image28.jpeg"/><Relationship Id="rId35" Type="http://schemas.openxmlformats.org/officeDocument/2006/relationships/image" Target="../media/image28.jpeg"/><Relationship Id="rId36" Type="http://schemas.openxmlformats.org/officeDocument/2006/relationships/image" Target="../media/image28.jpeg"/><Relationship Id="rId37" Type="http://schemas.openxmlformats.org/officeDocument/2006/relationships/image" Target="../media/image28.jpeg"/><Relationship Id="rId38" Type="http://schemas.openxmlformats.org/officeDocument/2006/relationships/image" Target="../media/image29.jpeg"/><Relationship Id="rId39" Type="http://schemas.openxmlformats.org/officeDocument/2006/relationships/image" Target="../media/image30.jpeg"/><Relationship Id="rId40" Type="http://schemas.openxmlformats.org/officeDocument/2006/relationships/image" Target="../media/image30.jpeg"/><Relationship Id="rId41" Type="http://schemas.openxmlformats.org/officeDocument/2006/relationships/image" Target="../media/image30.jpeg"/><Relationship Id="rId42" Type="http://schemas.openxmlformats.org/officeDocument/2006/relationships/image" Target="../media/image30.jpeg"/><Relationship Id="rId43" Type="http://schemas.openxmlformats.org/officeDocument/2006/relationships/image" Target="../media/image30.jpeg"/><Relationship Id="rId44" Type="http://schemas.openxmlformats.org/officeDocument/2006/relationships/image" Target="../media/image28.jpeg"/><Relationship Id="rId45" Type="http://schemas.openxmlformats.org/officeDocument/2006/relationships/image" Target="../media/image30.jpeg"/><Relationship Id="rId46" Type="http://schemas.openxmlformats.org/officeDocument/2006/relationships/image" Target="../media/image30.jpeg"/><Relationship Id="rId47" Type="http://schemas.openxmlformats.org/officeDocument/2006/relationships/image" Target="../media/image30.jpeg"/><Relationship Id="rId48" Type="http://schemas.openxmlformats.org/officeDocument/2006/relationships/image" Target="../media/image30.jpeg"/><Relationship Id="rId49" Type="http://schemas.openxmlformats.org/officeDocument/2006/relationships/image" Target="../media/image28.jpeg"/><Relationship Id="rId50" Type="http://schemas.openxmlformats.org/officeDocument/2006/relationships/image" Target="../media/image30.jpeg"/><Relationship Id="rId51" Type="http://schemas.openxmlformats.org/officeDocument/2006/relationships/image" Target="../media/image30.jpeg"/><Relationship Id="rId52" Type="http://schemas.openxmlformats.org/officeDocument/2006/relationships/image" Target="../media/image30.jpeg"/><Relationship Id="rId53" Type="http://schemas.openxmlformats.org/officeDocument/2006/relationships/image" Target="../media/image28.jpeg"/><Relationship Id="rId54" Type="http://schemas.openxmlformats.org/officeDocument/2006/relationships/image" Target="../media/image28.jpeg"/><Relationship Id="rId55" Type="http://schemas.openxmlformats.org/officeDocument/2006/relationships/image" Target="../media/image28.jpeg"/><Relationship Id="rId56" Type="http://schemas.openxmlformats.org/officeDocument/2006/relationships/image" Target="../media/image28.jpeg"/><Relationship Id="rId57" Type="http://schemas.openxmlformats.org/officeDocument/2006/relationships/image" Target="../media/image28.jpeg"/><Relationship Id="rId58" Type="http://schemas.openxmlformats.org/officeDocument/2006/relationships/image" Target="../media/image28.jpeg"/><Relationship Id="rId59" Type="http://schemas.openxmlformats.org/officeDocument/2006/relationships/image" Target="../media/image30.jpeg"/><Relationship Id="rId60" Type="http://schemas.openxmlformats.org/officeDocument/2006/relationships/image" Target="../media/image30.jpeg"/><Relationship Id="rId61" Type="http://schemas.openxmlformats.org/officeDocument/2006/relationships/image" Target="../media/image30.jpeg"/><Relationship Id="rId62" Type="http://schemas.openxmlformats.org/officeDocument/2006/relationships/image" Target="../media/image30.jpeg"/><Relationship Id="rId63" Type="http://schemas.openxmlformats.org/officeDocument/2006/relationships/image" Target="../media/image31.png"/><Relationship Id="rId64" Type="http://schemas.openxmlformats.org/officeDocument/2006/relationships/image" Target="../media/image27.png"/><Relationship Id="rId65" Type="http://schemas.openxmlformats.org/officeDocument/2006/relationships/slideLayout" Target="../slideLayouts/slideLayout1.xml"/><Relationship Id="rId6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4"/>
          <p:cNvSpPr txBox="1"/>
          <p:nvPr/>
        </p:nvSpPr>
        <p:spPr>
          <a:xfrm>
            <a:off x="1258920" y="1125360"/>
            <a:ext cx="65530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ый ур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6  клас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теме «Отношения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Picture 2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548" name="AutoShape 3"/>
          <p:cNvSpPr/>
          <p:nvPr/>
        </p:nvSpPr>
        <p:spPr>
          <a:xfrm>
            <a:off x="324000" y="0"/>
            <a:ext cx="8569080" cy="1125360"/>
          </a:xfrm>
          <a:prstGeom prst="cloudCallout">
            <a:avLst>
              <a:gd name="adj1" fmla="val -43310"/>
              <a:gd name="adj2" fmla="val 282722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йдите  отно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4"/>
          <p:cNvGrpSpPr/>
          <p:nvPr/>
        </p:nvGrpSpPr>
        <p:grpSpPr>
          <a:xfrm>
            <a:off x="3995640" y="1413000"/>
            <a:ext cx="2881080" cy="720720"/>
            <a:chOff x="3995640" y="1413000"/>
            <a:chExt cx="2881080" cy="720720"/>
          </a:xfrm>
        </p:grpSpPr>
        <p:sp>
          <p:nvSpPr>
            <p:cNvPr id="1550" name="AutoShape 5"/>
            <p:cNvSpPr/>
            <p:nvPr/>
          </p:nvSpPr>
          <p:spPr>
            <a:xfrm>
              <a:off x="3995640" y="1413000"/>
              <a:ext cx="2881080" cy="720720"/>
            </a:xfrm>
            <a:prstGeom prst="roundRect">
              <a:avLst>
                <a:gd name="adj" fmla="val 16667"/>
              </a:avLst>
            </a:prstGeom>
            <a:solidFill>
              <a:srgbClr val="ffe1fb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WordArt 6"/>
            <p:cNvSpPr txBox="1"/>
            <p:nvPr/>
          </p:nvSpPr>
          <p:spPr>
            <a:xfrm>
              <a:off x="4427280" y="1526760"/>
              <a:ext cx="1944720" cy="45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4 к 3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52" name="Group 7"/>
          <p:cNvGrpSpPr/>
          <p:nvPr/>
        </p:nvGrpSpPr>
        <p:grpSpPr>
          <a:xfrm>
            <a:off x="2987640" y="3789360"/>
            <a:ext cx="2881080" cy="720720"/>
            <a:chOff x="2987640" y="3789360"/>
            <a:chExt cx="2881080" cy="720720"/>
          </a:xfrm>
        </p:grpSpPr>
        <p:sp>
          <p:nvSpPr>
            <p:cNvPr id="1553" name="AutoShape 8"/>
            <p:cNvSpPr/>
            <p:nvPr/>
          </p:nvSpPr>
          <p:spPr>
            <a:xfrm>
              <a:off x="2987640" y="3789360"/>
              <a:ext cx="2881080" cy="720720"/>
            </a:xfrm>
            <a:prstGeom prst="roundRect">
              <a:avLst>
                <a:gd name="adj" fmla="val 16667"/>
              </a:avLst>
            </a:prstGeom>
            <a:solidFill>
              <a:srgbClr val="ffe1fb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WordArt 9"/>
            <p:cNvSpPr txBox="1"/>
            <p:nvPr/>
          </p:nvSpPr>
          <p:spPr>
            <a:xfrm>
              <a:off x="3419280" y="3903120"/>
              <a:ext cx="1944720" cy="45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3 к 3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55" name="Group 10"/>
          <p:cNvGrpSpPr/>
          <p:nvPr/>
        </p:nvGrpSpPr>
        <p:grpSpPr>
          <a:xfrm>
            <a:off x="2987640" y="4797360"/>
            <a:ext cx="2881080" cy="720720"/>
            <a:chOff x="2987640" y="4797360"/>
            <a:chExt cx="2881080" cy="720720"/>
          </a:xfrm>
        </p:grpSpPr>
        <p:sp>
          <p:nvSpPr>
            <p:cNvPr id="1556" name="AutoShape 11"/>
            <p:cNvSpPr/>
            <p:nvPr/>
          </p:nvSpPr>
          <p:spPr>
            <a:xfrm>
              <a:off x="2987640" y="4797360"/>
              <a:ext cx="2881080" cy="720720"/>
            </a:xfrm>
            <a:prstGeom prst="roundRect">
              <a:avLst>
                <a:gd name="adj" fmla="val 16667"/>
              </a:avLst>
            </a:prstGeom>
            <a:solidFill>
              <a:srgbClr val="ffe1fb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WordArt 12"/>
            <p:cNvSpPr txBox="1"/>
            <p:nvPr/>
          </p:nvSpPr>
          <p:spPr>
            <a:xfrm>
              <a:off x="3419280" y="4911120"/>
              <a:ext cx="1944720" cy="45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5 к 0,55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58" name="Group 13"/>
          <p:cNvGrpSpPr/>
          <p:nvPr/>
        </p:nvGrpSpPr>
        <p:grpSpPr>
          <a:xfrm>
            <a:off x="2987640" y="5805360"/>
            <a:ext cx="2881080" cy="720720"/>
            <a:chOff x="2987640" y="5805360"/>
            <a:chExt cx="2881080" cy="720720"/>
          </a:xfrm>
        </p:grpSpPr>
        <p:sp>
          <p:nvSpPr>
            <p:cNvPr id="1559" name="AutoShape 14"/>
            <p:cNvSpPr/>
            <p:nvPr/>
          </p:nvSpPr>
          <p:spPr>
            <a:xfrm>
              <a:off x="2987640" y="5805360"/>
              <a:ext cx="2881080" cy="720720"/>
            </a:xfrm>
            <a:prstGeom prst="roundRect">
              <a:avLst>
                <a:gd name="adj" fmla="val 16667"/>
              </a:avLst>
            </a:prstGeom>
            <a:solidFill>
              <a:srgbClr val="ffe1fb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WordArt 15"/>
            <p:cNvSpPr txBox="1"/>
            <p:nvPr/>
          </p:nvSpPr>
          <p:spPr>
            <a:xfrm>
              <a:off x="3419280" y="5919120"/>
              <a:ext cx="1944720" cy="45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,1 к 0,07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561" name="WordArt 16"/>
          <p:cNvSpPr txBox="1"/>
          <p:nvPr/>
        </p:nvSpPr>
        <p:spPr>
          <a:xfrm>
            <a:off x="2771640" y="2708280"/>
            <a:ext cx="1986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4 : 3 =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62" name="Group 17"/>
          <p:cNvGrpSpPr/>
          <p:nvPr/>
        </p:nvGrpSpPr>
        <p:grpSpPr>
          <a:xfrm>
            <a:off x="4932360" y="2421000"/>
            <a:ext cx="863640" cy="1114200"/>
            <a:chOff x="4932360" y="2421000"/>
            <a:chExt cx="863640" cy="1114200"/>
          </a:xfrm>
        </p:grpSpPr>
        <p:sp>
          <p:nvSpPr>
            <p:cNvPr id="1563" name="WordArt 18"/>
            <p:cNvSpPr txBox="1"/>
            <p:nvPr/>
          </p:nvSpPr>
          <p:spPr>
            <a:xfrm>
              <a:off x="5003640" y="2421000"/>
              <a:ext cx="79236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4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64" name="WordArt 19"/>
            <p:cNvSpPr txBox="1"/>
            <p:nvPr/>
          </p:nvSpPr>
          <p:spPr>
            <a:xfrm>
              <a:off x="5292720" y="3068640"/>
              <a:ext cx="2160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65" name="WordArt 20"/>
            <p:cNvSpPr txBox="1"/>
            <p:nvPr/>
          </p:nvSpPr>
          <p:spPr>
            <a:xfrm>
              <a:off x="4068720" y="2853000"/>
              <a:ext cx="8636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566" name="WordArt 21"/>
          <p:cNvSpPr txBox="1"/>
          <p:nvPr/>
        </p:nvSpPr>
        <p:spPr>
          <a:xfrm>
            <a:off x="5867280" y="2924280"/>
            <a:ext cx="503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67" name="Group 22"/>
          <p:cNvGrpSpPr/>
          <p:nvPr/>
        </p:nvGrpSpPr>
        <p:grpSpPr>
          <a:xfrm>
            <a:off x="6516720" y="2276640"/>
            <a:ext cx="2016000" cy="1353960"/>
            <a:chOff x="6516720" y="2276640"/>
            <a:chExt cx="2016000" cy="1353960"/>
          </a:xfrm>
        </p:grpSpPr>
        <p:sp>
          <p:nvSpPr>
            <p:cNvPr id="1568" name="AutoShape 23"/>
            <p:cNvSpPr/>
            <p:nvPr/>
          </p:nvSpPr>
          <p:spPr>
            <a:xfrm>
              <a:off x="6516720" y="227664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9" name="Group 24"/>
            <p:cNvGrpSpPr/>
            <p:nvPr/>
          </p:nvGrpSpPr>
          <p:grpSpPr>
            <a:xfrm>
              <a:off x="6637320" y="2367000"/>
              <a:ext cx="1628640" cy="1153800"/>
              <a:chOff x="6637320" y="2367000"/>
              <a:chExt cx="1628640" cy="1153800"/>
            </a:xfrm>
          </p:grpSpPr>
          <p:sp>
            <p:nvSpPr>
              <p:cNvPr id="1570" name="Text Box 25"/>
              <p:cNvSpPr/>
              <p:nvPr/>
            </p:nvSpPr>
            <p:spPr>
              <a:xfrm>
                <a:off x="6926400" y="2367000"/>
                <a:ext cx="133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Text Box 26"/>
              <p:cNvSpPr/>
              <p:nvPr/>
            </p:nvSpPr>
            <p:spPr>
              <a:xfrm>
                <a:off x="6991200" y="2817360"/>
                <a:ext cx="120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27"/>
              <p:cNvSpPr/>
              <p:nvPr/>
            </p:nvSpPr>
            <p:spPr>
              <a:xfrm>
                <a:off x="7377120" y="2950920"/>
                <a:ext cx="380880" cy="15480"/>
              </a:xfrm>
              <a:custGeom>
                <a:avLst/>
                <a:gdLst/>
                <a:ahLst/>
                <a:rect l="l" t="t" r="r" b="b"/>
                <a:pathLst>
                  <a:path w="240" h="10">
                    <a:moveTo>
                      <a:pt x="0" y="10"/>
                    </a:move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Text Box 28"/>
              <p:cNvSpPr/>
              <p:nvPr/>
            </p:nvSpPr>
            <p:spPr>
              <a:xfrm>
                <a:off x="6637320" y="2582640"/>
                <a:ext cx="1206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66"/>
                    </a:solidFill>
                    <a:latin typeface="Times New Roman"/>
                  </a:rPr>
                  <a:t>4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4" name="AutoShape 29"/>
          <p:cNvSpPr/>
          <p:nvPr/>
        </p:nvSpPr>
        <p:spPr>
          <a:xfrm>
            <a:off x="5867280" y="3429000"/>
            <a:ext cx="2016360" cy="1353960"/>
          </a:xfrm>
          <a:custGeom>
            <a:avLst/>
            <a:gdLst>
              <a:gd name="textAreaLeft" fmla="*/ 410760 w 2016360"/>
              <a:gd name="textAreaRight" fmla="*/ 1605600 w 2016360"/>
              <a:gd name="textAreaTop" fmla="*/ 275760 h 1353960"/>
              <a:gd name="textAreaBottom" fmla="*/ 1078200 h 135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4,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30"/>
          <p:cNvGrpSpPr/>
          <p:nvPr/>
        </p:nvGrpSpPr>
        <p:grpSpPr>
          <a:xfrm>
            <a:off x="5940360" y="4437000"/>
            <a:ext cx="2016360" cy="1354320"/>
            <a:chOff x="5940360" y="4437000"/>
            <a:chExt cx="2016360" cy="1354320"/>
          </a:xfrm>
        </p:grpSpPr>
        <p:sp>
          <p:nvSpPr>
            <p:cNvPr id="1576" name="AutoShape 31"/>
            <p:cNvSpPr/>
            <p:nvPr/>
          </p:nvSpPr>
          <p:spPr>
            <a:xfrm>
              <a:off x="5940360" y="4437000"/>
              <a:ext cx="2016360" cy="1354320"/>
            </a:xfrm>
            <a:custGeom>
              <a:avLst/>
              <a:gdLst>
                <a:gd name="textAreaLeft" fmla="*/ 410760 w 2016360"/>
                <a:gd name="textAreaRight" fmla="*/ 1605600 w 2016360"/>
                <a:gd name="textAreaTop" fmla="*/ 276120 h 1354320"/>
                <a:gd name="textAreaBottom" fmla="*/ 1078200 h 13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7" name="Group 32"/>
            <p:cNvGrpSpPr/>
            <p:nvPr/>
          </p:nvGrpSpPr>
          <p:grpSpPr>
            <a:xfrm>
              <a:off x="6300720" y="4508640"/>
              <a:ext cx="1339920" cy="1154160"/>
              <a:chOff x="6300720" y="4508640"/>
              <a:chExt cx="1339920" cy="1154160"/>
            </a:xfrm>
          </p:grpSpPr>
          <p:sp>
            <p:nvSpPr>
              <p:cNvPr id="1578" name="Text Box 33"/>
              <p:cNvSpPr/>
              <p:nvPr/>
            </p:nvSpPr>
            <p:spPr>
              <a:xfrm>
                <a:off x="6300720" y="4508640"/>
                <a:ext cx="1339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Text Box 34"/>
              <p:cNvSpPr/>
              <p:nvPr/>
            </p:nvSpPr>
            <p:spPr>
              <a:xfrm>
                <a:off x="6365880" y="4959360"/>
                <a:ext cx="1206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66"/>
                    </a:solidFill>
                    <a:latin typeface="Times New Roman"/>
                  </a:rPr>
                  <a:t>1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35"/>
              <p:cNvSpPr/>
              <p:nvPr/>
            </p:nvSpPr>
            <p:spPr>
              <a:xfrm>
                <a:off x="6751800" y="5092560"/>
                <a:ext cx="380880" cy="15840"/>
              </a:xfrm>
              <a:custGeom>
                <a:avLst/>
                <a:gdLst/>
                <a:ahLst/>
                <a:rect l="l" t="t" r="r" b="b"/>
                <a:pathLst>
                  <a:path w="240" h="10">
                    <a:moveTo>
                      <a:pt x="0" y="10"/>
                    </a:move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AutoShape 36"/>
          <p:cNvSpPr/>
          <p:nvPr/>
        </p:nvSpPr>
        <p:spPr>
          <a:xfrm>
            <a:off x="5940360" y="5504040"/>
            <a:ext cx="2016360" cy="1353960"/>
          </a:xfrm>
          <a:custGeom>
            <a:avLst/>
            <a:gdLst>
              <a:gd name="textAreaLeft" fmla="*/ 410760 w 2016360"/>
              <a:gd name="textAreaRight" fmla="*/ 1605600 w 2016360"/>
              <a:gd name="textAreaTop" fmla="*/ 275760 h 1353960"/>
              <a:gd name="textAreaBottom" fmla="*/ 1078200 h 135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1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Picture 9" descr=""/>
          <p:cNvPicPr/>
          <p:nvPr/>
        </p:nvPicPr>
        <p:blipFill>
          <a:blip r:embed="rId1"/>
          <a:srcRect l="28126" t="18335" r="13021" b="11666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1584" name="WordArt 4"/>
          <p:cNvSpPr txBox="1"/>
          <p:nvPr/>
        </p:nvSpPr>
        <p:spPr>
          <a:xfrm>
            <a:off x="611280" y="1341360"/>
            <a:ext cx="7993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585" name="Picture 5" descr="post-6773-1163190993"/>
          <p:cNvPicPr/>
          <p:nvPr/>
        </p:nvPicPr>
        <p:blipFill>
          <a:blip r:embed="rId3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1586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1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1597" name="снеж1771.wav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8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1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236" dur="5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239" dur="5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1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242" dur="5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с учебн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инец – 1 ,52  кг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лово – 0,76 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лав 1,52+0,76 =2,28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инец составляет                   части спл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лово составляет                    часть спл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Object 13"/>
              <p:cNvSpPr txBox="1"/>
              <p:nvPr/>
            </p:nvSpPr>
            <p:spPr>
              <a:xfrm>
                <a:off x="5219640" y="1628640"/>
                <a:ext cx="36734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4" name="Object 15"/>
              <p:cNvSpPr txBox="1"/>
              <p:nvPr/>
            </p:nvSpPr>
            <p:spPr>
              <a:xfrm>
                <a:off x="4138560" y="3716280"/>
                <a:ext cx="2087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6" name="Object 17"/>
              <p:cNvSpPr txBox="1"/>
              <p:nvPr/>
            </p:nvSpPr>
            <p:spPr>
              <a:xfrm>
                <a:off x="4067280" y="4941720"/>
                <a:ext cx="2087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7" name="Picture 5" descr="868235152"/>
          <p:cNvPicPr/>
          <p:nvPr/>
        </p:nvPicPr>
        <p:blipFill>
          <a:blip r:embed="rId2"/>
          <a:stretch/>
        </p:blipFill>
        <p:spPr>
          <a:xfrm>
            <a:off x="179280" y="3500280"/>
            <a:ext cx="4429080" cy="293400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7" descr="598388086"/>
          <p:cNvPicPr/>
          <p:nvPr/>
        </p:nvPicPr>
        <p:blipFill>
          <a:blip r:embed="rId3"/>
          <a:stretch/>
        </p:blipFill>
        <p:spPr>
          <a:xfrm>
            <a:off x="4886280" y="3324240"/>
            <a:ext cx="4257720" cy="353376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9" descr="967828454"/>
          <p:cNvPicPr/>
          <p:nvPr/>
        </p:nvPicPr>
        <p:blipFill>
          <a:blip r:embed="rId4"/>
          <a:stretch/>
        </p:blipFill>
        <p:spPr>
          <a:xfrm>
            <a:off x="2411280" y="0"/>
            <a:ext cx="4067280" cy="32940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10" descr="868235152"/>
          <p:cNvPicPr/>
          <p:nvPr/>
        </p:nvPicPr>
        <p:blipFill>
          <a:blip r:embed="rId5"/>
          <a:stretch/>
        </p:blipFill>
        <p:spPr>
          <a:xfrm>
            <a:off x="179280" y="3500280"/>
            <a:ext cx="4429080" cy="29340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11" descr="967828454"/>
          <p:cNvPicPr/>
          <p:nvPr/>
        </p:nvPicPr>
        <p:blipFill>
          <a:blip r:embed="rId6"/>
          <a:stretch/>
        </p:blipFill>
        <p:spPr>
          <a:xfrm>
            <a:off x="2411280" y="0"/>
            <a:ext cx="4067280" cy="329400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12" descr="598388086"/>
          <p:cNvPicPr/>
          <p:nvPr/>
        </p:nvPicPr>
        <p:blipFill>
          <a:blip r:embed="rId7"/>
          <a:stretch/>
        </p:blipFill>
        <p:spPr>
          <a:xfrm>
            <a:off x="4886280" y="3324240"/>
            <a:ext cx="4257720" cy="353376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13" descr="868235152"/>
          <p:cNvPicPr/>
          <p:nvPr/>
        </p:nvPicPr>
        <p:blipFill>
          <a:blip r:embed="rId8"/>
          <a:stretch/>
        </p:blipFill>
        <p:spPr>
          <a:xfrm>
            <a:off x="0" y="3500280"/>
            <a:ext cx="4429080" cy="293400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14" descr="967828454"/>
          <p:cNvPicPr/>
          <p:nvPr/>
        </p:nvPicPr>
        <p:blipFill>
          <a:blip r:embed="rId9"/>
          <a:stretch/>
        </p:blipFill>
        <p:spPr>
          <a:xfrm>
            <a:off x="2411280" y="0"/>
            <a:ext cx="4067280" cy="3294000"/>
          </a:xfrm>
          <a:prstGeom prst="rect">
            <a:avLst/>
          </a:prstGeom>
          <a:ln w="0">
            <a:noFill/>
          </a:ln>
        </p:spPr>
      </p:pic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Букет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7 роз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6 гвозд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 ромаше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Rectangle 4"/>
          <p:cNvSpPr/>
          <p:nvPr/>
        </p:nvSpPr>
        <p:spPr>
          <a:xfrm>
            <a:off x="468360" y="2733120"/>
            <a:ext cx="808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учить п.1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ь № 751, 752, 75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Думать - коллектив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ешать - оператив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Отвечать - доказатель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ороться - старатель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открытия нас ждут обязательно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опрос. Чему равна целая часть произведения        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вопрос. Найти частное 0,9:0,3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вопрос. Как называется дробь    ? Правильная и …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вопрос. Найти значение выражения                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вопрос. Чему равна целая часть частного 0,8 :       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вопрос. Количество дней в неделе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вопрос. Найти целую часть значения выражения                      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вопрос. Чему равно значение выражения               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вопрос. Последняя буква в алфав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8244000" y="0"/>
                <a:ext cx="795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6"/>
              <p:cNvSpPr txBox="1"/>
              <p:nvPr/>
            </p:nvSpPr>
            <p:spPr>
              <a:xfrm>
                <a:off x="5508720" y="1125360"/>
                <a:ext cx="309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6516720" y="2060640"/>
                <a:ext cx="1130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2"/>
              <p:cNvSpPr txBox="1"/>
              <p:nvPr/>
            </p:nvSpPr>
            <p:spPr>
              <a:xfrm>
                <a:off x="8172360" y="278136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4"/>
              <p:cNvSpPr txBox="1"/>
              <p:nvPr/>
            </p:nvSpPr>
            <p:spPr>
              <a:xfrm>
                <a:off x="2195640" y="4653000"/>
                <a:ext cx="1952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:</m:t>
                    </m:r>
                    <m: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18"/>
              <p:cNvSpPr txBox="1"/>
              <p:nvPr/>
            </p:nvSpPr>
            <p:spPr>
              <a:xfrm>
                <a:off x="7524720" y="5373720"/>
                <a:ext cx="1079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твет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700000" y="1052640"/>
            <a:ext cx="6202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1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д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2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Т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3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есократим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4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диннадц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5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Ш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е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6.  С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7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8.  Тр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двадцать втор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9.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2885760" y="4212360"/>
            <a:ext cx="2685600" cy="2494440"/>
            <a:chOff x="2885760" y="4212360"/>
            <a:chExt cx="2685600" cy="2494440"/>
          </a:xfrm>
        </p:grpSpPr>
        <p:sp>
          <p:nvSpPr>
            <p:cNvPr id="634" name="Freeform 3"/>
            <p:cNvSpPr/>
            <p:nvPr/>
          </p:nvSpPr>
          <p:spPr>
            <a:xfrm flipH="1" rot="18377400">
              <a:off x="3297960" y="4475160"/>
              <a:ext cx="439560" cy="4366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4"/>
            <p:cNvGrpSpPr/>
            <p:nvPr/>
          </p:nvGrpSpPr>
          <p:grpSpPr>
            <a:xfrm>
              <a:off x="2885760" y="4212360"/>
              <a:ext cx="2431080" cy="2094120"/>
              <a:chOff x="2885760" y="4212360"/>
              <a:chExt cx="2431080" cy="2094120"/>
            </a:xfrm>
          </p:grpSpPr>
          <p:grpSp>
            <p:nvGrpSpPr>
              <p:cNvPr id="636" name="Group 5"/>
              <p:cNvGrpSpPr/>
              <p:nvPr/>
            </p:nvGrpSpPr>
            <p:grpSpPr>
              <a:xfrm>
                <a:off x="2937240" y="4212360"/>
                <a:ext cx="2379600" cy="2094120"/>
                <a:chOff x="2937240" y="4212360"/>
                <a:chExt cx="2379600" cy="2094120"/>
              </a:xfrm>
            </p:grpSpPr>
            <p:sp>
              <p:nvSpPr>
                <p:cNvPr id="637" name="Freeform 6"/>
                <p:cNvSpPr/>
                <p:nvPr/>
              </p:nvSpPr>
              <p:spPr>
                <a:xfrm flipH="1">
                  <a:off x="2963520" y="5038200"/>
                  <a:ext cx="2318400" cy="1268280"/>
                </a:xfrm>
                <a:custGeom>
                  <a:avLst/>
                  <a:gdLst/>
                  <a:ahLst/>
                  <a:rect l="l" t="t" r="r" b="b"/>
                  <a:pathLst>
                    <a:path w="2192" h="1049">
                      <a:moveTo>
                        <a:pt x="0" y="0"/>
                      </a:moveTo>
                      <a:cubicBezTo>
                        <a:pt x="28" y="214"/>
                        <a:pt x="57" y="428"/>
                        <a:pt x="120" y="568"/>
                      </a:cubicBezTo>
                      <a:cubicBezTo>
                        <a:pt x="183" y="708"/>
                        <a:pt x="271" y="765"/>
                        <a:pt x="376" y="840"/>
                      </a:cubicBezTo>
                      <a:cubicBezTo>
                        <a:pt x="481" y="915"/>
                        <a:pt x="617" y="983"/>
                        <a:pt x="752" y="1016"/>
                      </a:cubicBezTo>
                      <a:cubicBezTo>
                        <a:pt x="887" y="1049"/>
                        <a:pt x="1044" y="1049"/>
                        <a:pt x="1184" y="1040"/>
                      </a:cubicBezTo>
                      <a:cubicBezTo>
                        <a:pt x="1324" y="1031"/>
                        <a:pt x="1469" y="1008"/>
                        <a:pt x="1592" y="960"/>
                      </a:cubicBezTo>
                      <a:cubicBezTo>
                        <a:pt x="1715" y="912"/>
                        <a:pt x="1827" y="863"/>
                        <a:pt x="1920" y="752"/>
                      </a:cubicBezTo>
                      <a:cubicBezTo>
                        <a:pt x="2013" y="641"/>
                        <a:pt x="2112" y="421"/>
                        <a:pt x="2152" y="296"/>
                      </a:cubicBezTo>
                      <a:cubicBezTo>
                        <a:pt x="2192" y="171"/>
                        <a:pt x="2176" y="85"/>
                        <a:pt x="2160" y="0"/>
                      </a:cubicBezTo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7"/>
                <p:cNvSpPr/>
                <p:nvPr/>
              </p:nvSpPr>
              <p:spPr>
                <a:xfrm flipH="1">
                  <a:off x="2937240" y="4758840"/>
                  <a:ext cx="2360880" cy="559800"/>
                </a:xfrm>
                <a:custGeom>
                  <a:avLst/>
                  <a:gdLst/>
                  <a:ahLst/>
                  <a:rect l="l" t="t" r="r" b="b"/>
                  <a:pathLst>
                    <a:path w="2232" h="463">
                      <a:moveTo>
                        <a:pt x="15" y="223"/>
                      </a:moveTo>
                      <a:cubicBezTo>
                        <a:pt x="30" y="284"/>
                        <a:pt x="263" y="386"/>
                        <a:pt x="431" y="423"/>
                      </a:cubicBezTo>
                      <a:cubicBezTo>
                        <a:pt x="599" y="460"/>
                        <a:pt x="814" y="446"/>
                        <a:pt x="1023" y="447"/>
                      </a:cubicBezTo>
                      <a:cubicBezTo>
                        <a:pt x="1232" y="448"/>
                        <a:pt x="1488" y="463"/>
                        <a:pt x="1687" y="431"/>
                      </a:cubicBezTo>
                      <a:cubicBezTo>
                        <a:pt x="1886" y="399"/>
                        <a:pt x="2198" y="320"/>
                        <a:pt x="2215" y="255"/>
                      </a:cubicBezTo>
                      <a:cubicBezTo>
                        <a:pt x="2232" y="190"/>
                        <a:pt x="1975" y="78"/>
                        <a:pt x="1791" y="39"/>
                      </a:cubicBezTo>
                      <a:cubicBezTo>
                        <a:pt x="1607" y="0"/>
                        <a:pt x="1352" y="20"/>
                        <a:pt x="1111" y="23"/>
                      </a:cubicBezTo>
                      <a:cubicBezTo>
                        <a:pt x="870" y="26"/>
                        <a:pt x="528" y="23"/>
                        <a:pt x="343" y="55"/>
                      </a:cubicBezTo>
                      <a:cubicBezTo>
                        <a:pt x="158" y="87"/>
                        <a:pt x="0" y="162"/>
                        <a:pt x="15" y="223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9" name="Group 8"/>
                <p:cNvGrpSpPr/>
                <p:nvPr/>
              </p:nvGrpSpPr>
              <p:grpSpPr>
                <a:xfrm>
                  <a:off x="2960280" y="4212360"/>
                  <a:ext cx="2356560" cy="939240"/>
                  <a:chOff x="2960280" y="4212360"/>
                  <a:chExt cx="2356560" cy="939240"/>
                </a:xfrm>
              </p:grpSpPr>
              <p:sp>
                <p:nvSpPr>
                  <p:cNvPr id="640" name="Freeform 9"/>
                  <p:cNvSpPr/>
                  <p:nvPr/>
                </p:nvSpPr>
                <p:spPr>
                  <a:xfrm flipH="1" rot="16464600">
                    <a:off x="2963160" y="4802040"/>
                    <a:ext cx="3733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1" name="Group 10"/>
                  <p:cNvGrpSpPr/>
                  <p:nvPr/>
                </p:nvGrpSpPr>
                <p:grpSpPr>
                  <a:xfrm>
                    <a:off x="2960280" y="4212360"/>
                    <a:ext cx="2356560" cy="939240"/>
                    <a:chOff x="2960280" y="4212360"/>
                    <a:chExt cx="2356560" cy="939240"/>
                  </a:xfrm>
                </p:grpSpPr>
                <p:sp>
                  <p:nvSpPr>
                    <p:cNvPr id="642" name="Freeform 11"/>
                    <p:cNvSpPr/>
                    <p:nvPr/>
                  </p:nvSpPr>
                  <p:spPr>
                    <a:xfrm flipH="1" rot="1024200">
                      <a:off x="4982760" y="4890600"/>
                      <a:ext cx="3240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926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Freeform 12"/>
                    <p:cNvSpPr/>
                    <p:nvPr/>
                  </p:nvSpPr>
                  <p:spPr>
                    <a:xfrm flipH="1" rot="1024200">
                      <a:off x="4904280" y="4763520"/>
                      <a:ext cx="31788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926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13"/>
                    <p:cNvSpPr/>
                    <p:nvPr/>
                  </p:nvSpPr>
                  <p:spPr>
                    <a:xfrm flipH="1" rot="590400">
                      <a:off x="4828680" y="4658400"/>
                      <a:ext cx="31788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948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5" name="Group 14"/>
                    <p:cNvGrpSpPr/>
                    <p:nvPr/>
                  </p:nvGrpSpPr>
                  <p:grpSpPr>
                    <a:xfrm>
                      <a:off x="4492080" y="4393440"/>
                      <a:ext cx="550800" cy="287280"/>
                      <a:chOff x="4492080" y="4393440"/>
                      <a:chExt cx="550800" cy="287280"/>
                    </a:xfrm>
                  </p:grpSpPr>
                  <p:sp>
                    <p:nvSpPr>
                      <p:cNvPr id="646" name="Freeform 15"/>
                      <p:cNvSpPr/>
                      <p:nvPr/>
                    </p:nvSpPr>
                    <p:spPr>
                      <a:xfrm flipH="1" rot="21280800">
                        <a:off x="4714560" y="4573080"/>
                        <a:ext cx="324360" cy="9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Freeform 16"/>
                      <p:cNvSpPr/>
                      <p:nvPr/>
                    </p:nvSpPr>
                    <p:spPr>
                      <a:xfrm flipH="1" rot="21280800">
                        <a:off x="4606200" y="4489920"/>
                        <a:ext cx="317880" cy="11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Freeform 17"/>
                      <p:cNvSpPr/>
                      <p:nvPr/>
                    </p:nvSpPr>
                    <p:spPr>
                      <a:xfrm flipH="1" rot="20847000">
                        <a:off x="4500360" y="4426560"/>
                        <a:ext cx="31824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46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9" name="Group 18"/>
                    <p:cNvGrpSpPr/>
                    <p:nvPr/>
                  </p:nvGrpSpPr>
                  <p:grpSpPr>
                    <a:xfrm>
                      <a:off x="4122000" y="4243320"/>
                      <a:ext cx="581760" cy="299880"/>
                      <a:chOff x="4122000" y="4243320"/>
                      <a:chExt cx="581760" cy="299880"/>
                    </a:xfrm>
                  </p:grpSpPr>
                  <p:sp>
                    <p:nvSpPr>
                      <p:cNvPr id="650" name="Freeform 19"/>
                      <p:cNvSpPr/>
                      <p:nvPr/>
                    </p:nvSpPr>
                    <p:spPr>
                      <a:xfrm flipH="1" rot="20197800">
                        <a:off x="4374000" y="4389120"/>
                        <a:ext cx="324360" cy="9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Freeform 20"/>
                      <p:cNvSpPr/>
                      <p:nvPr/>
                    </p:nvSpPr>
                    <p:spPr>
                      <a:xfrm flipH="1" rot="20197800">
                        <a:off x="4248000" y="4343760"/>
                        <a:ext cx="31788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Freeform 21"/>
                      <p:cNvSpPr/>
                      <p:nvPr/>
                    </p:nvSpPr>
                    <p:spPr>
                      <a:xfrm flipH="1" rot="19764000">
                        <a:off x="4129560" y="4316040"/>
                        <a:ext cx="317880" cy="11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46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3" name="Group 22"/>
                    <p:cNvGrpSpPr/>
                    <p:nvPr/>
                  </p:nvGrpSpPr>
                  <p:grpSpPr>
                    <a:xfrm>
                      <a:off x="3761280" y="4212360"/>
                      <a:ext cx="556920" cy="298800"/>
                      <a:chOff x="3761280" y="4212360"/>
                      <a:chExt cx="556920" cy="298800"/>
                    </a:xfrm>
                  </p:grpSpPr>
                  <p:sp>
                    <p:nvSpPr>
                      <p:cNvPr id="654" name="Freeform 23"/>
                      <p:cNvSpPr/>
                      <p:nvPr/>
                    </p:nvSpPr>
                    <p:spPr>
                      <a:xfrm flipH="1" rot="19367400">
                        <a:off x="4009680" y="4325400"/>
                        <a:ext cx="310320" cy="9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Freeform 24"/>
                      <p:cNvSpPr/>
                      <p:nvPr/>
                    </p:nvSpPr>
                    <p:spPr>
                      <a:xfrm flipH="1" rot="19367400">
                        <a:off x="3881160" y="4305600"/>
                        <a:ext cx="30384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6" name="Freeform 25"/>
                      <p:cNvSpPr/>
                      <p:nvPr/>
                    </p:nvSpPr>
                    <p:spPr>
                      <a:xfrm flipH="1" rot="18933000">
                        <a:off x="3759480" y="4301640"/>
                        <a:ext cx="304200" cy="12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46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7" name="Group 26"/>
                    <p:cNvGrpSpPr/>
                    <p:nvPr/>
                  </p:nvGrpSpPr>
                  <p:grpSpPr>
                    <a:xfrm>
                      <a:off x="3429000" y="4227120"/>
                      <a:ext cx="523440" cy="468360"/>
                      <a:chOff x="3429000" y="4227120"/>
                      <a:chExt cx="523440" cy="468360"/>
                    </a:xfrm>
                  </p:grpSpPr>
                  <p:sp>
                    <p:nvSpPr>
                      <p:cNvPr id="658" name="Freeform 27"/>
                      <p:cNvSpPr/>
                      <p:nvPr/>
                    </p:nvSpPr>
                    <p:spPr>
                      <a:xfrm flipH="1" rot="18373800">
                        <a:off x="3622680" y="4361040"/>
                        <a:ext cx="37332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Freeform 28"/>
                      <p:cNvSpPr/>
                      <p:nvPr/>
                    </p:nvSpPr>
                    <p:spPr>
                      <a:xfrm flipH="1" rot="18373800">
                        <a:off x="3496320" y="4406400"/>
                        <a:ext cx="3661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Freeform 29"/>
                      <p:cNvSpPr/>
                      <p:nvPr/>
                    </p:nvSpPr>
                    <p:spPr>
                      <a:xfrm flipH="1" rot="17940000">
                        <a:off x="3378600" y="4460760"/>
                        <a:ext cx="366480" cy="10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46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1" name="Group 30"/>
                    <p:cNvGrpSpPr/>
                    <p:nvPr/>
                  </p:nvGrpSpPr>
                  <p:grpSpPr>
                    <a:xfrm>
                      <a:off x="3154680" y="4382280"/>
                      <a:ext cx="417240" cy="544320"/>
                      <a:chOff x="3154680" y="4382280"/>
                      <a:chExt cx="417240" cy="544320"/>
                    </a:xfrm>
                  </p:grpSpPr>
                  <p:sp>
                    <p:nvSpPr>
                      <p:cNvPr id="662" name="Freeform 31"/>
                      <p:cNvSpPr/>
                      <p:nvPr/>
                    </p:nvSpPr>
                    <p:spPr>
                      <a:xfrm flipH="1" rot="17531400">
                        <a:off x="3276720" y="4529880"/>
                        <a:ext cx="373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" h="102">
                            <a:moveTo>
                              <a:pt x="0" y="99"/>
                            </a:moveTo>
                            <a:cubicBezTo>
                              <a:pt x="7" y="87"/>
                              <a:pt x="24" y="43"/>
                              <a:pt x="44" y="27"/>
                            </a:cubicBezTo>
                            <a:cubicBezTo>
                              <a:pt x="64" y="11"/>
                              <a:pt x="93" y="5"/>
                              <a:pt x="118" y="3"/>
                            </a:cubicBezTo>
                            <a:cubicBezTo>
                              <a:pt x="143" y="1"/>
                              <a:pt x="165" y="0"/>
                              <a:pt x="192" y="15"/>
                            </a:cubicBezTo>
                            <a:cubicBezTo>
                              <a:pt x="219" y="30"/>
                              <a:pt x="252" y="80"/>
                              <a:pt x="280" y="91"/>
                            </a:cubicBezTo>
                            <a:cubicBezTo>
                              <a:pt x="308" y="102"/>
                              <a:pt x="339" y="92"/>
                              <a:pt x="360" y="79"/>
                            </a:cubicBezTo>
                            <a:cubicBezTo>
                              <a:pt x="381" y="66"/>
                              <a:pt x="398" y="25"/>
                              <a:pt x="408" y="10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Freeform 32"/>
                      <p:cNvSpPr/>
                      <p:nvPr/>
                    </p:nvSpPr>
                    <p:spPr>
                      <a:xfrm flipH="1" rot="17531400">
                        <a:off x="3168000" y="4605120"/>
                        <a:ext cx="3661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Freeform 33"/>
                      <p:cNvSpPr/>
                      <p:nvPr/>
                    </p:nvSpPr>
                    <p:spPr>
                      <a:xfrm flipH="1" rot="17097600">
                        <a:off x="3067200" y="4686480"/>
                        <a:ext cx="36648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18468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65" name="Freeform 34"/>
                    <p:cNvSpPr/>
                    <p:nvPr/>
                  </p:nvSpPr>
                  <p:spPr>
                    <a:xfrm flipH="1" rot="16464600">
                      <a:off x="2900160" y="4889520"/>
                      <a:ext cx="3661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376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Freeform 35"/>
                    <p:cNvSpPr/>
                    <p:nvPr/>
                  </p:nvSpPr>
                  <p:spPr>
                    <a:xfrm flipH="1">
                      <a:off x="2960280" y="4861440"/>
                      <a:ext cx="14544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21">
                          <a:moveTo>
                            <a:pt x="72" y="0"/>
                          </a:moveTo>
                          <a:cubicBezTo>
                            <a:pt x="82" y="7"/>
                            <a:pt x="115" y="23"/>
                            <a:pt x="127" y="39"/>
                          </a:cubicBezTo>
                          <a:cubicBezTo>
                            <a:pt x="139" y="57"/>
                            <a:pt x="145" y="86"/>
                            <a:pt x="144" y="106"/>
                          </a:cubicBezTo>
                          <a:cubicBezTo>
                            <a:pt x="143" y="125"/>
                            <a:pt x="139" y="141"/>
                            <a:pt x="123" y="158"/>
                          </a:cubicBezTo>
                          <a:cubicBezTo>
                            <a:pt x="107" y="176"/>
                            <a:pt x="69" y="203"/>
                            <a:pt x="50" y="212"/>
                          </a:cubicBezTo>
                          <a:cubicBezTo>
                            <a:pt x="31" y="221"/>
                            <a:pt x="12" y="213"/>
                            <a:pt x="6" y="214"/>
                          </a:cubicBezTo>
                          <a:cubicBezTo>
                            <a:pt x="0" y="215"/>
                            <a:pt x="12" y="217"/>
                            <a:pt x="14" y="21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Freeform 36"/>
                    <p:cNvSpPr/>
                    <p:nvPr/>
                  </p:nvSpPr>
                  <p:spPr>
                    <a:xfrm flipH="1">
                      <a:off x="5087880" y="4979880"/>
                      <a:ext cx="228960" cy="17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142">
                          <a:moveTo>
                            <a:pt x="145" y="96"/>
                          </a:moveTo>
                          <a:cubicBezTo>
                            <a:pt x="126" y="103"/>
                            <a:pt x="48" y="142"/>
                            <a:pt x="25" y="136"/>
                          </a:cubicBezTo>
                          <a:cubicBezTo>
                            <a:pt x="2" y="130"/>
                            <a:pt x="0" y="75"/>
                            <a:pt x="7" y="61"/>
                          </a:cubicBezTo>
                          <a:cubicBezTo>
                            <a:pt x="14" y="47"/>
                            <a:pt x="42" y="48"/>
                            <a:pt x="66" y="53"/>
                          </a:cubicBezTo>
                          <a:cubicBezTo>
                            <a:pt x="89" y="58"/>
                            <a:pt x="126" y="85"/>
                            <a:pt x="150" y="88"/>
                          </a:cubicBezTo>
                          <a:cubicBezTo>
                            <a:pt x="173" y="89"/>
                            <a:pt x="194" y="74"/>
                            <a:pt x="207" y="60"/>
                          </a:cubicBezTo>
                          <a:cubicBezTo>
                            <a:pt x="221" y="46"/>
                            <a:pt x="224" y="12"/>
                            <a:pt x="228" y="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68" name="Freeform 37"/>
              <p:cNvSpPr/>
              <p:nvPr/>
            </p:nvSpPr>
            <p:spPr>
              <a:xfrm flipH="1" rot="9846600">
                <a:off x="3447720" y="5304600"/>
                <a:ext cx="249840" cy="493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14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8"/>
              <p:cNvSpPr/>
              <p:nvPr/>
            </p:nvSpPr>
            <p:spPr>
              <a:xfrm flipH="1" rot="10095600">
                <a:off x="3612960" y="5330520"/>
                <a:ext cx="250920" cy="475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398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9"/>
              <p:cNvSpPr/>
              <p:nvPr/>
            </p:nvSpPr>
            <p:spPr>
              <a:xfrm flipH="1" rot="8887800">
                <a:off x="3366720" y="5239800"/>
                <a:ext cx="180720" cy="71640"/>
              </a:xfrm>
              <a:custGeom>
                <a:avLst/>
                <a:gdLst/>
                <a:ahLst/>
                <a:rect l="l" t="t" r="r" b="b"/>
                <a:pathLst>
                  <a:path w="228" h="142">
                    <a:moveTo>
                      <a:pt x="145" y="96"/>
                    </a:moveTo>
                    <a:cubicBezTo>
                      <a:pt x="126" y="103"/>
                      <a:pt x="48" y="142"/>
                      <a:pt x="25" y="136"/>
                    </a:cubicBezTo>
                    <a:cubicBezTo>
                      <a:pt x="2" y="130"/>
                      <a:pt x="0" y="75"/>
                      <a:pt x="7" y="61"/>
                    </a:cubicBezTo>
                    <a:cubicBezTo>
                      <a:pt x="14" y="47"/>
                      <a:pt x="42" y="48"/>
                      <a:pt x="66" y="53"/>
                    </a:cubicBezTo>
                    <a:cubicBezTo>
                      <a:pt x="89" y="58"/>
                      <a:pt x="126" y="85"/>
                      <a:pt x="150" y="88"/>
                    </a:cubicBezTo>
                    <a:cubicBezTo>
                      <a:pt x="173" y="89"/>
                      <a:pt x="194" y="74"/>
                      <a:pt x="207" y="60"/>
                    </a:cubicBezTo>
                    <a:cubicBezTo>
                      <a:pt x="221" y="46"/>
                      <a:pt x="224" y="12"/>
                      <a:pt x="228" y="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618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" name="Group 40"/>
              <p:cNvGrpSpPr/>
              <p:nvPr/>
            </p:nvGrpSpPr>
            <p:grpSpPr>
              <a:xfrm>
                <a:off x="4473000" y="5287680"/>
                <a:ext cx="396000" cy="180000"/>
                <a:chOff x="4473000" y="5287680"/>
                <a:chExt cx="396000" cy="180000"/>
              </a:xfrm>
            </p:grpSpPr>
            <p:sp>
              <p:nvSpPr>
                <p:cNvPr id="672" name="Freeform 41"/>
                <p:cNvSpPr/>
                <p:nvPr/>
              </p:nvSpPr>
              <p:spPr>
                <a:xfrm flipH="1" rot="9101400">
                  <a:off x="4467960" y="5368680"/>
                  <a:ext cx="243360" cy="4140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42"/>
                <p:cNvSpPr/>
                <p:nvPr/>
              </p:nvSpPr>
              <p:spPr>
                <a:xfrm flipH="1" rot="9101400">
                  <a:off x="4556880" y="5358960"/>
                  <a:ext cx="238680" cy="5076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3"/>
                <p:cNvSpPr/>
                <p:nvPr/>
              </p:nvSpPr>
              <p:spPr>
                <a:xfrm flipH="1" rot="8667600">
                  <a:off x="4637520" y="5352120"/>
                  <a:ext cx="238680" cy="50760"/>
                </a:xfrm>
                <a:custGeom>
                  <a:avLst/>
                  <a:gdLst/>
                  <a:ahLst/>
                  <a:rect l="l" t="t" r="r" b="b"/>
                  <a:pathLst>
                    <a:path w="400" h="126">
                      <a:moveTo>
                        <a:pt x="0" y="97"/>
                      </a:moveTo>
                      <a:cubicBezTo>
                        <a:pt x="8" y="85"/>
                        <a:pt x="26" y="41"/>
                        <a:pt x="48" y="25"/>
                      </a:cubicBezTo>
                      <a:cubicBezTo>
                        <a:pt x="70" y="9"/>
                        <a:pt x="108" y="0"/>
                        <a:pt x="134" y="0"/>
                      </a:cubicBezTo>
                      <a:cubicBezTo>
                        <a:pt x="160" y="0"/>
                        <a:pt x="181" y="4"/>
                        <a:pt x="205" y="23"/>
                      </a:cubicBezTo>
                      <a:cubicBezTo>
                        <a:pt x="230" y="42"/>
                        <a:pt x="255" y="98"/>
                        <a:pt x="281" y="112"/>
                      </a:cubicBezTo>
                      <a:cubicBezTo>
                        <a:pt x="307" y="126"/>
                        <a:pt x="344" y="117"/>
                        <a:pt x="364" y="105"/>
                      </a:cubicBezTo>
                      <a:cubicBezTo>
                        <a:pt x="384" y="93"/>
                        <a:pt x="393" y="51"/>
                        <a:pt x="400" y="37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Freeform 44"/>
              <p:cNvSpPr/>
              <p:nvPr/>
            </p:nvSpPr>
            <p:spPr>
              <a:xfrm flipH="1" rot="9846600">
                <a:off x="3381120" y="5279040"/>
                <a:ext cx="249840" cy="493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14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Group 45"/>
              <p:cNvGrpSpPr/>
              <p:nvPr/>
            </p:nvGrpSpPr>
            <p:grpSpPr>
              <a:xfrm>
                <a:off x="2885760" y="5079240"/>
                <a:ext cx="2397240" cy="398880"/>
                <a:chOff x="2885760" y="5079240"/>
                <a:chExt cx="2397240" cy="398880"/>
              </a:xfrm>
            </p:grpSpPr>
            <p:sp>
              <p:nvSpPr>
                <p:cNvPr id="677" name="Freeform 46"/>
                <p:cNvSpPr/>
                <p:nvPr/>
              </p:nvSpPr>
              <p:spPr>
                <a:xfrm flipH="1" rot="10063800">
                  <a:off x="3520440" y="5320080"/>
                  <a:ext cx="254880" cy="3744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7362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" name="Group 47"/>
                <p:cNvGrpSpPr/>
                <p:nvPr/>
              </p:nvGrpSpPr>
              <p:grpSpPr>
                <a:xfrm>
                  <a:off x="3700080" y="5312160"/>
                  <a:ext cx="424440" cy="138240"/>
                  <a:chOff x="3700080" y="5312160"/>
                  <a:chExt cx="424440" cy="138240"/>
                </a:xfrm>
              </p:grpSpPr>
              <p:sp>
                <p:nvSpPr>
                  <p:cNvPr id="679" name="Freeform 48"/>
                  <p:cNvSpPr/>
                  <p:nvPr/>
                </p:nvSpPr>
                <p:spPr>
                  <a:xfrm flipH="1" rot="10121400">
                    <a:off x="3700800" y="5336640"/>
                    <a:ext cx="2548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Freeform 49"/>
                  <p:cNvSpPr/>
                  <p:nvPr/>
                </p:nvSpPr>
                <p:spPr>
                  <a:xfrm flipH="1" rot="10121400">
                    <a:off x="3790800" y="5349240"/>
                    <a:ext cx="24984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Freeform 50"/>
                  <p:cNvSpPr/>
                  <p:nvPr/>
                </p:nvSpPr>
                <p:spPr>
                  <a:xfrm flipH="1" rot="9687600">
                    <a:off x="3872880" y="5363640"/>
                    <a:ext cx="2502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Group 51"/>
                <p:cNvGrpSpPr/>
                <p:nvPr/>
              </p:nvGrpSpPr>
              <p:grpSpPr>
                <a:xfrm>
                  <a:off x="3970080" y="5323320"/>
                  <a:ext cx="423360" cy="147240"/>
                  <a:chOff x="3970080" y="5323320"/>
                  <a:chExt cx="423360" cy="147240"/>
                </a:xfrm>
              </p:grpSpPr>
              <p:sp>
                <p:nvSpPr>
                  <p:cNvPr id="683" name="Freeform 52"/>
                  <p:cNvSpPr/>
                  <p:nvPr/>
                </p:nvSpPr>
                <p:spPr>
                  <a:xfrm flipH="1" rot="9767400">
                    <a:off x="3969720" y="5362920"/>
                    <a:ext cx="2548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53"/>
                  <p:cNvSpPr/>
                  <p:nvPr/>
                </p:nvSpPr>
                <p:spPr>
                  <a:xfrm flipH="1" rot="9767400">
                    <a:off x="4061520" y="5367240"/>
                    <a:ext cx="249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Freeform 54"/>
                  <p:cNvSpPr/>
                  <p:nvPr/>
                </p:nvSpPr>
                <p:spPr>
                  <a:xfrm flipH="1" rot="9333000">
                    <a:off x="4144320" y="5373000"/>
                    <a:ext cx="2502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Group 55"/>
                <p:cNvGrpSpPr/>
                <p:nvPr/>
              </p:nvGrpSpPr>
              <p:grpSpPr>
                <a:xfrm>
                  <a:off x="4232520" y="5307120"/>
                  <a:ext cx="399600" cy="171000"/>
                  <a:chOff x="4232520" y="5307120"/>
                  <a:chExt cx="399600" cy="171000"/>
                </a:xfrm>
              </p:grpSpPr>
              <p:sp>
                <p:nvSpPr>
                  <p:cNvPr id="687" name="Freeform 56"/>
                  <p:cNvSpPr/>
                  <p:nvPr/>
                </p:nvSpPr>
                <p:spPr>
                  <a:xfrm flipH="1" rot="9276000">
                    <a:off x="4229280" y="5376600"/>
                    <a:ext cx="2437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Freeform 57"/>
                  <p:cNvSpPr/>
                  <p:nvPr/>
                </p:nvSpPr>
                <p:spPr>
                  <a:xfrm flipH="1" rot="9276000">
                    <a:off x="4317480" y="5370120"/>
                    <a:ext cx="23868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Freeform 58"/>
                  <p:cNvSpPr/>
                  <p:nvPr/>
                </p:nvSpPr>
                <p:spPr>
                  <a:xfrm flipH="1" rot="8842200">
                    <a:off x="4398120" y="5367240"/>
                    <a:ext cx="2390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Group 59"/>
                <p:cNvGrpSpPr/>
                <p:nvPr/>
              </p:nvGrpSpPr>
              <p:grpSpPr>
                <a:xfrm>
                  <a:off x="4710960" y="5109480"/>
                  <a:ext cx="572040" cy="338760"/>
                  <a:chOff x="4710960" y="5109480"/>
                  <a:chExt cx="572040" cy="338760"/>
                </a:xfrm>
              </p:grpSpPr>
              <p:grpSp>
                <p:nvGrpSpPr>
                  <p:cNvPr id="691" name="Group 60"/>
                  <p:cNvGrpSpPr/>
                  <p:nvPr/>
                </p:nvGrpSpPr>
                <p:grpSpPr>
                  <a:xfrm>
                    <a:off x="4710960" y="5158440"/>
                    <a:ext cx="459360" cy="289800"/>
                    <a:chOff x="4710960" y="5158440"/>
                    <a:chExt cx="459360" cy="289800"/>
                  </a:xfrm>
                </p:grpSpPr>
                <p:sp>
                  <p:nvSpPr>
                    <p:cNvPr id="692" name="Freeform 61"/>
                    <p:cNvSpPr/>
                    <p:nvPr/>
                  </p:nvSpPr>
                  <p:spPr>
                    <a:xfrm flipH="1" rot="5410800">
                      <a:off x="5058720" y="5202000"/>
                      <a:ext cx="15516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Freeform 62"/>
                    <p:cNvSpPr/>
                    <p:nvPr/>
                  </p:nvSpPr>
                  <p:spPr>
                    <a:xfrm flipH="1" rot="7148400">
                      <a:off x="4704480" y="5343120"/>
                      <a:ext cx="1328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63"/>
                    <p:cNvSpPr/>
                    <p:nvPr/>
                  </p:nvSpPr>
                  <p:spPr>
                    <a:xfrm flipH="1" rot="6714000">
                      <a:off x="4836600" y="5318640"/>
                      <a:ext cx="12996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266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Group 64"/>
                  <p:cNvGrpSpPr/>
                  <p:nvPr/>
                </p:nvGrpSpPr>
                <p:grpSpPr>
                  <a:xfrm>
                    <a:off x="4774320" y="5109480"/>
                    <a:ext cx="508680" cy="333000"/>
                    <a:chOff x="4774320" y="5109480"/>
                    <a:chExt cx="508680" cy="333000"/>
                  </a:xfrm>
                </p:grpSpPr>
                <p:grpSp>
                  <p:nvGrpSpPr>
                    <p:cNvPr id="696" name="Group 65"/>
                    <p:cNvGrpSpPr/>
                    <p:nvPr/>
                  </p:nvGrpSpPr>
                  <p:grpSpPr>
                    <a:xfrm>
                      <a:off x="4774320" y="5119560"/>
                      <a:ext cx="450000" cy="322920"/>
                      <a:chOff x="4774320" y="5119560"/>
                      <a:chExt cx="450000" cy="322920"/>
                    </a:xfrm>
                  </p:grpSpPr>
                  <p:sp>
                    <p:nvSpPr>
                      <p:cNvPr id="697" name="Freeform 66"/>
                      <p:cNvSpPr/>
                      <p:nvPr/>
                    </p:nvSpPr>
                    <p:spPr>
                      <a:xfrm flipH="1" rot="7148400">
                        <a:off x="4775040" y="5328000"/>
                        <a:ext cx="12852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7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98" name="Group 67"/>
                      <p:cNvGrpSpPr/>
                      <p:nvPr/>
                    </p:nvGrpSpPr>
                    <p:grpSpPr>
                      <a:xfrm>
                        <a:off x="4907160" y="5200920"/>
                        <a:ext cx="235800" cy="221040"/>
                        <a:chOff x="4907160" y="5200920"/>
                        <a:chExt cx="235800" cy="221040"/>
                      </a:xfrm>
                    </p:grpSpPr>
                    <p:sp>
                      <p:nvSpPr>
                        <p:cNvPr id="699" name="Freeform 68"/>
                        <p:cNvSpPr/>
                        <p:nvPr/>
                      </p:nvSpPr>
                      <p:spPr>
                        <a:xfrm flipH="1" rot="6477600">
                          <a:off x="4883400" y="5306400"/>
                          <a:ext cx="155160" cy="6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102">
                              <a:moveTo>
                                <a:pt x="0" y="99"/>
                              </a:moveTo>
                              <a:cubicBezTo>
                                <a:pt x="7" y="87"/>
                                <a:pt x="24" y="43"/>
                                <a:pt x="44" y="27"/>
                              </a:cubicBezTo>
                              <a:cubicBezTo>
                                <a:pt x="64" y="11"/>
                                <a:pt x="93" y="5"/>
                                <a:pt x="118" y="3"/>
                              </a:cubicBezTo>
                              <a:cubicBezTo>
                                <a:pt x="143" y="1"/>
                                <a:pt x="165" y="0"/>
                                <a:pt x="192" y="15"/>
                              </a:cubicBezTo>
                              <a:cubicBezTo>
                                <a:pt x="219" y="30"/>
                                <a:pt x="252" y="80"/>
                                <a:pt x="280" y="91"/>
                              </a:cubicBezTo>
                              <a:cubicBezTo>
                                <a:pt x="308" y="102"/>
                                <a:pt x="339" y="92"/>
                                <a:pt x="360" y="79"/>
                              </a:cubicBezTo>
                              <a:cubicBezTo>
                                <a:pt x="381" y="66"/>
                                <a:pt x="398" y="25"/>
                                <a:pt x="408" y="10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0" name="Freeform 69"/>
                        <p:cNvSpPr/>
                        <p:nvPr/>
                      </p:nvSpPr>
                      <p:spPr>
                        <a:xfrm flipH="1" rot="6477600">
                          <a:off x="4953240" y="5270760"/>
                          <a:ext cx="15048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Freeform 70"/>
                        <p:cNvSpPr/>
                        <p:nvPr/>
                      </p:nvSpPr>
                      <p:spPr>
                        <a:xfrm flipH="1" rot="6043800">
                          <a:off x="5014800" y="5242680"/>
                          <a:ext cx="15048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3600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02" name="Freeform 71"/>
                      <p:cNvSpPr/>
                      <p:nvPr/>
                    </p:nvSpPr>
                    <p:spPr>
                      <a:xfrm flipH="1" rot="5410800">
                        <a:off x="5108400" y="5155560"/>
                        <a:ext cx="1508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296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03" name="Freeform 72"/>
                    <p:cNvSpPr/>
                    <p:nvPr/>
                  </p:nvSpPr>
                  <p:spPr>
                    <a:xfrm flipH="1" rot="10546200">
                      <a:off x="5164920" y="5113080"/>
                      <a:ext cx="11376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21">
                          <a:moveTo>
                            <a:pt x="72" y="0"/>
                          </a:moveTo>
                          <a:cubicBezTo>
                            <a:pt x="82" y="7"/>
                            <a:pt x="115" y="23"/>
                            <a:pt x="127" y="39"/>
                          </a:cubicBezTo>
                          <a:cubicBezTo>
                            <a:pt x="139" y="57"/>
                            <a:pt x="145" y="86"/>
                            <a:pt x="144" y="106"/>
                          </a:cubicBezTo>
                          <a:cubicBezTo>
                            <a:pt x="143" y="125"/>
                            <a:pt x="139" y="141"/>
                            <a:pt x="123" y="158"/>
                          </a:cubicBezTo>
                          <a:cubicBezTo>
                            <a:pt x="107" y="176"/>
                            <a:pt x="69" y="203"/>
                            <a:pt x="50" y="212"/>
                          </a:cubicBezTo>
                          <a:cubicBezTo>
                            <a:pt x="31" y="221"/>
                            <a:pt x="12" y="213"/>
                            <a:pt x="6" y="214"/>
                          </a:cubicBezTo>
                          <a:cubicBezTo>
                            <a:pt x="0" y="215"/>
                            <a:pt x="12" y="217"/>
                            <a:pt x="14" y="21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81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4" name="Group 73"/>
                <p:cNvGrpSpPr/>
                <p:nvPr/>
              </p:nvGrpSpPr>
              <p:grpSpPr>
                <a:xfrm>
                  <a:off x="2885760" y="5079240"/>
                  <a:ext cx="613440" cy="308880"/>
                  <a:chOff x="2885760" y="5079240"/>
                  <a:chExt cx="613440" cy="308880"/>
                </a:xfrm>
              </p:grpSpPr>
              <p:grpSp>
                <p:nvGrpSpPr>
                  <p:cNvPr id="705" name="Group 74"/>
                  <p:cNvGrpSpPr/>
                  <p:nvPr/>
                </p:nvGrpSpPr>
                <p:grpSpPr>
                  <a:xfrm>
                    <a:off x="2885760" y="5079240"/>
                    <a:ext cx="505080" cy="293400"/>
                    <a:chOff x="2885760" y="5079240"/>
                    <a:chExt cx="505080" cy="293400"/>
                  </a:xfrm>
                </p:grpSpPr>
                <p:sp>
                  <p:nvSpPr>
                    <p:cNvPr id="706" name="Freeform 75"/>
                    <p:cNvSpPr/>
                    <p:nvPr/>
                  </p:nvSpPr>
                  <p:spPr>
                    <a:xfrm flipH="1" rot="8179200">
                      <a:off x="3233520" y="5261040"/>
                      <a:ext cx="15516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76"/>
                    <p:cNvSpPr/>
                    <p:nvPr/>
                  </p:nvSpPr>
                  <p:spPr>
                    <a:xfrm flipH="1" rot="9917400">
                      <a:off x="2891520" y="5094720"/>
                      <a:ext cx="1328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Freeform 77"/>
                    <p:cNvSpPr/>
                    <p:nvPr/>
                  </p:nvSpPr>
                  <p:spPr>
                    <a:xfrm flipH="1" rot="9483000">
                      <a:off x="2995920" y="5170680"/>
                      <a:ext cx="12996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266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Group 78"/>
                  <p:cNvGrpSpPr/>
                  <p:nvPr/>
                </p:nvGrpSpPr>
                <p:grpSpPr>
                  <a:xfrm>
                    <a:off x="2938320" y="5116680"/>
                    <a:ext cx="560880" cy="271440"/>
                    <a:chOff x="2938320" y="5116680"/>
                    <a:chExt cx="560880" cy="271440"/>
                  </a:xfrm>
                </p:grpSpPr>
                <p:grpSp>
                  <p:nvGrpSpPr>
                    <p:cNvPr id="710" name="Group 79"/>
                    <p:cNvGrpSpPr/>
                    <p:nvPr/>
                  </p:nvGrpSpPr>
                  <p:grpSpPr>
                    <a:xfrm>
                      <a:off x="2938320" y="5116680"/>
                      <a:ext cx="518040" cy="264600"/>
                      <a:chOff x="2938320" y="5116680"/>
                      <a:chExt cx="518040" cy="264600"/>
                    </a:xfrm>
                  </p:grpSpPr>
                  <p:sp>
                    <p:nvSpPr>
                      <p:cNvPr id="711" name="Freeform 80"/>
                      <p:cNvSpPr/>
                      <p:nvPr/>
                    </p:nvSpPr>
                    <p:spPr>
                      <a:xfrm flipH="1" rot="9917400">
                        <a:off x="2945520" y="5131800"/>
                        <a:ext cx="12852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7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12" name="Group 81"/>
                      <p:cNvGrpSpPr/>
                      <p:nvPr/>
                    </p:nvGrpSpPr>
                    <p:grpSpPr>
                      <a:xfrm>
                        <a:off x="3033000" y="5176080"/>
                        <a:ext cx="298440" cy="190440"/>
                        <a:chOff x="3033000" y="5176080"/>
                        <a:chExt cx="298440" cy="190440"/>
                      </a:xfrm>
                    </p:grpSpPr>
                    <p:sp>
                      <p:nvSpPr>
                        <p:cNvPr id="713" name="Freeform 82"/>
                        <p:cNvSpPr/>
                        <p:nvPr/>
                      </p:nvSpPr>
                      <p:spPr>
                        <a:xfrm flipH="1" rot="9246600">
                          <a:off x="3038760" y="5206320"/>
                          <a:ext cx="155160" cy="6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102">
                              <a:moveTo>
                                <a:pt x="0" y="99"/>
                              </a:moveTo>
                              <a:cubicBezTo>
                                <a:pt x="7" y="87"/>
                                <a:pt x="24" y="43"/>
                                <a:pt x="44" y="27"/>
                              </a:cubicBezTo>
                              <a:cubicBezTo>
                                <a:pt x="64" y="11"/>
                                <a:pt x="93" y="5"/>
                                <a:pt x="118" y="3"/>
                              </a:cubicBezTo>
                              <a:cubicBezTo>
                                <a:pt x="143" y="1"/>
                                <a:pt x="165" y="0"/>
                                <a:pt x="192" y="15"/>
                              </a:cubicBezTo>
                              <a:cubicBezTo>
                                <a:pt x="219" y="30"/>
                                <a:pt x="252" y="80"/>
                                <a:pt x="280" y="91"/>
                              </a:cubicBezTo>
                              <a:cubicBezTo>
                                <a:pt x="308" y="102"/>
                                <a:pt x="339" y="92"/>
                                <a:pt x="360" y="79"/>
                              </a:cubicBezTo>
                              <a:cubicBezTo>
                                <a:pt x="381" y="66"/>
                                <a:pt x="398" y="25"/>
                                <a:pt x="408" y="10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Freeform 83"/>
                        <p:cNvSpPr/>
                        <p:nvPr/>
                      </p:nvSpPr>
                      <p:spPr>
                        <a:xfrm flipH="1" rot="9246600">
                          <a:off x="3107880" y="5228640"/>
                          <a:ext cx="15084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Freeform 84"/>
                        <p:cNvSpPr/>
                        <p:nvPr/>
                      </p:nvSpPr>
                      <p:spPr>
                        <a:xfrm flipH="1" rot="8812800">
                          <a:off x="3171240" y="5253480"/>
                          <a:ext cx="15084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3600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16" name="Freeform 85"/>
                      <p:cNvSpPr/>
                      <p:nvPr/>
                    </p:nvSpPr>
                    <p:spPr>
                      <a:xfrm flipH="1" rot="8179200">
                        <a:off x="3298320" y="5260680"/>
                        <a:ext cx="1508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296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17" name="Freeform 86"/>
                    <p:cNvSpPr/>
                    <p:nvPr/>
                  </p:nvSpPr>
                  <p:spPr>
                    <a:xfrm flipH="1" rot="13315200">
                      <a:off x="3362760" y="5253480"/>
                      <a:ext cx="11376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21">
                          <a:moveTo>
                            <a:pt x="72" y="0"/>
                          </a:moveTo>
                          <a:cubicBezTo>
                            <a:pt x="82" y="7"/>
                            <a:pt x="115" y="23"/>
                            <a:pt x="127" y="39"/>
                          </a:cubicBezTo>
                          <a:cubicBezTo>
                            <a:pt x="139" y="57"/>
                            <a:pt x="145" y="86"/>
                            <a:pt x="144" y="106"/>
                          </a:cubicBezTo>
                          <a:cubicBezTo>
                            <a:pt x="143" y="125"/>
                            <a:pt x="139" y="141"/>
                            <a:pt x="123" y="158"/>
                          </a:cubicBezTo>
                          <a:cubicBezTo>
                            <a:pt x="107" y="176"/>
                            <a:pt x="69" y="203"/>
                            <a:pt x="50" y="212"/>
                          </a:cubicBezTo>
                          <a:cubicBezTo>
                            <a:pt x="31" y="221"/>
                            <a:pt x="12" y="213"/>
                            <a:pt x="6" y="214"/>
                          </a:cubicBezTo>
                          <a:cubicBezTo>
                            <a:pt x="0" y="215"/>
                            <a:pt x="12" y="217"/>
                            <a:pt x="14" y="21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81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8" name="Freeform 87"/>
              <p:cNvSpPr/>
              <p:nvPr/>
            </p:nvSpPr>
            <p:spPr>
              <a:xfrm flipH="1" rot="9846600">
                <a:off x="3447720" y="5304600"/>
                <a:ext cx="249840" cy="493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14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88"/>
              <p:cNvSpPr/>
              <p:nvPr/>
            </p:nvSpPr>
            <p:spPr>
              <a:xfrm flipH="1" rot="10095600">
                <a:off x="3612960" y="5330520"/>
                <a:ext cx="250920" cy="475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398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89"/>
              <p:cNvSpPr/>
              <p:nvPr/>
            </p:nvSpPr>
            <p:spPr>
              <a:xfrm flipH="1" rot="8887800">
                <a:off x="3366720" y="5239800"/>
                <a:ext cx="180720" cy="71640"/>
              </a:xfrm>
              <a:custGeom>
                <a:avLst/>
                <a:gdLst/>
                <a:ahLst/>
                <a:rect l="l" t="t" r="r" b="b"/>
                <a:pathLst>
                  <a:path w="228" h="142">
                    <a:moveTo>
                      <a:pt x="145" y="96"/>
                    </a:moveTo>
                    <a:cubicBezTo>
                      <a:pt x="126" y="103"/>
                      <a:pt x="48" y="142"/>
                      <a:pt x="25" y="136"/>
                    </a:cubicBezTo>
                    <a:cubicBezTo>
                      <a:pt x="2" y="130"/>
                      <a:pt x="0" y="75"/>
                      <a:pt x="7" y="61"/>
                    </a:cubicBezTo>
                    <a:cubicBezTo>
                      <a:pt x="14" y="47"/>
                      <a:pt x="42" y="48"/>
                      <a:pt x="66" y="53"/>
                    </a:cubicBezTo>
                    <a:cubicBezTo>
                      <a:pt x="89" y="58"/>
                      <a:pt x="126" y="85"/>
                      <a:pt x="150" y="88"/>
                    </a:cubicBezTo>
                    <a:cubicBezTo>
                      <a:pt x="173" y="89"/>
                      <a:pt x="194" y="74"/>
                      <a:pt x="207" y="60"/>
                    </a:cubicBezTo>
                    <a:cubicBezTo>
                      <a:pt x="221" y="46"/>
                      <a:pt x="224" y="12"/>
                      <a:pt x="228" y="0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618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90"/>
              <p:cNvSpPr/>
              <p:nvPr/>
            </p:nvSpPr>
            <p:spPr>
              <a:xfrm flipH="1" rot="9846600">
                <a:off x="3381120" y="5279040"/>
                <a:ext cx="249840" cy="4932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0" y="97"/>
                    </a:moveTo>
                    <a:cubicBezTo>
                      <a:pt x="8" y="85"/>
                      <a:pt x="26" y="41"/>
                      <a:pt x="48" y="25"/>
                    </a:cubicBezTo>
                    <a:cubicBezTo>
                      <a:pt x="70" y="9"/>
                      <a:pt x="108" y="0"/>
                      <a:pt x="134" y="0"/>
                    </a:cubicBezTo>
                    <a:cubicBezTo>
                      <a:pt x="160" y="0"/>
                      <a:pt x="181" y="4"/>
                      <a:pt x="205" y="23"/>
                    </a:cubicBezTo>
                    <a:cubicBezTo>
                      <a:pt x="230" y="42"/>
                      <a:pt x="255" y="98"/>
                      <a:pt x="281" y="112"/>
                    </a:cubicBezTo>
                    <a:cubicBezTo>
                      <a:pt x="307" y="126"/>
                      <a:pt x="344" y="117"/>
                      <a:pt x="364" y="105"/>
                    </a:cubicBezTo>
                    <a:cubicBezTo>
                      <a:pt x="384" y="93"/>
                      <a:pt x="393" y="51"/>
                      <a:pt x="400" y="37"/>
                    </a:cubicBezTo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14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Group 91"/>
              <p:cNvGrpSpPr/>
              <p:nvPr/>
            </p:nvGrpSpPr>
            <p:grpSpPr>
              <a:xfrm>
                <a:off x="2885760" y="5079240"/>
                <a:ext cx="2397240" cy="398880"/>
                <a:chOff x="2885760" y="5079240"/>
                <a:chExt cx="2397240" cy="398880"/>
              </a:xfrm>
            </p:grpSpPr>
            <p:sp>
              <p:nvSpPr>
                <p:cNvPr id="723" name="Freeform 92"/>
                <p:cNvSpPr/>
                <p:nvPr/>
              </p:nvSpPr>
              <p:spPr>
                <a:xfrm flipH="1" rot="10063800">
                  <a:off x="3520440" y="5320080"/>
                  <a:ext cx="254880" cy="37440"/>
                </a:xfrm>
                <a:custGeom>
                  <a:avLst/>
                  <a:gdLst/>
                  <a:ahLst/>
                  <a:rect l="l" t="t" r="r" b="b"/>
                  <a:pathLst>
                    <a:path w="408" h="102">
                      <a:moveTo>
                        <a:pt x="0" y="99"/>
                      </a:moveTo>
                      <a:cubicBezTo>
                        <a:pt x="7" y="87"/>
                        <a:pt x="24" y="43"/>
                        <a:pt x="44" y="27"/>
                      </a:cubicBezTo>
                      <a:cubicBezTo>
                        <a:pt x="64" y="11"/>
                        <a:pt x="93" y="5"/>
                        <a:pt x="118" y="3"/>
                      </a:cubicBezTo>
                      <a:cubicBezTo>
                        <a:pt x="143" y="1"/>
                        <a:pt x="165" y="0"/>
                        <a:pt x="192" y="15"/>
                      </a:cubicBezTo>
                      <a:cubicBezTo>
                        <a:pt x="219" y="30"/>
                        <a:pt x="252" y="80"/>
                        <a:pt x="280" y="91"/>
                      </a:cubicBezTo>
                      <a:cubicBezTo>
                        <a:pt x="308" y="102"/>
                        <a:pt x="339" y="92"/>
                        <a:pt x="360" y="79"/>
                      </a:cubicBezTo>
                      <a:cubicBezTo>
                        <a:pt x="381" y="66"/>
                        <a:pt x="398" y="25"/>
                        <a:pt x="408" y="10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7362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Group 93"/>
                <p:cNvGrpSpPr/>
                <p:nvPr/>
              </p:nvGrpSpPr>
              <p:grpSpPr>
                <a:xfrm>
                  <a:off x="3700080" y="5312160"/>
                  <a:ext cx="424440" cy="138240"/>
                  <a:chOff x="3700080" y="5312160"/>
                  <a:chExt cx="424440" cy="138240"/>
                </a:xfrm>
              </p:grpSpPr>
              <p:sp>
                <p:nvSpPr>
                  <p:cNvPr id="725" name="Freeform 94"/>
                  <p:cNvSpPr/>
                  <p:nvPr/>
                </p:nvSpPr>
                <p:spPr>
                  <a:xfrm flipH="1" rot="10121400">
                    <a:off x="3700800" y="5336640"/>
                    <a:ext cx="2548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Freeform 95"/>
                  <p:cNvSpPr/>
                  <p:nvPr/>
                </p:nvSpPr>
                <p:spPr>
                  <a:xfrm flipH="1" rot="10121400">
                    <a:off x="3790800" y="5349240"/>
                    <a:ext cx="24984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Freeform 96"/>
                  <p:cNvSpPr/>
                  <p:nvPr/>
                </p:nvSpPr>
                <p:spPr>
                  <a:xfrm flipH="1" rot="9687600">
                    <a:off x="3872880" y="5363640"/>
                    <a:ext cx="2502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Group 97"/>
                <p:cNvGrpSpPr/>
                <p:nvPr/>
              </p:nvGrpSpPr>
              <p:grpSpPr>
                <a:xfrm>
                  <a:off x="3970080" y="5323320"/>
                  <a:ext cx="423360" cy="147240"/>
                  <a:chOff x="3970080" y="5323320"/>
                  <a:chExt cx="423360" cy="147240"/>
                </a:xfrm>
              </p:grpSpPr>
              <p:sp>
                <p:nvSpPr>
                  <p:cNvPr id="729" name="Freeform 98"/>
                  <p:cNvSpPr/>
                  <p:nvPr/>
                </p:nvSpPr>
                <p:spPr>
                  <a:xfrm flipH="1" rot="9767400">
                    <a:off x="3969720" y="5362920"/>
                    <a:ext cx="2548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Freeform 99"/>
                  <p:cNvSpPr/>
                  <p:nvPr/>
                </p:nvSpPr>
                <p:spPr>
                  <a:xfrm flipH="1" rot="9767400">
                    <a:off x="4061520" y="5367240"/>
                    <a:ext cx="249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Freeform 100"/>
                  <p:cNvSpPr/>
                  <p:nvPr/>
                </p:nvSpPr>
                <p:spPr>
                  <a:xfrm flipH="1" rot="9333000">
                    <a:off x="4144320" y="5373000"/>
                    <a:ext cx="2502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" name="Group 101"/>
                <p:cNvGrpSpPr/>
                <p:nvPr/>
              </p:nvGrpSpPr>
              <p:grpSpPr>
                <a:xfrm>
                  <a:off x="4232520" y="5307120"/>
                  <a:ext cx="399600" cy="171000"/>
                  <a:chOff x="4232520" y="5307120"/>
                  <a:chExt cx="399600" cy="171000"/>
                </a:xfrm>
              </p:grpSpPr>
              <p:sp>
                <p:nvSpPr>
                  <p:cNvPr id="733" name="Freeform 102"/>
                  <p:cNvSpPr/>
                  <p:nvPr/>
                </p:nvSpPr>
                <p:spPr>
                  <a:xfrm flipH="1" rot="9276000">
                    <a:off x="4229280" y="5376600"/>
                    <a:ext cx="2437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02">
                        <a:moveTo>
                          <a:pt x="0" y="99"/>
                        </a:moveTo>
                        <a:cubicBezTo>
                          <a:pt x="7" y="87"/>
                          <a:pt x="24" y="43"/>
                          <a:pt x="44" y="27"/>
                        </a:cubicBezTo>
                        <a:cubicBezTo>
                          <a:pt x="64" y="11"/>
                          <a:pt x="93" y="5"/>
                          <a:pt x="118" y="3"/>
                        </a:cubicBezTo>
                        <a:cubicBezTo>
                          <a:pt x="143" y="1"/>
                          <a:pt x="165" y="0"/>
                          <a:pt x="192" y="15"/>
                        </a:cubicBezTo>
                        <a:cubicBezTo>
                          <a:pt x="219" y="30"/>
                          <a:pt x="252" y="80"/>
                          <a:pt x="280" y="91"/>
                        </a:cubicBezTo>
                        <a:cubicBezTo>
                          <a:pt x="308" y="102"/>
                          <a:pt x="339" y="92"/>
                          <a:pt x="360" y="79"/>
                        </a:cubicBezTo>
                        <a:cubicBezTo>
                          <a:pt x="381" y="66"/>
                          <a:pt x="398" y="25"/>
                          <a:pt x="408" y="10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103"/>
                  <p:cNvSpPr/>
                  <p:nvPr/>
                </p:nvSpPr>
                <p:spPr>
                  <a:xfrm flipH="1" rot="9276000">
                    <a:off x="4317480" y="5370120"/>
                    <a:ext cx="23868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104"/>
                  <p:cNvSpPr/>
                  <p:nvPr/>
                </p:nvSpPr>
                <p:spPr>
                  <a:xfrm flipH="1" rot="8842200">
                    <a:off x="4398120" y="5367240"/>
                    <a:ext cx="2390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126">
                        <a:moveTo>
                          <a:pt x="0" y="97"/>
                        </a:moveTo>
                        <a:cubicBezTo>
                          <a:pt x="8" y="85"/>
                          <a:pt x="26" y="41"/>
                          <a:pt x="48" y="25"/>
                        </a:cubicBezTo>
                        <a:cubicBezTo>
                          <a:pt x="70" y="9"/>
                          <a:pt x="108" y="0"/>
                          <a:pt x="134" y="0"/>
                        </a:cubicBezTo>
                        <a:cubicBezTo>
                          <a:pt x="160" y="0"/>
                          <a:pt x="181" y="4"/>
                          <a:pt x="205" y="23"/>
                        </a:cubicBezTo>
                        <a:cubicBezTo>
                          <a:pt x="230" y="42"/>
                          <a:pt x="255" y="98"/>
                          <a:pt x="281" y="112"/>
                        </a:cubicBezTo>
                        <a:cubicBezTo>
                          <a:pt x="307" y="126"/>
                          <a:pt x="344" y="117"/>
                          <a:pt x="364" y="105"/>
                        </a:cubicBezTo>
                        <a:cubicBezTo>
                          <a:pt x="384" y="93"/>
                          <a:pt x="393" y="51"/>
                          <a:pt x="400" y="37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Group 105"/>
                <p:cNvGrpSpPr/>
                <p:nvPr/>
              </p:nvGrpSpPr>
              <p:grpSpPr>
                <a:xfrm>
                  <a:off x="4710960" y="5109480"/>
                  <a:ext cx="572040" cy="338760"/>
                  <a:chOff x="4710960" y="5109480"/>
                  <a:chExt cx="572040" cy="338760"/>
                </a:xfrm>
              </p:grpSpPr>
              <p:grpSp>
                <p:nvGrpSpPr>
                  <p:cNvPr id="737" name="Group 106"/>
                  <p:cNvGrpSpPr/>
                  <p:nvPr/>
                </p:nvGrpSpPr>
                <p:grpSpPr>
                  <a:xfrm>
                    <a:off x="4710960" y="5158440"/>
                    <a:ext cx="459360" cy="289800"/>
                    <a:chOff x="4710960" y="5158440"/>
                    <a:chExt cx="459360" cy="289800"/>
                  </a:xfrm>
                </p:grpSpPr>
                <p:sp>
                  <p:nvSpPr>
                    <p:cNvPr id="738" name="Freeform 107"/>
                    <p:cNvSpPr/>
                    <p:nvPr/>
                  </p:nvSpPr>
                  <p:spPr>
                    <a:xfrm flipH="1" rot="5410800">
                      <a:off x="5058720" y="5202000"/>
                      <a:ext cx="15516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108"/>
                    <p:cNvSpPr/>
                    <p:nvPr/>
                  </p:nvSpPr>
                  <p:spPr>
                    <a:xfrm flipH="1" rot="7148400">
                      <a:off x="4704480" y="5343120"/>
                      <a:ext cx="1328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Freeform 109"/>
                    <p:cNvSpPr/>
                    <p:nvPr/>
                  </p:nvSpPr>
                  <p:spPr>
                    <a:xfrm flipH="1" rot="6714000">
                      <a:off x="4836600" y="5318640"/>
                      <a:ext cx="12996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266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110"/>
                  <p:cNvGrpSpPr/>
                  <p:nvPr/>
                </p:nvGrpSpPr>
                <p:grpSpPr>
                  <a:xfrm>
                    <a:off x="4774320" y="5109480"/>
                    <a:ext cx="508680" cy="333000"/>
                    <a:chOff x="4774320" y="5109480"/>
                    <a:chExt cx="508680" cy="333000"/>
                  </a:xfrm>
                </p:grpSpPr>
                <p:grpSp>
                  <p:nvGrpSpPr>
                    <p:cNvPr id="742" name="Group 111"/>
                    <p:cNvGrpSpPr/>
                    <p:nvPr/>
                  </p:nvGrpSpPr>
                  <p:grpSpPr>
                    <a:xfrm>
                      <a:off x="4774320" y="5119560"/>
                      <a:ext cx="450000" cy="322920"/>
                      <a:chOff x="4774320" y="5119560"/>
                      <a:chExt cx="450000" cy="322920"/>
                    </a:xfrm>
                  </p:grpSpPr>
                  <p:sp>
                    <p:nvSpPr>
                      <p:cNvPr id="743" name="Freeform 112"/>
                      <p:cNvSpPr/>
                      <p:nvPr/>
                    </p:nvSpPr>
                    <p:spPr>
                      <a:xfrm flipH="1" rot="7148400">
                        <a:off x="4775040" y="5328000"/>
                        <a:ext cx="12852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7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44" name="Group 113"/>
                      <p:cNvGrpSpPr/>
                      <p:nvPr/>
                    </p:nvGrpSpPr>
                    <p:grpSpPr>
                      <a:xfrm>
                        <a:off x="4907160" y="5200920"/>
                        <a:ext cx="235800" cy="221040"/>
                        <a:chOff x="4907160" y="5200920"/>
                        <a:chExt cx="235800" cy="221040"/>
                      </a:xfrm>
                    </p:grpSpPr>
                    <p:sp>
                      <p:nvSpPr>
                        <p:cNvPr id="745" name="Freeform 114"/>
                        <p:cNvSpPr/>
                        <p:nvPr/>
                      </p:nvSpPr>
                      <p:spPr>
                        <a:xfrm flipH="1" rot="6477600">
                          <a:off x="4883400" y="5306400"/>
                          <a:ext cx="155160" cy="6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102">
                              <a:moveTo>
                                <a:pt x="0" y="99"/>
                              </a:moveTo>
                              <a:cubicBezTo>
                                <a:pt x="7" y="87"/>
                                <a:pt x="24" y="43"/>
                                <a:pt x="44" y="27"/>
                              </a:cubicBezTo>
                              <a:cubicBezTo>
                                <a:pt x="64" y="11"/>
                                <a:pt x="93" y="5"/>
                                <a:pt x="118" y="3"/>
                              </a:cubicBezTo>
                              <a:cubicBezTo>
                                <a:pt x="143" y="1"/>
                                <a:pt x="165" y="0"/>
                                <a:pt x="192" y="15"/>
                              </a:cubicBezTo>
                              <a:cubicBezTo>
                                <a:pt x="219" y="30"/>
                                <a:pt x="252" y="80"/>
                                <a:pt x="280" y="91"/>
                              </a:cubicBezTo>
                              <a:cubicBezTo>
                                <a:pt x="308" y="102"/>
                                <a:pt x="339" y="92"/>
                                <a:pt x="360" y="79"/>
                              </a:cubicBezTo>
                              <a:cubicBezTo>
                                <a:pt x="381" y="66"/>
                                <a:pt x="398" y="25"/>
                                <a:pt x="408" y="10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Freeform 115"/>
                        <p:cNvSpPr/>
                        <p:nvPr/>
                      </p:nvSpPr>
                      <p:spPr>
                        <a:xfrm flipH="1" rot="6477600">
                          <a:off x="4953240" y="5270760"/>
                          <a:ext cx="15048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Freeform 116"/>
                        <p:cNvSpPr/>
                        <p:nvPr/>
                      </p:nvSpPr>
                      <p:spPr>
                        <a:xfrm flipH="1" rot="6043800">
                          <a:off x="5014800" y="5242680"/>
                          <a:ext cx="15048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3600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48" name="Freeform 117"/>
                      <p:cNvSpPr/>
                      <p:nvPr/>
                    </p:nvSpPr>
                    <p:spPr>
                      <a:xfrm flipH="1" rot="5410800">
                        <a:off x="5108400" y="5155560"/>
                        <a:ext cx="1508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296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9" name="Freeform 118"/>
                    <p:cNvSpPr/>
                    <p:nvPr/>
                  </p:nvSpPr>
                  <p:spPr>
                    <a:xfrm flipH="1" rot="10546200">
                      <a:off x="5164920" y="5113080"/>
                      <a:ext cx="11376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21">
                          <a:moveTo>
                            <a:pt x="72" y="0"/>
                          </a:moveTo>
                          <a:cubicBezTo>
                            <a:pt x="82" y="7"/>
                            <a:pt x="115" y="23"/>
                            <a:pt x="127" y="39"/>
                          </a:cubicBezTo>
                          <a:cubicBezTo>
                            <a:pt x="139" y="57"/>
                            <a:pt x="145" y="86"/>
                            <a:pt x="144" y="106"/>
                          </a:cubicBezTo>
                          <a:cubicBezTo>
                            <a:pt x="143" y="125"/>
                            <a:pt x="139" y="141"/>
                            <a:pt x="123" y="158"/>
                          </a:cubicBezTo>
                          <a:cubicBezTo>
                            <a:pt x="107" y="176"/>
                            <a:pt x="69" y="203"/>
                            <a:pt x="50" y="212"/>
                          </a:cubicBezTo>
                          <a:cubicBezTo>
                            <a:pt x="31" y="221"/>
                            <a:pt x="12" y="213"/>
                            <a:pt x="6" y="214"/>
                          </a:cubicBezTo>
                          <a:cubicBezTo>
                            <a:pt x="0" y="215"/>
                            <a:pt x="12" y="217"/>
                            <a:pt x="14" y="21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81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0" name="Group 119"/>
                <p:cNvGrpSpPr/>
                <p:nvPr/>
              </p:nvGrpSpPr>
              <p:grpSpPr>
                <a:xfrm>
                  <a:off x="2885760" y="5079240"/>
                  <a:ext cx="613440" cy="308880"/>
                  <a:chOff x="2885760" y="5079240"/>
                  <a:chExt cx="613440" cy="308880"/>
                </a:xfrm>
              </p:grpSpPr>
              <p:grpSp>
                <p:nvGrpSpPr>
                  <p:cNvPr id="751" name="Group 120"/>
                  <p:cNvGrpSpPr/>
                  <p:nvPr/>
                </p:nvGrpSpPr>
                <p:grpSpPr>
                  <a:xfrm>
                    <a:off x="2885760" y="5079240"/>
                    <a:ext cx="505080" cy="293400"/>
                    <a:chOff x="2885760" y="5079240"/>
                    <a:chExt cx="505080" cy="293400"/>
                  </a:xfrm>
                </p:grpSpPr>
                <p:sp>
                  <p:nvSpPr>
                    <p:cNvPr id="752" name="Freeform 121"/>
                    <p:cNvSpPr/>
                    <p:nvPr/>
                  </p:nvSpPr>
                  <p:spPr>
                    <a:xfrm flipH="1" rot="8179200">
                      <a:off x="3233520" y="5261040"/>
                      <a:ext cx="15516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solidFill>
                      <a:srgbClr val="cc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122"/>
                    <p:cNvSpPr/>
                    <p:nvPr/>
                  </p:nvSpPr>
                  <p:spPr>
                    <a:xfrm flipH="1" rot="9917400">
                      <a:off x="2891520" y="5094720"/>
                      <a:ext cx="1328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102">
                          <a:moveTo>
                            <a:pt x="0" y="99"/>
                          </a:moveTo>
                          <a:cubicBezTo>
                            <a:pt x="7" y="87"/>
                            <a:pt x="24" y="43"/>
                            <a:pt x="44" y="27"/>
                          </a:cubicBezTo>
                          <a:cubicBezTo>
                            <a:pt x="64" y="11"/>
                            <a:pt x="93" y="5"/>
                            <a:pt x="118" y="3"/>
                          </a:cubicBezTo>
                          <a:cubicBezTo>
                            <a:pt x="143" y="1"/>
                            <a:pt x="165" y="0"/>
                            <a:pt x="192" y="15"/>
                          </a:cubicBezTo>
                          <a:cubicBezTo>
                            <a:pt x="219" y="30"/>
                            <a:pt x="252" y="80"/>
                            <a:pt x="280" y="91"/>
                          </a:cubicBezTo>
                          <a:cubicBezTo>
                            <a:pt x="308" y="102"/>
                            <a:pt x="339" y="92"/>
                            <a:pt x="360" y="79"/>
                          </a:cubicBezTo>
                          <a:cubicBezTo>
                            <a:pt x="381" y="66"/>
                            <a:pt x="398" y="25"/>
                            <a:pt x="408" y="10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123"/>
                    <p:cNvSpPr/>
                    <p:nvPr/>
                  </p:nvSpPr>
                  <p:spPr>
                    <a:xfrm flipH="1" rot="9483000">
                      <a:off x="2995920" y="5170680"/>
                      <a:ext cx="12996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126">
                          <a:moveTo>
                            <a:pt x="0" y="97"/>
                          </a:moveTo>
                          <a:cubicBezTo>
                            <a:pt x="8" y="85"/>
                            <a:pt x="26" y="41"/>
                            <a:pt x="48" y="25"/>
                          </a:cubicBezTo>
                          <a:cubicBezTo>
                            <a:pt x="70" y="9"/>
                            <a:pt x="108" y="0"/>
                            <a:pt x="134" y="0"/>
                          </a:cubicBezTo>
                          <a:cubicBezTo>
                            <a:pt x="160" y="0"/>
                            <a:pt x="181" y="4"/>
                            <a:pt x="205" y="23"/>
                          </a:cubicBezTo>
                          <a:cubicBezTo>
                            <a:pt x="230" y="42"/>
                            <a:pt x="255" y="98"/>
                            <a:pt x="281" y="112"/>
                          </a:cubicBezTo>
                          <a:cubicBezTo>
                            <a:pt x="307" y="126"/>
                            <a:pt x="344" y="117"/>
                            <a:pt x="364" y="105"/>
                          </a:cubicBezTo>
                          <a:cubicBezTo>
                            <a:pt x="384" y="93"/>
                            <a:pt x="393" y="51"/>
                            <a:pt x="400" y="37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266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124"/>
                  <p:cNvGrpSpPr/>
                  <p:nvPr/>
                </p:nvGrpSpPr>
                <p:grpSpPr>
                  <a:xfrm>
                    <a:off x="2938320" y="5116680"/>
                    <a:ext cx="560880" cy="271440"/>
                    <a:chOff x="2938320" y="5116680"/>
                    <a:chExt cx="560880" cy="271440"/>
                  </a:xfrm>
                </p:grpSpPr>
                <p:grpSp>
                  <p:nvGrpSpPr>
                    <p:cNvPr id="756" name="Group 125"/>
                    <p:cNvGrpSpPr/>
                    <p:nvPr/>
                  </p:nvGrpSpPr>
                  <p:grpSpPr>
                    <a:xfrm>
                      <a:off x="2938320" y="5116680"/>
                      <a:ext cx="518040" cy="264600"/>
                      <a:chOff x="2938320" y="5116680"/>
                      <a:chExt cx="518040" cy="264600"/>
                    </a:xfrm>
                  </p:grpSpPr>
                  <p:sp>
                    <p:nvSpPr>
                      <p:cNvPr id="757" name="Freeform 126"/>
                      <p:cNvSpPr/>
                      <p:nvPr/>
                    </p:nvSpPr>
                    <p:spPr>
                      <a:xfrm flipH="1" rot="9917400">
                        <a:off x="2945520" y="5131800"/>
                        <a:ext cx="12852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70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8" name="Group 127"/>
                      <p:cNvGrpSpPr/>
                      <p:nvPr/>
                    </p:nvGrpSpPr>
                    <p:grpSpPr>
                      <a:xfrm>
                        <a:off x="3033000" y="5176080"/>
                        <a:ext cx="298440" cy="190440"/>
                        <a:chOff x="3033000" y="5176080"/>
                        <a:chExt cx="298440" cy="190440"/>
                      </a:xfrm>
                    </p:grpSpPr>
                    <p:sp>
                      <p:nvSpPr>
                        <p:cNvPr id="759" name="Freeform 128"/>
                        <p:cNvSpPr/>
                        <p:nvPr/>
                      </p:nvSpPr>
                      <p:spPr>
                        <a:xfrm flipH="1" rot="9246600">
                          <a:off x="3038760" y="5206320"/>
                          <a:ext cx="155160" cy="6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8" h="102">
                              <a:moveTo>
                                <a:pt x="0" y="99"/>
                              </a:moveTo>
                              <a:cubicBezTo>
                                <a:pt x="7" y="87"/>
                                <a:pt x="24" y="43"/>
                                <a:pt x="44" y="27"/>
                              </a:cubicBezTo>
                              <a:cubicBezTo>
                                <a:pt x="64" y="11"/>
                                <a:pt x="93" y="5"/>
                                <a:pt x="118" y="3"/>
                              </a:cubicBezTo>
                              <a:cubicBezTo>
                                <a:pt x="143" y="1"/>
                                <a:pt x="165" y="0"/>
                                <a:pt x="192" y="15"/>
                              </a:cubicBezTo>
                              <a:cubicBezTo>
                                <a:pt x="219" y="30"/>
                                <a:pt x="252" y="80"/>
                                <a:pt x="280" y="91"/>
                              </a:cubicBezTo>
                              <a:cubicBezTo>
                                <a:pt x="308" y="102"/>
                                <a:pt x="339" y="92"/>
                                <a:pt x="360" y="79"/>
                              </a:cubicBezTo>
                              <a:cubicBezTo>
                                <a:pt x="381" y="66"/>
                                <a:pt x="398" y="25"/>
                                <a:pt x="408" y="10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Freeform 129"/>
                        <p:cNvSpPr/>
                        <p:nvPr/>
                      </p:nvSpPr>
                      <p:spPr>
                        <a:xfrm flipH="1" rot="9246600">
                          <a:off x="3107880" y="5228640"/>
                          <a:ext cx="15084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4032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Freeform 130"/>
                        <p:cNvSpPr/>
                        <p:nvPr/>
                      </p:nvSpPr>
                      <p:spPr>
                        <a:xfrm flipH="1" rot="8812800">
                          <a:off x="3171240" y="5253480"/>
                          <a:ext cx="150840" cy="7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0" h="126">
                              <a:moveTo>
                                <a:pt x="0" y="97"/>
                              </a:moveTo>
                              <a:cubicBezTo>
                                <a:pt x="8" y="85"/>
                                <a:pt x="26" y="41"/>
                                <a:pt x="48" y="25"/>
                              </a:cubicBezTo>
                              <a:cubicBezTo>
                                <a:pt x="70" y="9"/>
                                <a:pt x="108" y="0"/>
                                <a:pt x="134" y="0"/>
                              </a:cubicBezTo>
                              <a:cubicBezTo>
                                <a:pt x="160" y="0"/>
                                <a:pt x="181" y="4"/>
                                <a:pt x="205" y="23"/>
                              </a:cubicBezTo>
                              <a:cubicBezTo>
                                <a:pt x="230" y="42"/>
                                <a:pt x="255" y="98"/>
                                <a:pt x="281" y="112"/>
                              </a:cubicBezTo>
                              <a:cubicBezTo>
                                <a:pt x="307" y="126"/>
                                <a:pt x="344" y="117"/>
                                <a:pt x="364" y="105"/>
                              </a:cubicBezTo>
                              <a:cubicBezTo>
                                <a:pt x="384" y="93"/>
                                <a:pt x="393" y="51"/>
                                <a:pt x="400" y="37"/>
                              </a:cubicBez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6600"/>
                            </a:gs>
                            <a:gs pos="50000">
                              <a:srgbClr val="996633"/>
                            </a:gs>
                            <a:gs pos="100000">
                              <a:srgbClr val="cc6600"/>
                            </a:gs>
                          </a:gsLst>
                          <a:lin ang="3600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62" name="Freeform 131"/>
                      <p:cNvSpPr/>
                      <p:nvPr/>
                    </p:nvSpPr>
                    <p:spPr>
                      <a:xfrm flipH="1" rot="8179200">
                        <a:off x="3298320" y="5260680"/>
                        <a:ext cx="1508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26">
                            <a:moveTo>
                              <a:pt x="0" y="97"/>
                            </a:moveTo>
                            <a:cubicBezTo>
                              <a:pt x="8" y="85"/>
                              <a:pt x="26" y="41"/>
                              <a:pt x="48" y="25"/>
                            </a:cubicBezTo>
                            <a:cubicBezTo>
                              <a:pt x="70" y="9"/>
                              <a:pt x="108" y="0"/>
                              <a:pt x="134" y="0"/>
                            </a:cubicBezTo>
                            <a:cubicBezTo>
                              <a:pt x="160" y="0"/>
                              <a:pt x="181" y="4"/>
                              <a:pt x="205" y="23"/>
                            </a:cubicBezTo>
                            <a:cubicBezTo>
                              <a:pt x="230" y="42"/>
                              <a:pt x="255" y="98"/>
                              <a:pt x="281" y="112"/>
                            </a:cubicBezTo>
                            <a:cubicBezTo>
                              <a:pt x="307" y="126"/>
                              <a:pt x="344" y="117"/>
                              <a:pt x="364" y="105"/>
                            </a:cubicBezTo>
                            <a:cubicBezTo>
                              <a:pt x="384" y="93"/>
                              <a:pt x="393" y="51"/>
                              <a:pt x="400" y="37"/>
                            </a:cubicBez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2964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3" name="Freeform 132"/>
                    <p:cNvSpPr/>
                    <p:nvPr/>
                  </p:nvSpPr>
                  <p:spPr>
                    <a:xfrm flipH="1" rot="13315200">
                      <a:off x="3362760" y="5253480"/>
                      <a:ext cx="11376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21">
                          <a:moveTo>
                            <a:pt x="72" y="0"/>
                          </a:moveTo>
                          <a:cubicBezTo>
                            <a:pt x="82" y="7"/>
                            <a:pt x="115" y="23"/>
                            <a:pt x="127" y="39"/>
                          </a:cubicBezTo>
                          <a:cubicBezTo>
                            <a:pt x="139" y="57"/>
                            <a:pt x="145" y="86"/>
                            <a:pt x="144" y="106"/>
                          </a:cubicBezTo>
                          <a:cubicBezTo>
                            <a:pt x="143" y="125"/>
                            <a:pt x="139" y="141"/>
                            <a:pt x="123" y="158"/>
                          </a:cubicBezTo>
                          <a:cubicBezTo>
                            <a:pt x="107" y="176"/>
                            <a:pt x="69" y="203"/>
                            <a:pt x="50" y="212"/>
                          </a:cubicBezTo>
                          <a:cubicBezTo>
                            <a:pt x="31" y="221"/>
                            <a:pt x="12" y="213"/>
                            <a:pt x="6" y="214"/>
                          </a:cubicBezTo>
                          <a:cubicBezTo>
                            <a:pt x="0" y="215"/>
                            <a:pt x="12" y="217"/>
                            <a:pt x="14" y="21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81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64" name="Freeform 133"/>
            <p:cNvSpPr/>
            <p:nvPr/>
          </p:nvSpPr>
          <p:spPr>
            <a:xfrm flipH="1" rot="18377400">
              <a:off x="3059280" y="4872240"/>
              <a:ext cx="439920" cy="43632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4"/>
            <p:cNvSpPr/>
            <p:nvPr/>
          </p:nvSpPr>
          <p:spPr>
            <a:xfrm flipH="1" rot="20194800">
              <a:off x="3420720" y="5014800"/>
              <a:ext cx="380880" cy="38052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5"/>
            <p:cNvSpPr/>
            <p:nvPr/>
          </p:nvSpPr>
          <p:spPr>
            <a:xfrm flipH="1" rot="6694800">
              <a:off x="3276720" y="4654080"/>
              <a:ext cx="380880" cy="38124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36"/>
            <p:cNvSpPr/>
            <p:nvPr/>
          </p:nvSpPr>
          <p:spPr>
            <a:xfrm flipH="1" rot="18600600">
              <a:off x="3814920" y="4908600"/>
              <a:ext cx="457560" cy="3808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37"/>
            <p:cNvSpPr/>
            <p:nvPr/>
          </p:nvSpPr>
          <p:spPr>
            <a:xfrm flipH="1" rot="18377400">
              <a:off x="3585960" y="4776120"/>
              <a:ext cx="381240" cy="42372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38"/>
            <p:cNvSpPr/>
            <p:nvPr/>
          </p:nvSpPr>
          <p:spPr>
            <a:xfrm flipH="1" rot="20194800">
              <a:off x="4645440" y="4652640"/>
              <a:ext cx="457200" cy="3808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39"/>
            <p:cNvSpPr/>
            <p:nvPr/>
          </p:nvSpPr>
          <p:spPr>
            <a:xfrm flipH="1" rot="18377400">
              <a:off x="4881960" y="4848840"/>
              <a:ext cx="381240" cy="4240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40"/>
            <p:cNvSpPr/>
            <p:nvPr/>
          </p:nvSpPr>
          <p:spPr>
            <a:xfrm flipH="1" rot="7989000">
              <a:off x="4173840" y="4908240"/>
              <a:ext cx="457560" cy="3808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41"/>
            <p:cNvSpPr/>
            <p:nvPr/>
          </p:nvSpPr>
          <p:spPr>
            <a:xfrm flipH="1" rot="6115800">
              <a:off x="4521240" y="4991040"/>
              <a:ext cx="381240" cy="42444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42"/>
            <p:cNvSpPr/>
            <p:nvPr/>
          </p:nvSpPr>
          <p:spPr>
            <a:xfrm flipH="1" rot="20194800">
              <a:off x="3637080" y="4581360"/>
              <a:ext cx="457200" cy="3808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43"/>
            <p:cNvSpPr/>
            <p:nvPr/>
          </p:nvSpPr>
          <p:spPr>
            <a:xfrm flipH="1" rot="18377400">
              <a:off x="4018320" y="4704480"/>
              <a:ext cx="380880" cy="42372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44"/>
            <p:cNvSpPr/>
            <p:nvPr/>
          </p:nvSpPr>
          <p:spPr>
            <a:xfrm flipH="1" rot="17314200">
              <a:off x="4390200" y="4764240"/>
              <a:ext cx="457200" cy="38052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45"/>
            <p:cNvSpPr/>
            <p:nvPr/>
          </p:nvSpPr>
          <p:spPr>
            <a:xfrm flipH="1" rot="15503400">
              <a:off x="4234320" y="4560120"/>
              <a:ext cx="380880" cy="42372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6"/>
            <p:cNvSpPr/>
            <p:nvPr/>
          </p:nvSpPr>
          <p:spPr>
            <a:xfrm flipH="1" rot="19297200">
              <a:off x="3852720" y="5013360"/>
              <a:ext cx="457560" cy="38124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47"/>
            <p:cNvSpPr/>
            <p:nvPr/>
          </p:nvSpPr>
          <p:spPr>
            <a:xfrm flipH="1" rot="18377400">
              <a:off x="5025960" y="5928840"/>
              <a:ext cx="380880" cy="42336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48"/>
            <p:cNvSpPr/>
            <p:nvPr/>
          </p:nvSpPr>
          <p:spPr>
            <a:xfrm flipH="1" rot="20194800">
              <a:off x="4716720" y="6092640"/>
              <a:ext cx="457200" cy="38088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49"/>
            <p:cNvSpPr/>
            <p:nvPr/>
          </p:nvSpPr>
          <p:spPr>
            <a:xfrm flipH="1" rot="18377400">
              <a:off x="5097240" y="6216120"/>
              <a:ext cx="380880" cy="423360"/>
            </a:xfrm>
            <a:custGeom>
              <a:avLst/>
              <a:gdLst/>
              <a:ahLst/>
              <a:rect l="l" t="t" r="r" b="b"/>
              <a:pathLst>
                <a:path w="1144" h="976">
                  <a:moveTo>
                    <a:pt x="0" y="872"/>
                  </a:moveTo>
                  <a:cubicBezTo>
                    <a:pt x="0" y="696"/>
                    <a:pt x="0" y="520"/>
                    <a:pt x="48" y="392"/>
                  </a:cubicBezTo>
                  <a:cubicBezTo>
                    <a:pt x="96" y="264"/>
                    <a:pt x="192" y="168"/>
                    <a:pt x="288" y="104"/>
                  </a:cubicBezTo>
                  <a:cubicBezTo>
                    <a:pt x="384" y="40"/>
                    <a:pt x="512" y="16"/>
                    <a:pt x="624" y="8"/>
                  </a:cubicBezTo>
                  <a:cubicBezTo>
                    <a:pt x="736" y="0"/>
                    <a:pt x="880" y="32"/>
                    <a:pt x="960" y="56"/>
                  </a:cubicBezTo>
                  <a:cubicBezTo>
                    <a:pt x="1040" y="80"/>
                    <a:pt x="1080" y="104"/>
                    <a:pt x="1104" y="152"/>
                  </a:cubicBezTo>
                  <a:cubicBezTo>
                    <a:pt x="1128" y="200"/>
                    <a:pt x="1144" y="248"/>
                    <a:pt x="1104" y="344"/>
                  </a:cubicBezTo>
                  <a:cubicBezTo>
                    <a:pt x="1064" y="440"/>
                    <a:pt x="960" y="640"/>
                    <a:pt x="864" y="728"/>
                  </a:cubicBezTo>
                  <a:cubicBezTo>
                    <a:pt x="768" y="816"/>
                    <a:pt x="640" y="832"/>
                    <a:pt x="528" y="872"/>
                  </a:cubicBezTo>
                  <a:cubicBezTo>
                    <a:pt x="416" y="912"/>
                    <a:pt x="280" y="960"/>
                    <a:pt x="192" y="968"/>
                  </a:cubicBezTo>
                  <a:cubicBezTo>
                    <a:pt x="104" y="976"/>
                    <a:pt x="52" y="948"/>
                    <a:pt x="0" y="920"/>
                  </a:cubicBez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50"/>
          <p:cNvGrpSpPr/>
          <p:nvPr/>
        </p:nvGrpSpPr>
        <p:grpSpPr>
          <a:xfrm>
            <a:off x="2412720" y="5229360"/>
            <a:ext cx="928800" cy="1325520"/>
            <a:chOff x="2412720" y="5229360"/>
            <a:chExt cx="928800" cy="1325520"/>
          </a:xfrm>
        </p:grpSpPr>
        <p:sp>
          <p:nvSpPr>
            <p:cNvPr id="782" name="Freeform 151"/>
            <p:cNvSpPr/>
            <p:nvPr/>
          </p:nvSpPr>
          <p:spPr>
            <a:xfrm>
              <a:off x="2487240" y="5272200"/>
              <a:ext cx="828720" cy="1282680"/>
            </a:xfrm>
            <a:custGeom>
              <a:avLst/>
              <a:gdLst/>
              <a:ahLst/>
              <a:rect l="l" t="t" r="r" b="b"/>
              <a:pathLst>
                <a:path w="522" h="808">
                  <a:moveTo>
                    <a:pt x="272" y="804"/>
                  </a:moveTo>
                  <a:cubicBezTo>
                    <a:pt x="243" y="804"/>
                    <a:pt x="140" y="808"/>
                    <a:pt x="98" y="798"/>
                  </a:cubicBezTo>
                  <a:cubicBezTo>
                    <a:pt x="56" y="788"/>
                    <a:pt x="36" y="781"/>
                    <a:pt x="20" y="744"/>
                  </a:cubicBezTo>
                  <a:cubicBezTo>
                    <a:pt x="4" y="707"/>
                    <a:pt x="2" y="655"/>
                    <a:pt x="2" y="576"/>
                  </a:cubicBezTo>
                  <a:cubicBezTo>
                    <a:pt x="2" y="497"/>
                    <a:pt x="0" y="332"/>
                    <a:pt x="20" y="270"/>
                  </a:cubicBezTo>
                  <a:cubicBezTo>
                    <a:pt x="40" y="208"/>
                    <a:pt x="98" y="222"/>
                    <a:pt x="122" y="204"/>
                  </a:cubicBezTo>
                  <a:cubicBezTo>
                    <a:pt x="146" y="186"/>
                    <a:pt x="167" y="178"/>
                    <a:pt x="164" y="162"/>
                  </a:cubicBezTo>
                  <a:cubicBezTo>
                    <a:pt x="161" y="146"/>
                    <a:pt x="118" y="127"/>
                    <a:pt x="104" y="108"/>
                  </a:cubicBezTo>
                  <a:cubicBezTo>
                    <a:pt x="90" y="89"/>
                    <a:pt x="71" y="65"/>
                    <a:pt x="80" y="48"/>
                  </a:cubicBezTo>
                  <a:cubicBezTo>
                    <a:pt x="89" y="31"/>
                    <a:pt x="119" y="12"/>
                    <a:pt x="158" y="6"/>
                  </a:cubicBezTo>
                  <a:cubicBezTo>
                    <a:pt x="197" y="0"/>
                    <a:pt x="271" y="6"/>
                    <a:pt x="315" y="12"/>
                  </a:cubicBezTo>
                  <a:cubicBezTo>
                    <a:pt x="359" y="18"/>
                    <a:pt x="404" y="29"/>
                    <a:pt x="422" y="42"/>
                  </a:cubicBezTo>
                  <a:cubicBezTo>
                    <a:pt x="440" y="55"/>
                    <a:pt x="433" y="70"/>
                    <a:pt x="422" y="90"/>
                  </a:cubicBezTo>
                  <a:cubicBezTo>
                    <a:pt x="411" y="110"/>
                    <a:pt x="361" y="143"/>
                    <a:pt x="356" y="162"/>
                  </a:cubicBezTo>
                  <a:cubicBezTo>
                    <a:pt x="351" y="181"/>
                    <a:pt x="369" y="191"/>
                    <a:pt x="392" y="204"/>
                  </a:cubicBezTo>
                  <a:cubicBezTo>
                    <a:pt x="415" y="217"/>
                    <a:pt x="473" y="202"/>
                    <a:pt x="494" y="240"/>
                  </a:cubicBezTo>
                  <a:cubicBezTo>
                    <a:pt x="515" y="278"/>
                    <a:pt x="514" y="378"/>
                    <a:pt x="518" y="432"/>
                  </a:cubicBezTo>
                  <a:cubicBezTo>
                    <a:pt x="522" y="486"/>
                    <a:pt x="522" y="511"/>
                    <a:pt x="519" y="564"/>
                  </a:cubicBezTo>
                  <a:cubicBezTo>
                    <a:pt x="516" y="617"/>
                    <a:pt x="516" y="711"/>
                    <a:pt x="502" y="750"/>
                  </a:cubicBezTo>
                  <a:cubicBezTo>
                    <a:pt x="488" y="789"/>
                    <a:pt x="470" y="789"/>
                    <a:pt x="434" y="798"/>
                  </a:cubicBezTo>
                  <a:cubicBezTo>
                    <a:pt x="398" y="807"/>
                    <a:pt x="315" y="803"/>
                    <a:pt x="284" y="804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52"/>
            <p:cNvSpPr/>
            <p:nvPr/>
          </p:nvSpPr>
          <p:spPr>
            <a:xfrm>
              <a:off x="2628720" y="5229360"/>
              <a:ext cx="533160" cy="152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153"/>
            <p:cNvSpPr/>
            <p:nvPr/>
          </p:nvSpPr>
          <p:spPr>
            <a:xfrm>
              <a:off x="2412720" y="5686560"/>
              <a:ext cx="9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к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154"/>
          <p:cNvGrpSpPr/>
          <p:nvPr/>
        </p:nvGrpSpPr>
        <p:grpSpPr>
          <a:xfrm>
            <a:off x="6230880" y="3933720"/>
            <a:ext cx="1520280" cy="2284200"/>
            <a:chOff x="6230880" y="3933720"/>
            <a:chExt cx="1520280" cy="2284200"/>
          </a:xfrm>
        </p:grpSpPr>
        <p:grpSp>
          <p:nvGrpSpPr>
            <p:cNvPr id="786" name="Group 155"/>
            <p:cNvGrpSpPr/>
            <p:nvPr/>
          </p:nvGrpSpPr>
          <p:grpSpPr>
            <a:xfrm>
              <a:off x="6350400" y="3933720"/>
              <a:ext cx="1339560" cy="2284200"/>
              <a:chOff x="6350400" y="3933720"/>
              <a:chExt cx="1339560" cy="2284200"/>
            </a:xfrm>
          </p:grpSpPr>
          <p:grpSp>
            <p:nvGrpSpPr>
              <p:cNvPr id="787" name="Group 156"/>
              <p:cNvGrpSpPr/>
              <p:nvPr/>
            </p:nvGrpSpPr>
            <p:grpSpPr>
              <a:xfrm>
                <a:off x="6350400" y="3933720"/>
                <a:ext cx="1339560" cy="2284200"/>
                <a:chOff x="6350400" y="3933720"/>
                <a:chExt cx="1339560" cy="2284200"/>
              </a:xfrm>
            </p:grpSpPr>
            <p:sp>
              <p:nvSpPr>
                <p:cNvPr id="788" name="Freeform 157"/>
                <p:cNvSpPr/>
                <p:nvPr/>
              </p:nvSpPr>
              <p:spPr>
                <a:xfrm>
                  <a:off x="6350400" y="4314600"/>
                  <a:ext cx="1339560" cy="1903320"/>
                </a:xfrm>
                <a:custGeom>
                  <a:avLst/>
                  <a:gdLst/>
                  <a:ahLst/>
                  <a:rect l="l" t="t" r="r" b="b"/>
                  <a:pathLst>
                    <a:path w="2162" h="2699">
                      <a:moveTo>
                        <a:pt x="930" y="15"/>
                      </a:moveTo>
                      <a:cubicBezTo>
                        <a:pt x="703" y="30"/>
                        <a:pt x="575" y="121"/>
                        <a:pt x="431" y="197"/>
                      </a:cubicBezTo>
                      <a:cubicBezTo>
                        <a:pt x="287" y="273"/>
                        <a:pt x="136" y="257"/>
                        <a:pt x="68" y="469"/>
                      </a:cubicBezTo>
                      <a:cubicBezTo>
                        <a:pt x="0" y="681"/>
                        <a:pt x="16" y="1165"/>
                        <a:pt x="23" y="1467"/>
                      </a:cubicBezTo>
                      <a:cubicBezTo>
                        <a:pt x="30" y="1769"/>
                        <a:pt x="83" y="2094"/>
                        <a:pt x="113" y="2283"/>
                      </a:cubicBezTo>
                      <a:cubicBezTo>
                        <a:pt x="143" y="2472"/>
                        <a:pt x="144" y="2541"/>
                        <a:pt x="204" y="2601"/>
                      </a:cubicBezTo>
                      <a:cubicBezTo>
                        <a:pt x="264" y="2661"/>
                        <a:pt x="332" y="2639"/>
                        <a:pt x="476" y="2646"/>
                      </a:cubicBezTo>
                      <a:cubicBezTo>
                        <a:pt x="620" y="2653"/>
                        <a:pt x="877" y="2639"/>
                        <a:pt x="1066" y="2646"/>
                      </a:cubicBezTo>
                      <a:cubicBezTo>
                        <a:pt x="1255" y="2653"/>
                        <a:pt x="1459" y="2691"/>
                        <a:pt x="1610" y="2691"/>
                      </a:cubicBezTo>
                      <a:cubicBezTo>
                        <a:pt x="1761" y="2691"/>
                        <a:pt x="1897" y="2699"/>
                        <a:pt x="1973" y="2646"/>
                      </a:cubicBezTo>
                      <a:cubicBezTo>
                        <a:pt x="2049" y="2593"/>
                        <a:pt x="2041" y="2525"/>
                        <a:pt x="2064" y="2374"/>
                      </a:cubicBezTo>
                      <a:cubicBezTo>
                        <a:pt x="2087" y="2223"/>
                        <a:pt x="2094" y="1875"/>
                        <a:pt x="2109" y="1739"/>
                      </a:cubicBezTo>
                      <a:cubicBezTo>
                        <a:pt x="2124" y="1603"/>
                        <a:pt x="2155" y="1648"/>
                        <a:pt x="2155" y="1557"/>
                      </a:cubicBezTo>
                      <a:cubicBezTo>
                        <a:pt x="2155" y="1466"/>
                        <a:pt x="2117" y="1330"/>
                        <a:pt x="2109" y="1194"/>
                      </a:cubicBezTo>
                      <a:cubicBezTo>
                        <a:pt x="2101" y="1058"/>
                        <a:pt x="2109" y="884"/>
                        <a:pt x="2109" y="741"/>
                      </a:cubicBezTo>
                      <a:cubicBezTo>
                        <a:pt x="2109" y="598"/>
                        <a:pt x="2162" y="439"/>
                        <a:pt x="2109" y="333"/>
                      </a:cubicBezTo>
                      <a:cubicBezTo>
                        <a:pt x="2056" y="227"/>
                        <a:pt x="1988" y="159"/>
                        <a:pt x="1792" y="106"/>
                      </a:cubicBezTo>
                      <a:cubicBezTo>
                        <a:pt x="1596" y="53"/>
                        <a:pt x="1157" y="0"/>
                        <a:pt x="930" y="15"/>
                      </a:cubicBez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58"/>
                <p:cNvSpPr/>
                <p:nvPr/>
              </p:nvSpPr>
              <p:spPr>
                <a:xfrm>
                  <a:off x="6661800" y="3933720"/>
                  <a:ext cx="405000" cy="418680"/>
                </a:xfrm>
                <a:custGeom>
                  <a:avLst/>
                  <a:gdLst/>
                  <a:ahLst/>
                  <a:rect l="l" t="t" r="r" b="b"/>
                  <a:pathLst>
                    <a:path w="590" h="499">
                      <a:moveTo>
                        <a:pt x="318" y="499"/>
                      </a:moveTo>
                      <a:lnTo>
                        <a:pt x="0" y="272"/>
                      </a:lnTo>
                      <a:lnTo>
                        <a:pt x="45" y="227"/>
                      </a:lnTo>
                      <a:lnTo>
                        <a:pt x="136" y="227"/>
                      </a:lnTo>
                      <a:lnTo>
                        <a:pt x="136" y="136"/>
                      </a:lnTo>
                      <a:lnTo>
                        <a:pt x="227" y="182"/>
                      </a:lnTo>
                      <a:lnTo>
                        <a:pt x="91" y="91"/>
                      </a:lnTo>
                      <a:lnTo>
                        <a:pt x="136" y="46"/>
                      </a:lnTo>
                      <a:lnTo>
                        <a:pt x="181" y="91"/>
                      </a:lnTo>
                      <a:lnTo>
                        <a:pt x="181" y="182"/>
                      </a:lnTo>
                      <a:lnTo>
                        <a:pt x="181" y="91"/>
                      </a:lnTo>
                      <a:lnTo>
                        <a:pt x="227" y="0"/>
                      </a:lnTo>
                      <a:lnTo>
                        <a:pt x="272" y="46"/>
                      </a:lnTo>
                      <a:lnTo>
                        <a:pt x="227" y="136"/>
                      </a:lnTo>
                      <a:lnTo>
                        <a:pt x="318" y="136"/>
                      </a:lnTo>
                      <a:lnTo>
                        <a:pt x="318" y="227"/>
                      </a:lnTo>
                      <a:lnTo>
                        <a:pt x="408" y="0"/>
                      </a:lnTo>
                      <a:lnTo>
                        <a:pt x="408" y="136"/>
                      </a:lnTo>
                      <a:lnTo>
                        <a:pt x="499" y="182"/>
                      </a:lnTo>
                      <a:lnTo>
                        <a:pt x="454" y="272"/>
                      </a:lnTo>
                      <a:lnTo>
                        <a:pt x="590" y="363"/>
                      </a:lnTo>
                      <a:lnTo>
                        <a:pt x="590" y="499"/>
                      </a:lnTo>
                      <a:lnTo>
                        <a:pt x="318" y="499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Freeform 159"/>
              <p:cNvSpPr/>
              <p:nvPr/>
            </p:nvSpPr>
            <p:spPr>
              <a:xfrm>
                <a:off x="6848640" y="4327200"/>
                <a:ext cx="342360" cy="862560"/>
              </a:xfrm>
              <a:custGeom>
                <a:avLst/>
                <a:gdLst/>
                <a:ahLst/>
                <a:rect l="l" t="t" r="r" b="b"/>
                <a:pathLst>
                  <a:path w="499" h="1028">
                    <a:moveTo>
                      <a:pt x="46" y="30"/>
                    </a:moveTo>
                    <a:cubicBezTo>
                      <a:pt x="186" y="30"/>
                      <a:pt x="326" y="30"/>
                      <a:pt x="318" y="30"/>
                    </a:cubicBezTo>
                    <a:cubicBezTo>
                      <a:pt x="310" y="30"/>
                      <a:pt x="0" y="30"/>
                      <a:pt x="0" y="30"/>
                    </a:cubicBezTo>
                    <a:cubicBezTo>
                      <a:pt x="0" y="30"/>
                      <a:pt x="250" y="0"/>
                      <a:pt x="318" y="30"/>
                    </a:cubicBezTo>
                    <a:cubicBezTo>
                      <a:pt x="386" y="60"/>
                      <a:pt x="408" y="159"/>
                      <a:pt x="408" y="212"/>
                    </a:cubicBezTo>
                    <a:cubicBezTo>
                      <a:pt x="408" y="265"/>
                      <a:pt x="333" y="280"/>
                      <a:pt x="318" y="348"/>
                    </a:cubicBezTo>
                    <a:cubicBezTo>
                      <a:pt x="303" y="416"/>
                      <a:pt x="288" y="522"/>
                      <a:pt x="318" y="620"/>
                    </a:cubicBezTo>
                    <a:cubicBezTo>
                      <a:pt x="348" y="718"/>
                      <a:pt x="499" y="869"/>
                      <a:pt x="499" y="937"/>
                    </a:cubicBezTo>
                    <a:cubicBezTo>
                      <a:pt x="499" y="1005"/>
                      <a:pt x="348" y="1013"/>
                      <a:pt x="318" y="102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60"/>
              <p:cNvSpPr/>
              <p:nvPr/>
            </p:nvSpPr>
            <p:spPr>
              <a:xfrm>
                <a:off x="6832800" y="4320360"/>
                <a:ext cx="218160" cy="298440"/>
              </a:xfrm>
              <a:custGeom>
                <a:avLst/>
                <a:gdLst/>
                <a:ahLst/>
                <a:rect l="l" t="t" r="r" b="b"/>
                <a:pathLst>
                  <a:path w="318" h="356">
                    <a:moveTo>
                      <a:pt x="295" y="38"/>
                    </a:moveTo>
                    <a:cubicBezTo>
                      <a:pt x="272" y="53"/>
                      <a:pt x="159" y="91"/>
                      <a:pt x="114" y="129"/>
                    </a:cubicBezTo>
                    <a:cubicBezTo>
                      <a:pt x="69" y="167"/>
                      <a:pt x="38" y="227"/>
                      <a:pt x="23" y="265"/>
                    </a:cubicBezTo>
                    <a:cubicBezTo>
                      <a:pt x="8" y="303"/>
                      <a:pt x="0" y="356"/>
                      <a:pt x="23" y="356"/>
                    </a:cubicBezTo>
                    <a:cubicBezTo>
                      <a:pt x="46" y="356"/>
                      <a:pt x="121" y="318"/>
                      <a:pt x="159" y="265"/>
                    </a:cubicBezTo>
                    <a:cubicBezTo>
                      <a:pt x="197" y="212"/>
                      <a:pt x="227" y="76"/>
                      <a:pt x="250" y="38"/>
                    </a:cubicBezTo>
                    <a:cubicBezTo>
                      <a:pt x="273" y="0"/>
                      <a:pt x="318" y="23"/>
                      <a:pt x="295" y="3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161"/>
            <p:cNvSpPr/>
            <p:nvPr/>
          </p:nvSpPr>
          <p:spPr>
            <a:xfrm>
              <a:off x="6230880" y="4959720"/>
              <a:ext cx="15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62"/>
          <p:cNvGrpSpPr/>
          <p:nvPr/>
        </p:nvGrpSpPr>
        <p:grpSpPr>
          <a:xfrm>
            <a:off x="5583240" y="4365720"/>
            <a:ext cx="1520280" cy="2283840"/>
            <a:chOff x="5583240" y="4365720"/>
            <a:chExt cx="1520280" cy="2283840"/>
          </a:xfrm>
        </p:grpSpPr>
        <p:grpSp>
          <p:nvGrpSpPr>
            <p:cNvPr id="794" name="Group 163"/>
            <p:cNvGrpSpPr/>
            <p:nvPr/>
          </p:nvGrpSpPr>
          <p:grpSpPr>
            <a:xfrm>
              <a:off x="5702760" y="4365720"/>
              <a:ext cx="1339560" cy="2283840"/>
              <a:chOff x="5702760" y="4365720"/>
              <a:chExt cx="1339560" cy="2283840"/>
            </a:xfrm>
          </p:grpSpPr>
          <p:grpSp>
            <p:nvGrpSpPr>
              <p:cNvPr id="795" name="Group 164"/>
              <p:cNvGrpSpPr/>
              <p:nvPr/>
            </p:nvGrpSpPr>
            <p:grpSpPr>
              <a:xfrm>
                <a:off x="5702760" y="4365720"/>
                <a:ext cx="1339560" cy="2283840"/>
                <a:chOff x="5702760" y="4365720"/>
                <a:chExt cx="1339560" cy="2283840"/>
              </a:xfrm>
            </p:grpSpPr>
            <p:sp>
              <p:nvSpPr>
                <p:cNvPr id="796" name="Freeform 165"/>
                <p:cNvSpPr/>
                <p:nvPr/>
              </p:nvSpPr>
              <p:spPr>
                <a:xfrm>
                  <a:off x="5702760" y="4746600"/>
                  <a:ext cx="1339560" cy="1902960"/>
                </a:xfrm>
                <a:custGeom>
                  <a:avLst/>
                  <a:gdLst/>
                  <a:ahLst/>
                  <a:rect l="l" t="t" r="r" b="b"/>
                  <a:pathLst>
                    <a:path w="2162" h="2699">
                      <a:moveTo>
                        <a:pt x="930" y="15"/>
                      </a:moveTo>
                      <a:cubicBezTo>
                        <a:pt x="703" y="30"/>
                        <a:pt x="575" y="121"/>
                        <a:pt x="431" y="197"/>
                      </a:cubicBezTo>
                      <a:cubicBezTo>
                        <a:pt x="287" y="273"/>
                        <a:pt x="136" y="257"/>
                        <a:pt x="68" y="469"/>
                      </a:cubicBezTo>
                      <a:cubicBezTo>
                        <a:pt x="0" y="681"/>
                        <a:pt x="16" y="1165"/>
                        <a:pt x="23" y="1467"/>
                      </a:cubicBezTo>
                      <a:cubicBezTo>
                        <a:pt x="30" y="1769"/>
                        <a:pt x="83" y="2094"/>
                        <a:pt x="113" y="2283"/>
                      </a:cubicBezTo>
                      <a:cubicBezTo>
                        <a:pt x="143" y="2472"/>
                        <a:pt x="144" y="2541"/>
                        <a:pt x="204" y="2601"/>
                      </a:cubicBezTo>
                      <a:cubicBezTo>
                        <a:pt x="264" y="2661"/>
                        <a:pt x="332" y="2639"/>
                        <a:pt x="476" y="2646"/>
                      </a:cubicBezTo>
                      <a:cubicBezTo>
                        <a:pt x="620" y="2653"/>
                        <a:pt x="877" y="2639"/>
                        <a:pt x="1066" y="2646"/>
                      </a:cubicBezTo>
                      <a:cubicBezTo>
                        <a:pt x="1255" y="2653"/>
                        <a:pt x="1459" y="2691"/>
                        <a:pt x="1610" y="2691"/>
                      </a:cubicBezTo>
                      <a:cubicBezTo>
                        <a:pt x="1761" y="2691"/>
                        <a:pt x="1897" y="2699"/>
                        <a:pt x="1973" y="2646"/>
                      </a:cubicBezTo>
                      <a:cubicBezTo>
                        <a:pt x="2049" y="2593"/>
                        <a:pt x="2041" y="2525"/>
                        <a:pt x="2064" y="2374"/>
                      </a:cubicBezTo>
                      <a:cubicBezTo>
                        <a:pt x="2087" y="2223"/>
                        <a:pt x="2094" y="1875"/>
                        <a:pt x="2109" y="1739"/>
                      </a:cubicBezTo>
                      <a:cubicBezTo>
                        <a:pt x="2124" y="1603"/>
                        <a:pt x="2155" y="1648"/>
                        <a:pt x="2155" y="1557"/>
                      </a:cubicBezTo>
                      <a:cubicBezTo>
                        <a:pt x="2155" y="1466"/>
                        <a:pt x="2117" y="1330"/>
                        <a:pt x="2109" y="1194"/>
                      </a:cubicBezTo>
                      <a:cubicBezTo>
                        <a:pt x="2101" y="1058"/>
                        <a:pt x="2109" y="884"/>
                        <a:pt x="2109" y="741"/>
                      </a:cubicBezTo>
                      <a:cubicBezTo>
                        <a:pt x="2109" y="598"/>
                        <a:pt x="2162" y="439"/>
                        <a:pt x="2109" y="333"/>
                      </a:cubicBezTo>
                      <a:cubicBezTo>
                        <a:pt x="2056" y="227"/>
                        <a:pt x="1988" y="159"/>
                        <a:pt x="1792" y="106"/>
                      </a:cubicBezTo>
                      <a:cubicBezTo>
                        <a:pt x="1596" y="53"/>
                        <a:pt x="1157" y="0"/>
                        <a:pt x="930" y="15"/>
                      </a:cubicBez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66"/>
                <p:cNvSpPr/>
                <p:nvPr/>
              </p:nvSpPr>
              <p:spPr>
                <a:xfrm>
                  <a:off x="6014160" y="4365720"/>
                  <a:ext cx="405000" cy="418320"/>
                </a:xfrm>
                <a:custGeom>
                  <a:avLst/>
                  <a:gdLst/>
                  <a:ahLst/>
                  <a:rect l="l" t="t" r="r" b="b"/>
                  <a:pathLst>
                    <a:path w="590" h="499">
                      <a:moveTo>
                        <a:pt x="318" y="499"/>
                      </a:moveTo>
                      <a:lnTo>
                        <a:pt x="0" y="272"/>
                      </a:lnTo>
                      <a:lnTo>
                        <a:pt x="45" y="227"/>
                      </a:lnTo>
                      <a:lnTo>
                        <a:pt x="136" y="227"/>
                      </a:lnTo>
                      <a:lnTo>
                        <a:pt x="136" y="136"/>
                      </a:lnTo>
                      <a:lnTo>
                        <a:pt x="227" y="182"/>
                      </a:lnTo>
                      <a:lnTo>
                        <a:pt x="91" y="91"/>
                      </a:lnTo>
                      <a:lnTo>
                        <a:pt x="136" y="46"/>
                      </a:lnTo>
                      <a:lnTo>
                        <a:pt x="181" y="91"/>
                      </a:lnTo>
                      <a:lnTo>
                        <a:pt x="181" y="182"/>
                      </a:lnTo>
                      <a:lnTo>
                        <a:pt x="181" y="91"/>
                      </a:lnTo>
                      <a:lnTo>
                        <a:pt x="227" y="0"/>
                      </a:lnTo>
                      <a:lnTo>
                        <a:pt x="272" y="46"/>
                      </a:lnTo>
                      <a:lnTo>
                        <a:pt x="227" y="136"/>
                      </a:lnTo>
                      <a:lnTo>
                        <a:pt x="318" y="136"/>
                      </a:lnTo>
                      <a:lnTo>
                        <a:pt x="318" y="227"/>
                      </a:lnTo>
                      <a:lnTo>
                        <a:pt x="408" y="0"/>
                      </a:lnTo>
                      <a:lnTo>
                        <a:pt x="408" y="136"/>
                      </a:lnTo>
                      <a:lnTo>
                        <a:pt x="499" y="182"/>
                      </a:lnTo>
                      <a:lnTo>
                        <a:pt x="454" y="272"/>
                      </a:lnTo>
                      <a:lnTo>
                        <a:pt x="590" y="363"/>
                      </a:lnTo>
                      <a:lnTo>
                        <a:pt x="590" y="499"/>
                      </a:lnTo>
                      <a:lnTo>
                        <a:pt x="318" y="499"/>
                      </a:lnTo>
                      <a:close/>
                    </a:path>
                  </a:pathLst>
                </a:cu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Freeform 167"/>
              <p:cNvSpPr/>
              <p:nvPr/>
            </p:nvSpPr>
            <p:spPr>
              <a:xfrm>
                <a:off x="6201000" y="4759200"/>
                <a:ext cx="342360" cy="862560"/>
              </a:xfrm>
              <a:custGeom>
                <a:avLst/>
                <a:gdLst/>
                <a:ahLst/>
                <a:rect l="l" t="t" r="r" b="b"/>
                <a:pathLst>
                  <a:path w="499" h="1028">
                    <a:moveTo>
                      <a:pt x="46" y="30"/>
                    </a:moveTo>
                    <a:cubicBezTo>
                      <a:pt x="186" y="30"/>
                      <a:pt x="326" y="30"/>
                      <a:pt x="318" y="30"/>
                    </a:cubicBezTo>
                    <a:cubicBezTo>
                      <a:pt x="310" y="30"/>
                      <a:pt x="0" y="30"/>
                      <a:pt x="0" y="30"/>
                    </a:cubicBezTo>
                    <a:cubicBezTo>
                      <a:pt x="0" y="30"/>
                      <a:pt x="250" y="0"/>
                      <a:pt x="318" y="30"/>
                    </a:cubicBezTo>
                    <a:cubicBezTo>
                      <a:pt x="386" y="60"/>
                      <a:pt x="408" y="159"/>
                      <a:pt x="408" y="212"/>
                    </a:cubicBezTo>
                    <a:cubicBezTo>
                      <a:pt x="408" y="265"/>
                      <a:pt x="333" y="280"/>
                      <a:pt x="318" y="348"/>
                    </a:cubicBezTo>
                    <a:cubicBezTo>
                      <a:pt x="303" y="416"/>
                      <a:pt x="288" y="522"/>
                      <a:pt x="318" y="620"/>
                    </a:cubicBezTo>
                    <a:cubicBezTo>
                      <a:pt x="348" y="718"/>
                      <a:pt x="499" y="869"/>
                      <a:pt x="499" y="937"/>
                    </a:cubicBezTo>
                    <a:cubicBezTo>
                      <a:pt x="499" y="1005"/>
                      <a:pt x="348" y="1013"/>
                      <a:pt x="318" y="102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68"/>
              <p:cNvSpPr/>
              <p:nvPr/>
            </p:nvSpPr>
            <p:spPr>
              <a:xfrm>
                <a:off x="6185160" y="4752360"/>
                <a:ext cx="218160" cy="298440"/>
              </a:xfrm>
              <a:custGeom>
                <a:avLst/>
                <a:gdLst/>
                <a:ahLst/>
                <a:rect l="l" t="t" r="r" b="b"/>
                <a:pathLst>
                  <a:path w="318" h="356">
                    <a:moveTo>
                      <a:pt x="295" y="38"/>
                    </a:moveTo>
                    <a:cubicBezTo>
                      <a:pt x="272" y="53"/>
                      <a:pt x="159" y="91"/>
                      <a:pt x="114" y="129"/>
                    </a:cubicBezTo>
                    <a:cubicBezTo>
                      <a:pt x="69" y="167"/>
                      <a:pt x="38" y="227"/>
                      <a:pt x="23" y="265"/>
                    </a:cubicBezTo>
                    <a:cubicBezTo>
                      <a:pt x="8" y="303"/>
                      <a:pt x="0" y="356"/>
                      <a:pt x="23" y="356"/>
                    </a:cubicBezTo>
                    <a:cubicBezTo>
                      <a:pt x="46" y="356"/>
                      <a:pt x="121" y="318"/>
                      <a:pt x="159" y="265"/>
                    </a:cubicBezTo>
                    <a:cubicBezTo>
                      <a:pt x="197" y="212"/>
                      <a:pt x="227" y="76"/>
                      <a:pt x="250" y="38"/>
                    </a:cubicBezTo>
                    <a:cubicBezTo>
                      <a:pt x="273" y="0"/>
                      <a:pt x="318" y="23"/>
                      <a:pt x="295" y="3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Text Box 169"/>
            <p:cNvSpPr/>
            <p:nvPr/>
          </p:nvSpPr>
          <p:spPr>
            <a:xfrm>
              <a:off x="5583240" y="5391360"/>
              <a:ext cx="15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70"/>
          <p:cNvGrpSpPr/>
          <p:nvPr/>
        </p:nvGrpSpPr>
        <p:grpSpPr>
          <a:xfrm>
            <a:off x="7812000" y="4797360"/>
            <a:ext cx="936720" cy="1657440"/>
            <a:chOff x="7812000" y="4797360"/>
            <a:chExt cx="936720" cy="1657440"/>
          </a:xfrm>
        </p:grpSpPr>
        <p:sp>
          <p:nvSpPr>
            <p:cNvPr id="802" name="Freeform 171"/>
            <p:cNvSpPr/>
            <p:nvPr/>
          </p:nvSpPr>
          <p:spPr>
            <a:xfrm>
              <a:off x="7825680" y="4797360"/>
              <a:ext cx="923040" cy="1657440"/>
            </a:xfrm>
            <a:custGeom>
              <a:avLst/>
              <a:gdLst/>
              <a:ahLst/>
              <a:rect l="l" t="t" r="r" b="b"/>
              <a:pathLst>
                <a:path w="522" h="808">
                  <a:moveTo>
                    <a:pt x="272" y="804"/>
                  </a:moveTo>
                  <a:cubicBezTo>
                    <a:pt x="243" y="804"/>
                    <a:pt x="140" y="808"/>
                    <a:pt x="98" y="798"/>
                  </a:cubicBezTo>
                  <a:cubicBezTo>
                    <a:pt x="56" y="788"/>
                    <a:pt x="36" y="781"/>
                    <a:pt x="20" y="744"/>
                  </a:cubicBezTo>
                  <a:cubicBezTo>
                    <a:pt x="4" y="707"/>
                    <a:pt x="2" y="655"/>
                    <a:pt x="2" y="576"/>
                  </a:cubicBezTo>
                  <a:cubicBezTo>
                    <a:pt x="2" y="497"/>
                    <a:pt x="0" y="332"/>
                    <a:pt x="20" y="270"/>
                  </a:cubicBezTo>
                  <a:cubicBezTo>
                    <a:pt x="40" y="208"/>
                    <a:pt x="98" y="222"/>
                    <a:pt x="122" y="204"/>
                  </a:cubicBezTo>
                  <a:cubicBezTo>
                    <a:pt x="146" y="186"/>
                    <a:pt x="167" y="178"/>
                    <a:pt x="164" y="162"/>
                  </a:cubicBezTo>
                  <a:cubicBezTo>
                    <a:pt x="161" y="146"/>
                    <a:pt x="118" y="127"/>
                    <a:pt x="104" y="108"/>
                  </a:cubicBezTo>
                  <a:cubicBezTo>
                    <a:pt x="90" y="89"/>
                    <a:pt x="71" y="65"/>
                    <a:pt x="80" y="48"/>
                  </a:cubicBezTo>
                  <a:cubicBezTo>
                    <a:pt x="89" y="31"/>
                    <a:pt x="119" y="12"/>
                    <a:pt x="158" y="6"/>
                  </a:cubicBezTo>
                  <a:cubicBezTo>
                    <a:pt x="197" y="0"/>
                    <a:pt x="271" y="6"/>
                    <a:pt x="315" y="12"/>
                  </a:cubicBezTo>
                  <a:cubicBezTo>
                    <a:pt x="359" y="18"/>
                    <a:pt x="404" y="29"/>
                    <a:pt x="422" y="42"/>
                  </a:cubicBezTo>
                  <a:cubicBezTo>
                    <a:pt x="440" y="55"/>
                    <a:pt x="433" y="70"/>
                    <a:pt x="422" y="90"/>
                  </a:cubicBezTo>
                  <a:cubicBezTo>
                    <a:pt x="411" y="110"/>
                    <a:pt x="361" y="143"/>
                    <a:pt x="356" y="162"/>
                  </a:cubicBezTo>
                  <a:cubicBezTo>
                    <a:pt x="351" y="181"/>
                    <a:pt x="369" y="191"/>
                    <a:pt x="392" y="204"/>
                  </a:cubicBezTo>
                  <a:cubicBezTo>
                    <a:pt x="415" y="217"/>
                    <a:pt x="473" y="202"/>
                    <a:pt x="494" y="240"/>
                  </a:cubicBezTo>
                  <a:cubicBezTo>
                    <a:pt x="515" y="278"/>
                    <a:pt x="514" y="378"/>
                    <a:pt x="518" y="432"/>
                  </a:cubicBezTo>
                  <a:cubicBezTo>
                    <a:pt x="522" y="486"/>
                    <a:pt x="522" y="511"/>
                    <a:pt x="519" y="564"/>
                  </a:cubicBezTo>
                  <a:cubicBezTo>
                    <a:pt x="516" y="617"/>
                    <a:pt x="516" y="711"/>
                    <a:pt x="502" y="750"/>
                  </a:cubicBezTo>
                  <a:cubicBezTo>
                    <a:pt x="488" y="789"/>
                    <a:pt x="470" y="789"/>
                    <a:pt x="434" y="798"/>
                  </a:cubicBezTo>
                  <a:cubicBezTo>
                    <a:pt x="398" y="807"/>
                    <a:pt x="315" y="803"/>
                    <a:pt x="284" y="804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2"/>
            <p:cNvSpPr/>
            <p:nvPr/>
          </p:nvSpPr>
          <p:spPr>
            <a:xfrm>
              <a:off x="7943760" y="4811760"/>
              <a:ext cx="658800" cy="1400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173"/>
            <p:cNvSpPr/>
            <p:nvPr/>
          </p:nvSpPr>
          <p:spPr>
            <a:xfrm>
              <a:off x="7812000" y="537804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3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5" name="Picture 174" descr="CRCTR027"/>
          <p:cNvPicPr/>
          <p:nvPr/>
        </p:nvPicPr>
        <p:blipFill>
          <a:blip r:embed="rId25"/>
          <a:stretch/>
        </p:blipFill>
        <p:spPr>
          <a:xfrm>
            <a:off x="250920" y="386064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806" name="AutoShape 175"/>
          <p:cNvSpPr/>
          <p:nvPr/>
        </p:nvSpPr>
        <p:spPr>
          <a:xfrm>
            <a:off x="324000" y="0"/>
            <a:ext cx="8569080" cy="4076640"/>
          </a:xfrm>
          <a:prstGeom prst="cloudCallout">
            <a:avLst>
              <a:gd name="adj1" fmla="val -43310"/>
              <a:gd name="adj2" fmla="val 41861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Готовя варенье, на 2 кг  слив  кладут  3 кг  сахара.  Таким  образом  смешивают  ингредиенты,  т.е. составные  ча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два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тр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176"/>
          <p:cNvGrpSpPr/>
          <p:nvPr/>
        </p:nvGrpSpPr>
        <p:grpSpPr>
          <a:xfrm>
            <a:off x="6012000" y="3068640"/>
            <a:ext cx="2881080" cy="914400"/>
            <a:chOff x="6012000" y="3068640"/>
            <a:chExt cx="2881080" cy="914400"/>
          </a:xfrm>
        </p:grpSpPr>
        <p:sp>
          <p:nvSpPr>
            <p:cNvPr id="808" name="AutoShape 177"/>
            <p:cNvSpPr/>
            <p:nvPr/>
          </p:nvSpPr>
          <p:spPr>
            <a:xfrm>
              <a:off x="6012000" y="3068640"/>
              <a:ext cx="2881080" cy="914400"/>
            </a:xfrm>
            <a:prstGeom prst="roundRect">
              <a:avLst>
                <a:gd name="adj" fmla="val 16667"/>
              </a:avLst>
            </a:prstGeom>
            <a:solidFill>
              <a:srgbClr val="ffe1fb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WordArt 178"/>
            <p:cNvSpPr txBox="1"/>
            <p:nvPr/>
          </p:nvSpPr>
          <p:spPr>
            <a:xfrm>
              <a:off x="6443640" y="3213000"/>
              <a:ext cx="1944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 : 3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810" name="Group 179"/>
          <p:cNvGrpSpPr/>
          <p:nvPr/>
        </p:nvGrpSpPr>
        <p:grpSpPr>
          <a:xfrm>
            <a:off x="6446880" y="4573440"/>
            <a:ext cx="1520280" cy="2284200"/>
            <a:chOff x="6446880" y="4573440"/>
            <a:chExt cx="1520280" cy="2284200"/>
          </a:xfrm>
        </p:grpSpPr>
        <p:grpSp>
          <p:nvGrpSpPr>
            <p:cNvPr id="811" name="Group 180"/>
            <p:cNvGrpSpPr/>
            <p:nvPr/>
          </p:nvGrpSpPr>
          <p:grpSpPr>
            <a:xfrm>
              <a:off x="6566400" y="4573440"/>
              <a:ext cx="1339560" cy="2284200"/>
              <a:chOff x="6566400" y="4573440"/>
              <a:chExt cx="1339560" cy="2284200"/>
            </a:xfrm>
          </p:grpSpPr>
          <p:grpSp>
            <p:nvGrpSpPr>
              <p:cNvPr id="812" name="Group 181"/>
              <p:cNvGrpSpPr/>
              <p:nvPr/>
            </p:nvGrpSpPr>
            <p:grpSpPr>
              <a:xfrm>
                <a:off x="6566400" y="4573440"/>
                <a:ext cx="1339560" cy="2284200"/>
                <a:chOff x="6566400" y="4573440"/>
                <a:chExt cx="1339560" cy="2284200"/>
              </a:xfrm>
            </p:grpSpPr>
            <p:sp>
              <p:nvSpPr>
                <p:cNvPr id="813" name="Freeform 182"/>
                <p:cNvSpPr/>
                <p:nvPr/>
              </p:nvSpPr>
              <p:spPr>
                <a:xfrm>
                  <a:off x="6566400" y="4954320"/>
                  <a:ext cx="1339560" cy="1903320"/>
                </a:xfrm>
                <a:custGeom>
                  <a:avLst/>
                  <a:gdLst/>
                  <a:ahLst/>
                  <a:rect l="l" t="t" r="r" b="b"/>
                  <a:pathLst>
                    <a:path w="2162" h="2699">
                      <a:moveTo>
                        <a:pt x="930" y="15"/>
                      </a:moveTo>
                      <a:cubicBezTo>
                        <a:pt x="703" y="30"/>
                        <a:pt x="575" y="121"/>
                        <a:pt x="431" y="197"/>
                      </a:cubicBezTo>
                      <a:cubicBezTo>
                        <a:pt x="287" y="273"/>
                        <a:pt x="136" y="257"/>
                        <a:pt x="68" y="469"/>
                      </a:cubicBezTo>
                      <a:cubicBezTo>
                        <a:pt x="0" y="681"/>
                        <a:pt x="16" y="1165"/>
                        <a:pt x="23" y="1467"/>
                      </a:cubicBezTo>
                      <a:cubicBezTo>
                        <a:pt x="30" y="1769"/>
                        <a:pt x="83" y="2094"/>
                        <a:pt x="113" y="2283"/>
                      </a:cubicBezTo>
                      <a:cubicBezTo>
                        <a:pt x="143" y="2472"/>
                        <a:pt x="144" y="2541"/>
                        <a:pt x="204" y="2601"/>
                      </a:cubicBezTo>
                      <a:cubicBezTo>
                        <a:pt x="264" y="2661"/>
                        <a:pt x="332" y="2639"/>
                        <a:pt x="476" y="2646"/>
                      </a:cubicBezTo>
                      <a:cubicBezTo>
                        <a:pt x="620" y="2653"/>
                        <a:pt x="877" y="2639"/>
                        <a:pt x="1066" y="2646"/>
                      </a:cubicBezTo>
                      <a:cubicBezTo>
                        <a:pt x="1255" y="2653"/>
                        <a:pt x="1459" y="2691"/>
                        <a:pt x="1610" y="2691"/>
                      </a:cubicBezTo>
                      <a:cubicBezTo>
                        <a:pt x="1761" y="2691"/>
                        <a:pt x="1897" y="2699"/>
                        <a:pt x="1973" y="2646"/>
                      </a:cubicBezTo>
                      <a:cubicBezTo>
                        <a:pt x="2049" y="2593"/>
                        <a:pt x="2041" y="2525"/>
                        <a:pt x="2064" y="2374"/>
                      </a:cubicBezTo>
                      <a:cubicBezTo>
                        <a:pt x="2087" y="2223"/>
                        <a:pt x="2094" y="1875"/>
                        <a:pt x="2109" y="1739"/>
                      </a:cubicBezTo>
                      <a:cubicBezTo>
                        <a:pt x="2124" y="1603"/>
                        <a:pt x="2155" y="1648"/>
                        <a:pt x="2155" y="1557"/>
                      </a:cubicBezTo>
                      <a:cubicBezTo>
                        <a:pt x="2155" y="1466"/>
                        <a:pt x="2117" y="1330"/>
                        <a:pt x="2109" y="1194"/>
                      </a:cubicBezTo>
                      <a:cubicBezTo>
                        <a:pt x="2101" y="1058"/>
                        <a:pt x="2109" y="884"/>
                        <a:pt x="2109" y="741"/>
                      </a:cubicBezTo>
                      <a:cubicBezTo>
                        <a:pt x="2109" y="598"/>
                        <a:pt x="2162" y="439"/>
                        <a:pt x="2109" y="333"/>
                      </a:cubicBezTo>
                      <a:cubicBezTo>
                        <a:pt x="2056" y="227"/>
                        <a:pt x="1988" y="159"/>
                        <a:pt x="1792" y="106"/>
                      </a:cubicBezTo>
                      <a:cubicBezTo>
                        <a:pt x="1596" y="53"/>
                        <a:pt x="1157" y="0"/>
                        <a:pt x="930" y="15"/>
                      </a:cubicBez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83"/>
                <p:cNvSpPr/>
                <p:nvPr/>
              </p:nvSpPr>
              <p:spPr>
                <a:xfrm>
                  <a:off x="6877800" y="4573440"/>
                  <a:ext cx="405000" cy="418680"/>
                </a:xfrm>
                <a:custGeom>
                  <a:avLst/>
                  <a:gdLst/>
                  <a:ahLst/>
                  <a:rect l="l" t="t" r="r" b="b"/>
                  <a:pathLst>
                    <a:path w="590" h="499">
                      <a:moveTo>
                        <a:pt x="318" y="499"/>
                      </a:moveTo>
                      <a:lnTo>
                        <a:pt x="0" y="272"/>
                      </a:lnTo>
                      <a:lnTo>
                        <a:pt x="45" y="227"/>
                      </a:lnTo>
                      <a:lnTo>
                        <a:pt x="136" y="227"/>
                      </a:lnTo>
                      <a:lnTo>
                        <a:pt x="136" y="136"/>
                      </a:lnTo>
                      <a:lnTo>
                        <a:pt x="227" y="182"/>
                      </a:lnTo>
                      <a:lnTo>
                        <a:pt x="91" y="91"/>
                      </a:lnTo>
                      <a:lnTo>
                        <a:pt x="136" y="46"/>
                      </a:lnTo>
                      <a:lnTo>
                        <a:pt x="181" y="91"/>
                      </a:lnTo>
                      <a:lnTo>
                        <a:pt x="181" y="182"/>
                      </a:lnTo>
                      <a:lnTo>
                        <a:pt x="181" y="91"/>
                      </a:lnTo>
                      <a:lnTo>
                        <a:pt x="227" y="0"/>
                      </a:lnTo>
                      <a:lnTo>
                        <a:pt x="272" y="46"/>
                      </a:lnTo>
                      <a:lnTo>
                        <a:pt x="227" y="136"/>
                      </a:lnTo>
                      <a:lnTo>
                        <a:pt x="318" y="136"/>
                      </a:lnTo>
                      <a:lnTo>
                        <a:pt x="318" y="227"/>
                      </a:lnTo>
                      <a:lnTo>
                        <a:pt x="408" y="0"/>
                      </a:lnTo>
                      <a:lnTo>
                        <a:pt x="408" y="136"/>
                      </a:lnTo>
                      <a:lnTo>
                        <a:pt x="499" y="182"/>
                      </a:lnTo>
                      <a:lnTo>
                        <a:pt x="454" y="272"/>
                      </a:lnTo>
                      <a:lnTo>
                        <a:pt x="590" y="363"/>
                      </a:lnTo>
                      <a:lnTo>
                        <a:pt x="590" y="499"/>
                      </a:lnTo>
                      <a:lnTo>
                        <a:pt x="318" y="499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5" name="Freeform 184"/>
              <p:cNvSpPr/>
              <p:nvPr/>
            </p:nvSpPr>
            <p:spPr>
              <a:xfrm>
                <a:off x="7064640" y="4966920"/>
                <a:ext cx="342360" cy="862560"/>
              </a:xfrm>
              <a:custGeom>
                <a:avLst/>
                <a:gdLst/>
                <a:ahLst/>
                <a:rect l="l" t="t" r="r" b="b"/>
                <a:pathLst>
                  <a:path w="499" h="1028">
                    <a:moveTo>
                      <a:pt x="46" y="30"/>
                    </a:moveTo>
                    <a:cubicBezTo>
                      <a:pt x="186" y="30"/>
                      <a:pt x="326" y="30"/>
                      <a:pt x="318" y="30"/>
                    </a:cubicBezTo>
                    <a:cubicBezTo>
                      <a:pt x="310" y="30"/>
                      <a:pt x="0" y="30"/>
                      <a:pt x="0" y="30"/>
                    </a:cubicBezTo>
                    <a:cubicBezTo>
                      <a:pt x="0" y="30"/>
                      <a:pt x="250" y="0"/>
                      <a:pt x="318" y="30"/>
                    </a:cubicBezTo>
                    <a:cubicBezTo>
                      <a:pt x="386" y="60"/>
                      <a:pt x="408" y="159"/>
                      <a:pt x="408" y="212"/>
                    </a:cubicBezTo>
                    <a:cubicBezTo>
                      <a:pt x="408" y="265"/>
                      <a:pt x="333" y="280"/>
                      <a:pt x="318" y="348"/>
                    </a:cubicBezTo>
                    <a:cubicBezTo>
                      <a:pt x="303" y="416"/>
                      <a:pt x="288" y="522"/>
                      <a:pt x="318" y="620"/>
                    </a:cubicBezTo>
                    <a:cubicBezTo>
                      <a:pt x="348" y="718"/>
                      <a:pt x="499" y="869"/>
                      <a:pt x="499" y="937"/>
                    </a:cubicBezTo>
                    <a:cubicBezTo>
                      <a:pt x="499" y="1005"/>
                      <a:pt x="348" y="1013"/>
                      <a:pt x="318" y="102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85"/>
              <p:cNvSpPr/>
              <p:nvPr/>
            </p:nvSpPr>
            <p:spPr>
              <a:xfrm>
                <a:off x="7048800" y="4960080"/>
                <a:ext cx="218160" cy="298440"/>
              </a:xfrm>
              <a:custGeom>
                <a:avLst/>
                <a:gdLst/>
                <a:ahLst/>
                <a:rect l="l" t="t" r="r" b="b"/>
                <a:pathLst>
                  <a:path w="318" h="356">
                    <a:moveTo>
                      <a:pt x="295" y="38"/>
                    </a:moveTo>
                    <a:cubicBezTo>
                      <a:pt x="272" y="53"/>
                      <a:pt x="159" y="91"/>
                      <a:pt x="114" y="129"/>
                    </a:cubicBezTo>
                    <a:cubicBezTo>
                      <a:pt x="69" y="167"/>
                      <a:pt x="38" y="227"/>
                      <a:pt x="23" y="265"/>
                    </a:cubicBezTo>
                    <a:cubicBezTo>
                      <a:pt x="8" y="303"/>
                      <a:pt x="0" y="356"/>
                      <a:pt x="23" y="356"/>
                    </a:cubicBezTo>
                    <a:cubicBezTo>
                      <a:pt x="46" y="356"/>
                      <a:pt x="121" y="318"/>
                      <a:pt x="159" y="265"/>
                    </a:cubicBezTo>
                    <a:cubicBezTo>
                      <a:pt x="197" y="212"/>
                      <a:pt x="227" y="76"/>
                      <a:pt x="250" y="38"/>
                    </a:cubicBezTo>
                    <a:cubicBezTo>
                      <a:pt x="273" y="0"/>
                      <a:pt x="318" y="23"/>
                      <a:pt x="295" y="3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186"/>
            <p:cNvSpPr/>
            <p:nvPr/>
          </p:nvSpPr>
          <p:spPr>
            <a:xfrm>
              <a:off x="6446880" y="5599440"/>
              <a:ext cx="15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2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ношения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9" name="Picture 3" descr="CRCTR068"/>
          <p:cNvPicPr/>
          <p:nvPr/>
        </p:nvPicPr>
        <p:blipFill>
          <a:blip r:embed="rId3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20" name="AutoShape 4"/>
          <p:cNvSpPr/>
          <p:nvPr/>
        </p:nvSpPr>
        <p:spPr>
          <a:xfrm>
            <a:off x="6588000" y="1341360"/>
            <a:ext cx="2305080" cy="2016360"/>
          </a:xfrm>
          <a:prstGeom prst="cloudCallout">
            <a:avLst>
              <a:gd name="adj1" fmla="val -759"/>
              <a:gd name="adj2" fmla="val 108504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WordArt 5"/>
          <p:cNvSpPr txBox="1"/>
          <p:nvPr/>
        </p:nvSpPr>
        <p:spPr>
          <a:xfrm>
            <a:off x="1908000" y="1916280"/>
            <a:ext cx="251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: 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2" name="WordArt 6"/>
          <p:cNvSpPr txBox="1"/>
          <p:nvPr/>
        </p:nvSpPr>
        <p:spPr>
          <a:xfrm>
            <a:off x="2124000" y="3357720"/>
            <a:ext cx="21607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23" name="Group 7"/>
          <p:cNvGrpSpPr/>
          <p:nvPr/>
        </p:nvGrpSpPr>
        <p:grpSpPr>
          <a:xfrm>
            <a:off x="2700360" y="4292640"/>
            <a:ext cx="792000" cy="1604880"/>
            <a:chOff x="2700360" y="4292640"/>
            <a:chExt cx="792000" cy="1604880"/>
          </a:xfrm>
        </p:grpSpPr>
        <p:sp>
          <p:nvSpPr>
            <p:cNvPr id="824" name="WordArt 8"/>
            <p:cNvSpPr txBox="1"/>
            <p:nvPr/>
          </p:nvSpPr>
          <p:spPr>
            <a:xfrm>
              <a:off x="2843280" y="4292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25" name="WordArt 9"/>
            <p:cNvSpPr txBox="1"/>
            <p:nvPr/>
          </p:nvSpPr>
          <p:spPr>
            <a:xfrm>
              <a:off x="2843280" y="5229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26" name="WordArt 10"/>
            <p:cNvSpPr txBox="1"/>
            <p:nvPr/>
          </p:nvSpPr>
          <p:spPr>
            <a:xfrm>
              <a:off x="2700360" y="5013360"/>
              <a:ext cx="792000" cy="73080"/>
            </a:xfrm>
            <a:prstGeom prst="rect">
              <a:avLst/>
            </a:prstGeom>
          </p:spPr>
          <p:txBody>
            <a:bodyPr wrap="none" lIns="90000" rIns="90000" tIns="26640" bIns="266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27" name="WordArt 11"/>
          <p:cNvSpPr txBox="1"/>
          <p:nvPr/>
        </p:nvSpPr>
        <p:spPr>
          <a:xfrm>
            <a:off x="1908000" y="1916280"/>
            <a:ext cx="251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: 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8" name="WordArt 12"/>
          <p:cNvSpPr txBox="1"/>
          <p:nvPr/>
        </p:nvSpPr>
        <p:spPr>
          <a:xfrm>
            <a:off x="2124000" y="3357720"/>
            <a:ext cx="21607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29" name="Group 13"/>
          <p:cNvGrpSpPr/>
          <p:nvPr/>
        </p:nvGrpSpPr>
        <p:grpSpPr>
          <a:xfrm>
            <a:off x="2700360" y="4292640"/>
            <a:ext cx="792000" cy="1604880"/>
            <a:chOff x="2700360" y="4292640"/>
            <a:chExt cx="792000" cy="1604880"/>
          </a:xfrm>
        </p:grpSpPr>
        <p:sp>
          <p:nvSpPr>
            <p:cNvPr id="830" name="WordArt 14"/>
            <p:cNvSpPr txBox="1"/>
            <p:nvPr/>
          </p:nvSpPr>
          <p:spPr>
            <a:xfrm>
              <a:off x="2843280" y="4292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31" name="WordArt 15"/>
            <p:cNvSpPr txBox="1"/>
            <p:nvPr/>
          </p:nvSpPr>
          <p:spPr>
            <a:xfrm>
              <a:off x="2843280" y="5229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32" name="WordArt 16"/>
            <p:cNvSpPr txBox="1"/>
            <p:nvPr/>
          </p:nvSpPr>
          <p:spPr>
            <a:xfrm>
              <a:off x="2700360" y="5013360"/>
              <a:ext cx="792000" cy="73080"/>
            </a:xfrm>
            <a:prstGeom prst="rect">
              <a:avLst/>
            </a:prstGeom>
          </p:spPr>
          <p:txBody>
            <a:bodyPr wrap="none" lIns="90000" rIns="90000" tIns="26640" bIns="266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33" name="WordArt 17"/>
          <p:cNvSpPr txBox="1"/>
          <p:nvPr/>
        </p:nvSpPr>
        <p:spPr>
          <a:xfrm>
            <a:off x="1908000" y="1916280"/>
            <a:ext cx="251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: 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4" name="WordArt 18"/>
          <p:cNvSpPr txBox="1"/>
          <p:nvPr/>
        </p:nvSpPr>
        <p:spPr>
          <a:xfrm>
            <a:off x="2124000" y="3357720"/>
            <a:ext cx="21607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5" name="WordArt 19"/>
          <p:cNvSpPr txBox="1"/>
          <p:nvPr/>
        </p:nvSpPr>
        <p:spPr>
          <a:xfrm>
            <a:off x="1908000" y="1916280"/>
            <a:ext cx="251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: 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6" name="WordArt 20"/>
          <p:cNvSpPr txBox="1"/>
          <p:nvPr/>
        </p:nvSpPr>
        <p:spPr>
          <a:xfrm>
            <a:off x="2124000" y="3357720"/>
            <a:ext cx="21607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CRCTR027"/>
          <p:cNvPicPr/>
          <p:nvPr/>
        </p:nvPicPr>
        <p:blipFill>
          <a:blip r:embed="rId1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838" name="AutoShape 3"/>
          <p:cNvSpPr/>
          <p:nvPr/>
        </p:nvSpPr>
        <p:spPr>
          <a:xfrm>
            <a:off x="539640" y="189000"/>
            <a:ext cx="8244000" cy="2205000"/>
          </a:xfrm>
          <a:prstGeom prst="cloudCallout">
            <a:avLst>
              <a:gd name="adj1" fmla="val 42972"/>
              <a:gd name="adj2" fmla="val 150287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то  показывает частное (а  значит,  и  отношение) двух  чи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840" name="AutoShape 5"/>
          <p:cNvSpPr/>
          <p:nvPr/>
        </p:nvSpPr>
        <p:spPr>
          <a:xfrm>
            <a:off x="395280" y="-243000"/>
            <a:ext cx="8352000" cy="5113440"/>
          </a:xfrm>
          <a:prstGeom prst="cloudCallout">
            <a:avLst>
              <a:gd name="adj1" fmla="val -46995"/>
              <a:gd name="adj2" fmla="val -38078"/>
            </a:avLst>
          </a:prstGeom>
          <a:solidFill>
            <a:srgbClr val="ffe1fb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тношение   показывает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о  сколько  раз  первое  число  больше  второго,  или  же  какую  часть первое число со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т вт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WordArt 6"/>
          <p:cNvSpPr txBox="1"/>
          <p:nvPr/>
        </p:nvSpPr>
        <p:spPr>
          <a:xfrm>
            <a:off x="3203640" y="5516640"/>
            <a:ext cx="2519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: 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2"/>
          <p:cNvGrpSpPr/>
          <p:nvPr/>
        </p:nvGrpSpPr>
        <p:grpSpPr>
          <a:xfrm>
            <a:off x="3708360" y="3573360"/>
            <a:ext cx="5435640" cy="3284640"/>
            <a:chOff x="3708360" y="3573360"/>
            <a:chExt cx="5435640" cy="3284640"/>
          </a:xfrm>
        </p:grpSpPr>
        <p:pic>
          <p:nvPicPr>
            <p:cNvPr id="843" name="Picture 3" descr="C:\WINDOWS\Рабочий стол\КВН\Вести с уроков математики.files\112.ht15.gif"/>
            <p:cNvPicPr/>
            <p:nvPr/>
          </p:nvPicPr>
          <p:blipFill>
            <a:blip r:embed="rId1"/>
            <a:stretch/>
          </p:blipFill>
          <p:spPr>
            <a:xfrm>
              <a:off x="4859280" y="4149720"/>
              <a:ext cx="26002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4" descr="C:\WINDOWS\Рабочий стол\КВН\Вести с уроков математики.files\112.ht9.gif"/>
            <p:cNvPicPr/>
            <p:nvPr/>
          </p:nvPicPr>
          <p:blipFill>
            <a:blip r:embed="rId2"/>
            <a:stretch/>
          </p:blipFill>
          <p:spPr>
            <a:xfrm>
              <a:off x="4140360" y="5013360"/>
              <a:ext cx="25905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5" descr="C:\WINDOWS\Рабочий стол\КВН\Вести с уроков математики.files\112.ht1.gif"/>
            <p:cNvPicPr/>
            <p:nvPr/>
          </p:nvPicPr>
          <p:blipFill>
            <a:blip r:embed="rId3"/>
            <a:stretch/>
          </p:blipFill>
          <p:spPr>
            <a:xfrm>
              <a:off x="7238880" y="3573360"/>
              <a:ext cx="190512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C:\WINDOWS\Рабочий стол\КВН\Вести с уроков математики.files\112.ht7.gif"/>
            <p:cNvPicPr/>
            <p:nvPr/>
          </p:nvPicPr>
          <p:blipFill>
            <a:blip r:embed="rId4"/>
            <a:stretch/>
          </p:blipFill>
          <p:spPr>
            <a:xfrm>
              <a:off x="5508720" y="5300640"/>
              <a:ext cx="256212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7" descr="C:\WINDOWS\Рабочий стол\КВН\Вести с уроков математики.files\112.ht11.gif"/>
            <p:cNvPicPr/>
            <p:nvPr/>
          </p:nvPicPr>
          <p:blipFill>
            <a:blip r:embed="rId5"/>
            <a:stretch/>
          </p:blipFill>
          <p:spPr>
            <a:xfrm>
              <a:off x="3708360" y="5668920"/>
              <a:ext cx="266688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8" descr="C:\WINDOWS\Рабочий стол\КВН\Вести с уроков математики.files\112.ht13.gif"/>
            <p:cNvPicPr/>
            <p:nvPr/>
          </p:nvPicPr>
          <p:blipFill>
            <a:blip r:embed="rId6"/>
            <a:stretch/>
          </p:blipFill>
          <p:spPr>
            <a:xfrm>
              <a:off x="6496200" y="4365720"/>
              <a:ext cx="26478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9" descr="C:\WINDOWS\Рабочий стол\КВН\Вести с уроков математики.files\112.ht5.gif"/>
            <p:cNvPicPr/>
            <p:nvPr/>
          </p:nvPicPr>
          <p:blipFill>
            <a:blip r:embed="rId7"/>
            <a:stretch/>
          </p:blipFill>
          <p:spPr>
            <a:xfrm>
              <a:off x="7010280" y="5386320"/>
              <a:ext cx="2133720" cy="14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WordArt 10"/>
          <p:cNvSpPr txBox="1"/>
          <p:nvPr/>
        </p:nvSpPr>
        <p:spPr>
          <a:xfrm>
            <a:off x="5761080" y="333360"/>
            <a:ext cx="3382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1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179280" y="260280"/>
            <a:ext cx="5472360" cy="3313080"/>
          </a:xfrm>
          <a:prstGeom prst="roundRect">
            <a:avLst>
              <a:gd name="adj" fmla="val 16667"/>
            </a:avLst>
          </a:prstGeom>
          <a:solidFill>
            <a:srgbClr val="fefee2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 парке  стоят  30  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663300"/>
              </a:buClr>
              <a:buFont typeface="Times New Roman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из  них  легк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Какую  часть  составл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легковые   маш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2"/>
          <p:cNvSpPr/>
          <p:nvPr/>
        </p:nvSpPr>
        <p:spPr>
          <a:xfrm>
            <a:off x="6156360" y="1268280"/>
            <a:ext cx="2160720" cy="57636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939" h="21600">
                <a:moveTo>
                  <a:pt x="0" y="0"/>
                </a:moveTo>
                <a:lnTo>
                  <a:pt x="80939" y="0"/>
                </a:lnTo>
                <a:lnTo>
                  <a:pt x="80939" y="21600"/>
                </a:lnTo>
                <a:lnTo>
                  <a:pt x="0" y="21600"/>
                </a:lnTo>
                <a:close/>
              </a:path>
              <a:path fill="lightenLess" w="80939" h="21600">
                <a:moveTo>
                  <a:pt x="0" y="0"/>
                </a:moveTo>
                <a:lnTo>
                  <a:pt x="80939" y="0"/>
                </a:lnTo>
                <a:lnTo>
                  <a:pt x="79539" y="1400"/>
                </a:lnTo>
                <a:lnTo>
                  <a:pt x="1400" y="1400"/>
                </a:lnTo>
                <a:close/>
              </a:path>
              <a:path fill="darken" w="80939" h="21600">
                <a:moveTo>
                  <a:pt x="80939" y="0"/>
                </a:moveTo>
                <a:lnTo>
                  <a:pt x="80939" y="21600"/>
                </a:lnTo>
                <a:lnTo>
                  <a:pt x="79539" y="20200"/>
                </a:lnTo>
                <a:lnTo>
                  <a:pt x="79539" y="1400"/>
                </a:lnTo>
                <a:close/>
              </a:path>
              <a:path fill="darkenLess" w="80939" h="21600">
                <a:moveTo>
                  <a:pt x="80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9" y="20200"/>
                </a:lnTo>
                <a:close/>
              </a:path>
              <a:path fill="lighten" w="80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3"/>
          <p:cNvGrpSpPr/>
          <p:nvPr/>
        </p:nvGrpSpPr>
        <p:grpSpPr>
          <a:xfrm>
            <a:off x="-3205440" y="4005360"/>
            <a:ext cx="2950920" cy="1171080"/>
            <a:chOff x="-3205440" y="4005360"/>
            <a:chExt cx="2950920" cy="1171080"/>
          </a:xfrm>
        </p:grpSpPr>
        <p:pic>
          <p:nvPicPr>
            <p:cNvPr id="854" name="Picture 14" descr="C:\WINDOWS\Рабочий стол\КВН\Вести с уроков математики.files\112.ht9.gif"/>
            <p:cNvPicPr/>
            <p:nvPr/>
          </p:nvPicPr>
          <p:blipFill>
            <a:blip r:embed="rId11"/>
            <a:stretch/>
          </p:blipFill>
          <p:spPr>
            <a:xfrm flipH="1">
              <a:off x="-3205440" y="4365360"/>
              <a:ext cx="2950920" cy="80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5" name="Group 15"/>
            <p:cNvGrpSpPr/>
            <p:nvPr/>
          </p:nvGrpSpPr>
          <p:grpSpPr>
            <a:xfrm>
              <a:off x="-2197080" y="4005360"/>
              <a:ext cx="505080" cy="1171080"/>
              <a:chOff x="-2197080" y="4005360"/>
              <a:chExt cx="505080" cy="1171080"/>
            </a:xfrm>
          </p:grpSpPr>
          <p:sp>
            <p:nvSpPr>
              <p:cNvPr id="856" name="WordArt 16"/>
              <p:cNvSpPr txBox="1"/>
              <p:nvPr/>
            </p:nvSpPr>
            <p:spPr>
              <a:xfrm>
                <a:off x="-2105640" y="4005360"/>
                <a:ext cx="412560" cy="435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57" name="WordArt 17"/>
              <p:cNvSpPr txBox="1"/>
              <p:nvPr/>
            </p:nvSpPr>
            <p:spPr>
              <a:xfrm>
                <a:off x="-2105640" y="4689000"/>
                <a:ext cx="413640" cy="48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58" name="WordArt 18"/>
              <p:cNvSpPr txBox="1"/>
              <p:nvPr/>
            </p:nvSpPr>
            <p:spPr>
              <a:xfrm>
                <a:off x="-2197080" y="4531320"/>
                <a:ext cx="504720" cy="53280"/>
              </a:xfrm>
              <a:prstGeom prst="rect">
                <a:avLst/>
              </a:prstGeom>
            </p:spPr>
            <p:txBody>
              <a:bodyPr wrap="none" lIns="90000" rIns="90000" tIns="6840" bIns="6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2135 0.04051 E">
                                      <p:cBhvr>
                                        <p:cTn id="121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WordArt 2"/>
          <p:cNvSpPr txBox="1"/>
          <p:nvPr/>
        </p:nvSpPr>
        <p:spPr>
          <a:xfrm>
            <a:off x="5761080" y="333360"/>
            <a:ext cx="3382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0" name="Group 3"/>
          <p:cNvGrpSpPr/>
          <p:nvPr/>
        </p:nvGrpSpPr>
        <p:grpSpPr>
          <a:xfrm>
            <a:off x="-25560" y="5920920"/>
            <a:ext cx="9188280" cy="959400"/>
            <a:chOff x="-25560" y="5920920"/>
            <a:chExt cx="9188280" cy="959400"/>
          </a:xfrm>
        </p:grpSpPr>
        <p:sp>
          <p:nvSpPr>
            <p:cNvPr id="861" name="Freeform 4"/>
            <p:cNvSpPr/>
            <p:nvPr/>
          </p:nvSpPr>
          <p:spPr>
            <a:xfrm flipH="1" rot="21228600">
              <a:off x="456120" y="64800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"/>
            <p:cNvSpPr/>
            <p:nvPr/>
          </p:nvSpPr>
          <p:spPr>
            <a:xfrm flipH="1" rot="21228600">
              <a:off x="7788960" y="60260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"/>
            <p:cNvSpPr/>
            <p:nvPr/>
          </p:nvSpPr>
          <p:spPr>
            <a:xfrm flipH="1" rot="21228600">
              <a:off x="8076240" y="59493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 flipH="1" rot="21228600">
              <a:off x="8322840" y="59493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 flipH="1" rot="21228600">
              <a:off x="8703360" y="594324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 flipH="1" rot="21228600">
              <a:off x="989640" y="64098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 flipH="1" rot="21228600">
              <a:off x="-720" y="64800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 flipH="1" rot="21228600">
              <a:off x="227520" y="64800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 flipH="1" rot="21228600">
              <a:off x="761040" y="64800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 flipH="1" rot="21228600">
              <a:off x="7103160" y="60195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"/>
            <p:cNvSpPr/>
            <p:nvPr/>
          </p:nvSpPr>
          <p:spPr>
            <a:xfrm flipH="1" rot="21228600">
              <a:off x="7467120" y="60195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 flipH="1" rot="21228600">
              <a:off x="6781320" y="60195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 flipH="1" rot="21228600">
              <a:off x="6476040" y="60966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 flipH="1" rot="21228600">
              <a:off x="6171120" y="60966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8"/>
            <p:cNvSpPr/>
            <p:nvPr/>
          </p:nvSpPr>
          <p:spPr>
            <a:xfrm flipH="1" rot="21228600">
              <a:off x="5866920" y="609660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9"/>
            <p:cNvSpPr/>
            <p:nvPr/>
          </p:nvSpPr>
          <p:spPr>
            <a:xfrm flipH="1" rot="21228600">
              <a:off x="5561640" y="61732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0"/>
            <p:cNvSpPr/>
            <p:nvPr/>
          </p:nvSpPr>
          <p:spPr>
            <a:xfrm flipH="1" rot="21228600">
              <a:off x="5256720" y="61732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 flipH="1" rot="21228600">
              <a:off x="4875840" y="61732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2"/>
            <p:cNvSpPr/>
            <p:nvPr/>
          </p:nvSpPr>
          <p:spPr>
            <a:xfrm flipH="1" rot="21228600">
              <a:off x="4570920" y="62564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3"/>
            <p:cNvSpPr/>
            <p:nvPr/>
          </p:nvSpPr>
          <p:spPr>
            <a:xfrm flipH="1" rot="21228600">
              <a:off x="4266720" y="62499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4"/>
            <p:cNvSpPr/>
            <p:nvPr/>
          </p:nvSpPr>
          <p:spPr>
            <a:xfrm flipH="1" rot="21228600">
              <a:off x="3961440" y="62499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5"/>
            <p:cNvSpPr/>
            <p:nvPr/>
          </p:nvSpPr>
          <p:spPr>
            <a:xfrm flipH="1" rot="21228600">
              <a:off x="3656520" y="62499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 flipH="1" rot="21228600">
              <a:off x="3352320" y="62499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7"/>
            <p:cNvSpPr/>
            <p:nvPr/>
          </p:nvSpPr>
          <p:spPr>
            <a:xfrm flipH="1" rot="21228600">
              <a:off x="2970720" y="624348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 flipH="1" rot="21228600">
              <a:off x="2683440" y="632016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 flipH="1" rot="21228600">
              <a:off x="2361240" y="632664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 flipH="1" rot="21228600">
              <a:off x="2056320" y="63266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 flipH="1" rot="21228600">
              <a:off x="1827720" y="64036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 flipH="1" rot="21228600">
              <a:off x="1523520" y="6403680"/>
              <a:ext cx="43992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 flipH="1" rot="21228600">
              <a:off x="1218240" y="64036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34"/>
            <p:cNvGrpSpPr/>
            <p:nvPr/>
          </p:nvGrpSpPr>
          <p:grpSpPr>
            <a:xfrm>
              <a:off x="-25560" y="6059520"/>
              <a:ext cx="9164520" cy="740160"/>
              <a:chOff x="-25560" y="6059520"/>
              <a:chExt cx="9164520" cy="740160"/>
            </a:xfrm>
          </p:grpSpPr>
          <p:sp>
            <p:nvSpPr>
              <p:cNvPr id="892" name="Line 35"/>
              <p:cNvSpPr/>
              <p:nvPr/>
            </p:nvSpPr>
            <p:spPr>
              <a:xfrm flipV="1">
                <a:off x="19440" y="6059520"/>
                <a:ext cx="9119520" cy="589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6"/>
              <p:cNvSpPr/>
              <p:nvPr/>
            </p:nvSpPr>
            <p:spPr>
              <a:xfrm>
                <a:off x="-25560" y="6176520"/>
                <a:ext cx="9106200" cy="623160"/>
              </a:xfrm>
              <a:custGeom>
                <a:avLst/>
                <a:gdLst/>
                <a:ahLst/>
                <a:rect l="l" t="t" r="r" b="b"/>
                <a:pathLst>
                  <a:path w="5736" h="390">
                    <a:moveTo>
                      <a:pt x="0" y="390"/>
                    </a:moveTo>
                    <a:lnTo>
                      <a:pt x="5736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37"/>
          <p:cNvGrpSpPr/>
          <p:nvPr/>
        </p:nvGrpSpPr>
        <p:grpSpPr>
          <a:xfrm>
            <a:off x="826920" y="3933720"/>
            <a:ext cx="809640" cy="2044800"/>
            <a:chOff x="826920" y="3933720"/>
            <a:chExt cx="809640" cy="2044800"/>
          </a:xfrm>
        </p:grpSpPr>
        <p:grpSp>
          <p:nvGrpSpPr>
            <p:cNvPr id="895" name="Group 38"/>
            <p:cNvGrpSpPr/>
            <p:nvPr/>
          </p:nvGrpSpPr>
          <p:grpSpPr>
            <a:xfrm>
              <a:off x="1103400" y="5749920"/>
              <a:ext cx="533160" cy="228600"/>
              <a:chOff x="1103400" y="5749920"/>
              <a:chExt cx="533160" cy="228600"/>
            </a:xfrm>
          </p:grpSpPr>
          <p:sp>
            <p:nvSpPr>
              <p:cNvPr id="896" name="Oval 39"/>
              <p:cNvSpPr/>
              <p:nvPr/>
            </p:nvSpPr>
            <p:spPr>
              <a:xfrm>
                <a:off x="1103400" y="579564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Oval 40"/>
              <p:cNvSpPr/>
              <p:nvPr/>
            </p:nvSpPr>
            <p:spPr>
              <a:xfrm>
                <a:off x="1176120" y="577260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41"/>
              <p:cNvSpPr/>
              <p:nvPr/>
            </p:nvSpPr>
            <p:spPr>
              <a:xfrm>
                <a:off x="1224360" y="574992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Freeform 42"/>
            <p:cNvSpPr/>
            <p:nvPr/>
          </p:nvSpPr>
          <p:spPr>
            <a:xfrm>
              <a:off x="1357200" y="4005360"/>
              <a:ext cx="81000" cy="1785960"/>
            </a:xfrm>
            <a:custGeom>
              <a:avLst/>
              <a:gdLst/>
              <a:ahLst/>
              <a:rect l="l" t="t" r="r" b="b"/>
              <a:pathLst>
                <a:path w="1" h="410">
                  <a:moveTo>
                    <a:pt x="0" y="0"/>
                  </a:moveTo>
                  <a:lnTo>
                    <a:pt x="0" y="4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43"/>
            <p:cNvSpPr/>
            <p:nvPr/>
          </p:nvSpPr>
          <p:spPr>
            <a:xfrm>
              <a:off x="900000" y="4005360"/>
              <a:ext cx="21600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44"/>
            <p:cNvSpPr/>
            <p:nvPr/>
          </p:nvSpPr>
          <p:spPr>
            <a:xfrm>
              <a:off x="826920" y="3933720"/>
              <a:ext cx="581040" cy="255600"/>
            </a:xfrm>
            <a:custGeom>
              <a:avLst/>
              <a:gdLst/>
              <a:ahLst/>
              <a:rect l="l" t="t" r="r" b="b"/>
              <a:pathLst>
                <a:path w="366" h="161">
                  <a:moveTo>
                    <a:pt x="0" y="161"/>
                  </a:moveTo>
                  <a:lnTo>
                    <a:pt x="163" y="132"/>
                  </a:lnTo>
                  <a:lnTo>
                    <a:pt x="278" y="55"/>
                  </a:lnTo>
                  <a:lnTo>
                    <a:pt x="297" y="36"/>
                  </a:lnTo>
                  <a:lnTo>
                    <a:pt x="366" y="20"/>
                  </a:lnTo>
                  <a:lnTo>
                    <a:pt x="125" y="0"/>
                  </a:lnTo>
                  <a:lnTo>
                    <a:pt x="19" y="48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5"/>
          <p:cNvGrpSpPr/>
          <p:nvPr/>
        </p:nvGrpSpPr>
        <p:grpSpPr>
          <a:xfrm>
            <a:off x="3924360" y="3789360"/>
            <a:ext cx="809640" cy="2044800"/>
            <a:chOff x="3924360" y="3789360"/>
            <a:chExt cx="809640" cy="2044800"/>
          </a:xfrm>
        </p:grpSpPr>
        <p:grpSp>
          <p:nvGrpSpPr>
            <p:cNvPr id="903" name="Group 46"/>
            <p:cNvGrpSpPr/>
            <p:nvPr/>
          </p:nvGrpSpPr>
          <p:grpSpPr>
            <a:xfrm>
              <a:off x="4200840" y="5605560"/>
              <a:ext cx="533160" cy="228600"/>
              <a:chOff x="4200840" y="5605560"/>
              <a:chExt cx="533160" cy="228600"/>
            </a:xfrm>
          </p:grpSpPr>
          <p:sp>
            <p:nvSpPr>
              <p:cNvPr id="904" name="Oval 47"/>
              <p:cNvSpPr/>
              <p:nvPr/>
            </p:nvSpPr>
            <p:spPr>
              <a:xfrm>
                <a:off x="4200840" y="565128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Oval 48"/>
              <p:cNvSpPr/>
              <p:nvPr/>
            </p:nvSpPr>
            <p:spPr>
              <a:xfrm>
                <a:off x="4273560" y="562824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Oval 49"/>
              <p:cNvSpPr/>
              <p:nvPr/>
            </p:nvSpPr>
            <p:spPr>
              <a:xfrm>
                <a:off x="4321800" y="560556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Freeform 50"/>
            <p:cNvSpPr/>
            <p:nvPr/>
          </p:nvSpPr>
          <p:spPr>
            <a:xfrm>
              <a:off x="4454640" y="3861000"/>
              <a:ext cx="81000" cy="1785960"/>
            </a:xfrm>
            <a:custGeom>
              <a:avLst/>
              <a:gdLst/>
              <a:ahLst/>
              <a:rect l="l" t="t" r="r" b="b"/>
              <a:pathLst>
                <a:path w="1" h="410">
                  <a:moveTo>
                    <a:pt x="0" y="0"/>
                  </a:moveTo>
                  <a:lnTo>
                    <a:pt x="0" y="4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51"/>
            <p:cNvSpPr/>
            <p:nvPr/>
          </p:nvSpPr>
          <p:spPr>
            <a:xfrm>
              <a:off x="3997440" y="3861000"/>
              <a:ext cx="21600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>
              <a:off x="3924360" y="3789360"/>
              <a:ext cx="581040" cy="255600"/>
            </a:xfrm>
            <a:custGeom>
              <a:avLst/>
              <a:gdLst/>
              <a:ahLst/>
              <a:rect l="l" t="t" r="r" b="b"/>
              <a:pathLst>
                <a:path w="366" h="161">
                  <a:moveTo>
                    <a:pt x="0" y="161"/>
                  </a:moveTo>
                  <a:lnTo>
                    <a:pt x="163" y="132"/>
                  </a:lnTo>
                  <a:lnTo>
                    <a:pt x="278" y="55"/>
                  </a:lnTo>
                  <a:lnTo>
                    <a:pt x="297" y="36"/>
                  </a:lnTo>
                  <a:lnTo>
                    <a:pt x="366" y="20"/>
                  </a:lnTo>
                  <a:lnTo>
                    <a:pt x="125" y="0"/>
                  </a:lnTo>
                  <a:lnTo>
                    <a:pt x="19" y="48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53"/>
          <p:cNvGrpSpPr/>
          <p:nvPr/>
        </p:nvGrpSpPr>
        <p:grpSpPr>
          <a:xfrm>
            <a:off x="7020000" y="3573360"/>
            <a:ext cx="809640" cy="2044800"/>
            <a:chOff x="7020000" y="3573360"/>
            <a:chExt cx="809640" cy="2044800"/>
          </a:xfrm>
        </p:grpSpPr>
        <p:grpSp>
          <p:nvGrpSpPr>
            <p:cNvPr id="911" name="Group 54"/>
            <p:cNvGrpSpPr/>
            <p:nvPr/>
          </p:nvGrpSpPr>
          <p:grpSpPr>
            <a:xfrm>
              <a:off x="7296480" y="5389560"/>
              <a:ext cx="533160" cy="228600"/>
              <a:chOff x="7296480" y="5389560"/>
              <a:chExt cx="533160" cy="228600"/>
            </a:xfrm>
          </p:grpSpPr>
          <p:sp>
            <p:nvSpPr>
              <p:cNvPr id="912" name="Oval 55"/>
              <p:cNvSpPr/>
              <p:nvPr/>
            </p:nvSpPr>
            <p:spPr>
              <a:xfrm>
                <a:off x="7296480" y="543528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Oval 56"/>
              <p:cNvSpPr/>
              <p:nvPr/>
            </p:nvSpPr>
            <p:spPr>
              <a:xfrm>
                <a:off x="7369200" y="541224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57"/>
              <p:cNvSpPr/>
              <p:nvPr/>
            </p:nvSpPr>
            <p:spPr>
              <a:xfrm>
                <a:off x="7417440" y="538956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Freeform 58"/>
            <p:cNvSpPr/>
            <p:nvPr/>
          </p:nvSpPr>
          <p:spPr>
            <a:xfrm>
              <a:off x="7550280" y="3645000"/>
              <a:ext cx="81000" cy="1785960"/>
            </a:xfrm>
            <a:custGeom>
              <a:avLst/>
              <a:gdLst/>
              <a:ahLst/>
              <a:rect l="l" t="t" r="r" b="b"/>
              <a:pathLst>
                <a:path w="1" h="410">
                  <a:moveTo>
                    <a:pt x="0" y="0"/>
                  </a:moveTo>
                  <a:lnTo>
                    <a:pt x="0" y="4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59"/>
            <p:cNvSpPr/>
            <p:nvPr/>
          </p:nvSpPr>
          <p:spPr>
            <a:xfrm>
              <a:off x="7093080" y="3645000"/>
              <a:ext cx="21600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0"/>
            <p:cNvSpPr/>
            <p:nvPr/>
          </p:nvSpPr>
          <p:spPr>
            <a:xfrm>
              <a:off x="7020000" y="3573360"/>
              <a:ext cx="581040" cy="255600"/>
            </a:xfrm>
            <a:custGeom>
              <a:avLst/>
              <a:gdLst/>
              <a:ahLst/>
              <a:rect l="l" t="t" r="r" b="b"/>
              <a:pathLst>
                <a:path w="366" h="161">
                  <a:moveTo>
                    <a:pt x="0" y="161"/>
                  </a:moveTo>
                  <a:lnTo>
                    <a:pt x="163" y="132"/>
                  </a:lnTo>
                  <a:lnTo>
                    <a:pt x="278" y="55"/>
                  </a:lnTo>
                  <a:lnTo>
                    <a:pt x="297" y="36"/>
                  </a:lnTo>
                  <a:lnTo>
                    <a:pt x="366" y="20"/>
                  </a:lnTo>
                  <a:lnTo>
                    <a:pt x="125" y="0"/>
                  </a:lnTo>
                  <a:lnTo>
                    <a:pt x="19" y="48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61"/>
          <p:cNvGrpSpPr/>
          <p:nvPr/>
        </p:nvGrpSpPr>
        <p:grpSpPr>
          <a:xfrm>
            <a:off x="-25560" y="5422320"/>
            <a:ext cx="9188280" cy="959400"/>
            <a:chOff x="-25560" y="5422320"/>
            <a:chExt cx="9188280" cy="959400"/>
          </a:xfrm>
        </p:grpSpPr>
        <p:sp>
          <p:nvSpPr>
            <p:cNvPr id="919" name="Freeform 62"/>
            <p:cNvSpPr/>
            <p:nvPr/>
          </p:nvSpPr>
          <p:spPr>
            <a:xfrm flipH="1" rot="21228600">
              <a:off x="456120" y="59814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3"/>
            <p:cNvSpPr/>
            <p:nvPr/>
          </p:nvSpPr>
          <p:spPr>
            <a:xfrm flipH="1" rot="21228600">
              <a:off x="7788960" y="55274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4"/>
            <p:cNvSpPr/>
            <p:nvPr/>
          </p:nvSpPr>
          <p:spPr>
            <a:xfrm flipH="1" rot="21228600">
              <a:off x="8076240" y="54507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65"/>
            <p:cNvSpPr/>
            <p:nvPr/>
          </p:nvSpPr>
          <p:spPr>
            <a:xfrm flipH="1" rot="21228600">
              <a:off x="8322840" y="54507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66"/>
            <p:cNvSpPr/>
            <p:nvPr/>
          </p:nvSpPr>
          <p:spPr>
            <a:xfrm flipH="1" rot="21228600">
              <a:off x="8703360" y="544464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67"/>
            <p:cNvSpPr/>
            <p:nvPr/>
          </p:nvSpPr>
          <p:spPr>
            <a:xfrm flipH="1" rot="21228600">
              <a:off x="989640" y="59112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68"/>
            <p:cNvSpPr/>
            <p:nvPr/>
          </p:nvSpPr>
          <p:spPr>
            <a:xfrm flipH="1" rot="21228600">
              <a:off x="-720" y="59814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69"/>
            <p:cNvSpPr/>
            <p:nvPr/>
          </p:nvSpPr>
          <p:spPr>
            <a:xfrm flipH="1" rot="21228600">
              <a:off x="227520" y="59814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0"/>
            <p:cNvSpPr/>
            <p:nvPr/>
          </p:nvSpPr>
          <p:spPr>
            <a:xfrm flipH="1" rot="21228600">
              <a:off x="761040" y="59814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1"/>
            <p:cNvSpPr/>
            <p:nvPr/>
          </p:nvSpPr>
          <p:spPr>
            <a:xfrm flipH="1" rot="21228600">
              <a:off x="7103160" y="55209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2"/>
            <p:cNvSpPr/>
            <p:nvPr/>
          </p:nvSpPr>
          <p:spPr>
            <a:xfrm flipH="1" rot="21228600">
              <a:off x="7467120" y="55209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3"/>
            <p:cNvSpPr/>
            <p:nvPr/>
          </p:nvSpPr>
          <p:spPr>
            <a:xfrm flipH="1" rot="21228600">
              <a:off x="6781320" y="55209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4"/>
            <p:cNvSpPr/>
            <p:nvPr/>
          </p:nvSpPr>
          <p:spPr>
            <a:xfrm flipH="1" rot="21228600">
              <a:off x="6476040" y="55980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5"/>
            <p:cNvSpPr/>
            <p:nvPr/>
          </p:nvSpPr>
          <p:spPr>
            <a:xfrm flipH="1" rot="21228600">
              <a:off x="6171120" y="559800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6"/>
            <p:cNvSpPr/>
            <p:nvPr/>
          </p:nvSpPr>
          <p:spPr>
            <a:xfrm flipH="1" rot="21228600">
              <a:off x="5866920" y="559800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7"/>
            <p:cNvSpPr/>
            <p:nvPr/>
          </p:nvSpPr>
          <p:spPr>
            <a:xfrm flipH="1" rot="21228600">
              <a:off x="5561640" y="56746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8"/>
            <p:cNvSpPr/>
            <p:nvPr/>
          </p:nvSpPr>
          <p:spPr>
            <a:xfrm flipH="1" rot="21228600">
              <a:off x="5256720" y="56746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9"/>
            <p:cNvSpPr/>
            <p:nvPr/>
          </p:nvSpPr>
          <p:spPr>
            <a:xfrm flipH="1" rot="21228600">
              <a:off x="4875840" y="56746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0"/>
            <p:cNvSpPr/>
            <p:nvPr/>
          </p:nvSpPr>
          <p:spPr>
            <a:xfrm flipH="1" rot="21228600">
              <a:off x="4570920" y="57578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"/>
            <p:cNvSpPr/>
            <p:nvPr/>
          </p:nvSpPr>
          <p:spPr>
            <a:xfrm flipH="1" rot="21228600">
              <a:off x="4266720" y="57513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"/>
            <p:cNvSpPr/>
            <p:nvPr/>
          </p:nvSpPr>
          <p:spPr>
            <a:xfrm flipH="1" rot="21228600">
              <a:off x="3961440" y="57513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3"/>
            <p:cNvSpPr/>
            <p:nvPr/>
          </p:nvSpPr>
          <p:spPr>
            <a:xfrm flipH="1" rot="21228600">
              <a:off x="3656520" y="575136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4"/>
            <p:cNvSpPr/>
            <p:nvPr/>
          </p:nvSpPr>
          <p:spPr>
            <a:xfrm flipH="1" rot="21228600">
              <a:off x="3352320" y="5751360"/>
              <a:ext cx="43992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5"/>
            <p:cNvSpPr/>
            <p:nvPr/>
          </p:nvSpPr>
          <p:spPr>
            <a:xfrm flipH="1" rot="21228600">
              <a:off x="2970720" y="574488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6"/>
            <p:cNvSpPr/>
            <p:nvPr/>
          </p:nvSpPr>
          <p:spPr>
            <a:xfrm flipH="1" rot="21228600">
              <a:off x="2683440" y="582156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7"/>
            <p:cNvSpPr/>
            <p:nvPr/>
          </p:nvSpPr>
          <p:spPr>
            <a:xfrm flipH="1" rot="21228600">
              <a:off x="2361240" y="5828040"/>
              <a:ext cx="439560" cy="389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8"/>
            <p:cNvSpPr/>
            <p:nvPr/>
          </p:nvSpPr>
          <p:spPr>
            <a:xfrm flipH="1" rot="21228600">
              <a:off x="2056320" y="5828040"/>
              <a:ext cx="439560" cy="3772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9"/>
            <p:cNvSpPr/>
            <p:nvPr/>
          </p:nvSpPr>
          <p:spPr>
            <a:xfrm flipH="1" rot="21228600">
              <a:off x="1827720" y="59050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0"/>
            <p:cNvSpPr/>
            <p:nvPr/>
          </p:nvSpPr>
          <p:spPr>
            <a:xfrm flipH="1" rot="21228600">
              <a:off x="1523520" y="5905080"/>
              <a:ext cx="43992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1"/>
            <p:cNvSpPr/>
            <p:nvPr/>
          </p:nvSpPr>
          <p:spPr>
            <a:xfrm flipH="1" rot="21228600">
              <a:off x="1218240" y="5905080"/>
              <a:ext cx="439560" cy="3769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92"/>
            <p:cNvGrpSpPr/>
            <p:nvPr/>
          </p:nvGrpSpPr>
          <p:grpSpPr>
            <a:xfrm>
              <a:off x="-25560" y="5560920"/>
              <a:ext cx="9164520" cy="740160"/>
              <a:chOff x="-25560" y="5560920"/>
              <a:chExt cx="9164520" cy="740160"/>
            </a:xfrm>
          </p:grpSpPr>
          <p:sp>
            <p:nvSpPr>
              <p:cNvPr id="950" name="Line 93"/>
              <p:cNvSpPr/>
              <p:nvPr/>
            </p:nvSpPr>
            <p:spPr>
              <a:xfrm flipV="1">
                <a:off x="19440" y="5560920"/>
                <a:ext cx="9119520" cy="589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94"/>
              <p:cNvSpPr/>
              <p:nvPr/>
            </p:nvSpPr>
            <p:spPr>
              <a:xfrm>
                <a:off x="-25560" y="5677920"/>
                <a:ext cx="9106200" cy="623160"/>
              </a:xfrm>
              <a:custGeom>
                <a:avLst/>
                <a:gdLst/>
                <a:ahLst/>
                <a:rect l="l" t="t" r="r" b="b"/>
                <a:pathLst>
                  <a:path w="5736" h="390">
                    <a:moveTo>
                      <a:pt x="0" y="390"/>
                    </a:moveTo>
                    <a:lnTo>
                      <a:pt x="5736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2" name="AutoShape 95"/>
          <p:cNvSpPr/>
          <p:nvPr/>
        </p:nvSpPr>
        <p:spPr>
          <a:xfrm>
            <a:off x="179280" y="260280"/>
            <a:ext cx="5472360" cy="3313080"/>
          </a:xfrm>
          <a:prstGeom prst="roundRect">
            <a:avLst>
              <a:gd name="adj" fmla="val 16667"/>
            </a:avLst>
          </a:prstGeom>
          <a:solidFill>
            <a:srgbClr val="fefee2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лина  железной дороги  36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лектрифицировано 24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Какая  часть  доро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лектрифицирован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о  сколько  раз  вся  до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линнее 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лектрифицированной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96"/>
          <p:cNvGrpSpPr/>
          <p:nvPr/>
        </p:nvGrpSpPr>
        <p:grpSpPr>
          <a:xfrm>
            <a:off x="8753040" y="4270680"/>
            <a:ext cx="8456760" cy="1400760"/>
            <a:chOff x="8753040" y="4270680"/>
            <a:chExt cx="8456760" cy="1400760"/>
          </a:xfrm>
        </p:grpSpPr>
        <p:grpSp>
          <p:nvGrpSpPr>
            <p:cNvPr id="954" name="Group 97"/>
            <p:cNvGrpSpPr/>
            <p:nvPr/>
          </p:nvGrpSpPr>
          <p:grpSpPr>
            <a:xfrm>
              <a:off x="8753040" y="4270680"/>
              <a:ext cx="8456760" cy="1400760"/>
              <a:chOff x="8753040" y="4270680"/>
              <a:chExt cx="8456760" cy="1400760"/>
            </a:xfrm>
          </p:grpSpPr>
          <p:grpSp>
            <p:nvGrpSpPr>
              <p:cNvPr id="955" name="Group 98"/>
              <p:cNvGrpSpPr/>
              <p:nvPr/>
            </p:nvGrpSpPr>
            <p:grpSpPr>
              <a:xfrm>
                <a:off x="10583280" y="4270680"/>
                <a:ext cx="6626520" cy="1286640"/>
                <a:chOff x="10583280" y="4270680"/>
                <a:chExt cx="6626520" cy="1286640"/>
              </a:xfrm>
            </p:grpSpPr>
            <p:grpSp>
              <p:nvGrpSpPr>
                <p:cNvPr id="956" name="Group 99"/>
                <p:cNvGrpSpPr/>
                <p:nvPr/>
              </p:nvGrpSpPr>
              <p:grpSpPr>
                <a:xfrm>
                  <a:off x="13830840" y="4270680"/>
                  <a:ext cx="3378960" cy="1093680"/>
                  <a:chOff x="13830840" y="4270680"/>
                  <a:chExt cx="3378960" cy="1093680"/>
                </a:xfrm>
              </p:grpSpPr>
              <p:grpSp>
                <p:nvGrpSpPr>
                  <p:cNvPr id="957" name="Group 100"/>
                  <p:cNvGrpSpPr/>
                  <p:nvPr/>
                </p:nvGrpSpPr>
                <p:grpSpPr>
                  <a:xfrm>
                    <a:off x="13830840" y="4906080"/>
                    <a:ext cx="165960" cy="232200"/>
                    <a:chOff x="13830840" y="4906080"/>
                    <a:chExt cx="165960" cy="232200"/>
                  </a:xfrm>
                </p:grpSpPr>
                <p:sp>
                  <p:nvSpPr>
                    <p:cNvPr id="958" name="Line 101"/>
                    <p:cNvSpPr/>
                    <p:nvPr/>
                  </p:nvSpPr>
                  <p:spPr>
                    <a:xfrm>
                      <a:off x="13910400" y="4906080"/>
                      <a:ext cx="12240" cy="23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102"/>
                    <p:cNvSpPr/>
                    <p:nvPr/>
                  </p:nvSpPr>
                  <p:spPr>
                    <a:xfrm flipH="1" rot="21396000">
                      <a:off x="13831560" y="4984200"/>
                      <a:ext cx="1638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Group 103"/>
                  <p:cNvGrpSpPr/>
                  <p:nvPr/>
                </p:nvGrpSpPr>
                <p:grpSpPr>
                  <a:xfrm>
                    <a:off x="15380280" y="4811760"/>
                    <a:ext cx="241560" cy="232200"/>
                    <a:chOff x="15380280" y="4811760"/>
                    <a:chExt cx="241560" cy="232200"/>
                  </a:xfrm>
                </p:grpSpPr>
                <p:sp>
                  <p:nvSpPr>
                    <p:cNvPr id="961" name="Line 104"/>
                    <p:cNvSpPr/>
                    <p:nvPr/>
                  </p:nvSpPr>
                  <p:spPr>
                    <a:xfrm>
                      <a:off x="15498720" y="4811760"/>
                      <a:ext cx="11520" cy="23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105"/>
                    <p:cNvSpPr/>
                    <p:nvPr/>
                  </p:nvSpPr>
                  <p:spPr>
                    <a:xfrm flipH="1" rot="21396000">
                      <a:off x="15380640" y="488988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Group 106"/>
                  <p:cNvGrpSpPr/>
                  <p:nvPr/>
                </p:nvGrpSpPr>
                <p:grpSpPr>
                  <a:xfrm>
                    <a:off x="15537960" y="4270680"/>
                    <a:ext cx="1634040" cy="999360"/>
                    <a:chOff x="15537960" y="4270680"/>
                    <a:chExt cx="1634040" cy="999360"/>
                  </a:xfrm>
                </p:grpSpPr>
                <p:grpSp>
                  <p:nvGrpSpPr>
                    <p:cNvPr id="964" name="Group 107"/>
                    <p:cNvGrpSpPr/>
                    <p:nvPr/>
                  </p:nvGrpSpPr>
                  <p:grpSpPr>
                    <a:xfrm>
                      <a:off x="16532280" y="4888080"/>
                      <a:ext cx="320400" cy="331200"/>
                      <a:chOff x="16532280" y="4888080"/>
                      <a:chExt cx="320400" cy="331200"/>
                    </a:xfrm>
                  </p:grpSpPr>
                  <p:grpSp>
                    <p:nvGrpSpPr>
                      <p:cNvPr id="965" name="Group 108"/>
                      <p:cNvGrpSpPr/>
                      <p:nvPr/>
                    </p:nvGrpSpPr>
                    <p:grpSpPr>
                      <a:xfrm>
                        <a:off x="16532280" y="4888080"/>
                        <a:ext cx="320400" cy="331200"/>
                        <a:chOff x="16532280" y="4888080"/>
                        <a:chExt cx="320400" cy="331200"/>
                      </a:xfrm>
                    </p:grpSpPr>
                    <p:grpSp>
                      <p:nvGrpSpPr>
                        <p:cNvPr id="966" name="Group 109"/>
                        <p:cNvGrpSpPr/>
                        <p:nvPr/>
                      </p:nvGrpSpPr>
                      <p:grpSpPr>
                        <a:xfrm>
                          <a:off x="16532280" y="4888080"/>
                          <a:ext cx="320400" cy="331200"/>
                          <a:chOff x="16532280" y="4888080"/>
                          <a:chExt cx="320400" cy="331200"/>
                        </a:xfrm>
                      </p:grpSpPr>
                      <p:sp>
                        <p:nvSpPr>
                          <p:cNvPr id="967" name="Oval 110"/>
                          <p:cNvSpPr/>
                          <p:nvPr/>
                        </p:nvSpPr>
                        <p:spPr>
                          <a:xfrm flipH="1" rot="21396000">
                            <a:off x="16540920" y="4896720"/>
                            <a:ext cx="302400" cy="31392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8" name="Oval 111"/>
                          <p:cNvSpPr/>
                          <p:nvPr/>
                        </p:nvSpPr>
                        <p:spPr>
                          <a:xfrm flipH="1" rot="21396000">
                            <a:off x="16540920" y="4896720"/>
                            <a:ext cx="302400" cy="31392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9" name="Group 112"/>
                        <p:cNvGrpSpPr/>
                        <p:nvPr/>
                      </p:nvGrpSpPr>
                      <p:grpSpPr>
                        <a:xfrm>
                          <a:off x="16560720" y="4915800"/>
                          <a:ext cx="266040" cy="275040"/>
                          <a:chOff x="16560720" y="4915800"/>
                          <a:chExt cx="266040" cy="275040"/>
                        </a:xfrm>
                      </p:grpSpPr>
                      <p:sp>
                        <p:nvSpPr>
                          <p:cNvPr id="970" name="Oval 113"/>
                          <p:cNvSpPr/>
                          <p:nvPr/>
                        </p:nvSpPr>
                        <p:spPr>
                          <a:xfrm flipH="1" rot="21396000">
                            <a:off x="16567560" y="4922640"/>
                            <a:ext cx="25128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1" name="Oval 114"/>
                          <p:cNvSpPr/>
                          <p:nvPr/>
                        </p:nvSpPr>
                        <p:spPr>
                          <a:xfrm flipH="1" rot="21396000">
                            <a:off x="16567560" y="4922640"/>
                            <a:ext cx="25128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2" name="Group 115"/>
                      <p:cNvGrpSpPr/>
                      <p:nvPr/>
                    </p:nvGrpSpPr>
                    <p:grpSpPr>
                      <a:xfrm>
                        <a:off x="16560360" y="4916160"/>
                        <a:ext cx="266400" cy="275040"/>
                        <a:chOff x="16560360" y="4916160"/>
                        <a:chExt cx="266400" cy="275040"/>
                      </a:xfrm>
                    </p:grpSpPr>
                    <p:sp>
                      <p:nvSpPr>
                        <p:cNvPr id="973" name="Freeform 116"/>
                        <p:cNvSpPr/>
                        <p:nvPr/>
                      </p:nvSpPr>
                      <p:spPr>
                        <a:xfrm flipH="1" rot="21396000">
                          <a:off x="16567560" y="492300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4" name="Freeform 117"/>
                        <p:cNvSpPr/>
                        <p:nvPr/>
                      </p:nvSpPr>
                      <p:spPr>
                        <a:xfrm flipH="1" rot="21396000">
                          <a:off x="16567560" y="492300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75" name="Group 118"/>
                    <p:cNvGrpSpPr/>
                    <p:nvPr/>
                  </p:nvGrpSpPr>
                  <p:grpSpPr>
                    <a:xfrm>
                      <a:off x="15690240" y="4937760"/>
                      <a:ext cx="323640" cy="331560"/>
                      <a:chOff x="15690240" y="4937760"/>
                      <a:chExt cx="323640" cy="331560"/>
                    </a:xfrm>
                  </p:grpSpPr>
                  <p:grpSp>
                    <p:nvGrpSpPr>
                      <p:cNvPr id="976" name="Group 119"/>
                      <p:cNvGrpSpPr/>
                      <p:nvPr/>
                    </p:nvGrpSpPr>
                    <p:grpSpPr>
                      <a:xfrm>
                        <a:off x="15690240" y="4937760"/>
                        <a:ext cx="323640" cy="331560"/>
                        <a:chOff x="15690240" y="4937760"/>
                        <a:chExt cx="323640" cy="331560"/>
                      </a:xfrm>
                    </p:grpSpPr>
                    <p:grpSp>
                      <p:nvGrpSpPr>
                        <p:cNvPr id="977" name="Group 120"/>
                        <p:cNvGrpSpPr/>
                        <p:nvPr/>
                      </p:nvGrpSpPr>
                      <p:grpSpPr>
                        <a:xfrm>
                          <a:off x="15690240" y="4937760"/>
                          <a:ext cx="323640" cy="331560"/>
                          <a:chOff x="15690240" y="4937760"/>
                          <a:chExt cx="323640" cy="331560"/>
                        </a:xfrm>
                      </p:grpSpPr>
                      <p:sp>
                        <p:nvSpPr>
                          <p:cNvPr id="978" name="Oval 121"/>
                          <p:cNvSpPr/>
                          <p:nvPr/>
                        </p:nvSpPr>
                        <p:spPr>
                          <a:xfrm flipH="1" rot="21396000">
                            <a:off x="15698520" y="4946400"/>
                            <a:ext cx="305640" cy="31428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Oval 122"/>
                          <p:cNvSpPr/>
                          <p:nvPr/>
                        </p:nvSpPr>
                        <p:spPr>
                          <a:xfrm flipH="1" rot="21396000">
                            <a:off x="15698520" y="4946400"/>
                            <a:ext cx="305640" cy="31428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0" name="Group 123"/>
                        <p:cNvGrpSpPr/>
                        <p:nvPr/>
                      </p:nvGrpSpPr>
                      <p:grpSpPr>
                        <a:xfrm>
                          <a:off x="15719040" y="4965840"/>
                          <a:ext cx="268920" cy="275400"/>
                          <a:chOff x="15719040" y="4965840"/>
                          <a:chExt cx="268920" cy="275400"/>
                        </a:xfrm>
                      </p:grpSpPr>
                      <p:sp>
                        <p:nvSpPr>
                          <p:cNvPr id="981" name="Oval 124"/>
                          <p:cNvSpPr/>
                          <p:nvPr/>
                        </p:nvSpPr>
                        <p:spPr>
                          <a:xfrm flipH="1" rot="21396000">
                            <a:off x="15725880" y="4973040"/>
                            <a:ext cx="25380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Oval 125"/>
                          <p:cNvSpPr/>
                          <p:nvPr/>
                        </p:nvSpPr>
                        <p:spPr>
                          <a:xfrm flipH="1" rot="21396000">
                            <a:off x="15725880" y="4973040"/>
                            <a:ext cx="25380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83" name="Group 126"/>
                      <p:cNvGrpSpPr/>
                      <p:nvPr/>
                    </p:nvGrpSpPr>
                    <p:grpSpPr>
                      <a:xfrm>
                        <a:off x="15719040" y="4966200"/>
                        <a:ext cx="268920" cy="275400"/>
                        <a:chOff x="15719040" y="4966200"/>
                        <a:chExt cx="268920" cy="275400"/>
                      </a:xfrm>
                    </p:grpSpPr>
                    <p:sp>
                      <p:nvSpPr>
                        <p:cNvPr id="984" name="Freeform 127"/>
                        <p:cNvSpPr/>
                        <p:nvPr/>
                      </p:nvSpPr>
                      <p:spPr>
                        <a:xfrm flipH="1" rot="21396000">
                          <a:off x="15725880" y="497340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5" name="Freeform 128"/>
                        <p:cNvSpPr/>
                        <p:nvPr/>
                      </p:nvSpPr>
                      <p:spPr>
                        <a:xfrm flipH="1" rot="21396000">
                          <a:off x="15725880" y="497340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86" name="Group 129"/>
                    <p:cNvGrpSpPr/>
                    <p:nvPr/>
                  </p:nvGrpSpPr>
                  <p:grpSpPr>
                    <a:xfrm>
                      <a:off x="16531920" y="4888080"/>
                      <a:ext cx="320760" cy="331560"/>
                      <a:chOff x="16531920" y="4888080"/>
                      <a:chExt cx="320760" cy="331560"/>
                    </a:xfrm>
                  </p:grpSpPr>
                  <p:grpSp>
                    <p:nvGrpSpPr>
                      <p:cNvPr id="987" name="Group 130"/>
                      <p:cNvGrpSpPr/>
                      <p:nvPr/>
                    </p:nvGrpSpPr>
                    <p:grpSpPr>
                      <a:xfrm>
                        <a:off x="16531920" y="4888080"/>
                        <a:ext cx="320760" cy="331560"/>
                        <a:chOff x="16531920" y="4888080"/>
                        <a:chExt cx="320760" cy="331560"/>
                      </a:xfrm>
                    </p:grpSpPr>
                    <p:sp>
                      <p:nvSpPr>
                        <p:cNvPr id="988" name="Oval 131"/>
                        <p:cNvSpPr/>
                        <p:nvPr/>
                      </p:nvSpPr>
                      <p:spPr>
                        <a:xfrm flipH="1" rot="21396000">
                          <a:off x="16540200" y="4896720"/>
                          <a:ext cx="30276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Oval 132"/>
                        <p:cNvSpPr/>
                        <p:nvPr/>
                      </p:nvSpPr>
                      <p:spPr>
                        <a:xfrm flipH="1" rot="21396000">
                          <a:off x="16540200" y="4896720"/>
                          <a:ext cx="30276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0" name="Group 133"/>
                      <p:cNvGrpSpPr/>
                      <p:nvPr/>
                    </p:nvGrpSpPr>
                    <p:grpSpPr>
                      <a:xfrm>
                        <a:off x="16560360" y="4916160"/>
                        <a:ext cx="266400" cy="275040"/>
                        <a:chOff x="16560360" y="4916160"/>
                        <a:chExt cx="266400" cy="275040"/>
                      </a:xfrm>
                    </p:grpSpPr>
                    <p:sp>
                      <p:nvSpPr>
                        <p:cNvPr id="991" name="Oval 134"/>
                        <p:cNvSpPr/>
                        <p:nvPr/>
                      </p:nvSpPr>
                      <p:spPr>
                        <a:xfrm flipH="1" rot="21396000">
                          <a:off x="16567560" y="4923000"/>
                          <a:ext cx="25164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Oval 135"/>
                        <p:cNvSpPr/>
                        <p:nvPr/>
                      </p:nvSpPr>
                      <p:spPr>
                        <a:xfrm flipH="1" rot="21396000">
                          <a:off x="16567560" y="4923000"/>
                          <a:ext cx="25164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93" name="Group 136"/>
                    <p:cNvGrpSpPr/>
                    <p:nvPr/>
                  </p:nvGrpSpPr>
                  <p:grpSpPr>
                    <a:xfrm>
                      <a:off x="16560000" y="4916880"/>
                      <a:ext cx="267120" cy="273960"/>
                      <a:chOff x="16560000" y="4916880"/>
                      <a:chExt cx="267120" cy="273960"/>
                    </a:xfrm>
                  </p:grpSpPr>
                  <p:sp>
                    <p:nvSpPr>
                      <p:cNvPr id="994" name="Freeform 137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5" name="Freeform 138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6" name="Group 139"/>
                    <p:cNvGrpSpPr/>
                    <p:nvPr/>
                  </p:nvGrpSpPr>
                  <p:grpSpPr>
                    <a:xfrm>
                      <a:off x="16531560" y="4888080"/>
                      <a:ext cx="321120" cy="331920"/>
                      <a:chOff x="16531560" y="4888080"/>
                      <a:chExt cx="321120" cy="331920"/>
                    </a:xfrm>
                  </p:grpSpPr>
                  <p:sp>
                    <p:nvSpPr>
                      <p:cNvPr id="997" name="Oval 140"/>
                      <p:cNvSpPr/>
                      <p:nvPr/>
                    </p:nvSpPr>
                    <p:spPr>
                      <a:xfrm flipH="1" rot="21396000">
                        <a:off x="16540200" y="489672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8" name="Oval 141"/>
                      <p:cNvSpPr/>
                      <p:nvPr/>
                    </p:nvSpPr>
                    <p:spPr>
                      <a:xfrm flipH="1" rot="21396000">
                        <a:off x="16540200" y="489672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9" name="Group 142"/>
                    <p:cNvGrpSpPr/>
                    <p:nvPr/>
                  </p:nvGrpSpPr>
                  <p:grpSpPr>
                    <a:xfrm>
                      <a:off x="16560000" y="4916880"/>
                      <a:ext cx="267120" cy="273960"/>
                      <a:chOff x="16560000" y="4916880"/>
                      <a:chExt cx="267120" cy="273960"/>
                    </a:xfrm>
                  </p:grpSpPr>
                  <p:sp>
                    <p:nvSpPr>
                      <p:cNvPr id="1000" name="Oval 143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1" name="Oval 144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2" name="Group 145"/>
                    <p:cNvGrpSpPr/>
                    <p:nvPr/>
                  </p:nvGrpSpPr>
                  <p:grpSpPr>
                    <a:xfrm>
                      <a:off x="16531560" y="4888080"/>
                      <a:ext cx="321120" cy="331920"/>
                      <a:chOff x="16531560" y="4888080"/>
                      <a:chExt cx="321120" cy="331920"/>
                    </a:xfrm>
                  </p:grpSpPr>
                  <p:sp>
                    <p:nvSpPr>
                      <p:cNvPr id="1003" name="Oval 146"/>
                      <p:cNvSpPr/>
                      <p:nvPr/>
                    </p:nvSpPr>
                    <p:spPr>
                      <a:xfrm flipH="1" rot="21396000">
                        <a:off x="16540200" y="489672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4" name="Oval 147"/>
                      <p:cNvSpPr/>
                      <p:nvPr/>
                    </p:nvSpPr>
                    <p:spPr>
                      <a:xfrm flipH="1" rot="21396000">
                        <a:off x="16540200" y="489672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5" name="Group 148"/>
                    <p:cNvGrpSpPr/>
                    <p:nvPr/>
                  </p:nvGrpSpPr>
                  <p:grpSpPr>
                    <a:xfrm>
                      <a:off x="16560000" y="4916880"/>
                      <a:ext cx="267120" cy="273960"/>
                      <a:chOff x="16560000" y="4916880"/>
                      <a:chExt cx="267120" cy="273960"/>
                    </a:xfrm>
                  </p:grpSpPr>
                  <p:sp>
                    <p:nvSpPr>
                      <p:cNvPr id="1006" name="Oval 149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7" name="Oval 150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8" name="Group 151"/>
                    <p:cNvGrpSpPr/>
                    <p:nvPr/>
                  </p:nvGrpSpPr>
                  <p:grpSpPr>
                    <a:xfrm>
                      <a:off x="16560000" y="4916880"/>
                      <a:ext cx="267120" cy="273960"/>
                      <a:chOff x="16560000" y="4916880"/>
                      <a:chExt cx="267120" cy="273960"/>
                    </a:xfrm>
                  </p:grpSpPr>
                  <p:sp>
                    <p:nvSpPr>
                      <p:cNvPr id="1009" name="Freeform 152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0" name="Freeform 153"/>
                      <p:cNvSpPr/>
                      <p:nvPr/>
                    </p:nvSpPr>
                    <p:spPr>
                      <a:xfrm flipH="1" rot="21396000">
                        <a:off x="16567200" y="492408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1" name="Group 154"/>
                    <p:cNvGrpSpPr/>
                    <p:nvPr/>
                  </p:nvGrpSpPr>
                  <p:grpSpPr>
                    <a:xfrm>
                      <a:off x="15689880" y="4937760"/>
                      <a:ext cx="324000" cy="331920"/>
                      <a:chOff x="15689880" y="4937760"/>
                      <a:chExt cx="324000" cy="331920"/>
                    </a:xfrm>
                  </p:grpSpPr>
                  <p:grpSp>
                    <p:nvGrpSpPr>
                      <p:cNvPr id="1012" name="Group 155"/>
                      <p:cNvGrpSpPr/>
                      <p:nvPr/>
                    </p:nvGrpSpPr>
                    <p:grpSpPr>
                      <a:xfrm>
                        <a:off x="15689880" y="4937760"/>
                        <a:ext cx="324000" cy="331920"/>
                        <a:chOff x="15689880" y="4937760"/>
                        <a:chExt cx="324000" cy="331920"/>
                      </a:xfrm>
                    </p:grpSpPr>
                    <p:sp>
                      <p:nvSpPr>
                        <p:cNvPr id="1013" name="Oval 156"/>
                        <p:cNvSpPr/>
                        <p:nvPr/>
                      </p:nvSpPr>
                      <p:spPr>
                        <a:xfrm flipH="1" rot="21396000">
                          <a:off x="15698520" y="4946400"/>
                          <a:ext cx="30600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Oval 157"/>
                        <p:cNvSpPr/>
                        <p:nvPr/>
                      </p:nvSpPr>
                      <p:spPr>
                        <a:xfrm flipH="1" rot="21396000">
                          <a:off x="15698520" y="4946400"/>
                          <a:ext cx="30600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15" name="Group 158"/>
                      <p:cNvGrpSpPr/>
                      <p:nvPr/>
                    </p:nvGrpSpPr>
                    <p:grpSpPr>
                      <a:xfrm>
                        <a:off x="15719040" y="4966200"/>
                        <a:ext cx="268920" cy="275400"/>
                        <a:chOff x="15719040" y="4966200"/>
                        <a:chExt cx="268920" cy="275400"/>
                      </a:xfrm>
                    </p:grpSpPr>
                    <p:sp>
                      <p:nvSpPr>
                        <p:cNvPr id="1016" name="Oval 159"/>
                        <p:cNvSpPr/>
                        <p:nvPr/>
                      </p:nvSpPr>
                      <p:spPr>
                        <a:xfrm flipH="1" rot="21396000">
                          <a:off x="15725880" y="497340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7" name="Oval 160"/>
                        <p:cNvSpPr/>
                        <p:nvPr/>
                      </p:nvSpPr>
                      <p:spPr>
                        <a:xfrm flipH="1" rot="21396000">
                          <a:off x="15725880" y="497340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8" name="Group 161"/>
                    <p:cNvGrpSpPr/>
                    <p:nvPr/>
                  </p:nvGrpSpPr>
                  <p:grpSpPr>
                    <a:xfrm>
                      <a:off x="15719040" y="4966920"/>
                      <a:ext cx="269280" cy="274320"/>
                      <a:chOff x="15719040" y="4966920"/>
                      <a:chExt cx="269280" cy="274320"/>
                    </a:xfrm>
                  </p:grpSpPr>
                  <p:sp>
                    <p:nvSpPr>
                      <p:cNvPr id="1019" name="Freeform 162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0" name="Freeform 163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1" name="Group 164"/>
                    <p:cNvGrpSpPr/>
                    <p:nvPr/>
                  </p:nvGrpSpPr>
                  <p:grpSpPr>
                    <a:xfrm>
                      <a:off x="15689520" y="4937760"/>
                      <a:ext cx="324360" cy="332280"/>
                      <a:chOff x="15689520" y="4937760"/>
                      <a:chExt cx="324360" cy="332280"/>
                    </a:xfrm>
                  </p:grpSpPr>
                  <p:sp>
                    <p:nvSpPr>
                      <p:cNvPr id="1022" name="Oval 165"/>
                      <p:cNvSpPr/>
                      <p:nvPr/>
                    </p:nvSpPr>
                    <p:spPr>
                      <a:xfrm flipH="1" rot="21396000">
                        <a:off x="15697800" y="494640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3" name="Oval 166"/>
                      <p:cNvSpPr/>
                      <p:nvPr/>
                    </p:nvSpPr>
                    <p:spPr>
                      <a:xfrm flipH="1" rot="21396000">
                        <a:off x="15697800" y="494640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4" name="Group 167"/>
                    <p:cNvGrpSpPr/>
                    <p:nvPr/>
                  </p:nvGrpSpPr>
                  <p:grpSpPr>
                    <a:xfrm>
                      <a:off x="15719040" y="4966920"/>
                      <a:ext cx="269280" cy="274320"/>
                      <a:chOff x="15719040" y="4966920"/>
                      <a:chExt cx="269280" cy="274320"/>
                    </a:xfrm>
                  </p:grpSpPr>
                  <p:sp>
                    <p:nvSpPr>
                      <p:cNvPr id="1025" name="Oval 168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6" name="Oval 169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7" name="Group 170"/>
                    <p:cNvGrpSpPr/>
                    <p:nvPr/>
                  </p:nvGrpSpPr>
                  <p:grpSpPr>
                    <a:xfrm>
                      <a:off x="15689520" y="4937760"/>
                      <a:ext cx="324360" cy="332280"/>
                      <a:chOff x="15689520" y="4937760"/>
                      <a:chExt cx="324360" cy="332280"/>
                    </a:xfrm>
                  </p:grpSpPr>
                  <p:sp>
                    <p:nvSpPr>
                      <p:cNvPr id="1028" name="Oval 171"/>
                      <p:cNvSpPr/>
                      <p:nvPr/>
                    </p:nvSpPr>
                    <p:spPr>
                      <a:xfrm flipH="1" rot="21396000">
                        <a:off x="15697800" y="494640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9" name="Oval 172"/>
                      <p:cNvSpPr/>
                      <p:nvPr/>
                    </p:nvSpPr>
                    <p:spPr>
                      <a:xfrm flipH="1" rot="21396000">
                        <a:off x="15697800" y="494640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30" name="Group 173"/>
                    <p:cNvGrpSpPr/>
                    <p:nvPr/>
                  </p:nvGrpSpPr>
                  <p:grpSpPr>
                    <a:xfrm>
                      <a:off x="15719040" y="4966920"/>
                      <a:ext cx="269280" cy="274320"/>
                      <a:chOff x="15719040" y="4966920"/>
                      <a:chExt cx="269280" cy="274320"/>
                    </a:xfrm>
                  </p:grpSpPr>
                  <p:sp>
                    <p:nvSpPr>
                      <p:cNvPr id="1031" name="Oval 174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Oval 175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33" name="Group 176"/>
                    <p:cNvGrpSpPr/>
                    <p:nvPr/>
                  </p:nvGrpSpPr>
                  <p:grpSpPr>
                    <a:xfrm>
                      <a:off x="15719040" y="4966920"/>
                      <a:ext cx="269280" cy="274320"/>
                      <a:chOff x="15719040" y="4966920"/>
                      <a:chExt cx="269280" cy="274320"/>
                    </a:xfrm>
                  </p:grpSpPr>
                  <p:sp>
                    <p:nvSpPr>
                      <p:cNvPr id="1034" name="Freeform 177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5" name="Freeform 178"/>
                      <p:cNvSpPr/>
                      <p:nvPr/>
                    </p:nvSpPr>
                    <p:spPr>
                      <a:xfrm flipH="1" rot="21396000">
                        <a:off x="15726240" y="497412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6" name="Freeform 179"/>
                    <p:cNvSpPr/>
                    <p:nvPr/>
                  </p:nvSpPr>
                  <p:spPr>
                    <a:xfrm flipH="1" rot="21396000">
                      <a:off x="17045640" y="4719600"/>
                      <a:ext cx="2880" cy="18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32">
                          <a:moveTo>
                            <a:pt x="0" y="0"/>
                          </a:moveTo>
                          <a:lnTo>
                            <a:pt x="4" y="23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7" name="Group 180"/>
                    <p:cNvGrpSpPr/>
                    <p:nvPr/>
                  </p:nvGrpSpPr>
                  <p:grpSpPr>
                    <a:xfrm>
                      <a:off x="16930440" y="4719600"/>
                      <a:ext cx="241560" cy="232560"/>
                      <a:chOff x="16930440" y="4719600"/>
                      <a:chExt cx="241560" cy="232560"/>
                    </a:xfrm>
                  </p:grpSpPr>
                  <p:sp>
                    <p:nvSpPr>
                      <p:cNvPr id="1038" name="Line 181"/>
                      <p:cNvSpPr/>
                      <p:nvPr/>
                    </p:nvSpPr>
                    <p:spPr>
                      <a:xfrm>
                        <a:off x="17048520" y="4719600"/>
                        <a:ext cx="11880" cy="2325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9" name="Freeform 182"/>
                      <p:cNvSpPr/>
                      <p:nvPr/>
                    </p:nvSpPr>
                    <p:spPr>
                      <a:xfrm flipH="1" rot="21396000">
                        <a:off x="16930800" y="4797720"/>
                        <a:ext cx="23976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18">
                            <a:moveTo>
                              <a:pt x="0" y="0"/>
                            </a:moveTo>
                            <a:lnTo>
                              <a:pt x="18" y="0"/>
                            </a:lnTo>
                            <a:lnTo>
                              <a:pt x="18" y="18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  <a:moveTo>
                              <a:pt x="36" y="0"/>
                            </a:moveTo>
                            <a:lnTo>
                              <a:pt x="54" y="0"/>
                            </a:lnTo>
                            <a:lnTo>
                              <a:pt x="54" y="18"/>
                            </a:lnTo>
                            <a:lnTo>
                              <a:pt x="36" y="18"/>
                            </a:lnTo>
                            <a:lnTo>
                              <a:pt x="36" y="0"/>
                            </a:lnTo>
                            <a:close/>
                            <a:moveTo>
                              <a:pt x="72" y="0"/>
                            </a:moveTo>
                            <a:lnTo>
                              <a:pt x="90" y="0"/>
                            </a:lnTo>
                            <a:lnTo>
                              <a:pt x="90" y="18"/>
                            </a:lnTo>
                            <a:lnTo>
                              <a:pt x="72" y="18"/>
                            </a:lnTo>
                            <a:lnTo>
                              <a:pt x="72" y="0"/>
                            </a:lnTo>
                            <a:close/>
                            <a:moveTo>
                              <a:pt x="108" y="0"/>
                            </a:moveTo>
                            <a:lnTo>
                              <a:pt x="126" y="0"/>
                            </a:lnTo>
                            <a:lnTo>
                              <a:pt x="126" y="18"/>
                            </a:lnTo>
                            <a:lnTo>
                              <a:pt x="108" y="18"/>
                            </a:lnTo>
                            <a:lnTo>
                              <a:pt x="108" y="0"/>
                            </a:lnTo>
                            <a:close/>
                            <a:moveTo>
                              <a:pt x="144" y="0"/>
                            </a:moveTo>
                            <a:lnTo>
                              <a:pt x="162" y="0"/>
                            </a:lnTo>
                            <a:lnTo>
                              <a:pt x="162" y="18"/>
                            </a:lnTo>
                            <a:lnTo>
                              <a:pt x="144" y="18"/>
                            </a:lnTo>
                            <a:lnTo>
                              <a:pt x="144" y="0"/>
                            </a:lnTo>
                            <a:close/>
                            <a:moveTo>
                              <a:pt x="180" y="0"/>
                            </a:moveTo>
                            <a:lnTo>
                              <a:pt x="190" y="0"/>
                            </a:lnTo>
                            <a:lnTo>
                              <a:pt x="190" y="18"/>
                            </a:lnTo>
                            <a:lnTo>
                              <a:pt x="180" y="18"/>
                            </a:lnTo>
                            <a:lnTo>
                              <a:pt x="18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40" name="Freeform 183"/>
                    <p:cNvSpPr/>
                    <p:nvPr/>
                  </p:nvSpPr>
                  <p:spPr>
                    <a:xfrm flipH="1" rot="21396000">
                      <a:off x="15555600" y="4393800"/>
                      <a:ext cx="1405800" cy="64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2" h="792">
                          <a:moveTo>
                            <a:pt x="0" y="127"/>
                          </a:moveTo>
                          <a:lnTo>
                            <a:pt x="105" y="0"/>
                          </a:lnTo>
                          <a:lnTo>
                            <a:pt x="1585" y="0"/>
                          </a:lnTo>
                          <a:lnTo>
                            <a:pt x="1782" y="88"/>
                          </a:lnTo>
                          <a:lnTo>
                            <a:pt x="1782" y="660"/>
                          </a:lnTo>
                          <a:lnTo>
                            <a:pt x="1683" y="792"/>
                          </a:lnTo>
                          <a:lnTo>
                            <a:pt x="105" y="792"/>
                          </a:lnTo>
                          <a:lnTo>
                            <a:pt x="6" y="704"/>
                          </a:lnTo>
                          <a:lnTo>
                            <a:pt x="8" y="1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d200"/>
                        </a:gs>
                        <a:gs pos="50000">
                          <a:srgbClr val="008000"/>
                        </a:gs>
                        <a:gs pos="100000">
                          <a:srgbClr val="00d2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07932" dir="18900000" blurRad="0" rotWithShape="0">
                        <a:srgbClr val="004800">
                          <a:alpha val="50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41" name="Group 184"/>
                    <p:cNvGrpSpPr/>
                    <p:nvPr/>
                  </p:nvGrpSpPr>
                  <p:grpSpPr>
                    <a:xfrm>
                      <a:off x="15593040" y="4552920"/>
                      <a:ext cx="1296000" cy="267480"/>
                      <a:chOff x="15593040" y="4552920"/>
                      <a:chExt cx="1296000" cy="267480"/>
                    </a:xfrm>
                  </p:grpSpPr>
                  <p:sp>
                    <p:nvSpPr>
                      <p:cNvPr id="1042" name="Rectangle 185"/>
                      <p:cNvSpPr/>
                      <p:nvPr/>
                    </p:nvSpPr>
                    <p:spPr>
                      <a:xfrm flipH="1" rot="21396000">
                        <a:off x="16744680" y="455688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3" name="Rectangle 186"/>
                      <p:cNvSpPr/>
                      <p:nvPr/>
                    </p:nvSpPr>
                    <p:spPr>
                      <a:xfrm flipH="1" rot="21396000">
                        <a:off x="16582680" y="456660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4" name="Rectangle 187"/>
                      <p:cNvSpPr/>
                      <p:nvPr/>
                    </p:nvSpPr>
                    <p:spPr>
                      <a:xfrm flipH="1" rot="21396000">
                        <a:off x="16420680" y="457596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5" name="Rectangle 188"/>
                      <p:cNvSpPr/>
                      <p:nvPr/>
                    </p:nvSpPr>
                    <p:spPr>
                      <a:xfrm flipH="1" rot="21396000">
                        <a:off x="16252560" y="458604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6" name="Rectangle 189"/>
                      <p:cNvSpPr/>
                      <p:nvPr/>
                    </p:nvSpPr>
                    <p:spPr>
                      <a:xfrm flipH="1" rot="21396000">
                        <a:off x="16084440" y="459612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7" name="Rectangle 190"/>
                      <p:cNvSpPr/>
                      <p:nvPr/>
                    </p:nvSpPr>
                    <p:spPr>
                      <a:xfrm flipH="1" rot="21396000">
                        <a:off x="15922440" y="460548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8" name="Rectangle 191"/>
                      <p:cNvSpPr/>
                      <p:nvPr/>
                    </p:nvSpPr>
                    <p:spPr>
                      <a:xfrm flipH="1" rot="21396000">
                        <a:off x="15598440" y="462492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9" name="Rectangle 192"/>
                      <p:cNvSpPr/>
                      <p:nvPr/>
                    </p:nvSpPr>
                    <p:spPr>
                      <a:xfrm flipH="1" rot="21396000">
                        <a:off x="15760440" y="461520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50" name="Group 193"/>
                    <p:cNvGrpSpPr/>
                    <p:nvPr/>
                  </p:nvGrpSpPr>
                  <p:grpSpPr>
                    <a:xfrm>
                      <a:off x="16520400" y="4270680"/>
                      <a:ext cx="153360" cy="146520"/>
                      <a:chOff x="16520400" y="4270680"/>
                      <a:chExt cx="153360" cy="146520"/>
                    </a:xfrm>
                  </p:grpSpPr>
                  <p:sp>
                    <p:nvSpPr>
                      <p:cNvPr id="1051" name="Oval 194"/>
                      <p:cNvSpPr/>
                      <p:nvPr/>
                    </p:nvSpPr>
                    <p:spPr>
                      <a:xfrm flipH="1" rot="21396000">
                        <a:off x="16521480" y="427500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2" name="Freeform 195"/>
                      <p:cNvSpPr/>
                      <p:nvPr/>
                    </p:nvSpPr>
                    <p:spPr>
                      <a:xfrm flipH="1" rot="21396000">
                        <a:off x="16561440" y="427500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3" name="Freeform 196"/>
                    <p:cNvSpPr/>
                    <p:nvPr/>
                  </p:nvSpPr>
                  <p:spPr>
                    <a:xfrm flipH="1" rot="21396000">
                      <a:off x="15575040" y="4962960"/>
                      <a:ext cx="13633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8" h="1">
                          <a:moveTo>
                            <a:pt x="0" y="0"/>
                          </a:moveTo>
                          <a:cubicBezTo>
                            <a:pt x="0" y="0"/>
                            <a:pt x="864" y="0"/>
                            <a:pt x="1728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Freeform 197"/>
                    <p:cNvSpPr/>
                    <p:nvPr/>
                  </p:nvSpPr>
                  <p:spPr>
                    <a:xfrm flipH="1" rot="21396000">
                      <a:off x="15547320" y="4491720"/>
                      <a:ext cx="1389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2" h="1">
                          <a:moveTo>
                            <a:pt x="0" y="0"/>
                          </a:moveTo>
                          <a:cubicBezTo>
                            <a:pt x="293" y="0"/>
                            <a:pt x="1395" y="0"/>
                            <a:pt x="1762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5" name="Group 198"/>
                    <p:cNvGrpSpPr/>
                    <p:nvPr/>
                  </p:nvGrpSpPr>
                  <p:grpSpPr>
                    <a:xfrm>
                      <a:off x="15801840" y="4313520"/>
                      <a:ext cx="153360" cy="146160"/>
                      <a:chOff x="15801840" y="4313520"/>
                      <a:chExt cx="153360" cy="146160"/>
                    </a:xfrm>
                  </p:grpSpPr>
                  <p:sp>
                    <p:nvSpPr>
                      <p:cNvPr id="1056" name="Oval 199"/>
                      <p:cNvSpPr/>
                      <p:nvPr/>
                    </p:nvSpPr>
                    <p:spPr>
                      <a:xfrm flipH="1" rot="21396000">
                        <a:off x="15802920" y="431784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7" name="Freeform 200"/>
                      <p:cNvSpPr/>
                      <p:nvPr/>
                    </p:nvSpPr>
                    <p:spPr>
                      <a:xfrm flipH="1" rot="21396000">
                        <a:off x="15842880" y="431748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8" name="Freeform 201"/>
                    <p:cNvSpPr/>
                    <p:nvPr/>
                  </p:nvSpPr>
                  <p:spPr>
                    <a:xfrm flipH="1" rot="21396000">
                      <a:off x="16764480" y="4774680"/>
                      <a:ext cx="126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1">
                          <a:moveTo>
                            <a:pt x="0" y="31"/>
                          </a:moveTo>
                          <a:cubicBezTo>
                            <a:pt x="5" y="21"/>
                            <a:pt x="16" y="0"/>
                            <a:pt x="16" y="0"/>
                          </a:cubicBezTo>
                          <a:cubicBezTo>
                            <a:pt x="16" y="0"/>
                            <a:pt x="5" y="21"/>
                            <a:pt x="0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Freeform 202"/>
                    <p:cNvSpPr/>
                    <p:nvPr/>
                  </p:nvSpPr>
                  <p:spPr>
                    <a:xfrm flipH="1" rot="21396000">
                      <a:off x="16735320" y="4497480"/>
                      <a:ext cx="168840" cy="43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528">
                          <a:moveTo>
                            <a:pt x="214" y="528"/>
                          </a:moveTo>
                          <a:lnTo>
                            <a:pt x="214" y="0"/>
                          </a:lnTo>
                          <a:lnTo>
                            <a:pt x="0" y="2"/>
                          </a:lnTo>
                          <a:lnTo>
                            <a:pt x="0" y="527"/>
                          </a:lnTo>
                          <a:lnTo>
                            <a:pt x="214" y="528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Group 203"/>
                  <p:cNvGrpSpPr/>
                  <p:nvPr/>
                </p:nvGrpSpPr>
                <p:grpSpPr>
                  <a:xfrm>
                    <a:off x="13950360" y="4365000"/>
                    <a:ext cx="1633680" cy="999360"/>
                    <a:chOff x="13950360" y="4365000"/>
                    <a:chExt cx="1633680" cy="999360"/>
                  </a:xfrm>
                </p:grpSpPr>
                <p:grpSp>
                  <p:nvGrpSpPr>
                    <p:cNvPr id="1061" name="Group 204"/>
                    <p:cNvGrpSpPr/>
                    <p:nvPr/>
                  </p:nvGrpSpPr>
                  <p:grpSpPr>
                    <a:xfrm>
                      <a:off x="14944680" y="4982400"/>
                      <a:ext cx="320400" cy="331200"/>
                      <a:chOff x="14944680" y="4982400"/>
                      <a:chExt cx="320400" cy="331200"/>
                    </a:xfrm>
                  </p:grpSpPr>
                  <p:grpSp>
                    <p:nvGrpSpPr>
                      <p:cNvPr id="1062" name="Group 205"/>
                      <p:cNvGrpSpPr/>
                      <p:nvPr/>
                    </p:nvGrpSpPr>
                    <p:grpSpPr>
                      <a:xfrm>
                        <a:off x="14944680" y="4982400"/>
                        <a:ext cx="320400" cy="331200"/>
                        <a:chOff x="14944680" y="4982400"/>
                        <a:chExt cx="320400" cy="331200"/>
                      </a:xfrm>
                    </p:grpSpPr>
                    <p:grpSp>
                      <p:nvGrpSpPr>
                        <p:cNvPr id="1063" name="Group 206"/>
                        <p:cNvGrpSpPr/>
                        <p:nvPr/>
                      </p:nvGrpSpPr>
                      <p:grpSpPr>
                        <a:xfrm>
                          <a:off x="14944680" y="4982400"/>
                          <a:ext cx="320400" cy="331200"/>
                          <a:chOff x="14944680" y="4982400"/>
                          <a:chExt cx="320400" cy="331200"/>
                        </a:xfrm>
                      </p:grpSpPr>
                      <p:sp>
                        <p:nvSpPr>
                          <p:cNvPr id="1064" name="Oval 207"/>
                          <p:cNvSpPr/>
                          <p:nvPr/>
                        </p:nvSpPr>
                        <p:spPr>
                          <a:xfrm flipH="1" rot="21396000">
                            <a:off x="14953320" y="4991040"/>
                            <a:ext cx="302400" cy="31392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5" name="Oval 208"/>
                          <p:cNvSpPr/>
                          <p:nvPr/>
                        </p:nvSpPr>
                        <p:spPr>
                          <a:xfrm flipH="1" rot="21396000">
                            <a:off x="14953320" y="4991040"/>
                            <a:ext cx="302400" cy="31392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6" name="Group 209"/>
                        <p:cNvGrpSpPr/>
                        <p:nvPr/>
                      </p:nvGrpSpPr>
                      <p:grpSpPr>
                        <a:xfrm>
                          <a:off x="14972760" y="5010480"/>
                          <a:ext cx="266040" cy="275040"/>
                          <a:chOff x="14972760" y="5010480"/>
                          <a:chExt cx="266040" cy="275040"/>
                        </a:xfrm>
                      </p:grpSpPr>
                      <p:sp>
                        <p:nvSpPr>
                          <p:cNvPr id="1067" name="Oval 210"/>
                          <p:cNvSpPr/>
                          <p:nvPr/>
                        </p:nvSpPr>
                        <p:spPr>
                          <a:xfrm flipH="1" rot="21396000">
                            <a:off x="14979600" y="5017320"/>
                            <a:ext cx="25128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8" name="Oval 211"/>
                          <p:cNvSpPr/>
                          <p:nvPr/>
                        </p:nvSpPr>
                        <p:spPr>
                          <a:xfrm flipH="1" rot="21396000">
                            <a:off x="14979600" y="5017320"/>
                            <a:ext cx="25128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69" name="Group 212"/>
                      <p:cNvGrpSpPr/>
                      <p:nvPr/>
                    </p:nvGrpSpPr>
                    <p:grpSpPr>
                      <a:xfrm>
                        <a:off x="14972400" y="5010840"/>
                        <a:ext cx="266400" cy="275040"/>
                        <a:chOff x="14972400" y="5010840"/>
                        <a:chExt cx="266400" cy="275040"/>
                      </a:xfrm>
                    </p:grpSpPr>
                    <p:sp>
                      <p:nvSpPr>
                        <p:cNvPr id="1070" name="Freeform 213"/>
                        <p:cNvSpPr/>
                        <p:nvPr/>
                      </p:nvSpPr>
                      <p:spPr>
                        <a:xfrm flipH="1" rot="21396000">
                          <a:off x="14979600" y="501768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1" name="Freeform 214"/>
                        <p:cNvSpPr/>
                        <p:nvPr/>
                      </p:nvSpPr>
                      <p:spPr>
                        <a:xfrm flipH="1" rot="21396000">
                          <a:off x="14979600" y="501768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2" name="Group 215"/>
                    <p:cNvGrpSpPr/>
                    <p:nvPr/>
                  </p:nvGrpSpPr>
                  <p:grpSpPr>
                    <a:xfrm>
                      <a:off x="14102640" y="5032080"/>
                      <a:ext cx="323640" cy="331560"/>
                      <a:chOff x="14102640" y="5032080"/>
                      <a:chExt cx="323640" cy="331560"/>
                    </a:xfrm>
                  </p:grpSpPr>
                  <p:grpSp>
                    <p:nvGrpSpPr>
                      <p:cNvPr id="1073" name="Group 216"/>
                      <p:cNvGrpSpPr/>
                      <p:nvPr/>
                    </p:nvGrpSpPr>
                    <p:grpSpPr>
                      <a:xfrm>
                        <a:off x="14102640" y="5032080"/>
                        <a:ext cx="323640" cy="331560"/>
                        <a:chOff x="14102640" y="5032080"/>
                        <a:chExt cx="323640" cy="331560"/>
                      </a:xfrm>
                    </p:grpSpPr>
                    <p:grpSp>
                      <p:nvGrpSpPr>
                        <p:cNvPr id="1074" name="Group 217"/>
                        <p:cNvGrpSpPr/>
                        <p:nvPr/>
                      </p:nvGrpSpPr>
                      <p:grpSpPr>
                        <a:xfrm>
                          <a:off x="14102640" y="5032080"/>
                          <a:ext cx="323640" cy="331560"/>
                          <a:chOff x="14102640" y="5032080"/>
                          <a:chExt cx="323640" cy="331560"/>
                        </a:xfrm>
                      </p:grpSpPr>
                      <p:sp>
                        <p:nvSpPr>
                          <p:cNvPr id="1075" name="Oval 218"/>
                          <p:cNvSpPr/>
                          <p:nvPr/>
                        </p:nvSpPr>
                        <p:spPr>
                          <a:xfrm flipH="1" rot="21396000">
                            <a:off x="14110920" y="5040720"/>
                            <a:ext cx="305640" cy="31428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6" name="Oval 219"/>
                          <p:cNvSpPr/>
                          <p:nvPr/>
                        </p:nvSpPr>
                        <p:spPr>
                          <a:xfrm flipH="1" rot="21396000">
                            <a:off x="14110920" y="5040720"/>
                            <a:ext cx="305640" cy="31428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7" name="Group 220"/>
                        <p:cNvGrpSpPr/>
                        <p:nvPr/>
                      </p:nvGrpSpPr>
                      <p:grpSpPr>
                        <a:xfrm>
                          <a:off x="14131080" y="5060160"/>
                          <a:ext cx="268920" cy="275400"/>
                          <a:chOff x="14131080" y="5060160"/>
                          <a:chExt cx="268920" cy="275400"/>
                        </a:xfrm>
                      </p:grpSpPr>
                      <p:sp>
                        <p:nvSpPr>
                          <p:cNvPr id="1078" name="Oval 221"/>
                          <p:cNvSpPr/>
                          <p:nvPr/>
                        </p:nvSpPr>
                        <p:spPr>
                          <a:xfrm flipH="1" rot="21396000">
                            <a:off x="14137920" y="5067360"/>
                            <a:ext cx="25380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9" name="Oval 222"/>
                          <p:cNvSpPr/>
                          <p:nvPr/>
                        </p:nvSpPr>
                        <p:spPr>
                          <a:xfrm flipH="1" rot="21396000">
                            <a:off x="14137920" y="5067360"/>
                            <a:ext cx="25380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0" name="Group 223"/>
                      <p:cNvGrpSpPr/>
                      <p:nvPr/>
                    </p:nvGrpSpPr>
                    <p:grpSpPr>
                      <a:xfrm>
                        <a:off x="14131440" y="5060520"/>
                        <a:ext cx="268920" cy="275400"/>
                        <a:chOff x="14131440" y="5060520"/>
                        <a:chExt cx="268920" cy="275400"/>
                      </a:xfrm>
                    </p:grpSpPr>
                    <p:sp>
                      <p:nvSpPr>
                        <p:cNvPr id="1081" name="Freeform 224"/>
                        <p:cNvSpPr/>
                        <p:nvPr/>
                      </p:nvSpPr>
                      <p:spPr>
                        <a:xfrm flipH="1" rot="21396000">
                          <a:off x="14138280" y="506772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Freeform 225"/>
                        <p:cNvSpPr/>
                        <p:nvPr/>
                      </p:nvSpPr>
                      <p:spPr>
                        <a:xfrm flipH="1" rot="21396000">
                          <a:off x="14138280" y="506772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83" name="Group 226"/>
                    <p:cNvGrpSpPr/>
                    <p:nvPr/>
                  </p:nvGrpSpPr>
                  <p:grpSpPr>
                    <a:xfrm>
                      <a:off x="14944320" y="4982400"/>
                      <a:ext cx="320760" cy="331560"/>
                      <a:chOff x="14944320" y="4982400"/>
                      <a:chExt cx="320760" cy="331560"/>
                    </a:xfrm>
                  </p:grpSpPr>
                  <p:grpSp>
                    <p:nvGrpSpPr>
                      <p:cNvPr id="1084" name="Group 227"/>
                      <p:cNvGrpSpPr/>
                      <p:nvPr/>
                    </p:nvGrpSpPr>
                    <p:grpSpPr>
                      <a:xfrm>
                        <a:off x="14944320" y="4982400"/>
                        <a:ext cx="320760" cy="331560"/>
                        <a:chOff x="14944320" y="4982400"/>
                        <a:chExt cx="320760" cy="331560"/>
                      </a:xfrm>
                    </p:grpSpPr>
                    <p:sp>
                      <p:nvSpPr>
                        <p:cNvPr id="1085" name="Oval 228"/>
                        <p:cNvSpPr/>
                        <p:nvPr/>
                      </p:nvSpPr>
                      <p:spPr>
                        <a:xfrm flipH="1" rot="21396000">
                          <a:off x="14952600" y="4991040"/>
                          <a:ext cx="30276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6" name="Oval 229"/>
                        <p:cNvSpPr/>
                        <p:nvPr/>
                      </p:nvSpPr>
                      <p:spPr>
                        <a:xfrm flipH="1" rot="21396000">
                          <a:off x="14952600" y="4991040"/>
                          <a:ext cx="30276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87" name="Group 230"/>
                      <p:cNvGrpSpPr/>
                      <p:nvPr/>
                    </p:nvGrpSpPr>
                    <p:grpSpPr>
                      <a:xfrm>
                        <a:off x="14972400" y="5010840"/>
                        <a:ext cx="266400" cy="275040"/>
                        <a:chOff x="14972400" y="5010840"/>
                        <a:chExt cx="266400" cy="275040"/>
                      </a:xfrm>
                    </p:grpSpPr>
                    <p:sp>
                      <p:nvSpPr>
                        <p:cNvPr id="1088" name="Oval 231"/>
                        <p:cNvSpPr/>
                        <p:nvPr/>
                      </p:nvSpPr>
                      <p:spPr>
                        <a:xfrm flipH="1" rot="21396000">
                          <a:off x="14979600" y="5017680"/>
                          <a:ext cx="25164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Oval 232"/>
                        <p:cNvSpPr/>
                        <p:nvPr/>
                      </p:nvSpPr>
                      <p:spPr>
                        <a:xfrm flipH="1" rot="21396000">
                          <a:off x="14979600" y="5017680"/>
                          <a:ext cx="25164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90" name="Group 233"/>
                    <p:cNvGrpSpPr/>
                    <p:nvPr/>
                  </p:nvGrpSpPr>
                  <p:grpSpPr>
                    <a:xfrm>
                      <a:off x="14972400" y="5011560"/>
                      <a:ext cx="267120" cy="273960"/>
                      <a:chOff x="14972400" y="5011560"/>
                      <a:chExt cx="267120" cy="273960"/>
                    </a:xfrm>
                  </p:grpSpPr>
                  <p:sp>
                    <p:nvSpPr>
                      <p:cNvPr id="1091" name="Freeform 234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2" name="Freeform 235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93" name="Group 236"/>
                    <p:cNvGrpSpPr/>
                    <p:nvPr/>
                  </p:nvGrpSpPr>
                  <p:grpSpPr>
                    <a:xfrm>
                      <a:off x="14943960" y="4982400"/>
                      <a:ext cx="321120" cy="331920"/>
                      <a:chOff x="14943960" y="4982400"/>
                      <a:chExt cx="321120" cy="331920"/>
                    </a:xfrm>
                  </p:grpSpPr>
                  <p:sp>
                    <p:nvSpPr>
                      <p:cNvPr id="1094" name="Oval 237"/>
                      <p:cNvSpPr/>
                      <p:nvPr/>
                    </p:nvSpPr>
                    <p:spPr>
                      <a:xfrm flipH="1" rot="21396000">
                        <a:off x="14952600" y="499104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5" name="Oval 238"/>
                      <p:cNvSpPr/>
                      <p:nvPr/>
                    </p:nvSpPr>
                    <p:spPr>
                      <a:xfrm flipH="1" rot="21396000">
                        <a:off x="14952600" y="499104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96" name="Group 239"/>
                    <p:cNvGrpSpPr/>
                    <p:nvPr/>
                  </p:nvGrpSpPr>
                  <p:grpSpPr>
                    <a:xfrm>
                      <a:off x="14972400" y="5011560"/>
                      <a:ext cx="267120" cy="273960"/>
                      <a:chOff x="14972400" y="5011560"/>
                      <a:chExt cx="267120" cy="273960"/>
                    </a:xfrm>
                  </p:grpSpPr>
                  <p:sp>
                    <p:nvSpPr>
                      <p:cNvPr id="1097" name="Oval 240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8" name="Oval 241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99" name="Group 242"/>
                    <p:cNvGrpSpPr/>
                    <p:nvPr/>
                  </p:nvGrpSpPr>
                  <p:grpSpPr>
                    <a:xfrm>
                      <a:off x="14943960" y="4982400"/>
                      <a:ext cx="321120" cy="331920"/>
                      <a:chOff x="14943960" y="4982400"/>
                      <a:chExt cx="321120" cy="331920"/>
                    </a:xfrm>
                  </p:grpSpPr>
                  <p:sp>
                    <p:nvSpPr>
                      <p:cNvPr id="1100" name="Oval 243"/>
                      <p:cNvSpPr/>
                      <p:nvPr/>
                    </p:nvSpPr>
                    <p:spPr>
                      <a:xfrm flipH="1" rot="21396000">
                        <a:off x="14952600" y="499104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1" name="Oval 244"/>
                      <p:cNvSpPr/>
                      <p:nvPr/>
                    </p:nvSpPr>
                    <p:spPr>
                      <a:xfrm flipH="1" rot="21396000">
                        <a:off x="14952600" y="499104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2" name="Group 245"/>
                    <p:cNvGrpSpPr/>
                    <p:nvPr/>
                  </p:nvGrpSpPr>
                  <p:grpSpPr>
                    <a:xfrm>
                      <a:off x="14972400" y="5011560"/>
                      <a:ext cx="267120" cy="273960"/>
                      <a:chOff x="14972400" y="5011560"/>
                      <a:chExt cx="267120" cy="273960"/>
                    </a:xfrm>
                  </p:grpSpPr>
                  <p:sp>
                    <p:nvSpPr>
                      <p:cNvPr id="1103" name="Oval 246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4" name="Oval 247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5" name="Group 248"/>
                    <p:cNvGrpSpPr/>
                    <p:nvPr/>
                  </p:nvGrpSpPr>
                  <p:grpSpPr>
                    <a:xfrm>
                      <a:off x="14972400" y="5011560"/>
                      <a:ext cx="267120" cy="273960"/>
                      <a:chOff x="14972400" y="5011560"/>
                      <a:chExt cx="267120" cy="273960"/>
                    </a:xfrm>
                  </p:grpSpPr>
                  <p:sp>
                    <p:nvSpPr>
                      <p:cNvPr id="1106" name="Freeform 249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7" name="Freeform 250"/>
                      <p:cNvSpPr/>
                      <p:nvPr/>
                    </p:nvSpPr>
                    <p:spPr>
                      <a:xfrm flipH="1" rot="21396000">
                        <a:off x="14979600" y="50187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8" name="Group 251"/>
                    <p:cNvGrpSpPr/>
                    <p:nvPr/>
                  </p:nvGrpSpPr>
                  <p:grpSpPr>
                    <a:xfrm>
                      <a:off x="14102280" y="5032080"/>
                      <a:ext cx="324000" cy="331920"/>
                      <a:chOff x="14102280" y="5032080"/>
                      <a:chExt cx="324000" cy="331920"/>
                    </a:xfrm>
                  </p:grpSpPr>
                  <p:grpSp>
                    <p:nvGrpSpPr>
                      <p:cNvPr id="1109" name="Group 252"/>
                      <p:cNvGrpSpPr/>
                      <p:nvPr/>
                    </p:nvGrpSpPr>
                    <p:grpSpPr>
                      <a:xfrm>
                        <a:off x="14102280" y="5032080"/>
                        <a:ext cx="324000" cy="331920"/>
                        <a:chOff x="14102280" y="5032080"/>
                        <a:chExt cx="324000" cy="331920"/>
                      </a:xfrm>
                    </p:grpSpPr>
                    <p:sp>
                      <p:nvSpPr>
                        <p:cNvPr id="1110" name="Oval 253"/>
                        <p:cNvSpPr/>
                        <p:nvPr/>
                      </p:nvSpPr>
                      <p:spPr>
                        <a:xfrm flipH="1" rot="21396000">
                          <a:off x="14110920" y="5040720"/>
                          <a:ext cx="30600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Oval 254"/>
                        <p:cNvSpPr/>
                        <p:nvPr/>
                      </p:nvSpPr>
                      <p:spPr>
                        <a:xfrm flipH="1" rot="21396000">
                          <a:off x="14110920" y="5040720"/>
                          <a:ext cx="30600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2" name="Group 255"/>
                      <p:cNvGrpSpPr/>
                      <p:nvPr/>
                    </p:nvGrpSpPr>
                    <p:grpSpPr>
                      <a:xfrm>
                        <a:off x="14131440" y="5060520"/>
                        <a:ext cx="268920" cy="275400"/>
                        <a:chOff x="14131440" y="5060520"/>
                        <a:chExt cx="268920" cy="275400"/>
                      </a:xfrm>
                    </p:grpSpPr>
                    <p:sp>
                      <p:nvSpPr>
                        <p:cNvPr id="1113" name="Oval 256"/>
                        <p:cNvSpPr/>
                        <p:nvPr/>
                      </p:nvSpPr>
                      <p:spPr>
                        <a:xfrm flipH="1" rot="21396000">
                          <a:off x="14138280" y="506772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Oval 257"/>
                        <p:cNvSpPr/>
                        <p:nvPr/>
                      </p:nvSpPr>
                      <p:spPr>
                        <a:xfrm flipH="1" rot="21396000">
                          <a:off x="14138280" y="506772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15" name="Group 258"/>
                    <p:cNvGrpSpPr/>
                    <p:nvPr/>
                  </p:nvGrpSpPr>
                  <p:grpSpPr>
                    <a:xfrm>
                      <a:off x="14131440" y="5061240"/>
                      <a:ext cx="269280" cy="274320"/>
                      <a:chOff x="14131440" y="5061240"/>
                      <a:chExt cx="269280" cy="274320"/>
                    </a:xfrm>
                  </p:grpSpPr>
                  <p:sp>
                    <p:nvSpPr>
                      <p:cNvPr id="1116" name="Freeform 259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7" name="Freeform 260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18" name="Group 261"/>
                    <p:cNvGrpSpPr/>
                    <p:nvPr/>
                  </p:nvGrpSpPr>
                  <p:grpSpPr>
                    <a:xfrm>
                      <a:off x="14101920" y="5032080"/>
                      <a:ext cx="324360" cy="332280"/>
                      <a:chOff x="14101920" y="5032080"/>
                      <a:chExt cx="324360" cy="332280"/>
                    </a:xfrm>
                  </p:grpSpPr>
                  <p:sp>
                    <p:nvSpPr>
                      <p:cNvPr id="1119" name="Oval 262"/>
                      <p:cNvSpPr/>
                      <p:nvPr/>
                    </p:nvSpPr>
                    <p:spPr>
                      <a:xfrm flipH="1" rot="21396000">
                        <a:off x="14110200" y="504072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0" name="Oval 263"/>
                      <p:cNvSpPr/>
                      <p:nvPr/>
                    </p:nvSpPr>
                    <p:spPr>
                      <a:xfrm flipH="1" rot="21396000">
                        <a:off x="14110200" y="504072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1" name="Group 264"/>
                    <p:cNvGrpSpPr/>
                    <p:nvPr/>
                  </p:nvGrpSpPr>
                  <p:grpSpPr>
                    <a:xfrm>
                      <a:off x="14131440" y="5061240"/>
                      <a:ext cx="269280" cy="274320"/>
                      <a:chOff x="14131440" y="5061240"/>
                      <a:chExt cx="269280" cy="274320"/>
                    </a:xfrm>
                  </p:grpSpPr>
                  <p:sp>
                    <p:nvSpPr>
                      <p:cNvPr id="1122" name="Oval 265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Oval 266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Group 267"/>
                    <p:cNvGrpSpPr/>
                    <p:nvPr/>
                  </p:nvGrpSpPr>
                  <p:grpSpPr>
                    <a:xfrm>
                      <a:off x="14101920" y="5032080"/>
                      <a:ext cx="324360" cy="332280"/>
                      <a:chOff x="14101920" y="5032080"/>
                      <a:chExt cx="324360" cy="332280"/>
                    </a:xfrm>
                  </p:grpSpPr>
                  <p:sp>
                    <p:nvSpPr>
                      <p:cNvPr id="1125" name="Oval 268"/>
                      <p:cNvSpPr/>
                      <p:nvPr/>
                    </p:nvSpPr>
                    <p:spPr>
                      <a:xfrm flipH="1" rot="21396000">
                        <a:off x="14110200" y="504072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Oval 269"/>
                      <p:cNvSpPr/>
                      <p:nvPr/>
                    </p:nvSpPr>
                    <p:spPr>
                      <a:xfrm flipH="1" rot="21396000">
                        <a:off x="14110200" y="504072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7" name="Group 270"/>
                    <p:cNvGrpSpPr/>
                    <p:nvPr/>
                  </p:nvGrpSpPr>
                  <p:grpSpPr>
                    <a:xfrm>
                      <a:off x="14131440" y="5061240"/>
                      <a:ext cx="269280" cy="274320"/>
                      <a:chOff x="14131440" y="5061240"/>
                      <a:chExt cx="269280" cy="274320"/>
                    </a:xfrm>
                  </p:grpSpPr>
                  <p:sp>
                    <p:nvSpPr>
                      <p:cNvPr id="1128" name="Oval 271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Oval 272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0" name="Group 273"/>
                    <p:cNvGrpSpPr/>
                    <p:nvPr/>
                  </p:nvGrpSpPr>
                  <p:grpSpPr>
                    <a:xfrm>
                      <a:off x="14131440" y="5061240"/>
                      <a:ext cx="269280" cy="274320"/>
                      <a:chOff x="14131440" y="5061240"/>
                      <a:chExt cx="269280" cy="274320"/>
                    </a:xfrm>
                  </p:grpSpPr>
                  <p:sp>
                    <p:nvSpPr>
                      <p:cNvPr id="1131" name="Freeform 274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2" name="Freeform 275"/>
                      <p:cNvSpPr/>
                      <p:nvPr/>
                    </p:nvSpPr>
                    <p:spPr>
                      <a:xfrm flipH="1" rot="21396000">
                        <a:off x="14138640" y="506844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33" name="Freeform 276"/>
                    <p:cNvSpPr/>
                    <p:nvPr/>
                  </p:nvSpPr>
                  <p:spPr>
                    <a:xfrm flipH="1" rot="21396000">
                      <a:off x="15458040" y="4813920"/>
                      <a:ext cx="2880" cy="18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32">
                          <a:moveTo>
                            <a:pt x="0" y="0"/>
                          </a:moveTo>
                          <a:lnTo>
                            <a:pt x="4" y="23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34" name="Group 277"/>
                    <p:cNvGrpSpPr/>
                    <p:nvPr/>
                  </p:nvGrpSpPr>
                  <p:grpSpPr>
                    <a:xfrm>
                      <a:off x="15342480" y="4813920"/>
                      <a:ext cx="241560" cy="232560"/>
                      <a:chOff x="15342480" y="4813920"/>
                      <a:chExt cx="241560" cy="232560"/>
                    </a:xfrm>
                  </p:grpSpPr>
                  <p:sp>
                    <p:nvSpPr>
                      <p:cNvPr id="1135" name="Line 278"/>
                      <p:cNvSpPr/>
                      <p:nvPr/>
                    </p:nvSpPr>
                    <p:spPr>
                      <a:xfrm>
                        <a:off x="15460920" y="4813920"/>
                        <a:ext cx="11520" cy="2325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6" name="Freeform 279"/>
                      <p:cNvSpPr/>
                      <p:nvPr/>
                    </p:nvSpPr>
                    <p:spPr>
                      <a:xfrm flipH="1" rot="21396000">
                        <a:off x="15342840" y="4892040"/>
                        <a:ext cx="23976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18">
                            <a:moveTo>
                              <a:pt x="0" y="0"/>
                            </a:moveTo>
                            <a:lnTo>
                              <a:pt x="18" y="0"/>
                            </a:lnTo>
                            <a:lnTo>
                              <a:pt x="18" y="18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  <a:moveTo>
                              <a:pt x="36" y="0"/>
                            </a:moveTo>
                            <a:lnTo>
                              <a:pt x="54" y="0"/>
                            </a:lnTo>
                            <a:lnTo>
                              <a:pt x="54" y="18"/>
                            </a:lnTo>
                            <a:lnTo>
                              <a:pt x="36" y="18"/>
                            </a:lnTo>
                            <a:lnTo>
                              <a:pt x="36" y="0"/>
                            </a:lnTo>
                            <a:close/>
                            <a:moveTo>
                              <a:pt x="72" y="0"/>
                            </a:moveTo>
                            <a:lnTo>
                              <a:pt x="90" y="0"/>
                            </a:lnTo>
                            <a:lnTo>
                              <a:pt x="90" y="18"/>
                            </a:lnTo>
                            <a:lnTo>
                              <a:pt x="72" y="18"/>
                            </a:lnTo>
                            <a:lnTo>
                              <a:pt x="72" y="0"/>
                            </a:lnTo>
                            <a:close/>
                            <a:moveTo>
                              <a:pt x="108" y="0"/>
                            </a:moveTo>
                            <a:lnTo>
                              <a:pt x="126" y="0"/>
                            </a:lnTo>
                            <a:lnTo>
                              <a:pt x="126" y="18"/>
                            </a:lnTo>
                            <a:lnTo>
                              <a:pt x="108" y="18"/>
                            </a:lnTo>
                            <a:lnTo>
                              <a:pt x="108" y="0"/>
                            </a:lnTo>
                            <a:close/>
                            <a:moveTo>
                              <a:pt x="144" y="0"/>
                            </a:moveTo>
                            <a:lnTo>
                              <a:pt x="162" y="0"/>
                            </a:lnTo>
                            <a:lnTo>
                              <a:pt x="162" y="18"/>
                            </a:lnTo>
                            <a:lnTo>
                              <a:pt x="144" y="18"/>
                            </a:lnTo>
                            <a:lnTo>
                              <a:pt x="144" y="0"/>
                            </a:lnTo>
                            <a:close/>
                            <a:moveTo>
                              <a:pt x="180" y="0"/>
                            </a:moveTo>
                            <a:lnTo>
                              <a:pt x="190" y="0"/>
                            </a:lnTo>
                            <a:lnTo>
                              <a:pt x="190" y="18"/>
                            </a:lnTo>
                            <a:lnTo>
                              <a:pt x="180" y="18"/>
                            </a:lnTo>
                            <a:lnTo>
                              <a:pt x="18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37" name="Freeform 280"/>
                    <p:cNvSpPr/>
                    <p:nvPr/>
                  </p:nvSpPr>
                  <p:spPr>
                    <a:xfrm flipH="1" rot="21396000">
                      <a:off x="13968000" y="4488120"/>
                      <a:ext cx="1405800" cy="64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2" h="792">
                          <a:moveTo>
                            <a:pt x="0" y="127"/>
                          </a:moveTo>
                          <a:lnTo>
                            <a:pt x="105" y="0"/>
                          </a:lnTo>
                          <a:lnTo>
                            <a:pt x="1585" y="0"/>
                          </a:lnTo>
                          <a:lnTo>
                            <a:pt x="1782" y="88"/>
                          </a:lnTo>
                          <a:lnTo>
                            <a:pt x="1782" y="660"/>
                          </a:lnTo>
                          <a:lnTo>
                            <a:pt x="1683" y="792"/>
                          </a:lnTo>
                          <a:lnTo>
                            <a:pt x="105" y="792"/>
                          </a:lnTo>
                          <a:lnTo>
                            <a:pt x="6" y="704"/>
                          </a:lnTo>
                          <a:lnTo>
                            <a:pt x="8" y="1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d200"/>
                        </a:gs>
                        <a:gs pos="50000">
                          <a:srgbClr val="008000"/>
                        </a:gs>
                        <a:gs pos="100000">
                          <a:srgbClr val="00d2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07932" dir="18900000" blurRad="0" rotWithShape="0">
                        <a:srgbClr val="004800">
                          <a:alpha val="50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38" name="Group 281"/>
                    <p:cNvGrpSpPr/>
                    <p:nvPr/>
                  </p:nvGrpSpPr>
                  <p:grpSpPr>
                    <a:xfrm>
                      <a:off x="14005080" y="4647240"/>
                      <a:ext cx="1296360" cy="267480"/>
                      <a:chOff x="14005080" y="4647240"/>
                      <a:chExt cx="1296360" cy="267480"/>
                    </a:xfrm>
                  </p:grpSpPr>
                  <p:sp>
                    <p:nvSpPr>
                      <p:cNvPr id="1139" name="Rectangle 282"/>
                      <p:cNvSpPr/>
                      <p:nvPr/>
                    </p:nvSpPr>
                    <p:spPr>
                      <a:xfrm flipH="1" rot="21396000">
                        <a:off x="15157080" y="465120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Rectangle 283"/>
                      <p:cNvSpPr/>
                      <p:nvPr/>
                    </p:nvSpPr>
                    <p:spPr>
                      <a:xfrm flipH="1" rot="21396000">
                        <a:off x="14995080" y="466092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Rectangle 284"/>
                      <p:cNvSpPr/>
                      <p:nvPr/>
                    </p:nvSpPr>
                    <p:spPr>
                      <a:xfrm flipH="1" rot="21396000">
                        <a:off x="14832720" y="467028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2" name="Rectangle 285"/>
                      <p:cNvSpPr/>
                      <p:nvPr/>
                    </p:nvSpPr>
                    <p:spPr>
                      <a:xfrm flipH="1" rot="21396000">
                        <a:off x="14664960" y="468036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3" name="Rectangle 286"/>
                      <p:cNvSpPr/>
                      <p:nvPr/>
                    </p:nvSpPr>
                    <p:spPr>
                      <a:xfrm flipH="1" rot="21396000">
                        <a:off x="14496840" y="469044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4" name="Rectangle 287"/>
                      <p:cNvSpPr/>
                      <p:nvPr/>
                    </p:nvSpPr>
                    <p:spPr>
                      <a:xfrm flipH="1" rot="21396000">
                        <a:off x="14334840" y="469980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5" name="Rectangle 288"/>
                      <p:cNvSpPr/>
                      <p:nvPr/>
                    </p:nvSpPr>
                    <p:spPr>
                      <a:xfrm flipH="1" rot="21396000">
                        <a:off x="14010480" y="471924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6" name="Rectangle 289"/>
                      <p:cNvSpPr/>
                      <p:nvPr/>
                    </p:nvSpPr>
                    <p:spPr>
                      <a:xfrm flipH="1" rot="21396000">
                        <a:off x="14172840" y="470952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47" name="Group 290"/>
                    <p:cNvGrpSpPr/>
                    <p:nvPr/>
                  </p:nvGrpSpPr>
                  <p:grpSpPr>
                    <a:xfrm>
                      <a:off x="14932440" y="4365000"/>
                      <a:ext cx="153360" cy="146520"/>
                      <a:chOff x="14932440" y="4365000"/>
                      <a:chExt cx="153360" cy="146520"/>
                    </a:xfrm>
                  </p:grpSpPr>
                  <p:sp>
                    <p:nvSpPr>
                      <p:cNvPr id="1148" name="Oval 291"/>
                      <p:cNvSpPr/>
                      <p:nvPr/>
                    </p:nvSpPr>
                    <p:spPr>
                      <a:xfrm flipH="1" rot="21396000">
                        <a:off x="14933520" y="436932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9" name="Freeform 292"/>
                      <p:cNvSpPr/>
                      <p:nvPr/>
                    </p:nvSpPr>
                    <p:spPr>
                      <a:xfrm flipH="1" rot="21396000">
                        <a:off x="14973840" y="436932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50" name="Freeform 293"/>
                    <p:cNvSpPr/>
                    <p:nvPr/>
                  </p:nvSpPr>
                  <p:spPr>
                    <a:xfrm flipH="1" rot="21396000">
                      <a:off x="13987440" y="5057280"/>
                      <a:ext cx="13633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8" h="1">
                          <a:moveTo>
                            <a:pt x="0" y="0"/>
                          </a:moveTo>
                          <a:cubicBezTo>
                            <a:pt x="0" y="0"/>
                            <a:pt x="864" y="0"/>
                            <a:pt x="1728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Freeform 294"/>
                    <p:cNvSpPr/>
                    <p:nvPr/>
                  </p:nvSpPr>
                  <p:spPr>
                    <a:xfrm flipH="1" rot="21396000">
                      <a:off x="13959720" y="4586040"/>
                      <a:ext cx="1389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2" h="1">
                          <a:moveTo>
                            <a:pt x="0" y="0"/>
                          </a:moveTo>
                          <a:cubicBezTo>
                            <a:pt x="293" y="0"/>
                            <a:pt x="1395" y="0"/>
                            <a:pt x="1762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52" name="Group 295"/>
                    <p:cNvGrpSpPr/>
                    <p:nvPr/>
                  </p:nvGrpSpPr>
                  <p:grpSpPr>
                    <a:xfrm>
                      <a:off x="14214240" y="4407840"/>
                      <a:ext cx="153360" cy="146160"/>
                      <a:chOff x="14214240" y="4407840"/>
                      <a:chExt cx="153360" cy="146160"/>
                    </a:xfrm>
                  </p:grpSpPr>
                  <p:sp>
                    <p:nvSpPr>
                      <p:cNvPr id="1153" name="Oval 296"/>
                      <p:cNvSpPr/>
                      <p:nvPr/>
                    </p:nvSpPr>
                    <p:spPr>
                      <a:xfrm flipH="1" rot="21396000">
                        <a:off x="14215320" y="441216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4" name="Freeform 297"/>
                      <p:cNvSpPr/>
                      <p:nvPr/>
                    </p:nvSpPr>
                    <p:spPr>
                      <a:xfrm flipH="1" rot="21396000">
                        <a:off x="14255280" y="441180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55" name="Freeform 298"/>
                    <p:cNvSpPr/>
                    <p:nvPr/>
                  </p:nvSpPr>
                  <p:spPr>
                    <a:xfrm flipH="1" rot="21396000">
                      <a:off x="15176880" y="4869000"/>
                      <a:ext cx="126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1">
                          <a:moveTo>
                            <a:pt x="0" y="31"/>
                          </a:moveTo>
                          <a:cubicBezTo>
                            <a:pt x="5" y="21"/>
                            <a:pt x="16" y="0"/>
                            <a:pt x="16" y="0"/>
                          </a:cubicBezTo>
                          <a:cubicBezTo>
                            <a:pt x="16" y="0"/>
                            <a:pt x="5" y="21"/>
                            <a:pt x="0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299"/>
                    <p:cNvSpPr/>
                    <p:nvPr/>
                  </p:nvSpPr>
                  <p:spPr>
                    <a:xfrm flipH="1" rot="21396000">
                      <a:off x="15147720" y="4591800"/>
                      <a:ext cx="168840" cy="43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528">
                          <a:moveTo>
                            <a:pt x="214" y="528"/>
                          </a:moveTo>
                          <a:lnTo>
                            <a:pt x="214" y="0"/>
                          </a:lnTo>
                          <a:lnTo>
                            <a:pt x="0" y="2"/>
                          </a:lnTo>
                          <a:lnTo>
                            <a:pt x="0" y="527"/>
                          </a:lnTo>
                          <a:lnTo>
                            <a:pt x="214" y="528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7" name="Group 300"/>
                  <p:cNvGrpSpPr/>
                  <p:nvPr/>
                </p:nvGrpSpPr>
                <p:grpSpPr>
                  <a:xfrm>
                    <a:off x="16968240" y="4717440"/>
                    <a:ext cx="241560" cy="232200"/>
                    <a:chOff x="16968240" y="4717440"/>
                    <a:chExt cx="241560" cy="232200"/>
                  </a:xfrm>
                </p:grpSpPr>
                <p:sp>
                  <p:nvSpPr>
                    <p:cNvPr id="1158" name="Line 301"/>
                    <p:cNvSpPr/>
                    <p:nvPr/>
                  </p:nvSpPr>
                  <p:spPr>
                    <a:xfrm>
                      <a:off x="17086320" y="4717440"/>
                      <a:ext cx="11880" cy="23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Freeform 302"/>
                    <p:cNvSpPr/>
                    <p:nvPr/>
                  </p:nvSpPr>
                  <p:spPr>
                    <a:xfrm flipH="1" rot="21396000">
                      <a:off x="16968600" y="479556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60" name="Group 303"/>
                <p:cNvGrpSpPr/>
                <p:nvPr/>
              </p:nvGrpSpPr>
              <p:grpSpPr>
                <a:xfrm>
                  <a:off x="10583280" y="4463640"/>
                  <a:ext cx="3378960" cy="1093680"/>
                  <a:chOff x="10583280" y="4463640"/>
                  <a:chExt cx="3378960" cy="1093680"/>
                </a:xfrm>
              </p:grpSpPr>
              <p:grpSp>
                <p:nvGrpSpPr>
                  <p:cNvPr id="1161" name="Group 304"/>
                  <p:cNvGrpSpPr/>
                  <p:nvPr/>
                </p:nvGrpSpPr>
                <p:grpSpPr>
                  <a:xfrm>
                    <a:off x="10583280" y="5099040"/>
                    <a:ext cx="165960" cy="232200"/>
                    <a:chOff x="10583280" y="5099040"/>
                    <a:chExt cx="165960" cy="232200"/>
                  </a:xfrm>
                </p:grpSpPr>
                <p:sp>
                  <p:nvSpPr>
                    <p:cNvPr id="1162" name="Line 305"/>
                    <p:cNvSpPr/>
                    <p:nvPr/>
                  </p:nvSpPr>
                  <p:spPr>
                    <a:xfrm>
                      <a:off x="10662840" y="5099040"/>
                      <a:ext cx="12240" cy="23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Freeform 306"/>
                    <p:cNvSpPr/>
                    <p:nvPr/>
                  </p:nvSpPr>
                  <p:spPr>
                    <a:xfrm flipH="1" rot="21396000">
                      <a:off x="10584000" y="5177160"/>
                      <a:ext cx="1638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Group 307"/>
                  <p:cNvGrpSpPr/>
                  <p:nvPr/>
                </p:nvGrpSpPr>
                <p:grpSpPr>
                  <a:xfrm>
                    <a:off x="12133080" y="5004720"/>
                    <a:ext cx="241560" cy="232200"/>
                    <a:chOff x="12133080" y="5004720"/>
                    <a:chExt cx="241560" cy="232200"/>
                  </a:xfrm>
                </p:grpSpPr>
                <p:sp>
                  <p:nvSpPr>
                    <p:cNvPr id="1165" name="Line 308"/>
                    <p:cNvSpPr/>
                    <p:nvPr/>
                  </p:nvSpPr>
                  <p:spPr>
                    <a:xfrm>
                      <a:off x="12251520" y="5004720"/>
                      <a:ext cx="11520" cy="23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Freeform 309"/>
                    <p:cNvSpPr/>
                    <p:nvPr/>
                  </p:nvSpPr>
                  <p:spPr>
                    <a:xfrm flipH="1" rot="21396000">
                      <a:off x="12133440" y="508284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7" name="Group 310"/>
                  <p:cNvGrpSpPr/>
                  <p:nvPr/>
                </p:nvGrpSpPr>
                <p:grpSpPr>
                  <a:xfrm>
                    <a:off x="12290760" y="4463640"/>
                    <a:ext cx="1634040" cy="999360"/>
                    <a:chOff x="12290760" y="4463640"/>
                    <a:chExt cx="1634040" cy="999360"/>
                  </a:xfrm>
                </p:grpSpPr>
                <p:grpSp>
                  <p:nvGrpSpPr>
                    <p:cNvPr id="1168" name="Group 311"/>
                    <p:cNvGrpSpPr/>
                    <p:nvPr/>
                  </p:nvGrpSpPr>
                  <p:grpSpPr>
                    <a:xfrm>
                      <a:off x="13285080" y="5080680"/>
                      <a:ext cx="320400" cy="331200"/>
                      <a:chOff x="13285080" y="5080680"/>
                      <a:chExt cx="320400" cy="331200"/>
                    </a:xfrm>
                  </p:grpSpPr>
                  <p:grpSp>
                    <p:nvGrpSpPr>
                      <p:cNvPr id="1169" name="Group 312"/>
                      <p:cNvGrpSpPr/>
                      <p:nvPr/>
                    </p:nvGrpSpPr>
                    <p:grpSpPr>
                      <a:xfrm>
                        <a:off x="13285080" y="5080680"/>
                        <a:ext cx="320400" cy="331200"/>
                        <a:chOff x="13285080" y="5080680"/>
                        <a:chExt cx="320400" cy="331200"/>
                      </a:xfrm>
                    </p:grpSpPr>
                    <p:grpSp>
                      <p:nvGrpSpPr>
                        <p:cNvPr id="1170" name="Group 313"/>
                        <p:cNvGrpSpPr/>
                        <p:nvPr/>
                      </p:nvGrpSpPr>
                      <p:grpSpPr>
                        <a:xfrm>
                          <a:off x="13285080" y="5080680"/>
                          <a:ext cx="320400" cy="331200"/>
                          <a:chOff x="13285080" y="5080680"/>
                          <a:chExt cx="320400" cy="331200"/>
                        </a:xfrm>
                      </p:grpSpPr>
                      <p:sp>
                        <p:nvSpPr>
                          <p:cNvPr id="1171" name="Oval 314"/>
                          <p:cNvSpPr/>
                          <p:nvPr/>
                        </p:nvSpPr>
                        <p:spPr>
                          <a:xfrm flipH="1" rot="21396000">
                            <a:off x="13293720" y="5089320"/>
                            <a:ext cx="302400" cy="31392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2" name="Oval 315"/>
                          <p:cNvSpPr/>
                          <p:nvPr/>
                        </p:nvSpPr>
                        <p:spPr>
                          <a:xfrm flipH="1" rot="21396000">
                            <a:off x="13293720" y="5089320"/>
                            <a:ext cx="302400" cy="31392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3" name="Group 316"/>
                        <p:cNvGrpSpPr/>
                        <p:nvPr/>
                      </p:nvGrpSpPr>
                      <p:grpSpPr>
                        <a:xfrm>
                          <a:off x="13313160" y="5108760"/>
                          <a:ext cx="266040" cy="275040"/>
                          <a:chOff x="13313160" y="5108760"/>
                          <a:chExt cx="266040" cy="275040"/>
                        </a:xfrm>
                      </p:grpSpPr>
                      <p:sp>
                        <p:nvSpPr>
                          <p:cNvPr id="1174" name="Oval 317"/>
                          <p:cNvSpPr/>
                          <p:nvPr/>
                        </p:nvSpPr>
                        <p:spPr>
                          <a:xfrm flipH="1" rot="21396000">
                            <a:off x="13320000" y="5115600"/>
                            <a:ext cx="25128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5" name="Oval 318"/>
                          <p:cNvSpPr/>
                          <p:nvPr/>
                        </p:nvSpPr>
                        <p:spPr>
                          <a:xfrm flipH="1" rot="21396000">
                            <a:off x="13320000" y="5115600"/>
                            <a:ext cx="25128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76" name="Group 319"/>
                      <p:cNvGrpSpPr/>
                      <p:nvPr/>
                    </p:nvGrpSpPr>
                    <p:grpSpPr>
                      <a:xfrm>
                        <a:off x="13313160" y="5109120"/>
                        <a:ext cx="266400" cy="275040"/>
                        <a:chOff x="13313160" y="5109120"/>
                        <a:chExt cx="266400" cy="275040"/>
                      </a:xfrm>
                    </p:grpSpPr>
                    <p:sp>
                      <p:nvSpPr>
                        <p:cNvPr id="1177" name="Freeform 320"/>
                        <p:cNvSpPr/>
                        <p:nvPr/>
                      </p:nvSpPr>
                      <p:spPr>
                        <a:xfrm flipH="1" rot="21396000">
                          <a:off x="13320360" y="511596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8" name="Freeform 321"/>
                        <p:cNvSpPr/>
                        <p:nvPr/>
                      </p:nvSpPr>
                      <p:spPr>
                        <a:xfrm flipH="1" rot="21396000">
                          <a:off x="13320360" y="511596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79" name="Group 322"/>
                    <p:cNvGrpSpPr/>
                    <p:nvPr/>
                  </p:nvGrpSpPr>
                  <p:grpSpPr>
                    <a:xfrm>
                      <a:off x="12443040" y="5130720"/>
                      <a:ext cx="323640" cy="331560"/>
                      <a:chOff x="12443040" y="5130720"/>
                      <a:chExt cx="323640" cy="331560"/>
                    </a:xfrm>
                  </p:grpSpPr>
                  <p:grpSp>
                    <p:nvGrpSpPr>
                      <p:cNvPr id="1180" name="Group 323"/>
                      <p:cNvGrpSpPr/>
                      <p:nvPr/>
                    </p:nvGrpSpPr>
                    <p:grpSpPr>
                      <a:xfrm>
                        <a:off x="12443040" y="5130720"/>
                        <a:ext cx="323640" cy="331560"/>
                        <a:chOff x="12443040" y="5130720"/>
                        <a:chExt cx="323640" cy="331560"/>
                      </a:xfrm>
                    </p:grpSpPr>
                    <p:grpSp>
                      <p:nvGrpSpPr>
                        <p:cNvPr id="1181" name="Group 324"/>
                        <p:cNvGrpSpPr/>
                        <p:nvPr/>
                      </p:nvGrpSpPr>
                      <p:grpSpPr>
                        <a:xfrm>
                          <a:off x="12443040" y="5130720"/>
                          <a:ext cx="323640" cy="331560"/>
                          <a:chOff x="12443040" y="5130720"/>
                          <a:chExt cx="323640" cy="331560"/>
                        </a:xfrm>
                      </p:grpSpPr>
                      <p:sp>
                        <p:nvSpPr>
                          <p:cNvPr id="1182" name="Oval 325"/>
                          <p:cNvSpPr/>
                          <p:nvPr/>
                        </p:nvSpPr>
                        <p:spPr>
                          <a:xfrm flipH="1" rot="21396000">
                            <a:off x="12451320" y="5139360"/>
                            <a:ext cx="305640" cy="31428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3" name="Oval 326"/>
                          <p:cNvSpPr/>
                          <p:nvPr/>
                        </p:nvSpPr>
                        <p:spPr>
                          <a:xfrm flipH="1" rot="21396000">
                            <a:off x="12451320" y="5139360"/>
                            <a:ext cx="305640" cy="31428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4" name="Group 327"/>
                        <p:cNvGrpSpPr/>
                        <p:nvPr/>
                      </p:nvGrpSpPr>
                      <p:grpSpPr>
                        <a:xfrm>
                          <a:off x="12471840" y="5158800"/>
                          <a:ext cx="268920" cy="275400"/>
                          <a:chOff x="12471840" y="5158800"/>
                          <a:chExt cx="268920" cy="275400"/>
                        </a:xfrm>
                      </p:grpSpPr>
                      <p:sp>
                        <p:nvSpPr>
                          <p:cNvPr id="1185" name="Oval 328"/>
                          <p:cNvSpPr/>
                          <p:nvPr/>
                        </p:nvSpPr>
                        <p:spPr>
                          <a:xfrm flipH="1" rot="21396000">
                            <a:off x="12478680" y="5166000"/>
                            <a:ext cx="25380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6" name="Oval 329"/>
                          <p:cNvSpPr/>
                          <p:nvPr/>
                        </p:nvSpPr>
                        <p:spPr>
                          <a:xfrm flipH="1" rot="21396000">
                            <a:off x="12478680" y="5166000"/>
                            <a:ext cx="25380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87" name="Group 330"/>
                      <p:cNvGrpSpPr/>
                      <p:nvPr/>
                    </p:nvGrpSpPr>
                    <p:grpSpPr>
                      <a:xfrm>
                        <a:off x="12471840" y="5159160"/>
                        <a:ext cx="268920" cy="275400"/>
                        <a:chOff x="12471840" y="5159160"/>
                        <a:chExt cx="268920" cy="275400"/>
                      </a:xfrm>
                    </p:grpSpPr>
                    <p:sp>
                      <p:nvSpPr>
                        <p:cNvPr id="1188" name="Freeform 331"/>
                        <p:cNvSpPr/>
                        <p:nvPr/>
                      </p:nvSpPr>
                      <p:spPr>
                        <a:xfrm flipH="1" rot="21396000">
                          <a:off x="12478680" y="516636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9" name="Freeform 332"/>
                        <p:cNvSpPr/>
                        <p:nvPr/>
                      </p:nvSpPr>
                      <p:spPr>
                        <a:xfrm flipH="1" rot="21396000">
                          <a:off x="12478680" y="516636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90" name="Group 333"/>
                    <p:cNvGrpSpPr/>
                    <p:nvPr/>
                  </p:nvGrpSpPr>
                  <p:grpSpPr>
                    <a:xfrm>
                      <a:off x="13284720" y="5080680"/>
                      <a:ext cx="320760" cy="331560"/>
                      <a:chOff x="13284720" y="5080680"/>
                      <a:chExt cx="320760" cy="331560"/>
                    </a:xfrm>
                  </p:grpSpPr>
                  <p:grpSp>
                    <p:nvGrpSpPr>
                      <p:cNvPr id="1191" name="Group 334"/>
                      <p:cNvGrpSpPr/>
                      <p:nvPr/>
                    </p:nvGrpSpPr>
                    <p:grpSpPr>
                      <a:xfrm>
                        <a:off x="13284720" y="5080680"/>
                        <a:ext cx="320760" cy="331560"/>
                        <a:chOff x="13284720" y="5080680"/>
                        <a:chExt cx="320760" cy="331560"/>
                      </a:xfrm>
                    </p:grpSpPr>
                    <p:sp>
                      <p:nvSpPr>
                        <p:cNvPr id="1192" name="Oval 335"/>
                        <p:cNvSpPr/>
                        <p:nvPr/>
                      </p:nvSpPr>
                      <p:spPr>
                        <a:xfrm flipH="1" rot="21396000">
                          <a:off x="13293000" y="5089320"/>
                          <a:ext cx="30276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3" name="Oval 336"/>
                        <p:cNvSpPr/>
                        <p:nvPr/>
                      </p:nvSpPr>
                      <p:spPr>
                        <a:xfrm flipH="1" rot="21396000">
                          <a:off x="13293000" y="5089320"/>
                          <a:ext cx="30276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94" name="Group 337"/>
                      <p:cNvGrpSpPr/>
                      <p:nvPr/>
                    </p:nvGrpSpPr>
                    <p:grpSpPr>
                      <a:xfrm>
                        <a:off x="13313160" y="5109120"/>
                        <a:ext cx="266400" cy="275040"/>
                        <a:chOff x="13313160" y="5109120"/>
                        <a:chExt cx="266400" cy="275040"/>
                      </a:xfrm>
                    </p:grpSpPr>
                    <p:sp>
                      <p:nvSpPr>
                        <p:cNvPr id="1195" name="Oval 338"/>
                        <p:cNvSpPr/>
                        <p:nvPr/>
                      </p:nvSpPr>
                      <p:spPr>
                        <a:xfrm flipH="1" rot="21396000">
                          <a:off x="13320360" y="5115960"/>
                          <a:ext cx="25164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6" name="Oval 339"/>
                        <p:cNvSpPr/>
                        <p:nvPr/>
                      </p:nvSpPr>
                      <p:spPr>
                        <a:xfrm flipH="1" rot="21396000">
                          <a:off x="13320360" y="5115960"/>
                          <a:ext cx="25164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97" name="Group 340"/>
                    <p:cNvGrpSpPr/>
                    <p:nvPr/>
                  </p:nvGrpSpPr>
                  <p:grpSpPr>
                    <a:xfrm>
                      <a:off x="13312800" y="5109840"/>
                      <a:ext cx="267120" cy="273960"/>
                      <a:chOff x="13312800" y="5109840"/>
                      <a:chExt cx="267120" cy="273960"/>
                    </a:xfrm>
                  </p:grpSpPr>
                  <p:sp>
                    <p:nvSpPr>
                      <p:cNvPr id="1198" name="Freeform 341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9" name="Freeform 342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0" name="Group 343"/>
                    <p:cNvGrpSpPr/>
                    <p:nvPr/>
                  </p:nvGrpSpPr>
                  <p:grpSpPr>
                    <a:xfrm>
                      <a:off x="13284360" y="5080680"/>
                      <a:ext cx="321120" cy="331920"/>
                      <a:chOff x="13284360" y="5080680"/>
                      <a:chExt cx="321120" cy="331920"/>
                    </a:xfrm>
                  </p:grpSpPr>
                  <p:sp>
                    <p:nvSpPr>
                      <p:cNvPr id="1201" name="Oval 344"/>
                      <p:cNvSpPr/>
                      <p:nvPr/>
                    </p:nvSpPr>
                    <p:spPr>
                      <a:xfrm flipH="1" rot="21396000">
                        <a:off x="13293000" y="508932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2" name="Oval 345"/>
                      <p:cNvSpPr/>
                      <p:nvPr/>
                    </p:nvSpPr>
                    <p:spPr>
                      <a:xfrm flipH="1" rot="21396000">
                        <a:off x="13293000" y="508932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3" name="Group 346"/>
                    <p:cNvGrpSpPr/>
                    <p:nvPr/>
                  </p:nvGrpSpPr>
                  <p:grpSpPr>
                    <a:xfrm>
                      <a:off x="13312800" y="5109840"/>
                      <a:ext cx="267120" cy="273960"/>
                      <a:chOff x="13312800" y="5109840"/>
                      <a:chExt cx="267120" cy="273960"/>
                    </a:xfrm>
                  </p:grpSpPr>
                  <p:sp>
                    <p:nvSpPr>
                      <p:cNvPr id="1204" name="Oval 347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5" name="Oval 348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6" name="Group 349"/>
                    <p:cNvGrpSpPr/>
                    <p:nvPr/>
                  </p:nvGrpSpPr>
                  <p:grpSpPr>
                    <a:xfrm>
                      <a:off x="13284360" y="5080680"/>
                      <a:ext cx="321120" cy="331920"/>
                      <a:chOff x="13284360" y="5080680"/>
                      <a:chExt cx="321120" cy="331920"/>
                    </a:xfrm>
                  </p:grpSpPr>
                  <p:sp>
                    <p:nvSpPr>
                      <p:cNvPr id="1207" name="Oval 350"/>
                      <p:cNvSpPr/>
                      <p:nvPr/>
                    </p:nvSpPr>
                    <p:spPr>
                      <a:xfrm flipH="1" rot="21396000">
                        <a:off x="13293000" y="508932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8" name="Oval 351"/>
                      <p:cNvSpPr/>
                      <p:nvPr/>
                    </p:nvSpPr>
                    <p:spPr>
                      <a:xfrm flipH="1" rot="21396000">
                        <a:off x="13293000" y="508932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9" name="Group 352"/>
                    <p:cNvGrpSpPr/>
                    <p:nvPr/>
                  </p:nvGrpSpPr>
                  <p:grpSpPr>
                    <a:xfrm>
                      <a:off x="13312800" y="5109840"/>
                      <a:ext cx="267120" cy="273960"/>
                      <a:chOff x="13312800" y="5109840"/>
                      <a:chExt cx="267120" cy="273960"/>
                    </a:xfrm>
                  </p:grpSpPr>
                  <p:sp>
                    <p:nvSpPr>
                      <p:cNvPr id="1210" name="Oval 353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1" name="Oval 354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2" name="Group 355"/>
                    <p:cNvGrpSpPr/>
                    <p:nvPr/>
                  </p:nvGrpSpPr>
                  <p:grpSpPr>
                    <a:xfrm>
                      <a:off x="13312800" y="5109840"/>
                      <a:ext cx="267120" cy="273960"/>
                      <a:chOff x="13312800" y="5109840"/>
                      <a:chExt cx="267120" cy="273960"/>
                    </a:xfrm>
                  </p:grpSpPr>
                  <p:sp>
                    <p:nvSpPr>
                      <p:cNvPr id="1213" name="Freeform 356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4" name="Freeform 357"/>
                      <p:cNvSpPr/>
                      <p:nvPr/>
                    </p:nvSpPr>
                    <p:spPr>
                      <a:xfrm flipH="1" rot="21396000">
                        <a:off x="13320000" y="511704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5" name="Group 358"/>
                    <p:cNvGrpSpPr/>
                    <p:nvPr/>
                  </p:nvGrpSpPr>
                  <p:grpSpPr>
                    <a:xfrm>
                      <a:off x="12442680" y="5130720"/>
                      <a:ext cx="324000" cy="331920"/>
                      <a:chOff x="12442680" y="5130720"/>
                      <a:chExt cx="324000" cy="331920"/>
                    </a:xfrm>
                  </p:grpSpPr>
                  <p:grpSp>
                    <p:nvGrpSpPr>
                      <p:cNvPr id="1216" name="Group 359"/>
                      <p:cNvGrpSpPr/>
                      <p:nvPr/>
                    </p:nvGrpSpPr>
                    <p:grpSpPr>
                      <a:xfrm>
                        <a:off x="12442680" y="5130720"/>
                        <a:ext cx="324000" cy="331920"/>
                        <a:chOff x="12442680" y="5130720"/>
                        <a:chExt cx="324000" cy="331920"/>
                      </a:xfrm>
                    </p:grpSpPr>
                    <p:sp>
                      <p:nvSpPr>
                        <p:cNvPr id="1217" name="Oval 360"/>
                        <p:cNvSpPr/>
                        <p:nvPr/>
                      </p:nvSpPr>
                      <p:spPr>
                        <a:xfrm flipH="1" rot="21396000">
                          <a:off x="12451320" y="5139360"/>
                          <a:ext cx="30600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Oval 361"/>
                        <p:cNvSpPr/>
                        <p:nvPr/>
                      </p:nvSpPr>
                      <p:spPr>
                        <a:xfrm flipH="1" rot="21396000">
                          <a:off x="12451320" y="5139360"/>
                          <a:ext cx="30600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19" name="Group 362"/>
                      <p:cNvGrpSpPr/>
                      <p:nvPr/>
                    </p:nvGrpSpPr>
                    <p:grpSpPr>
                      <a:xfrm>
                        <a:off x="12471840" y="5159160"/>
                        <a:ext cx="268920" cy="275400"/>
                        <a:chOff x="12471840" y="5159160"/>
                        <a:chExt cx="268920" cy="275400"/>
                      </a:xfrm>
                    </p:grpSpPr>
                    <p:sp>
                      <p:nvSpPr>
                        <p:cNvPr id="1220" name="Oval 363"/>
                        <p:cNvSpPr/>
                        <p:nvPr/>
                      </p:nvSpPr>
                      <p:spPr>
                        <a:xfrm flipH="1" rot="21396000">
                          <a:off x="12478680" y="516636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Oval 364"/>
                        <p:cNvSpPr/>
                        <p:nvPr/>
                      </p:nvSpPr>
                      <p:spPr>
                        <a:xfrm flipH="1" rot="21396000">
                          <a:off x="12478680" y="516636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22" name="Group 365"/>
                    <p:cNvGrpSpPr/>
                    <p:nvPr/>
                  </p:nvGrpSpPr>
                  <p:grpSpPr>
                    <a:xfrm>
                      <a:off x="12471840" y="5159880"/>
                      <a:ext cx="269280" cy="274320"/>
                      <a:chOff x="12471840" y="5159880"/>
                      <a:chExt cx="269280" cy="274320"/>
                    </a:xfrm>
                  </p:grpSpPr>
                  <p:sp>
                    <p:nvSpPr>
                      <p:cNvPr id="1223" name="Freeform 366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4" name="Freeform 367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25" name="Group 368"/>
                    <p:cNvGrpSpPr/>
                    <p:nvPr/>
                  </p:nvGrpSpPr>
                  <p:grpSpPr>
                    <a:xfrm>
                      <a:off x="12442320" y="5130720"/>
                      <a:ext cx="324360" cy="332280"/>
                      <a:chOff x="12442320" y="5130720"/>
                      <a:chExt cx="324360" cy="332280"/>
                    </a:xfrm>
                  </p:grpSpPr>
                  <p:sp>
                    <p:nvSpPr>
                      <p:cNvPr id="1226" name="Oval 369"/>
                      <p:cNvSpPr/>
                      <p:nvPr/>
                    </p:nvSpPr>
                    <p:spPr>
                      <a:xfrm flipH="1" rot="21396000">
                        <a:off x="12450600" y="513936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7" name="Oval 370"/>
                      <p:cNvSpPr/>
                      <p:nvPr/>
                    </p:nvSpPr>
                    <p:spPr>
                      <a:xfrm flipH="1" rot="21396000">
                        <a:off x="12450600" y="513936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28" name="Group 371"/>
                    <p:cNvGrpSpPr/>
                    <p:nvPr/>
                  </p:nvGrpSpPr>
                  <p:grpSpPr>
                    <a:xfrm>
                      <a:off x="12471840" y="5159880"/>
                      <a:ext cx="269280" cy="274320"/>
                      <a:chOff x="12471840" y="5159880"/>
                      <a:chExt cx="269280" cy="274320"/>
                    </a:xfrm>
                  </p:grpSpPr>
                  <p:sp>
                    <p:nvSpPr>
                      <p:cNvPr id="1229" name="Oval 372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0" name="Oval 373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1" name="Group 374"/>
                    <p:cNvGrpSpPr/>
                    <p:nvPr/>
                  </p:nvGrpSpPr>
                  <p:grpSpPr>
                    <a:xfrm>
                      <a:off x="12442320" y="5130720"/>
                      <a:ext cx="324360" cy="332280"/>
                      <a:chOff x="12442320" y="5130720"/>
                      <a:chExt cx="324360" cy="332280"/>
                    </a:xfrm>
                  </p:grpSpPr>
                  <p:sp>
                    <p:nvSpPr>
                      <p:cNvPr id="1232" name="Oval 375"/>
                      <p:cNvSpPr/>
                      <p:nvPr/>
                    </p:nvSpPr>
                    <p:spPr>
                      <a:xfrm flipH="1" rot="21396000">
                        <a:off x="12450600" y="513936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3" name="Oval 376"/>
                      <p:cNvSpPr/>
                      <p:nvPr/>
                    </p:nvSpPr>
                    <p:spPr>
                      <a:xfrm flipH="1" rot="21396000">
                        <a:off x="12450600" y="513936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4" name="Group 377"/>
                    <p:cNvGrpSpPr/>
                    <p:nvPr/>
                  </p:nvGrpSpPr>
                  <p:grpSpPr>
                    <a:xfrm>
                      <a:off x="12471840" y="5159880"/>
                      <a:ext cx="269280" cy="274320"/>
                      <a:chOff x="12471840" y="5159880"/>
                      <a:chExt cx="269280" cy="274320"/>
                    </a:xfrm>
                  </p:grpSpPr>
                  <p:sp>
                    <p:nvSpPr>
                      <p:cNvPr id="1235" name="Oval 378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6" name="Oval 379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7" name="Group 380"/>
                    <p:cNvGrpSpPr/>
                    <p:nvPr/>
                  </p:nvGrpSpPr>
                  <p:grpSpPr>
                    <a:xfrm>
                      <a:off x="12471840" y="5159880"/>
                      <a:ext cx="269280" cy="274320"/>
                      <a:chOff x="12471840" y="5159880"/>
                      <a:chExt cx="269280" cy="274320"/>
                    </a:xfrm>
                  </p:grpSpPr>
                  <p:sp>
                    <p:nvSpPr>
                      <p:cNvPr id="1238" name="Freeform 381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Freeform 382"/>
                      <p:cNvSpPr/>
                      <p:nvPr/>
                    </p:nvSpPr>
                    <p:spPr>
                      <a:xfrm flipH="1" rot="21396000">
                        <a:off x="12479040" y="516708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40" name="Freeform 383"/>
                    <p:cNvSpPr/>
                    <p:nvPr/>
                  </p:nvSpPr>
                  <p:spPr>
                    <a:xfrm flipH="1" rot="21396000">
                      <a:off x="13798440" y="4912560"/>
                      <a:ext cx="2880" cy="18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32">
                          <a:moveTo>
                            <a:pt x="0" y="0"/>
                          </a:moveTo>
                          <a:lnTo>
                            <a:pt x="4" y="23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41" name="Group 384"/>
                    <p:cNvGrpSpPr/>
                    <p:nvPr/>
                  </p:nvGrpSpPr>
                  <p:grpSpPr>
                    <a:xfrm>
                      <a:off x="13683240" y="4912560"/>
                      <a:ext cx="241560" cy="232560"/>
                      <a:chOff x="13683240" y="4912560"/>
                      <a:chExt cx="241560" cy="232560"/>
                    </a:xfrm>
                  </p:grpSpPr>
                  <p:sp>
                    <p:nvSpPr>
                      <p:cNvPr id="1242" name="Line 385"/>
                      <p:cNvSpPr/>
                      <p:nvPr/>
                    </p:nvSpPr>
                    <p:spPr>
                      <a:xfrm>
                        <a:off x="13801320" y="4912560"/>
                        <a:ext cx="11880" cy="2325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3" name="Freeform 386"/>
                      <p:cNvSpPr/>
                      <p:nvPr/>
                    </p:nvSpPr>
                    <p:spPr>
                      <a:xfrm flipH="1" rot="21396000">
                        <a:off x="13683600" y="4990680"/>
                        <a:ext cx="23976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18">
                            <a:moveTo>
                              <a:pt x="0" y="0"/>
                            </a:moveTo>
                            <a:lnTo>
                              <a:pt x="18" y="0"/>
                            </a:lnTo>
                            <a:lnTo>
                              <a:pt x="18" y="18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  <a:moveTo>
                              <a:pt x="36" y="0"/>
                            </a:moveTo>
                            <a:lnTo>
                              <a:pt x="54" y="0"/>
                            </a:lnTo>
                            <a:lnTo>
                              <a:pt x="54" y="18"/>
                            </a:lnTo>
                            <a:lnTo>
                              <a:pt x="36" y="18"/>
                            </a:lnTo>
                            <a:lnTo>
                              <a:pt x="36" y="0"/>
                            </a:lnTo>
                            <a:close/>
                            <a:moveTo>
                              <a:pt x="72" y="0"/>
                            </a:moveTo>
                            <a:lnTo>
                              <a:pt x="90" y="0"/>
                            </a:lnTo>
                            <a:lnTo>
                              <a:pt x="90" y="18"/>
                            </a:lnTo>
                            <a:lnTo>
                              <a:pt x="72" y="18"/>
                            </a:lnTo>
                            <a:lnTo>
                              <a:pt x="72" y="0"/>
                            </a:lnTo>
                            <a:close/>
                            <a:moveTo>
                              <a:pt x="108" y="0"/>
                            </a:moveTo>
                            <a:lnTo>
                              <a:pt x="126" y="0"/>
                            </a:lnTo>
                            <a:lnTo>
                              <a:pt x="126" y="18"/>
                            </a:lnTo>
                            <a:lnTo>
                              <a:pt x="108" y="18"/>
                            </a:lnTo>
                            <a:lnTo>
                              <a:pt x="108" y="0"/>
                            </a:lnTo>
                            <a:close/>
                            <a:moveTo>
                              <a:pt x="144" y="0"/>
                            </a:moveTo>
                            <a:lnTo>
                              <a:pt x="162" y="0"/>
                            </a:lnTo>
                            <a:lnTo>
                              <a:pt x="162" y="18"/>
                            </a:lnTo>
                            <a:lnTo>
                              <a:pt x="144" y="18"/>
                            </a:lnTo>
                            <a:lnTo>
                              <a:pt x="144" y="0"/>
                            </a:lnTo>
                            <a:close/>
                            <a:moveTo>
                              <a:pt x="180" y="0"/>
                            </a:moveTo>
                            <a:lnTo>
                              <a:pt x="190" y="0"/>
                            </a:lnTo>
                            <a:lnTo>
                              <a:pt x="190" y="18"/>
                            </a:lnTo>
                            <a:lnTo>
                              <a:pt x="180" y="18"/>
                            </a:lnTo>
                            <a:lnTo>
                              <a:pt x="18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44" name="Freeform 387"/>
                    <p:cNvSpPr/>
                    <p:nvPr/>
                  </p:nvSpPr>
                  <p:spPr>
                    <a:xfrm flipH="1" rot="21396000">
                      <a:off x="12308400" y="4586760"/>
                      <a:ext cx="1405800" cy="64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2" h="792">
                          <a:moveTo>
                            <a:pt x="0" y="127"/>
                          </a:moveTo>
                          <a:lnTo>
                            <a:pt x="105" y="0"/>
                          </a:lnTo>
                          <a:lnTo>
                            <a:pt x="1585" y="0"/>
                          </a:lnTo>
                          <a:lnTo>
                            <a:pt x="1782" y="88"/>
                          </a:lnTo>
                          <a:lnTo>
                            <a:pt x="1782" y="660"/>
                          </a:lnTo>
                          <a:lnTo>
                            <a:pt x="1683" y="792"/>
                          </a:lnTo>
                          <a:lnTo>
                            <a:pt x="105" y="792"/>
                          </a:lnTo>
                          <a:lnTo>
                            <a:pt x="6" y="704"/>
                          </a:lnTo>
                          <a:lnTo>
                            <a:pt x="8" y="1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d200"/>
                        </a:gs>
                        <a:gs pos="50000">
                          <a:srgbClr val="008000"/>
                        </a:gs>
                        <a:gs pos="100000">
                          <a:srgbClr val="00d2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07932" dir="18900000" blurRad="0" rotWithShape="0">
                        <a:srgbClr val="004800">
                          <a:alpha val="50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45" name="Group 388"/>
                    <p:cNvGrpSpPr/>
                    <p:nvPr/>
                  </p:nvGrpSpPr>
                  <p:grpSpPr>
                    <a:xfrm>
                      <a:off x="12345840" y="4745880"/>
                      <a:ext cx="1296000" cy="267480"/>
                      <a:chOff x="12345840" y="4745880"/>
                      <a:chExt cx="1296000" cy="267480"/>
                    </a:xfrm>
                  </p:grpSpPr>
                  <p:sp>
                    <p:nvSpPr>
                      <p:cNvPr id="1246" name="Rectangle 389"/>
                      <p:cNvSpPr/>
                      <p:nvPr/>
                    </p:nvSpPr>
                    <p:spPr>
                      <a:xfrm flipH="1" rot="21396000">
                        <a:off x="13497480" y="474984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7" name="Rectangle 390"/>
                      <p:cNvSpPr/>
                      <p:nvPr/>
                    </p:nvSpPr>
                    <p:spPr>
                      <a:xfrm flipH="1" rot="21396000">
                        <a:off x="13335480" y="475920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8" name="Rectangle 391"/>
                      <p:cNvSpPr/>
                      <p:nvPr/>
                    </p:nvSpPr>
                    <p:spPr>
                      <a:xfrm flipH="1" rot="21396000">
                        <a:off x="13173480" y="476892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9" name="Rectangle 392"/>
                      <p:cNvSpPr/>
                      <p:nvPr/>
                    </p:nvSpPr>
                    <p:spPr>
                      <a:xfrm flipH="1" rot="21396000">
                        <a:off x="13005360" y="477900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0" name="Rectangle 393"/>
                      <p:cNvSpPr/>
                      <p:nvPr/>
                    </p:nvSpPr>
                    <p:spPr>
                      <a:xfrm flipH="1" rot="21396000">
                        <a:off x="12837240" y="478908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1" name="Rectangle 394"/>
                      <p:cNvSpPr/>
                      <p:nvPr/>
                    </p:nvSpPr>
                    <p:spPr>
                      <a:xfrm flipH="1" rot="21396000">
                        <a:off x="12675240" y="479844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2" name="Rectangle 395"/>
                      <p:cNvSpPr/>
                      <p:nvPr/>
                    </p:nvSpPr>
                    <p:spPr>
                      <a:xfrm flipH="1" rot="21396000">
                        <a:off x="12351240" y="481788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3" name="Rectangle 396"/>
                      <p:cNvSpPr/>
                      <p:nvPr/>
                    </p:nvSpPr>
                    <p:spPr>
                      <a:xfrm flipH="1" rot="21396000">
                        <a:off x="12513240" y="480816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54" name="Group 397"/>
                    <p:cNvGrpSpPr/>
                    <p:nvPr/>
                  </p:nvGrpSpPr>
                  <p:grpSpPr>
                    <a:xfrm>
                      <a:off x="13273200" y="4463640"/>
                      <a:ext cx="153360" cy="146520"/>
                      <a:chOff x="13273200" y="4463640"/>
                      <a:chExt cx="153360" cy="146520"/>
                    </a:xfrm>
                  </p:grpSpPr>
                  <p:sp>
                    <p:nvSpPr>
                      <p:cNvPr id="1255" name="Oval 398"/>
                      <p:cNvSpPr/>
                      <p:nvPr/>
                    </p:nvSpPr>
                    <p:spPr>
                      <a:xfrm flipH="1" rot="21396000">
                        <a:off x="13274280" y="446796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6" name="Freeform 399"/>
                      <p:cNvSpPr/>
                      <p:nvPr/>
                    </p:nvSpPr>
                    <p:spPr>
                      <a:xfrm flipH="1" rot="21396000">
                        <a:off x="13314240" y="446796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57" name="Freeform 400"/>
                    <p:cNvSpPr/>
                    <p:nvPr/>
                  </p:nvSpPr>
                  <p:spPr>
                    <a:xfrm flipH="1" rot="21396000">
                      <a:off x="12327840" y="5155920"/>
                      <a:ext cx="13633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8" h="1">
                          <a:moveTo>
                            <a:pt x="0" y="0"/>
                          </a:moveTo>
                          <a:cubicBezTo>
                            <a:pt x="0" y="0"/>
                            <a:pt x="864" y="0"/>
                            <a:pt x="1728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401"/>
                    <p:cNvSpPr/>
                    <p:nvPr/>
                  </p:nvSpPr>
                  <p:spPr>
                    <a:xfrm flipH="1" rot="21396000">
                      <a:off x="12300120" y="4684680"/>
                      <a:ext cx="1389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2" h="1">
                          <a:moveTo>
                            <a:pt x="0" y="0"/>
                          </a:moveTo>
                          <a:cubicBezTo>
                            <a:pt x="293" y="0"/>
                            <a:pt x="1395" y="0"/>
                            <a:pt x="1762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59" name="Group 402"/>
                    <p:cNvGrpSpPr/>
                    <p:nvPr/>
                  </p:nvGrpSpPr>
                  <p:grpSpPr>
                    <a:xfrm>
                      <a:off x="12554640" y="4506480"/>
                      <a:ext cx="153360" cy="146160"/>
                      <a:chOff x="12554640" y="4506480"/>
                      <a:chExt cx="153360" cy="146160"/>
                    </a:xfrm>
                  </p:grpSpPr>
                  <p:sp>
                    <p:nvSpPr>
                      <p:cNvPr id="1260" name="Oval 403"/>
                      <p:cNvSpPr/>
                      <p:nvPr/>
                    </p:nvSpPr>
                    <p:spPr>
                      <a:xfrm flipH="1" rot="21396000">
                        <a:off x="12555720" y="451080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1" name="Freeform 404"/>
                      <p:cNvSpPr/>
                      <p:nvPr/>
                    </p:nvSpPr>
                    <p:spPr>
                      <a:xfrm flipH="1" rot="21396000">
                        <a:off x="12595680" y="451044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62" name="Freeform 405"/>
                    <p:cNvSpPr/>
                    <p:nvPr/>
                  </p:nvSpPr>
                  <p:spPr>
                    <a:xfrm flipH="1" rot="21396000">
                      <a:off x="13517280" y="4967640"/>
                      <a:ext cx="126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1">
                          <a:moveTo>
                            <a:pt x="0" y="31"/>
                          </a:moveTo>
                          <a:cubicBezTo>
                            <a:pt x="5" y="21"/>
                            <a:pt x="16" y="0"/>
                            <a:pt x="16" y="0"/>
                          </a:cubicBezTo>
                          <a:cubicBezTo>
                            <a:pt x="16" y="0"/>
                            <a:pt x="5" y="21"/>
                            <a:pt x="0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Freeform 406"/>
                    <p:cNvSpPr/>
                    <p:nvPr/>
                  </p:nvSpPr>
                  <p:spPr>
                    <a:xfrm flipH="1" rot="21396000">
                      <a:off x="13488120" y="4690440"/>
                      <a:ext cx="168840" cy="43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528">
                          <a:moveTo>
                            <a:pt x="214" y="528"/>
                          </a:moveTo>
                          <a:lnTo>
                            <a:pt x="214" y="0"/>
                          </a:lnTo>
                          <a:lnTo>
                            <a:pt x="0" y="2"/>
                          </a:lnTo>
                          <a:lnTo>
                            <a:pt x="0" y="527"/>
                          </a:lnTo>
                          <a:lnTo>
                            <a:pt x="214" y="528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4" name="Group 407"/>
                  <p:cNvGrpSpPr/>
                  <p:nvPr/>
                </p:nvGrpSpPr>
                <p:grpSpPr>
                  <a:xfrm>
                    <a:off x="10702800" y="4557960"/>
                    <a:ext cx="1633680" cy="999360"/>
                    <a:chOff x="10702800" y="4557960"/>
                    <a:chExt cx="1633680" cy="999360"/>
                  </a:xfrm>
                </p:grpSpPr>
                <p:grpSp>
                  <p:nvGrpSpPr>
                    <p:cNvPr id="1265" name="Group 408"/>
                    <p:cNvGrpSpPr/>
                    <p:nvPr/>
                  </p:nvGrpSpPr>
                  <p:grpSpPr>
                    <a:xfrm>
                      <a:off x="11697120" y="5175360"/>
                      <a:ext cx="320400" cy="331200"/>
                      <a:chOff x="11697120" y="5175360"/>
                      <a:chExt cx="320400" cy="331200"/>
                    </a:xfrm>
                  </p:grpSpPr>
                  <p:grpSp>
                    <p:nvGrpSpPr>
                      <p:cNvPr id="1266" name="Group 409"/>
                      <p:cNvGrpSpPr/>
                      <p:nvPr/>
                    </p:nvGrpSpPr>
                    <p:grpSpPr>
                      <a:xfrm>
                        <a:off x="11697120" y="5175360"/>
                        <a:ext cx="320400" cy="331200"/>
                        <a:chOff x="11697120" y="5175360"/>
                        <a:chExt cx="320400" cy="331200"/>
                      </a:xfrm>
                    </p:grpSpPr>
                    <p:grpSp>
                      <p:nvGrpSpPr>
                        <p:cNvPr id="1267" name="Group 410"/>
                        <p:cNvGrpSpPr/>
                        <p:nvPr/>
                      </p:nvGrpSpPr>
                      <p:grpSpPr>
                        <a:xfrm>
                          <a:off x="11697120" y="5175360"/>
                          <a:ext cx="320400" cy="331200"/>
                          <a:chOff x="11697120" y="5175360"/>
                          <a:chExt cx="320400" cy="331200"/>
                        </a:xfrm>
                      </p:grpSpPr>
                      <p:sp>
                        <p:nvSpPr>
                          <p:cNvPr id="1268" name="Oval 411"/>
                          <p:cNvSpPr/>
                          <p:nvPr/>
                        </p:nvSpPr>
                        <p:spPr>
                          <a:xfrm flipH="1" rot="21396000">
                            <a:off x="11705760" y="5184000"/>
                            <a:ext cx="302400" cy="31392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9" name="Oval 412"/>
                          <p:cNvSpPr/>
                          <p:nvPr/>
                        </p:nvSpPr>
                        <p:spPr>
                          <a:xfrm flipH="1" rot="21396000">
                            <a:off x="11705760" y="5184000"/>
                            <a:ext cx="302400" cy="31392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0" name="Group 413"/>
                        <p:cNvGrpSpPr/>
                        <p:nvPr/>
                      </p:nvGrpSpPr>
                      <p:grpSpPr>
                        <a:xfrm>
                          <a:off x="11725200" y="5203080"/>
                          <a:ext cx="266040" cy="275040"/>
                          <a:chOff x="11725200" y="5203080"/>
                          <a:chExt cx="266040" cy="275040"/>
                        </a:xfrm>
                      </p:grpSpPr>
                      <p:sp>
                        <p:nvSpPr>
                          <p:cNvPr id="1271" name="Oval 414"/>
                          <p:cNvSpPr/>
                          <p:nvPr/>
                        </p:nvSpPr>
                        <p:spPr>
                          <a:xfrm flipH="1" rot="21396000">
                            <a:off x="11732040" y="5209920"/>
                            <a:ext cx="25128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2" name="Oval 415"/>
                          <p:cNvSpPr/>
                          <p:nvPr/>
                        </p:nvSpPr>
                        <p:spPr>
                          <a:xfrm flipH="1" rot="21396000">
                            <a:off x="11732040" y="5209920"/>
                            <a:ext cx="25128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73" name="Group 416"/>
                      <p:cNvGrpSpPr/>
                      <p:nvPr/>
                    </p:nvGrpSpPr>
                    <p:grpSpPr>
                      <a:xfrm>
                        <a:off x="11724840" y="5203440"/>
                        <a:ext cx="266400" cy="275040"/>
                        <a:chOff x="11724840" y="5203440"/>
                        <a:chExt cx="266400" cy="275040"/>
                      </a:xfrm>
                    </p:grpSpPr>
                    <p:sp>
                      <p:nvSpPr>
                        <p:cNvPr id="1274" name="Freeform 417"/>
                        <p:cNvSpPr/>
                        <p:nvPr/>
                      </p:nvSpPr>
                      <p:spPr>
                        <a:xfrm flipH="1" rot="21396000">
                          <a:off x="11732040" y="521028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Freeform 418"/>
                        <p:cNvSpPr/>
                        <p:nvPr/>
                      </p:nvSpPr>
                      <p:spPr>
                        <a:xfrm flipH="1" rot="21396000">
                          <a:off x="11732040" y="5210280"/>
                          <a:ext cx="251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59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59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6" name="Group 419"/>
                    <p:cNvGrpSpPr/>
                    <p:nvPr/>
                  </p:nvGrpSpPr>
                  <p:grpSpPr>
                    <a:xfrm>
                      <a:off x="10855080" y="5225040"/>
                      <a:ext cx="323640" cy="331560"/>
                      <a:chOff x="10855080" y="5225040"/>
                      <a:chExt cx="323640" cy="331560"/>
                    </a:xfrm>
                  </p:grpSpPr>
                  <p:grpSp>
                    <p:nvGrpSpPr>
                      <p:cNvPr id="1277" name="Group 420"/>
                      <p:cNvGrpSpPr/>
                      <p:nvPr/>
                    </p:nvGrpSpPr>
                    <p:grpSpPr>
                      <a:xfrm>
                        <a:off x="10855080" y="5225040"/>
                        <a:ext cx="323640" cy="331560"/>
                        <a:chOff x="10855080" y="5225040"/>
                        <a:chExt cx="323640" cy="331560"/>
                      </a:xfrm>
                    </p:grpSpPr>
                    <p:grpSp>
                      <p:nvGrpSpPr>
                        <p:cNvPr id="1278" name="Group 421"/>
                        <p:cNvGrpSpPr/>
                        <p:nvPr/>
                      </p:nvGrpSpPr>
                      <p:grpSpPr>
                        <a:xfrm>
                          <a:off x="10855080" y="5225040"/>
                          <a:ext cx="323640" cy="331560"/>
                          <a:chOff x="10855080" y="5225040"/>
                          <a:chExt cx="323640" cy="331560"/>
                        </a:xfrm>
                      </p:grpSpPr>
                      <p:sp>
                        <p:nvSpPr>
                          <p:cNvPr id="1279" name="Oval 422"/>
                          <p:cNvSpPr/>
                          <p:nvPr/>
                        </p:nvSpPr>
                        <p:spPr>
                          <a:xfrm flipH="1" rot="21396000">
                            <a:off x="10863360" y="5233680"/>
                            <a:ext cx="305640" cy="31428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0" name="Oval 423"/>
                          <p:cNvSpPr/>
                          <p:nvPr/>
                        </p:nvSpPr>
                        <p:spPr>
                          <a:xfrm flipH="1" rot="21396000">
                            <a:off x="10863360" y="5233680"/>
                            <a:ext cx="305640" cy="31428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81" name="Group 424"/>
                        <p:cNvGrpSpPr/>
                        <p:nvPr/>
                      </p:nvGrpSpPr>
                      <p:grpSpPr>
                        <a:xfrm>
                          <a:off x="10883520" y="5253120"/>
                          <a:ext cx="268920" cy="275400"/>
                          <a:chOff x="10883520" y="5253120"/>
                          <a:chExt cx="268920" cy="275400"/>
                        </a:xfrm>
                      </p:grpSpPr>
                      <p:sp>
                        <p:nvSpPr>
                          <p:cNvPr id="1282" name="Oval 425"/>
                          <p:cNvSpPr/>
                          <p:nvPr/>
                        </p:nvSpPr>
                        <p:spPr>
                          <a:xfrm flipH="1" rot="21396000">
                            <a:off x="10890360" y="5260320"/>
                            <a:ext cx="253800" cy="260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3" name="Oval 426"/>
                          <p:cNvSpPr/>
                          <p:nvPr/>
                        </p:nvSpPr>
                        <p:spPr>
                          <a:xfrm flipH="1" rot="21396000">
                            <a:off x="10890360" y="5260320"/>
                            <a:ext cx="253800" cy="260640"/>
                          </a:xfrm>
                          <a:prstGeom prst="ellipse">
                            <a:avLst/>
                          </a:prstGeom>
                          <a:noFill/>
                          <a:ln cap="rnd"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84" name="Group 427"/>
                      <p:cNvGrpSpPr/>
                      <p:nvPr/>
                    </p:nvGrpSpPr>
                    <p:grpSpPr>
                      <a:xfrm>
                        <a:off x="10883520" y="5253480"/>
                        <a:ext cx="268920" cy="275400"/>
                        <a:chOff x="10883520" y="5253480"/>
                        <a:chExt cx="268920" cy="275400"/>
                      </a:xfrm>
                    </p:grpSpPr>
                    <p:sp>
                      <p:nvSpPr>
                        <p:cNvPr id="1285" name="Freeform 428"/>
                        <p:cNvSpPr/>
                        <p:nvPr/>
                      </p:nvSpPr>
                      <p:spPr>
                        <a:xfrm flipH="1" rot="21396000">
                          <a:off x="10890360" y="526068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Freeform 429"/>
                        <p:cNvSpPr/>
                        <p:nvPr/>
                      </p:nvSpPr>
                      <p:spPr>
                        <a:xfrm flipH="1" rot="21396000">
                          <a:off x="10890360" y="5260680"/>
                          <a:ext cx="25380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3" h="136">
                              <a:moveTo>
                                <a:pt x="123" y="68"/>
                              </a:moveTo>
                              <a:lnTo>
                                <a:pt x="72" y="66"/>
                              </a:lnTo>
                              <a:lnTo>
                                <a:pt x="118" y="42"/>
                              </a:lnTo>
                              <a:lnTo>
                                <a:pt x="71" y="62"/>
                              </a:lnTo>
                              <a:lnTo>
                                <a:pt x="105" y="20"/>
                              </a:lnTo>
                              <a:lnTo>
                                <a:pt x="68" y="58"/>
                              </a:lnTo>
                              <a:lnTo>
                                <a:pt x="85" y="5"/>
                              </a:lnTo>
                              <a:lnTo>
                                <a:pt x="64" y="56"/>
                              </a:lnTo>
                              <a:lnTo>
                                <a:pt x="62" y="0"/>
                              </a:lnTo>
                              <a:lnTo>
                                <a:pt x="60" y="56"/>
                              </a:lnTo>
                              <a:lnTo>
                                <a:pt x="38" y="5"/>
                              </a:lnTo>
                              <a:lnTo>
                                <a:pt x="56" y="58"/>
                              </a:lnTo>
                              <a:lnTo>
                                <a:pt x="18" y="20"/>
                              </a:lnTo>
                              <a:lnTo>
                                <a:pt x="53" y="62"/>
                              </a:lnTo>
                              <a:lnTo>
                                <a:pt x="5" y="42"/>
                              </a:lnTo>
                              <a:lnTo>
                                <a:pt x="51" y="66"/>
                              </a:lnTo>
                              <a:lnTo>
                                <a:pt x="0" y="68"/>
                              </a:lnTo>
                              <a:lnTo>
                                <a:pt x="51" y="71"/>
                              </a:lnTo>
                              <a:lnTo>
                                <a:pt x="5" y="94"/>
                              </a:lnTo>
                              <a:lnTo>
                                <a:pt x="53" y="75"/>
                              </a:lnTo>
                              <a:lnTo>
                                <a:pt x="18" y="116"/>
                              </a:lnTo>
                              <a:lnTo>
                                <a:pt x="56" y="78"/>
                              </a:lnTo>
                              <a:lnTo>
                                <a:pt x="38" y="131"/>
                              </a:lnTo>
                              <a:lnTo>
                                <a:pt x="60" y="80"/>
                              </a:lnTo>
                              <a:lnTo>
                                <a:pt x="62" y="136"/>
                              </a:lnTo>
                              <a:lnTo>
                                <a:pt x="64" y="80"/>
                              </a:lnTo>
                              <a:lnTo>
                                <a:pt x="85" y="131"/>
                              </a:lnTo>
                              <a:lnTo>
                                <a:pt x="68" y="78"/>
                              </a:lnTo>
                              <a:lnTo>
                                <a:pt x="105" y="116"/>
                              </a:lnTo>
                              <a:lnTo>
                                <a:pt x="71" y="75"/>
                              </a:lnTo>
                              <a:lnTo>
                                <a:pt x="118" y="94"/>
                              </a:lnTo>
                              <a:lnTo>
                                <a:pt x="72" y="71"/>
                              </a:lnTo>
                              <a:lnTo>
                                <a:pt x="123" y="68"/>
                              </a:lnTo>
                              <a:close/>
                            </a:path>
                          </a:pathLst>
                        </a:custGeom>
                        <a:noFill/>
                        <a:ln cap="rnd"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87" name="Group 430"/>
                    <p:cNvGrpSpPr/>
                    <p:nvPr/>
                  </p:nvGrpSpPr>
                  <p:grpSpPr>
                    <a:xfrm>
                      <a:off x="11696760" y="5175360"/>
                      <a:ext cx="320760" cy="331560"/>
                      <a:chOff x="11696760" y="5175360"/>
                      <a:chExt cx="320760" cy="331560"/>
                    </a:xfrm>
                  </p:grpSpPr>
                  <p:grpSp>
                    <p:nvGrpSpPr>
                      <p:cNvPr id="1288" name="Group 431"/>
                      <p:cNvGrpSpPr/>
                      <p:nvPr/>
                    </p:nvGrpSpPr>
                    <p:grpSpPr>
                      <a:xfrm>
                        <a:off x="11696760" y="5175360"/>
                        <a:ext cx="320760" cy="331560"/>
                        <a:chOff x="11696760" y="5175360"/>
                        <a:chExt cx="320760" cy="331560"/>
                      </a:xfrm>
                    </p:grpSpPr>
                    <p:sp>
                      <p:nvSpPr>
                        <p:cNvPr id="1289" name="Oval 432"/>
                        <p:cNvSpPr/>
                        <p:nvPr/>
                      </p:nvSpPr>
                      <p:spPr>
                        <a:xfrm flipH="1" rot="21396000">
                          <a:off x="11705040" y="5184000"/>
                          <a:ext cx="302760" cy="3142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Oval 433"/>
                        <p:cNvSpPr/>
                        <p:nvPr/>
                      </p:nvSpPr>
                      <p:spPr>
                        <a:xfrm flipH="1" rot="21396000">
                          <a:off x="11705040" y="5184000"/>
                          <a:ext cx="302760" cy="3142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91" name="Group 434"/>
                      <p:cNvGrpSpPr/>
                      <p:nvPr/>
                    </p:nvGrpSpPr>
                    <p:grpSpPr>
                      <a:xfrm>
                        <a:off x="11724840" y="5203440"/>
                        <a:ext cx="266400" cy="275040"/>
                        <a:chOff x="11724840" y="5203440"/>
                        <a:chExt cx="266400" cy="275040"/>
                      </a:xfrm>
                    </p:grpSpPr>
                    <p:sp>
                      <p:nvSpPr>
                        <p:cNvPr id="1292" name="Oval 435"/>
                        <p:cNvSpPr/>
                        <p:nvPr/>
                      </p:nvSpPr>
                      <p:spPr>
                        <a:xfrm flipH="1" rot="21396000">
                          <a:off x="11732040" y="5210280"/>
                          <a:ext cx="25164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Oval 436"/>
                        <p:cNvSpPr/>
                        <p:nvPr/>
                      </p:nvSpPr>
                      <p:spPr>
                        <a:xfrm flipH="1" rot="21396000">
                          <a:off x="11732040" y="5210280"/>
                          <a:ext cx="25164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94" name="Group 437"/>
                    <p:cNvGrpSpPr/>
                    <p:nvPr/>
                  </p:nvGrpSpPr>
                  <p:grpSpPr>
                    <a:xfrm>
                      <a:off x="11724480" y="5204160"/>
                      <a:ext cx="267120" cy="273960"/>
                      <a:chOff x="11724480" y="5204160"/>
                      <a:chExt cx="267120" cy="273960"/>
                    </a:xfrm>
                  </p:grpSpPr>
                  <p:sp>
                    <p:nvSpPr>
                      <p:cNvPr id="1295" name="Freeform 438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6" name="Freeform 439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7" name="Group 440"/>
                    <p:cNvGrpSpPr/>
                    <p:nvPr/>
                  </p:nvGrpSpPr>
                  <p:grpSpPr>
                    <a:xfrm>
                      <a:off x="11696400" y="5175360"/>
                      <a:ext cx="321120" cy="331920"/>
                      <a:chOff x="11696400" y="5175360"/>
                      <a:chExt cx="321120" cy="331920"/>
                    </a:xfrm>
                  </p:grpSpPr>
                  <p:sp>
                    <p:nvSpPr>
                      <p:cNvPr id="1298" name="Oval 441"/>
                      <p:cNvSpPr/>
                      <p:nvPr/>
                    </p:nvSpPr>
                    <p:spPr>
                      <a:xfrm flipH="1" rot="21396000">
                        <a:off x="11705040" y="518400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Oval 442"/>
                      <p:cNvSpPr/>
                      <p:nvPr/>
                    </p:nvSpPr>
                    <p:spPr>
                      <a:xfrm flipH="1" rot="21396000">
                        <a:off x="11705040" y="518400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0" name="Group 443"/>
                    <p:cNvGrpSpPr/>
                    <p:nvPr/>
                  </p:nvGrpSpPr>
                  <p:grpSpPr>
                    <a:xfrm>
                      <a:off x="11724480" y="5204160"/>
                      <a:ext cx="267120" cy="273960"/>
                      <a:chOff x="11724480" y="5204160"/>
                      <a:chExt cx="267120" cy="273960"/>
                    </a:xfrm>
                  </p:grpSpPr>
                  <p:sp>
                    <p:nvSpPr>
                      <p:cNvPr id="1301" name="Oval 444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Oval 445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446"/>
                    <p:cNvGrpSpPr/>
                    <p:nvPr/>
                  </p:nvGrpSpPr>
                  <p:grpSpPr>
                    <a:xfrm>
                      <a:off x="11696400" y="5175360"/>
                      <a:ext cx="321120" cy="331920"/>
                      <a:chOff x="11696400" y="5175360"/>
                      <a:chExt cx="321120" cy="331920"/>
                    </a:xfrm>
                  </p:grpSpPr>
                  <p:sp>
                    <p:nvSpPr>
                      <p:cNvPr id="1304" name="Oval 447"/>
                      <p:cNvSpPr/>
                      <p:nvPr/>
                    </p:nvSpPr>
                    <p:spPr>
                      <a:xfrm flipH="1" rot="21396000">
                        <a:off x="11705040" y="5184000"/>
                        <a:ext cx="303120" cy="31464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Oval 448"/>
                      <p:cNvSpPr/>
                      <p:nvPr/>
                    </p:nvSpPr>
                    <p:spPr>
                      <a:xfrm flipH="1" rot="21396000">
                        <a:off x="11705040" y="5184000"/>
                        <a:ext cx="303120" cy="3146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6" name="Group 449"/>
                    <p:cNvGrpSpPr/>
                    <p:nvPr/>
                  </p:nvGrpSpPr>
                  <p:grpSpPr>
                    <a:xfrm>
                      <a:off x="11724480" y="5204160"/>
                      <a:ext cx="267120" cy="273960"/>
                      <a:chOff x="11724480" y="5204160"/>
                      <a:chExt cx="267120" cy="273960"/>
                    </a:xfrm>
                  </p:grpSpPr>
                  <p:sp>
                    <p:nvSpPr>
                      <p:cNvPr id="1307" name="Oval 450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Oval 451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9" name="Group 452"/>
                    <p:cNvGrpSpPr/>
                    <p:nvPr/>
                  </p:nvGrpSpPr>
                  <p:grpSpPr>
                    <a:xfrm>
                      <a:off x="11724480" y="5204160"/>
                      <a:ext cx="267120" cy="273960"/>
                      <a:chOff x="11724480" y="5204160"/>
                      <a:chExt cx="267120" cy="273960"/>
                    </a:xfrm>
                  </p:grpSpPr>
                  <p:sp>
                    <p:nvSpPr>
                      <p:cNvPr id="1310" name="Freeform 453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1" name="Freeform 454"/>
                      <p:cNvSpPr/>
                      <p:nvPr/>
                    </p:nvSpPr>
                    <p:spPr>
                      <a:xfrm flipH="1" rot="21396000">
                        <a:off x="11731680" y="5211360"/>
                        <a:ext cx="25200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2" name="Group 455"/>
                    <p:cNvGrpSpPr/>
                    <p:nvPr/>
                  </p:nvGrpSpPr>
                  <p:grpSpPr>
                    <a:xfrm>
                      <a:off x="10854720" y="5225040"/>
                      <a:ext cx="324000" cy="331920"/>
                      <a:chOff x="10854720" y="5225040"/>
                      <a:chExt cx="324000" cy="331920"/>
                    </a:xfrm>
                  </p:grpSpPr>
                  <p:grpSp>
                    <p:nvGrpSpPr>
                      <p:cNvPr id="1313" name="Group 456"/>
                      <p:cNvGrpSpPr/>
                      <p:nvPr/>
                    </p:nvGrpSpPr>
                    <p:grpSpPr>
                      <a:xfrm>
                        <a:off x="10854720" y="5225040"/>
                        <a:ext cx="324000" cy="331920"/>
                        <a:chOff x="10854720" y="5225040"/>
                        <a:chExt cx="324000" cy="331920"/>
                      </a:xfrm>
                    </p:grpSpPr>
                    <p:sp>
                      <p:nvSpPr>
                        <p:cNvPr id="1314" name="Oval 457"/>
                        <p:cNvSpPr/>
                        <p:nvPr/>
                      </p:nvSpPr>
                      <p:spPr>
                        <a:xfrm flipH="1" rot="21396000">
                          <a:off x="10863360" y="5233680"/>
                          <a:ext cx="306000" cy="314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5" name="Oval 458"/>
                        <p:cNvSpPr/>
                        <p:nvPr/>
                      </p:nvSpPr>
                      <p:spPr>
                        <a:xfrm flipH="1" rot="21396000">
                          <a:off x="10863360" y="5233680"/>
                          <a:ext cx="306000" cy="314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6" name="Group 459"/>
                      <p:cNvGrpSpPr/>
                      <p:nvPr/>
                    </p:nvGrpSpPr>
                    <p:grpSpPr>
                      <a:xfrm>
                        <a:off x="10883520" y="5253480"/>
                        <a:ext cx="268920" cy="275400"/>
                        <a:chOff x="10883520" y="5253480"/>
                        <a:chExt cx="268920" cy="275400"/>
                      </a:xfrm>
                    </p:grpSpPr>
                    <p:sp>
                      <p:nvSpPr>
                        <p:cNvPr id="1317" name="Oval 460"/>
                        <p:cNvSpPr/>
                        <p:nvPr/>
                      </p:nvSpPr>
                      <p:spPr>
                        <a:xfrm flipH="1" rot="21396000">
                          <a:off x="10890360" y="5260680"/>
                          <a:ext cx="253800" cy="260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8" name="Oval 461"/>
                        <p:cNvSpPr/>
                        <p:nvPr/>
                      </p:nvSpPr>
                      <p:spPr>
                        <a:xfrm flipH="1" rot="21396000">
                          <a:off x="10890360" y="5260680"/>
                          <a:ext cx="253800" cy="260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19" name="Group 462"/>
                    <p:cNvGrpSpPr/>
                    <p:nvPr/>
                  </p:nvGrpSpPr>
                  <p:grpSpPr>
                    <a:xfrm>
                      <a:off x="10883880" y="5254200"/>
                      <a:ext cx="269280" cy="274320"/>
                      <a:chOff x="10883880" y="5254200"/>
                      <a:chExt cx="269280" cy="274320"/>
                    </a:xfrm>
                  </p:grpSpPr>
                  <p:sp>
                    <p:nvSpPr>
                      <p:cNvPr id="1320" name="Freeform 463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Freeform 464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22" name="Group 465"/>
                    <p:cNvGrpSpPr/>
                    <p:nvPr/>
                  </p:nvGrpSpPr>
                  <p:grpSpPr>
                    <a:xfrm>
                      <a:off x="10854360" y="5225040"/>
                      <a:ext cx="324360" cy="332280"/>
                      <a:chOff x="10854360" y="5225040"/>
                      <a:chExt cx="324360" cy="332280"/>
                    </a:xfrm>
                  </p:grpSpPr>
                  <p:sp>
                    <p:nvSpPr>
                      <p:cNvPr id="1323" name="Oval 466"/>
                      <p:cNvSpPr/>
                      <p:nvPr/>
                    </p:nvSpPr>
                    <p:spPr>
                      <a:xfrm flipH="1" rot="21396000">
                        <a:off x="10862640" y="523368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4" name="Oval 467"/>
                      <p:cNvSpPr/>
                      <p:nvPr/>
                    </p:nvSpPr>
                    <p:spPr>
                      <a:xfrm flipH="1" rot="21396000">
                        <a:off x="10862640" y="523368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25" name="Group 468"/>
                    <p:cNvGrpSpPr/>
                    <p:nvPr/>
                  </p:nvGrpSpPr>
                  <p:grpSpPr>
                    <a:xfrm>
                      <a:off x="10883880" y="5254200"/>
                      <a:ext cx="269280" cy="274320"/>
                      <a:chOff x="10883880" y="5254200"/>
                      <a:chExt cx="269280" cy="274320"/>
                    </a:xfrm>
                  </p:grpSpPr>
                  <p:sp>
                    <p:nvSpPr>
                      <p:cNvPr id="1326" name="Oval 469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Oval 470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28" name="Group 471"/>
                    <p:cNvGrpSpPr/>
                    <p:nvPr/>
                  </p:nvGrpSpPr>
                  <p:grpSpPr>
                    <a:xfrm>
                      <a:off x="10854360" y="5225040"/>
                      <a:ext cx="324360" cy="332280"/>
                      <a:chOff x="10854360" y="5225040"/>
                      <a:chExt cx="324360" cy="332280"/>
                    </a:xfrm>
                  </p:grpSpPr>
                  <p:sp>
                    <p:nvSpPr>
                      <p:cNvPr id="1329" name="Oval 472"/>
                      <p:cNvSpPr/>
                      <p:nvPr/>
                    </p:nvSpPr>
                    <p:spPr>
                      <a:xfrm flipH="1" rot="21396000">
                        <a:off x="10862640" y="5233680"/>
                        <a:ext cx="306360" cy="315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Oval 473"/>
                      <p:cNvSpPr/>
                      <p:nvPr/>
                    </p:nvSpPr>
                    <p:spPr>
                      <a:xfrm flipH="1" rot="21396000">
                        <a:off x="10862640" y="5233680"/>
                        <a:ext cx="306360" cy="315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1" name="Group 474"/>
                    <p:cNvGrpSpPr/>
                    <p:nvPr/>
                  </p:nvGrpSpPr>
                  <p:grpSpPr>
                    <a:xfrm>
                      <a:off x="10883880" y="5254200"/>
                      <a:ext cx="269280" cy="274320"/>
                      <a:chOff x="10883880" y="5254200"/>
                      <a:chExt cx="269280" cy="274320"/>
                    </a:xfrm>
                  </p:grpSpPr>
                  <p:sp>
                    <p:nvSpPr>
                      <p:cNvPr id="1332" name="Oval 475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Oval 476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4" name="Group 477"/>
                    <p:cNvGrpSpPr/>
                    <p:nvPr/>
                  </p:nvGrpSpPr>
                  <p:grpSpPr>
                    <a:xfrm>
                      <a:off x="10883880" y="5254200"/>
                      <a:ext cx="269280" cy="274320"/>
                      <a:chOff x="10883880" y="5254200"/>
                      <a:chExt cx="269280" cy="274320"/>
                    </a:xfrm>
                  </p:grpSpPr>
                  <p:sp>
                    <p:nvSpPr>
                      <p:cNvPr id="1335" name="Freeform 478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Freeform 479"/>
                      <p:cNvSpPr/>
                      <p:nvPr/>
                    </p:nvSpPr>
                    <p:spPr>
                      <a:xfrm flipH="1" rot="21396000">
                        <a:off x="10891080" y="5261400"/>
                        <a:ext cx="254160" cy="25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37" name="Freeform 480"/>
                    <p:cNvSpPr/>
                    <p:nvPr/>
                  </p:nvSpPr>
                  <p:spPr>
                    <a:xfrm flipH="1" rot="21396000">
                      <a:off x="12210480" y="5006880"/>
                      <a:ext cx="2880" cy="18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32">
                          <a:moveTo>
                            <a:pt x="0" y="0"/>
                          </a:moveTo>
                          <a:lnTo>
                            <a:pt x="4" y="23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8" name="Group 481"/>
                    <p:cNvGrpSpPr/>
                    <p:nvPr/>
                  </p:nvGrpSpPr>
                  <p:grpSpPr>
                    <a:xfrm>
                      <a:off x="12094920" y="5006880"/>
                      <a:ext cx="241560" cy="232560"/>
                      <a:chOff x="12094920" y="5006880"/>
                      <a:chExt cx="241560" cy="232560"/>
                    </a:xfrm>
                  </p:grpSpPr>
                  <p:sp>
                    <p:nvSpPr>
                      <p:cNvPr id="1339" name="Line 482"/>
                      <p:cNvSpPr/>
                      <p:nvPr/>
                    </p:nvSpPr>
                    <p:spPr>
                      <a:xfrm>
                        <a:off x="12213360" y="5006880"/>
                        <a:ext cx="11520" cy="2325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Freeform 483"/>
                      <p:cNvSpPr/>
                      <p:nvPr/>
                    </p:nvSpPr>
                    <p:spPr>
                      <a:xfrm flipH="1" rot="21396000">
                        <a:off x="12095280" y="5085000"/>
                        <a:ext cx="23976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18">
                            <a:moveTo>
                              <a:pt x="0" y="0"/>
                            </a:moveTo>
                            <a:lnTo>
                              <a:pt x="18" y="0"/>
                            </a:lnTo>
                            <a:lnTo>
                              <a:pt x="18" y="18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  <a:moveTo>
                              <a:pt x="36" y="0"/>
                            </a:moveTo>
                            <a:lnTo>
                              <a:pt x="54" y="0"/>
                            </a:lnTo>
                            <a:lnTo>
                              <a:pt x="54" y="18"/>
                            </a:lnTo>
                            <a:lnTo>
                              <a:pt x="36" y="18"/>
                            </a:lnTo>
                            <a:lnTo>
                              <a:pt x="36" y="0"/>
                            </a:lnTo>
                            <a:close/>
                            <a:moveTo>
                              <a:pt x="72" y="0"/>
                            </a:moveTo>
                            <a:lnTo>
                              <a:pt x="90" y="0"/>
                            </a:lnTo>
                            <a:lnTo>
                              <a:pt x="90" y="18"/>
                            </a:lnTo>
                            <a:lnTo>
                              <a:pt x="72" y="18"/>
                            </a:lnTo>
                            <a:lnTo>
                              <a:pt x="72" y="0"/>
                            </a:lnTo>
                            <a:close/>
                            <a:moveTo>
                              <a:pt x="108" y="0"/>
                            </a:moveTo>
                            <a:lnTo>
                              <a:pt x="126" y="0"/>
                            </a:lnTo>
                            <a:lnTo>
                              <a:pt x="126" y="18"/>
                            </a:lnTo>
                            <a:lnTo>
                              <a:pt x="108" y="18"/>
                            </a:lnTo>
                            <a:lnTo>
                              <a:pt x="108" y="0"/>
                            </a:lnTo>
                            <a:close/>
                            <a:moveTo>
                              <a:pt x="144" y="0"/>
                            </a:moveTo>
                            <a:lnTo>
                              <a:pt x="162" y="0"/>
                            </a:lnTo>
                            <a:lnTo>
                              <a:pt x="162" y="18"/>
                            </a:lnTo>
                            <a:lnTo>
                              <a:pt x="144" y="18"/>
                            </a:lnTo>
                            <a:lnTo>
                              <a:pt x="144" y="0"/>
                            </a:lnTo>
                            <a:close/>
                            <a:moveTo>
                              <a:pt x="180" y="0"/>
                            </a:moveTo>
                            <a:lnTo>
                              <a:pt x="190" y="0"/>
                            </a:lnTo>
                            <a:lnTo>
                              <a:pt x="190" y="18"/>
                            </a:lnTo>
                            <a:lnTo>
                              <a:pt x="180" y="18"/>
                            </a:lnTo>
                            <a:lnTo>
                              <a:pt x="18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41" name="Freeform 484"/>
                    <p:cNvSpPr/>
                    <p:nvPr/>
                  </p:nvSpPr>
                  <p:spPr>
                    <a:xfrm flipH="1" rot="21396000">
                      <a:off x="10720440" y="4681080"/>
                      <a:ext cx="1405800" cy="64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2" h="792">
                          <a:moveTo>
                            <a:pt x="0" y="127"/>
                          </a:moveTo>
                          <a:lnTo>
                            <a:pt x="105" y="0"/>
                          </a:lnTo>
                          <a:lnTo>
                            <a:pt x="1585" y="0"/>
                          </a:lnTo>
                          <a:lnTo>
                            <a:pt x="1782" y="88"/>
                          </a:lnTo>
                          <a:lnTo>
                            <a:pt x="1782" y="660"/>
                          </a:lnTo>
                          <a:lnTo>
                            <a:pt x="1683" y="792"/>
                          </a:lnTo>
                          <a:lnTo>
                            <a:pt x="105" y="792"/>
                          </a:lnTo>
                          <a:lnTo>
                            <a:pt x="6" y="704"/>
                          </a:lnTo>
                          <a:lnTo>
                            <a:pt x="8" y="1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d200"/>
                        </a:gs>
                        <a:gs pos="50000">
                          <a:srgbClr val="008000"/>
                        </a:gs>
                        <a:gs pos="100000">
                          <a:srgbClr val="00d200"/>
                        </a:gs>
                      </a:gsLst>
                      <a:lin ang="27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07932" dir="18900000" blurRad="0" rotWithShape="0">
                        <a:srgbClr val="004800">
                          <a:alpha val="50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42" name="Group 485"/>
                    <p:cNvGrpSpPr/>
                    <p:nvPr/>
                  </p:nvGrpSpPr>
                  <p:grpSpPr>
                    <a:xfrm>
                      <a:off x="10757520" y="4840200"/>
                      <a:ext cx="1296360" cy="267480"/>
                      <a:chOff x="10757520" y="4840200"/>
                      <a:chExt cx="1296360" cy="267480"/>
                    </a:xfrm>
                  </p:grpSpPr>
                  <p:sp>
                    <p:nvSpPr>
                      <p:cNvPr id="1343" name="Rectangle 486"/>
                      <p:cNvSpPr/>
                      <p:nvPr/>
                    </p:nvSpPr>
                    <p:spPr>
                      <a:xfrm flipH="1" rot="21396000">
                        <a:off x="11909520" y="484416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Rectangle 487"/>
                      <p:cNvSpPr/>
                      <p:nvPr/>
                    </p:nvSpPr>
                    <p:spPr>
                      <a:xfrm flipH="1" rot="21396000">
                        <a:off x="11747520" y="485388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Rectangle 488"/>
                      <p:cNvSpPr/>
                      <p:nvPr/>
                    </p:nvSpPr>
                    <p:spPr>
                      <a:xfrm flipH="1" rot="21396000">
                        <a:off x="11585160" y="4863240"/>
                        <a:ext cx="13860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Rectangle 489"/>
                      <p:cNvSpPr/>
                      <p:nvPr/>
                    </p:nvSpPr>
                    <p:spPr>
                      <a:xfrm flipH="1" rot="21396000">
                        <a:off x="11417400" y="487332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Rectangle 490"/>
                      <p:cNvSpPr/>
                      <p:nvPr/>
                    </p:nvSpPr>
                    <p:spPr>
                      <a:xfrm flipH="1" rot="21396000">
                        <a:off x="11249280" y="488340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Rectangle 491"/>
                      <p:cNvSpPr/>
                      <p:nvPr/>
                    </p:nvSpPr>
                    <p:spPr>
                      <a:xfrm flipH="1" rot="21396000">
                        <a:off x="11087280" y="489276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Rectangle 492"/>
                      <p:cNvSpPr/>
                      <p:nvPr/>
                    </p:nvSpPr>
                    <p:spPr>
                      <a:xfrm flipH="1" rot="21396000">
                        <a:off x="10762920" y="491220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Rectangle 493"/>
                      <p:cNvSpPr/>
                      <p:nvPr/>
                    </p:nvSpPr>
                    <p:spPr>
                      <a:xfrm flipH="1" rot="21396000">
                        <a:off x="10925280" y="4902480"/>
                        <a:ext cx="139320" cy="1915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1" name="Group 494"/>
                    <p:cNvGrpSpPr/>
                    <p:nvPr/>
                  </p:nvGrpSpPr>
                  <p:grpSpPr>
                    <a:xfrm>
                      <a:off x="11684880" y="4557960"/>
                      <a:ext cx="153360" cy="146520"/>
                      <a:chOff x="11684880" y="4557960"/>
                      <a:chExt cx="153360" cy="146520"/>
                    </a:xfrm>
                  </p:grpSpPr>
                  <p:sp>
                    <p:nvSpPr>
                      <p:cNvPr id="1352" name="Oval 495"/>
                      <p:cNvSpPr/>
                      <p:nvPr/>
                    </p:nvSpPr>
                    <p:spPr>
                      <a:xfrm flipH="1" rot="21396000">
                        <a:off x="11685960" y="456228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Freeform 496"/>
                      <p:cNvSpPr/>
                      <p:nvPr/>
                    </p:nvSpPr>
                    <p:spPr>
                      <a:xfrm flipH="1" rot="21396000">
                        <a:off x="11725920" y="456228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4" name="Freeform 497"/>
                    <p:cNvSpPr/>
                    <p:nvPr/>
                  </p:nvSpPr>
                  <p:spPr>
                    <a:xfrm flipH="1" rot="21396000">
                      <a:off x="10739880" y="5250240"/>
                      <a:ext cx="13633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8" h="1">
                          <a:moveTo>
                            <a:pt x="0" y="0"/>
                          </a:moveTo>
                          <a:cubicBezTo>
                            <a:pt x="0" y="0"/>
                            <a:pt x="864" y="0"/>
                            <a:pt x="1728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Freeform 498"/>
                    <p:cNvSpPr/>
                    <p:nvPr/>
                  </p:nvSpPr>
                  <p:spPr>
                    <a:xfrm flipH="1" rot="21396000">
                      <a:off x="10712160" y="4779000"/>
                      <a:ext cx="1389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2" h="1">
                          <a:moveTo>
                            <a:pt x="0" y="0"/>
                          </a:moveTo>
                          <a:cubicBezTo>
                            <a:pt x="293" y="0"/>
                            <a:pt x="1395" y="0"/>
                            <a:pt x="1762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56" name="Group 499"/>
                    <p:cNvGrpSpPr/>
                    <p:nvPr/>
                  </p:nvGrpSpPr>
                  <p:grpSpPr>
                    <a:xfrm>
                      <a:off x="10966680" y="4600800"/>
                      <a:ext cx="153360" cy="146160"/>
                      <a:chOff x="10966680" y="4600800"/>
                      <a:chExt cx="153360" cy="146160"/>
                    </a:xfrm>
                  </p:grpSpPr>
                  <p:sp>
                    <p:nvSpPr>
                      <p:cNvPr id="1357" name="Oval 500"/>
                      <p:cNvSpPr/>
                      <p:nvPr/>
                    </p:nvSpPr>
                    <p:spPr>
                      <a:xfrm flipH="1" rot="21396000">
                        <a:off x="10967760" y="4605120"/>
                        <a:ext cx="151200" cy="39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080" bIns="-190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8" name="Freeform 501"/>
                      <p:cNvSpPr/>
                      <p:nvPr/>
                    </p:nvSpPr>
                    <p:spPr>
                      <a:xfrm flipH="1" rot="21396000">
                        <a:off x="11007720" y="4604760"/>
                        <a:ext cx="75600" cy="14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71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82" y="156"/>
                            </a:lnTo>
                            <a:lnTo>
                              <a:pt x="4" y="171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9" name="Freeform 502"/>
                    <p:cNvSpPr/>
                    <p:nvPr/>
                  </p:nvSpPr>
                  <p:spPr>
                    <a:xfrm flipH="1" rot="21396000">
                      <a:off x="11929320" y="5061960"/>
                      <a:ext cx="126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1">
                          <a:moveTo>
                            <a:pt x="0" y="31"/>
                          </a:moveTo>
                          <a:cubicBezTo>
                            <a:pt x="5" y="21"/>
                            <a:pt x="16" y="0"/>
                            <a:pt x="16" y="0"/>
                          </a:cubicBezTo>
                          <a:cubicBezTo>
                            <a:pt x="16" y="0"/>
                            <a:pt x="5" y="21"/>
                            <a:pt x="0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Freeform 503"/>
                    <p:cNvSpPr/>
                    <p:nvPr/>
                  </p:nvSpPr>
                  <p:spPr>
                    <a:xfrm flipH="1" rot="21396000">
                      <a:off x="11900160" y="4784760"/>
                      <a:ext cx="168840" cy="43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528">
                          <a:moveTo>
                            <a:pt x="214" y="528"/>
                          </a:moveTo>
                          <a:lnTo>
                            <a:pt x="214" y="0"/>
                          </a:lnTo>
                          <a:lnTo>
                            <a:pt x="0" y="2"/>
                          </a:lnTo>
                          <a:lnTo>
                            <a:pt x="0" y="527"/>
                          </a:lnTo>
                          <a:lnTo>
                            <a:pt x="214" y="528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1" name="Group 504"/>
                  <p:cNvGrpSpPr/>
                  <p:nvPr/>
                </p:nvGrpSpPr>
                <p:grpSpPr>
                  <a:xfrm>
                    <a:off x="13720680" y="4910400"/>
                    <a:ext cx="241560" cy="232200"/>
                    <a:chOff x="13720680" y="4910400"/>
                    <a:chExt cx="241560" cy="232200"/>
                  </a:xfrm>
                </p:grpSpPr>
                <p:sp>
                  <p:nvSpPr>
                    <p:cNvPr id="1362" name="Line 505"/>
                    <p:cNvSpPr/>
                    <p:nvPr/>
                  </p:nvSpPr>
                  <p:spPr>
                    <a:xfrm>
                      <a:off x="13839120" y="4910400"/>
                      <a:ext cx="11520" cy="232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Freeform 506"/>
                    <p:cNvSpPr/>
                    <p:nvPr/>
                  </p:nvSpPr>
                  <p:spPr>
                    <a:xfrm flipH="1" rot="21396000">
                      <a:off x="13721040" y="4988520"/>
                      <a:ext cx="239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64" name="Group 507"/>
              <p:cNvGrpSpPr/>
              <p:nvPr/>
            </p:nvGrpSpPr>
            <p:grpSpPr>
              <a:xfrm>
                <a:off x="8753040" y="4557600"/>
                <a:ext cx="1895760" cy="1113840"/>
                <a:chOff x="8753040" y="4557600"/>
                <a:chExt cx="1895760" cy="1113840"/>
              </a:xfrm>
            </p:grpSpPr>
            <p:grpSp>
              <p:nvGrpSpPr>
                <p:cNvPr id="1365" name="Group 508"/>
                <p:cNvGrpSpPr/>
                <p:nvPr/>
              </p:nvGrpSpPr>
              <p:grpSpPr>
                <a:xfrm>
                  <a:off x="9254880" y="5300640"/>
                  <a:ext cx="341640" cy="352440"/>
                  <a:chOff x="9254880" y="5300640"/>
                  <a:chExt cx="341640" cy="352440"/>
                </a:xfrm>
              </p:grpSpPr>
              <p:grpSp>
                <p:nvGrpSpPr>
                  <p:cNvPr id="1366" name="Group 509"/>
                  <p:cNvGrpSpPr/>
                  <p:nvPr/>
                </p:nvGrpSpPr>
                <p:grpSpPr>
                  <a:xfrm>
                    <a:off x="9255600" y="5300640"/>
                    <a:ext cx="340920" cy="351360"/>
                    <a:chOff x="9255600" y="5300640"/>
                    <a:chExt cx="340920" cy="351360"/>
                  </a:xfrm>
                </p:grpSpPr>
                <p:grpSp>
                  <p:nvGrpSpPr>
                    <p:cNvPr id="1367" name="Group 510"/>
                    <p:cNvGrpSpPr/>
                    <p:nvPr/>
                  </p:nvGrpSpPr>
                  <p:grpSpPr>
                    <a:xfrm>
                      <a:off x="9255600" y="5300640"/>
                      <a:ext cx="340920" cy="351360"/>
                      <a:chOff x="9255600" y="5300640"/>
                      <a:chExt cx="340920" cy="351360"/>
                    </a:xfrm>
                  </p:grpSpPr>
                  <p:grpSp>
                    <p:nvGrpSpPr>
                      <p:cNvPr id="1368" name="Group 511"/>
                      <p:cNvGrpSpPr/>
                      <p:nvPr/>
                    </p:nvGrpSpPr>
                    <p:grpSpPr>
                      <a:xfrm>
                        <a:off x="9255600" y="5300640"/>
                        <a:ext cx="340920" cy="351360"/>
                        <a:chOff x="9255600" y="5300640"/>
                        <a:chExt cx="340920" cy="351360"/>
                      </a:xfrm>
                    </p:grpSpPr>
                    <p:sp>
                      <p:nvSpPr>
                        <p:cNvPr id="1369" name="Oval 512"/>
                        <p:cNvSpPr/>
                        <p:nvPr/>
                      </p:nvSpPr>
                      <p:spPr>
                        <a:xfrm flipH="1" rot="21396000">
                          <a:off x="9264600" y="5309640"/>
                          <a:ext cx="321840" cy="3330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0" name="Oval 513"/>
                        <p:cNvSpPr/>
                        <p:nvPr/>
                      </p:nvSpPr>
                      <p:spPr>
                        <a:xfrm flipH="1" rot="21396000">
                          <a:off x="9264600" y="5309640"/>
                          <a:ext cx="321840" cy="3330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71" name="Group 514"/>
                      <p:cNvGrpSpPr/>
                      <p:nvPr/>
                    </p:nvGrpSpPr>
                    <p:grpSpPr>
                      <a:xfrm>
                        <a:off x="9285480" y="5330520"/>
                        <a:ext cx="282960" cy="291960"/>
                        <a:chOff x="9285480" y="5330520"/>
                        <a:chExt cx="282960" cy="291960"/>
                      </a:xfrm>
                    </p:grpSpPr>
                    <p:sp>
                      <p:nvSpPr>
                        <p:cNvPr id="1372" name="Oval 515"/>
                        <p:cNvSpPr/>
                        <p:nvPr/>
                      </p:nvSpPr>
                      <p:spPr>
                        <a:xfrm flipH="1" rot="21396000">
                          <a:off x="9293040" y="5338080"/>
                          <a:ext cx="267120" cy="2764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3" name="Oval 516"/>
                        <p:cNvSpPr/>
                        <p:nvPr/>
                      </p:nvSpPr>
                      <p:spPr>
                        <a:xfrm flipH="1" rot="21396000">
                          <a:off x="9293040" y="5338080"/>
                          <a:ext cx="267120" cy="2764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74" name="Group 517"/>
                    <p:cNvGrpSpPr/>
                    <p:nvPr/>
                  </p:nvGrpSpPr>
                  <p:grpSpPr>
                    <a:xfrm>
                      <a:off x="9285120" y="5330520"/>
                      <a:ext cx="283320" cy="291960"/>
                      <a:chOff x="9285120" y="5330520"/>
                      <a:chExt cx="283320" cy="291960"/>
                    </a:xfrm>
                  </p:grpSpPr>
                  <p:sp>
                    <p:nvSpPr>
                      <p:cNvPr id="1375" name="Freeform 518"/>
                      <p:cNvSpPr/>
                      <p:nvPr/>
                    </p:nvSpPr>
                    <p:spPr>
                      <a:xfrm flipH="1" rot="21396000">
                        <a:off x="9292320" y="5338080"/>
                        <a:ext cx="26748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Freeform 519"/>
                      <p:cNvSpPr/>
                      <p:nvPr/>
                    </p:nvSpPr>
                    <p:spPr>
                      <a:xfrm flipH="1" rot="21396000">
                        <a:off x="9292320" y="5338080"/>
                        <a:ext cx="26748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77" name="Group 520"/>
                  <p:cNvGrpSpPr/>
                  <p:nvPr/>
                </p:nvGrpSpPr>
                <p:grpSpPr>
                  <a:xfrm>
                    <a:off x="9255240" y="5300640"/>
                    <a:ext cx="341280" cy="351720"/>
                    <a:chOff x="9255240" y="5300640"/>
                    <a:chExt cx="341280" cy="351720"/>
                  </a:xfrm>
                </p:grpSpPr>
                <p:grpSp>
                  <p:nvGrpSpPr>
                    <p:cNvPr id="1378" name="Group 521"/>
                    <p:cNvGrpSpPr/>
                    <p:nvPr/>
                  </p:nvGrpSpPr>
                  <p:grpSpPr>
                    <a:xfrm>
                      <a:off x="9255240" y="5300640"/>
                      <a:ext cx="341280" cy="351720"/>
                      <a:chOff x="9255240" y="5300640"/>
                      <a:chExt cx="341280" cy="351720"/>
                    </a:xfrm>
                  </p:grpSpPr>
                  <p:sp>
                    <p:nvSpPr>
                      <p:cNvPr id="1379" name="Oval 522"/>
                      <p:cNvSpPr/>
                      <p:nvPr/>
                    </p:nvSpPr>
                    <p:spPr>
                      <a:xfrm flipH="1" rot="21396000">
                        <a:off x="9264600" y="5309640"/>
                        <a:ext cx="322200" cy="333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0" name="Oval 523"/>
                      <p:cNvSpPr/>
                      <p:nvPr/>
                    </p:nvSpPr>
                    <p:spPr>
                      <a:xfrm flipH="1" rot="21396000">
                        <a:off x="9264600" y="5309640"/>
                        <a:ext cx="322200" cy="333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1" name="Group 524"/>
                    <p:cNvGrpSpPr/>
                    <p:nvPr/>
                  </p:nvGrpSpPr>
                  <p:grpSpPr>
                    <a:xfrm>
                      <a:off x="9285120" y="5330520"/>
                      <a:ext cx="283320" cy="291960"/>
                      <a:chOff x="9285120" y="5330520"/>
                      <a:chExt cx="283320" cy="291960"/>
                    </a:xfrm>
                  </p:grpSpPr>
                  <p:sp>
                    <p:nvSpPr>
                      <p:cNvPr id="1382" name="Oval 525"/>
                      <p:cNvSpPr/>
                      <p:nvPr/>
                    </p:nvSpPr>
                    <p:spPr>
                      <a:xfrm flipH="1" rot="21396000">
                        <a:off x="9292320" y="5338080"/>
                        <a:ext cx="267480" cy="276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Oval 526"/>
                      <p:cNvSpPr/>
                      <p:nvPr/>
                    </p:nvSpPr>
                    <p:spPr>
                      <a:xfrm flipH="1" rot="21396000">
                        <a:off x="9292320" y="5338080"/>
                        <a:ext cx="267480" cy="2764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4" name="Group 527"/>
                  <p:cNvGrpSpPr/>
                  <p:nvPr/>
                </p:nvGrpSpPr>
                <p:grpSpPr>
                  <a:xfrm>
                    <a:off x="9285120" y="5331240"/>
                    <a:ext cx="284040" cy="290880"/>
                    <a:chOff x="9285120" y="5331240"/>
                    <a:chExt cx="284040" cy="290880"/>
                  </a:xfrm>
                </p:grpSpPr>
                <p:sp>
                  <p:nvSpPr>
                    <p:cNvPr id="1385" name="Freeform 528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29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30"/>
                  <p:cNvGrpSpPr/>
                  <p:nvPr/>
                </p:nvGrpSpPr>
                <p:grpSpPr>
                  <a:xfrm>
                    <a:off x="9254880" y="5300640"/>
                    <a:ext cx="341640" cy="352440"/>
                    <a:chOff x="9254880" y="5300640"/>
                    <a:chExt cx="341640" cy="352440"/>
                  </a:xfrm>
                </p:grpSpPr>
                <p:sp>
                  <p:nvSpPr>
                    <p:cNvPr id="1388" name="Oval 531"/>
                    <p:cNvSpPr/>
                    <p:nvPr/>
                  </p:nvSpPr>
                  <p:spPr>
                    <a:xfrm flipH="1" rot="21396000">
                      <a:off x="9263880" y="5309640"/>
                      <a:ext cx="322560" cy="3340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Oval 532"/>
                    <p:cNvSpPr/>
                    <p:nvPr/>
                  </p:nvSpPr>
                  <p:spPr>
                    <a:xfrm flipH="1" rot="21396000">
                      <a:off x="9263880" y="5309640"/>
                      <a:ext cx="322560" cy="334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33"/>
                  <p:cNvGrpSpPr/>
                  <p:nvPr/>
                </p:nvGrpSpPr>
                <p:grpSpPr>
                  <a:xfrm>
                    <a:off x="9285120" y="5331240"/>
                    <a:ext cx="284040" cy="290880"/>
                    <a:chOff x="9285120" y="5331240"/>
                    <a:chExt cx="284040" cy="290880"/>
                  </a:xfrm>
                </p:grpSpPr>
                <p:sp>
                  <p:nvSpPr>
                    <p:cNvPr id="1391" name="Oval 534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Oval 535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36"/>
                  <p:cNvGrpSpPr/>
                  <p:nvPr/>
                </p:nvGrpSpPr>
                <p:grpSpPr>
                  <a:xfrm>
                    <a:off x="9254880" y="5300640"/>
                    <a:ext cx="341640" cy="352440"/>
                    <a:chOff x="9254880" y="5300640"/>
                    <a:chExt cx="341640" cy="352440"/>
                  </a:xfrm>
                </p:grpSpPr>
                <p:sp>
                  <p:nvSpPr>
                    <p:cNvPr id="1394" name="Oval 537"/>
                    <p:cNvSpPr/>
                    <p:nvPr/>
                  </p:nvSpPr>
                  <p:spPr>
                    <a:xfrm flipH="1" rot="21396000">
                      <a:off x="9263880" y="5309640"/>
                      <a:ext cx="322560" cy="3340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Oval 538"/>
                    <p:cNvSpPr/>
                    <p:nvPr/>
                  </p:nvSpPr>
                  <p:spPr>
                    <a:xfrm flipH="1" rot="21396000">
                      <a:off x="9263880" y="5309640"/>
                      <a:ext cx="322560" cy="334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539"/>
                  <p:cNvGrpSpPr/>
                  <p:nvPr/>
                </p:nvGrpSpPr>
                <p:grpSpPr>
                  <a:xfrm>
                    <a:off x="9285120" y="5331240"/>
                    <a:ext cx="284040" cy="290880"/>
                    <a:chOff x="9285120" y="5331240"/>
                    <a:chExt cx="284040" cy="290880"/>
                  </a:xfrm>
                </p:grpSpPr>
                <p:sp>
                  <p:nvSpPr>
                    <p:cNvPr id="1397" name="Oval 540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Oval 541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542"/>
                  <p:cNvGrpSpPr/>
                  <p:nvPr/>
                </p:nvGrpSpPr>
                <p:grpSpPr>
                  <a:xfrm>
                    <a:off x="9285120" y="5331240"/>
                    <a:ext cx="284040" cy="290880"/>
                    <a:chOff x="9285120" y="5331240"/>
                    <a:chExt cx="284040" cy="290880"/>
                  </a:xfrm>
                </p:grpSpPr>
                <p:sp>
                  <p:nvSpPr>
                    <p:cNvPr id="1400" name="Freeform 543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544"/>
                    <p:cNvSpPr/>
                    <p:nvPr/>
                  </p:nvSpPr>
                  <p:spPr>
                    <a:xfrm flipH="1" rot="21396000">
                      <a:off x="9292320" y="5338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2" name="Group 545"/>
                <p:cNvGrpSpPr/>
                <p:nvPr/>
              </p:nvGrpSpPr>
              <p:grpSpPr>
                <a:xfrm>
                  <a:off x="9708480" y="5273640"/>
                  <a:ext cx="341640" cy="352440"/>
                  <a:chOff x="9708480" y="5273640"/>
                  <a:chExt cx="341640" cy="352440"/>
                </a:xfrm>
              </p:grpSpPr>
              <p:grpSp>
                <p:nvGrpSpPr>
                  <p:cNvPr id="1403" name="Group 546"/>
                  <p:cNvGrpSpPr/>
                  <p:nvPr/>
                </p:nvGrpSpPr>
                <p:grpSpPr>
                  <a:xfrm>
                    <a:off x="9709200" y="5273640"/>
                    <a:ext cx="340920" cy="351360"/>
                    <a:chOff x="9709200" y="5273640"/>
                    <a:chExt cx="340920" cy="351360"/>
                  </a:xfrm>
                </p:grpSpPr>
                <p:grpSp>
                  <p:nvGrpSpPr>
                    <p:cNvPr id="1404" name="Group 547"/>
                    <p:cNvGrpSpPr/>
                    <p:nvPr/>
                  </p:nvGrpSpPr>
                  <p:grpSpPr>
                    <a:xfrm>
                      <a:off x="9709200" y="5273640"/>
                      <a:ext cx="340920" cy="351360"/>
                      <a:chOff x="9709200" y="5273640"/>
                      <a:chExt cx="340920" cy="351360"/>
                    </a:xfrm>
                  </p:grpSpPr>
                  <p:grpSp>
                    <p:nvGrpSpPr>
                      <p:cNvPr id="1405" name="Group 548"/>
                      <p:cNvGrpSpPr/>
                      <p:nvPr/>
                    </p:nvGrpSpPr>
                    <p:grpSpPr>
                      <a:xfrm>
                        <a:off x="9709200" y="5273640"/>
                        <a:ext cx="340920" cy="351360"/>
                        <a:chOff x="9709200" y="5273640"/>
                        <a:chExt cx="340920" cy="351360"/>
                      </a:xfrm>
                    </p:grpSpPr>
                    <p:sp>
                      <p:nvSpPr>
                        <p:cNvPr id="1406" name="Oval 549"/>
                        <p:cNvSpPr/>
                        <p:nvPr/>
                      </p:nvSpPr>
                      <p:spPr>
                        <a:xfrm flipH="1" rot="21396000">
                          <a:off x="9718200" y="5282640"/>
                          <a:ext cx="321840" cy="3330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7" name="Oval 550"/>
                        <p:cNvSpPr/>
                        <p:nvPr/>
                      </p:nvSpPr>
                      <p:spPr>
                        <a:xfrm flipH="1" rot="21396000">
                          <a:off x="9718200" y="5282640"/>
                          <a:ext cx="321840" cy="3330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8" name="Group 551"/>
                      <p:cNvGrpSpPr/>
                      <p:nvPr/>
                    </p:nvGrpSpPr>
                    <p:grpSpPr>
                      <a:xfrm>
                        <a:off x="9739440" y="5303520"/>
                        <a:ext cx="282960" cy="291960"/>
                        <a:chOff x="9739440" y="5303520"/>
                        <a:chExt cx="282960" cy="291960"/>
                      </a:xfrm>
                    </p:grpSpPr>
                    <p:sp>
                      <p:nvSpPr>
                        <p:cNvPr id="1409" name="Oval 552"/>
                        <p:cNvSpPr/>
                        <p:nvPr/>
                      </p:nvSpPr>
                      <p:spPr>
                        <a:xfrm flipH="1" rot="21396000">
                          <a:off x="9747000" y="5311080"/>
                          <a:ext cx="267120" cy="2764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0" name="Oval 553"/>
                        <p:cNvSpPr/>
                        <p:nvPr/>
                      </p:nvSpPr>
                      <p:spPr>
                        <a:xfrm flipH="1" rot="21396000">
                          <a:off x="9747000" y="5311080"/>
                          <a:ext cx="267120" cy="27648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1" name="Group 554"/>
                    <p:cNvGrpSpPr/>
                    <p:nvPr/>
                  </p:nvGrpSpPr>
                  <p:grpSpPr>
                    <a:xfrm>
                      <a:off x="9739080" y="5303520"/>
                      <a:ext cx="283320" cy="291960"/>
                      <a:chOff x="9739080" y="5303520"/>
                      <a:chExt cx="283320" cy="291960"/>
                    </a:xfrm>
                  </p:grpSpPr>
                  <p:sp>
                    <p:nvSpPr>
                      <p:cNvPr id="1412" name="Freeform 555"/>
                      <p:cNvSpPr/>
                      <p:nvPr/>
                    </p:nvSpPr>
                    <p:spPr>
                      <a:xfrm flipH="1" rot="21396000">
                        <a:off x="9746280" y="5311080"/>
                        <a:ext cx="26748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3" name="Freeform 556"/>
                      <p:cNvSpPr/>
                      <p:nvPr/>
                    </p:nvSpPr>
                    <p:spPr>
                      <a:xfrm flipH="1" rot="21396000">
                        <a:off x="9746280" y="5311080"/>
                        <a:ext cx="26748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14" name="Group 557"/>
                  <p:cNvGrpSpPr/>
                  <p:nvPr/>
                </p:nvGrpSpPr>
                <p:grpSpPr>
                  <a:xfrm>
                    <a:off x="9708840" y="5273640"/>
                    <a:ext cx="341280" cy="351720"/>
                    <a:chOff x="9708840" y="5273640"/>
                    <a:chExt cx="341280" cy="351720"/>
                  </a:xfrm>
                </p:grpSpPr>
                <p:grpSp>
                  <p:nvGrpSpPr>
                    <p:cNvPr id="1415" name="Group 558"/>
                    <p:cNvGrpSpPr/>
                    <p:nvPr/>
                  </p:nvGrpSpPr>
                  <p:grpSpPr>
                    <a:xfrm>
                      <a:off x="9708840" y="5273640"/>
                      <a:ext cx="341280" cy="351720"/>
                      <a:chOff x="9708840" y="5273640"/>
                      <a:chExt cx="341280" cy="351720"/>
                    </a:xfrm>
                  </p:grpSpPr>
                  <p:sp>
                    <p:nvSpPr>
                      <p:cNvPr id="1416" name="Oval 559"/>
                      <p:cNvSpPr/>
                      <p:nvPr/>
                    </p:nvSpPr>
                    <p:spPr>
                      <a:xfrm flipH="1" rot="21396000">
                        <a:off x="9718200" y="5282640"/>
                        <a:ext cx="322200" cy="3333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7" name="Oval 560"/>
                      <p:cNvSpPr/>
                      <p:nvPr/>
                    </p:nvSpPr>
                    <p:spPr>
                      <a:xfrm flipH="1" rot="21396000">
                        <a:off x="9718200" y="5282640"/>
                        <a:ext cx="322200" cy="3333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18" name="Group 561"/>
                    <p:cNvGrpSpPr/>
                    <p:nvPr/>
                  </p:nvGrpSpPr>
                  <p:grpSpPr>
                    <a:xfrm>
                      <a:off x="9739080" y="5303520"/>
                      <a:ext cx="283320" cy="291960"/>
                      <a:chOff x="9739080" y="5303520"/>
                      <a:chExt cx="283320" cy="291960"/>
                    </a:xfrm>
                  </p:grpSpPr>
                  <p:sp>
                    <p:nvSpPr>
                      <p:cNvPr id="1419" name="Oval 562"/>
                      <p:cNvSpPr/>
                      <p:nvPr/>
                    </p:nvSpPr>
                    <p:spPr>
                      <a:xfrm flipH="1" rot="21396000">
                        <a:off x="9746280" y="5311080"/>
                        <a:ext cx="267480" cy="276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0" name="Oval 563"/>
                      <p:cNvSpPr/>
                      <p:nvPr/>
                    </p:nvSpPr>
                    <p:spPr>
                      <a:xfrm flipH="1" rot="21396000">
                        <a:off x="9746280" y="5311080"/>
                        <a:ext cx="267480" cy="2764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21" name="Group 564"/>
                  <p:cNvGrpSpPr/>
                  <p:nvPr/>
                </p:nvGrpSpPr>
                <p:grpSpPr>
                  <a:xfrm>
                    <a:off x="9739080" y="5304240"/>
                    <a:ext cx="284040" cy="290880"/>
                    <a:chOff x="9739080" y="5304240"/>
                    <a:chExt cx="284040" cy="290880"/>
                  </a:xfrm>
                </p:grpSpPr>
                <p:sp>
                  <p:nvSpPr>
                    <p:cNvPr id="1422" name="Freeform 565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Freeform 566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4" name="Group 567"/>
                  <p:cNvGrpSpPr/>
                  <p:nvPr/>
                </p:nvGrpSpPr>
                <p:grpSpPr>
                  <a:xfrm>
                    <a:off x="9708480" y="5273640"/>
                    <a:ext cx="341640" cy="352440"/>
                    <a:chOff x="9708480" y="5273640"/>
                    <a:chExt cx="341640" cy="352440"/>
                  </a:xfrm>
                </p:grpSpPr>
                <p:sp>
                  <p:nvSpPr>
                    <p:cNvPr id="1425" name="Oval 568"/>
                    <p:cNvSpPr/>
                    <p:nvPr/>
                  </p:nvSpPr>
                  <p:spPr>
                    <a:xfrm flipH="1" rot="21396000">
                      <a:off x="9717480" y="5282640"/>
                      <a:ext cx="322560" cy="3340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6" name="Oval 569"/>
                    <p:cNvSpPr/>
                    <p:nvPr/>
                  </p:nvSpPr>
                  <p:spPr>
                    <a:xfrm flipH="1" rot="21396000">
                      <a:off x="9717480" y="5282640"/>
                      <a:ext cx="322560" cy="334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7" name="Group 570"/>
                  <p:cNvGrpSpPr/>
                  <p:nvPr/>
                </p:nvGrpSpPr>
                <p:grpSpPr>
                  <a:xfrm>
                    <a:off x="9739080" y="5304240"/>
                    <a:ext cx="284040" cy="290880"/>
                    <a:chOff x="9739080" y="5304240"/>
                    <a:chExt cx="284040" cy="290880"/>
                  </a:xfrm>
                </p:grpSpPr>
                <p:sp>
                  <p:nvSpPr>
                    <p:cNvPr id="1428" name="Oval 571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Oval 572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0" name="Group 573"/>
                  <p:cNvGrpSpPr/>
                  <p:nvPr/>
                </p:nvGrpSpPr>
                <p:grpSpPr>
                  <a:xfrm>
                    <a:off x="9708480" y="5273640"/>
                    <a:ext cx="341640" cy="352440"/>
                    <a:chOff x="9708480" y="5273640"/>
                    <a:chExt cx="341640" cy="352440"/>
                  </a:xfrm>
                </p:grpSpPr>
                <p:sp>
                  <p:nvSpPr>
                    <p:cNvPr id="1431" name="Oval 574"/>
                    <p:cNvSpPr/>
                    <p:nvPr/>
                  </p:nvSpPr>
                  <p:spPr>
                    <a:xfrm flipH="1" rot="21396000">
                      <a:off x="9717480" y="5282640"/>
                      <a:ext cx="322560" cy="3340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Oval 575"/>
                    <p:cNvSpPr/>
                    <p:nvPr/>
                  </p:nvSpPr>
                  <p:spPr>
                    <a:xfrm flipH="1" rot="21396000">
                      <a:off x="9717480" y="5282640"/>
                      <a:ext cx="322560" cy="3340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3" name="Group 576"/>
                  <p:cNvGrpSpPr/>
                  <p:nvPr/>
                </p:nvGrpSpPr>
                <p:grpSpPr>
                  <a:xfrm>
                    <a:off x="9739080" y="5304240"/>
                    <a:ext cx="284040" cy="290880"/>
                    <a:chOff x="9739080" y="5304240"/>
                    <a:chExt cx="284040" cy="290880"/>
                  </a:xfrm>
                </p:grpSpPr>
                <p:sp>
                  <p:nvSpPr>
                    <p:cNvPr id="1434" name="Oval 577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Oval 578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6" name="Group 579"/>
                  <p:cNvGrpSpPr/>
                  <p:nvPr/>
                </p:nvGrpSpPr>
                <p:grpSpPr>
                  <a:xfrm>
                    <a:off x="9739080" y="5304240"/>
                    <a:ext cx="284040" cy="290880"/>
                    <a:chOff x="9739080" y="5304240"/>
                    <a:chExt cx="284040" cy="290880"/>
                  </a:xfrm>
                </p:grpSpPr>
                <p:sp>
                  <p:nvSpPr>
                    <p:cNvPr id="1437" name="Freeform 580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Freeform 581"/>
                    <p:cNvSpPr/>
                    <p:nvPr/>
                  </p:nvSpPr>
                  <p:spPr>
                    <a:xfrm flipH="1" rot="21396000">
                      <a:off x="9746280" y="5311800"/>
                      <a:ext cx="268200" cy="27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9" name="Group 582"/>
                <p:cNvGrpSpPr/>
                <p:nvPr/>
              </p:nvGrpSpPr>
              <p:grpSpPr>
                <a:xfrm>
                  <a:off x="8763480" y="5175000"/>
                  <a:ext cx="254520" cy="246600"/>
                  <a:chOff x="8763480" y="5175000"/>
                  <a:chExt cx="254520" cy="246600"/>
                </a:xfrm>
              </p:grpSpPr>
              <p:sp>
                <p:nvSpPr>
                  <p:cNvPr id="1440" name="Line 583"/>
                  <p:cNvSpPr/>
                  <p:nvPr/>
                </p:nvSpPr>
                <p:spPr>
                  <a:xfrm>
                    <a:off x="8887680" y="5175000"/>
                    <a:ext cx="12600" cy="2466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584"/>
                  <p:cNvSpPr/>
                  <p:nvPr/>
                </p:nvSpPr>
                <p:spPr>
                  <a:xfrm flipH="1" rot="21396000">
                    <a:off x="8763840" y="5257800"/>
                    <a:ext cx="252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2" name="Group 585"/>
                <p:cNvGrpSpPr/>
                <p:nvPr/>
              </p:nvGrpSpPr>
              <p:grpSpPr>
                <a:xfrm>
                  <a:off x="10069920" y="5250960"/>
                  <a:ext cx="338760" cy="351720"/>
                  <a:chOff x="10069920" y="5250960"/>
                  <a:chExt cx="338760" cy="351720"/>
                </a:xfrm>
              </p:grpSpPr>
              <p:grpSp>
                <p:nvGrpSpPr>
                  <p:cNvPr id="1443" name="Group 586"/>
                  <p:cNvGrpSpPr/>
                  <p:nvPr/>
                </p:nvGrpSpPr>
                <p:grpSpPr>
                  <a:xfrm>
                    <a:off x="10070640" y="5250960"/>
                    <a:ext cx="337680" cy="351000"/>
                    <a:chOff x="10070640" y="5250960"/>
                    <a:chExt cx="337680" cy="351000"/>
                  </a:xfrm>
                </p:grpSpPr>
                <p:grpSp>
                  <p:nvGrpSpPr>
                    <p:cNvPr id="1444" name="Group 587"/>
                    <p:cNvGrpSpPr/>
                    <p:nvPr/>
                  </p:nvGrpSpPr>
                  <p:grpSpPr>
                    <a:xfrm>
                      <a:off x="10070640" y="5250960"/>
                      <a:ext cx="337680" cy="351000"/>
                      <a:chOff x="10070640" y="5250960"/>
                      <a:chExt cx="337680" cy="351000"/>
                    </a:xfrm>
                  </p:grpSpPr>
                  <p:grpSp>
                    <p:nvGrpSpPr>
                      <p:cNvPr id="1445" name="Group 588"/>
                      <p:cNvGrpSpPr/>
                      <p:nvPr/>
                    </p:nvGrpSpPr>
                    <p:grpSpPr>
                      <a:xfrm>
                        <a:off x="10070640" y="5250960"/>
                        <a:ext cx="337680" cy="351000"/>
                        <a:chOff x="10070640" y="5250960"/>
                        <a:chExt cx="337680" cy="351000"/>
                      </a:xfrm>
                    </p:grpSpPr>
                    <p:sp>
                      <p:nvSpPr>
                        <p:cNvPr id="1446" name="Oval 589"/>
                        <p:cNvSpPr/>
                        <p:nvPr/>
                      </p:nvSpPr>
                      <p:spPr>
                        <a:xfrm flipH="1" rot="21396000">
                          <a:off x="10080360" y="5259960"/>
                          <a:ext cx="318600" cy="3330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7" name="Oval 590"/>
                        <p:cNvSpPr/>
                        <p:nvPr/>
                      </p:nvSpPr>
                      <p:spPr>
                        <a:xfrm flipH="1" rot="21396000">
                          <a:off x="10080360" y="5259960"/>
                          <a:ext cx="318600" cy="3330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48" name="Group 591"/>
                      <p:cNvGrpSpPr/>
                      <p:nvPr/>
                    </p:nvGrpSpPr>
                    <p:grpSpPr>
                      <a:xfrm>
                        <a:off x="10099800" y="5280840"/>
                        <a:ext cx="281160" cy="291240"/>
                        <a:chOff x="10099800" y="5280840"/>
                        <a:chExt cx="281160" cy="291240"/>
                      </a:xfrm>
                    </p:grpSpPr>
                    <p:sp>
                      <p:nvSpPr>
                        <p:cNvPr id="1449" name="Oval 592"/>
                        <p:cNvSpPr/>
                        <p:nvPr/>
                      </p:nvSpPr>
                      <p:spPr>
                        <a:xfrm flipH="1" rot="21396000">
                          <a:off x="10107360" y="5288400"/>
                          <a:ext cx="264960" cy="2757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0" name="Oval 593"/>
                        <p:cNvSpPr/>
                        <p:nvPr/>
                      </p:nvSpPr>
                      <p:spPr>
                        <a:xfrm flipH="1" rot="21396000">
                          <a:off x="10107360" y="5288400"/>
                          <a:ext cx="264960" cy="27576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51" name="Group 594"/>
                    <p:cNvGrpSpPr/>
                    <p:nvPr/>
                  </p:nvGrpSpPr>
                  <p:grpSpPr>
                    <a:xfrm>
                      <a:off x="10099800" y="5280840"/>
                      <a:ext cx="281160" cy="291600"/>
                      <a:chOff x="10099800" y="5280840"/>
                      <a:chExt cx="281160" cy="291600"/>
                    </a:xfrm>
                  </p:grpSpPr>
                  <p:sp>
                    <p:nvSpPr>
                      <p:cNvPr id="1452" name="Freeform 595"/>
                      <p:cNvSpPr/>
                      <p:nvPr/>
                    </p:nvSpPr>
                    <p:spPr>
                      <a:xfrm flipH="1" rot="21396000">
                        <a:off x="10107360" y="5288400"/>
                        <a:ext cx="264960" cy="27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3" name="Freeform 596"/>
                      <p:cNvSpPr/>
                      <p:nvPr/>
                    </p:nvSpPr>
                    <p:spPr>
                      <a:xfrm flipH="1" rot="21396000">
                        <a:off x="10107360" y="5288400"/>
                        <a:ext cx="264960" cy="27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54" name="Group 597"/>
                  <p:cNvGrpSpPr/>
                  <p:nvPr/>
                </p:nvGrpSpPr>
                <p:grpSpPr>
                  <a:xfrm>
                    <a:off x="10070280" y="5250960"/>
                    <a:ext cx="338400" cy="351360"/>
                    <a:chOff x="10070280" y="5250960"/>
                    <a:chExt cx="338400" cy="351360"/>
                  </a:xfrm>
                </p:grpSpPr>
                <p:grpSp>
                  <p:nvGrpSpPr>
                    <p:cNvPr id="1455" name="Group 598"/>
                    <p:cNvGrpSpPr/>
                    <p:nvPr/>
                  </p:nvGrpSpPr>
                  <p:grpSpPr>
                    <a:xfrm>
                      <a:off x="10070280" y="5250960"/>
                      <a:ext cx="338400" cy="351360"/>
                      <a:chOff x="10070280" y="5250960"/>
                      <a:chExt cx="338400" cy="351360"/>
                    </a:xfrm>
                  </p:grpSpPr>
                  <p:sp>
                    <p:nvSpPr>
                      <p:cNvPr id="1456" name="Oval 599"/>
                      <p:cNvSpPr/>
                      <p:nvPr/>
                    </p:nvSpPr>
                    <p:spPr>
                      <a:xfrm flipH="1" rot="21396000">
                        <a:off x="10080000" y="5259960"/>
                        <a:ext cx="318960" cy="333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7" name="Oval 600"/>
                      <p:cNvSpPr/>
                      <p:nvPr/>
                    </p:nvSpPr>
                    <p:spPr>
                      <a:xfrm flipH="1" rot="21396000">
                        <a:off x="10080000" y="5259960"/>
                        <a:ext cx="318960" cy="333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58" name="Group 601"/>
                    <p:cNvGrpSpPr/>
                    <p:nvPr/>
                  </p:nvGrpSpPr>
                  <p:grpSpPr>
                    <a:xfrm>
                      <a:off x="10099800" y="5280840"/>
                      <a:ext cx="281160" cy="291600"/>
                      <a:chOff x="10099800" y="5280840"/>
                      <a:chExt cx="281160" cy="291600"/>
                    </a:xfrm>
                  </p:grpSpPr>
                  <p:sp>
                    <p:nvSpPr>
                      <p:cNvPr id="1459" name="Oval 602"/>
                      <p:cNvSpPr/>
                      <p:nvPr/>
                    </p:nvSpPr>
                    <p:spPr>
                      <a:xfrm flipH="1" rot="21396000">
                        <a:off x="10107360" y="5288400"/>
                        <a:ext cx="264960" cy="276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0" name="Oval 603"/>
                      <p:cNvSpPr/>
                      <p:nvPr/>
                    </p:nvSpPr>
                    <p:spPr>
                      <a:xfrm flipH="1" rot="21396000">
                        <a:off x="10107360" y="5288400"/>
                        <a:ext cx="264960" cy="2761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61" name="Group 604"/>
                  <p:cNvGrpSpPr/>
                  <p:nvPr/>
                </p:nvGrpSpPr>
                <p:grpSpPr>
                  <a:xfrm>
                    <a:off x="10099080" y="5281200"/>
                    <a:ext cx="281520" cy="290160"/>
                    <a:chOff x="10099080" y="5281200"/>
                    <a:chExt cx="281520" cy="290160"/>
                  </a:xfrm>
                </p:grpSpPr>
                <p:sp>
                  <p:nvSpPr>
                    <p:cNvPr id="1462" name="Freeform 605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606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4" name="Group 607"/>
                  <p:cNvGrpSpPr/>
                  <p:nvPr/>
                </p:nvGrpSpPr>
                <p:grpSpPr>
                  <a:xfrm>
                    <a:off x="10069920" y="5250960"/>
                    <a:ext cx="338760" cy="351720"/>
                    <a:chOff x="10069920" y="5250960"/>
                    <a:chExt cx="338760" cy="351720"/>
                  </a:xfrm>
                </p:grpSpPr>
                <p:sp>
                  <p:nvSpPr>
                    <p:cNvPr id="1465" name="Oval 608"/>
                    <p:cNvSpPr/>
                    <p:nvPr/>
                  </p:nvSpPr>
                  <p:spPr>
                    <a:xfrm flipH="1" rot="21396000">
                      <a:off x="10079280" y="5259960"/>
                      <a:ext cx="319320" cy="333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Oval 609"/>
                    <p:cNvSpPr/>
                    <p:nvPr/>
                  </p:nvSpPr>
                  <p:spPr>
                    <a:xfrm flipH="1" rot="21396000">
                      <a:off x="10079280" y="5259960"/>
                      <a:ext cx="319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7" name="Group 610"/>
                  <p:cNvGrpSpPr/>
                  <p:nvPr/>
                </p:nvGrpSpPr>
                <p:grpSpPr>
                  <a:xfrm>
                    <a:off x="10099080" y="5281200"/>
                    <a:ext cx="281520" cy="290160"/>
                    <a:chOff x="10099080" y="5281200"/>
                    <a:chExt cx="281520" cy="290160"/>
                  </a:xfrm>
                </p:grpSpPr>
                <p:sp>
                  <p:nvSpPr>
                    <p:cNvPr id="1468" name="Oval 611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Oval 612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0" name="Group 613"/>
                  <p:cNvGrpSpPr/>
                  <p:nvPr/>
                </p:nvGrpSpPr>
                <p:grpSpPr>
                  <a:xfrm>
                    <a:off x="10069920" y="5250960"/>
                    <a:ext cx="338760" cy="351720"/>
                    <a:chOff x="10069920" y="5250960"/>
                    <a:chExt cx="338760" cy="351720"/>
                  </a:xfrm>
                </p:grpSpPr>
                <p:sp>
                  <p:nvSpPr>
                    <p:cNvPr id="1471" name="Oval 614"/>
                    <p:cNvSpPr/>
                    <p:nvPr/>
                  </p:nvSpPr>
                  <p:spPr>
                    <a:xfrm flipH="1" rot="21396000">
                      <a:off x="10079280" y="5259960"/>
                      <a:ext cx="319320" cy="33336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Oval 615"/>
                    <p:cNvSpPr/>
                    <p:nvPr/>
                  </p:nvSpPr>
                  <p:spPr>
                    <a:xfrm flipH="1" rot="21396000">
                      <a:off x="10079280" y="5259960"/>
                      <a:ext cx="319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3" name="Group 616"/>
                  <p:cNvGrpSpPr/>
                  <p:nvPr/>
                </p:nvGrpSpPr>
                <p:grpSpPr>
                  <a:xfrm>
                    <a:off x="10099080" y="5281200"/>
                    <a:ext cx="281520" cy="290160"/>
                    <a:chOff x="10099080" y="5281200"/>
                    <a:chExt cx="281520" cy="290160"/>
                  </a:xfrm>
                </p:grpSpPr>
                <p:sp>
                  <p:nvSpPr>
                    <p:cNvPr id="1474" name="Oval 617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Oval 618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6" name="Group 619"/>
                  <p:cNvGrpSpPr/>
                  <p:nvPr/>
                </p:nvGrpSpPr>
                <p:grpSpPr>
                  <a:xfrm>
                    <a:off x="10099080" y="5281200"/>
                    <a:ext cx="281520" cy="290160"/>
                    <a:chOff x="10099080" y="5281200"/>
                    <a:chExt cx="281520" cy="290160"/>
                  </a:xfrm>
                </p:grpSpPr>
                <p:sp>
                  <p:nvSpPr>
                    <p:cNvPr id="1477" name="Freeform 620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Freeform 621"/>
                    <p:cNvSpPr/>
                    <p:nvPr/>
                  </p:nvSpPr>
                  <p:spPr>
                    <a:xfrm flipH="1" rot="21396000">
                      <a:off x="10106640" y="5288760"/>
                      <a:ext cx="2656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79" name="Group 622"/>
                <p:cNvGrpSpPr/>
                <p:nvPr/>
              </p:nvGrpSpPr>
              <p:grpSpPr>
                <a:xfrm>
                  <a:off x="8913960" y="5319360"/>
                  <a:ext cx="341640" cy="352080"/>
                  <a:chOff x="8913960" y="5319360"/>
                  <a:chExt cx="341640" cy="352080"/>
                </a:xfrm>
              </p:grpSpPr>
              <p:grpSp>
                <p:nvGrpSpPr>
                  <p:cNvPr id="1480" name="Group 623"/>
                  <p:cNvGrpSpPr/>
                  <p:nvPr/>
                </p:nvGrpSpPr>
                <p:grpSpPr>
                  <a:xfrm>
                    <a:off x="8914680" y="5319360"/>
                    <a:ext cx="340920" cy="351000"/>
                    <a:chOff x="8914680" y="5319360"/>
                    <a:chExt cx="340920" cy="351000"/>
                  </a:xfrm>
                </p:grpSpPr>
                <p:grpSp>
                  <p:nvGrpSpPr>
                    <p:cNvPr id="1481" name="Group 624"/>
                    <p:cNvGrpSpPr/>
                    <p:nvPr/>
                  </p:nvGrpSpPr>
                  <p:grpSpPr>
                    <a:xfrm>
                      <a:off x="8914680" y="5319360"/>
                      <a:ext cx="340920" cy="351000"/>
                      <a:chOff x="8914680" y="5319360"/>
                      <a:chExt cx="340920" cy="351000"/>
                    </a:xfrm>
                  </p:grpSpPr>
                  <p:grpSp>
                    <p:nvGrpSpPr>
                      <p:cNvPr id="1482" name="Group 625"/>
                      <p:cNvGrpSpPr/>
                      <p:nvPr/>
                    </p:nvGrpSpPr>
                    <p:grpSpPr>
                      <a:xfrm>
                        <a:off x="8914680" y="5319360"/>
                        <a:ext cx="340920" cy="351000"/>
                        <a:chOff x="8914680" y="5319360"/>
                        <a:chExt cx="340920" cy="351000"/>
                      </a:xfrm>
                    </p:grpSpPr>
                    <p:sp>
                      <p:nvSpPr>
                        <p:cNvPr id="1483" name="Oval 626"/>
                        <p:cNvSpPr/>
                        <p:nvPr/>
                      </p:nvSpPr>
                      <p:spPr>
                        <a:xfrm flipH="1" rot="21396000">
                          <a:off x="8923680" y="5328360"/>
                          <a:ext cx="321840" cy="33264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4" name="Oval 627"/>
                        <p:cNvSpPr/>
                        <p:nvPr/>
                      </p:nvSpPr>
                      <p:spPr>
                        <a:xfrm flipH="1" rot="21396000">
                          <a:off x="8923680" y="5328360"/>
                          <a:ext cx="321840" cy="3326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85" name="Group 628"/>
                      <p:cNvGrpSpPr/>
                      <p:nvPr/>
                    </p:nvGrpSpPr>
                    <p:grpSpPr>
                      <a:xfrm>
                        <a:off x="8944920" y="5349600"/>
                        <a:ext cx="282960" cy="291600"/>
                        <a:chOff x="8944920" y="5349600"/>
                        <a:chExt cx="282960" cy="291600"/>
                      </a:xfrm>
                    </p:grpSpPr>
                    <p:sp>
                      <p:nvSpPr>
                        <p:cNvPr id="1486" name="Oval 629"/>
                        <p:cNvSpPr/>
                        <p:nvPr/>
                      </p:nvSpPr>
                      <p:spPr>
                        <a:xfrm flipH="1" rot="21396000">
                          <a:off x="8952480" y="5357160"/>
                          <a:ext cx="267120" cy="2761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7" name="Oval 630"/>
                        <p:cNvSpPr/>
                        <p:nvPr/>
                      </p:nvSpPr>
                      <p:spPr>
                        <a:xfrm flipH="1" rot="21396000">
                          <a:off x="8952480" y="5357160"/>
                          <a:ext cx="267120" cy="27612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88" name="Group 631"/>
                    <p:cNvGrpSpPr/>
                    <p:nvPr/>
                  </p:nvGrpSpPr>
                  <p:grpSpPr>
                    <a:xfrm>
                      <a:off x="8944560" y="5349600"/>
                      <a:ext cx="283320" cy="291960"/>
                      <a:chOff x="8944560" y="5349600"/>
                      <a:chExt cx="283320" cy="291960"/>
                    </a:xfrm>
                  </p:grpSpPr>
                  <p:sp>
                    <p:nvSpPr>
                      <p:cNvPr id="1489" name="Freeform 632"/>
                      <p:cNvSpPr/>
                      <p:nvPr/>
                    </p:nvSpPr>
                    <p:spPr>
                      <a:xfrm flipH="1" rot="21396000">
                        <a:off x="8951760" y="5357160"/>
                        <a:ext cx="26748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Freeform 633"/>
                      <p:cNvSpPr/>
                      <p:nvPr/>
                    </p:nvSpPr>
                    <p:spPr>
                      <a:xfrm flipH="1" rot="21396000">
                        <a:off x="8951760" y="5357160"/>
                        <a:ext cx="26748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91" name="Group 634"/>
                  <p:cNvGrpSpPr/>
                  <p:nvPr/>
                </p:nvGrpSpPr>
                <p:grpSpPr>
                  <a:xfrm>
                    <a:off x="8914320" y="5319360"/>
                    <a:ext cx="341280" cy="351360"/>
                    <a:chOff x="8914320" y="5319360"/>
                    <a:chExt cx="341280" cy="351360"/>
                  </a:xfrm>
                </p:grpSpPr>
                <p:grpSp>
                  <p:nvGrpSpPr>
                    <p:cNvPr id="1492" name="Group 635"/>
                    <p:cNvGrpSpPr/>
                    <p:nvPr/>
                  </p:nvGrpSpPr>
                  <p:grpSpPr>
                    <a:xfrm>
                      <a:off x="8914320" y="5319360"/>
                      <a:ext cx="341280" cy="351360"/>
                      <a:chOff x="8914320" y="5319360"/>
                      <a:chExt cx="341280" cy="351360"/>
                    </a:xfrm>
                  </p:grpSpPr>
                  <p:sp>
                    <p:nvSpPr>
                      <p:cNvPr id="1493" name="Oval 636"/>
                      <p:cNvSpPr/>
                      <p:nvPr/>
                    </p:nvSpPr>
                    <p:spPr>
                      <a:xfrm flipH="1" rot="21396000">
                        <a:off x="8923680" y="5328360"/>
                        <a:ext cx="322200" cy="33300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Oval 637"/>
                      <p:cNvSpPr/>
                      <p:nvPr/>
                    </p:nvSpPr>
                    <p:spPr>
                      <a:xfrm flipH="1" rot="21396000">
                        <a:off x="8923680" y="5328360"/>
                        <a:ext cx="322200" cy="3330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95" name="Group 638"/>
                    <p:cNvGrpSpPr/>
                    <p:nvPr/>
                  </p:nvGrpSpPr>
                  <p:grpSpPr>
                    <a:xfrm>
                      <a:off x="8944560" y="5349600"/>
                      <a:ext cx="283320" cy="291960"/>
                      <a:chOff x="8944560" y="5349600"/>
                      <a:chExt cx="283320" cy="291960"/>
                    </a:xfrm>
                  </p:grpSpPr>
                  <p:sp>
                    <p:nvSpPr>
                      <p:cNvPr id="1496" name="Oval 639"/>
                      <p:cNvSpPr/>
                      <p:nvPr/>
                    </p:nvSpPr>
                    <p:spPr>
                      <a:xfrm flipH="1" rot="21396000">
                        <a:off x="8951760" y="5357160"/>
                        <a:ext cx="267480" cy="276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Oval 640"/>
                      <p:cNvSpPr/>
                      <p:nvPr/>
                    </p:nvSpPr>
                    <p:spPr>
                      <a:xfrm flipH="1" rot="21396000">
                        <a:off x="8951760" y="5357160"/>
                        <a:ext cx="267480" cy="27648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498" name="Group 641"/>
                  <p:cNvGrpSpPr/>
                  <p:nvPr/>
                </p:nvGrpSpPr>
                <p:grpSpPr>
                  <a:xfrm>
                    <a:off x="8944560" y="5349600"/>
                    <a:ext cx="284040" cy="290520"/>
                    <a:chOff x="8944560" y="5349600"/>
                    <a:chExt cx="284040" cy="290520"/>
                  </a:xfrm>
                </p:grpSpPr>
                <p:sp>
                  <p:nvSpPr>
                    <p:cNvPr id="1499" name="Freeform 642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0" name="Freeform 643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1" name="Group 644"/>
                  <p:cNvGrpSpPr/>
                  <p:nvPr/>
                </p:nvGrpSpPr>
                <p:grpSpPr>
                  <a:xfrm>
                    <a:off x="8913960" y="5319360"/>
                    <a:ext cx="341640" cy="352080"/>
                    <a:chOff x="8913960" y="5319360"/>
                    <a:chExt cx="341640" cy="352080"/>
                  </a:xfrm>
                </p:grpSpPr>
                <p:sp>
                  <p:nvSpPr>
                    <p:cNvPr id="1502" name="Oval 645"/>
                    <p:cNvSpPr/>
                    <p:nvPr/>
                  </p:nvSpPr>
                  <p:spPr>
                    <a:xfrm flipH="1" rot="21396000">
                      <a:off x="8922960" y="5328360"/>
                      <a:ext cx="322560" cy="333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Oval 646"/>
                    <p:cNvSpPr/>
                    <p:nvPr/>
                  </p:nvSpPr>
                  <p:spPr>
                    <a:xfrm flipH="1" rot="21396000">
                      <a:off x="8922960" y="5328360"/>
                      <a:ext cx="322560" cy="333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4" name="Group 647"/>
                  <p:cNvGrpSpPr/>
                  <p:nvPr/>
                </p:nvGrpSpPr>
                <p:grpSpPr>
                  <a:xfrm>
                    <a:off x="8944560" y="5349600"/>
                    <a:ext cx="284040" cy="290520"/>
                    <a:chOff x="8944560" y="5349600"/>
                    <a:chExt cx="284040" cy="290520"/>
                  </a:xfrm>
                </p:grpSpPr>
                <p:sp>
                  <p:nvSpPr>
                    <p:cNvPr id="1505" name="Oval 648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6" name="Oval 649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7" name="Group 650"/>
                  <p:cNvGrpSpPr/>
                  <p:nvPr/>
                </p:nvGrpSpPr>
                <p:grpSpPr>
                  <a:xfrm>
                    <a:off x="8913960" y="5319360"/>
                    <a:ext cx="341640" cy="352080"/>
                    <a:chOff x="8913960" y="5319360"/>
                    <a:chExt cx="341640" cy="352080"/>
                  </a:xfrm>
                </p:grpSpPr>
                <p:sp>
                  <p:nvSpPr>
                    <p:cNvPr id="1508" name="Oval 651"/>
                    <p:cNvSpPr/>
                    <p:nvPr/>
                  </p:nvSpPr>
                  <p:spPr>
                    <a:xfrm flipH="1" rot="21396000">
                      <a:off x="8922960" y="5328360"/>
                      <a:ext cx="322560" cy="3337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Oval 652"/>
                    <p:cNvSpPr/>
                    <p:nvPr/>
                  </p:nvSpPr>
                  <p:spPr>
                    <a:xfrm flipH="1" rot="21396000">
                      <a:off x="8922960" y="5328360"/>
                      <a:ext cx="322560" cy="3337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0" name="Group 653"/>
                  <p:cNvGrpSpPr/>
                  <p:nvPr/>
                </p:nvGrpSpPr>
                <p:grpSpPr>
                  <a:xfrm>
                    <a:off x="8944560" y="5349600"/>
                    <a:ext cx="284040" cy="290520"/>
                    <a:chOff x="8944560" y="5349600"/>
                    <a:chExt cx="284040" cy="290520"/>
                  </a:xfrm>
                </p:grpSpPr>
                <p:sp>
                  <p:nvSpPr>
                    <p:cNvPr id="1511" name="Oval 654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2" name="Oval 655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3" name="Group 656"/>
                  <p:cNvGrpSpPr/>
                  <p:nvPr/>
                </p:nvGrpSpPr>
                <p:grpSpPr>
                  <a:xfrm>
                    <a:off x="8944560" y="5349600"/>
                    <a:ext cx="284040" cy="290520"/>
                    <a:chOff x="8944560" y="5349600"/>
                    <a:chExt cx="284040" cy="290520"/>
                  </a:xfrm>
                </p:grpSpPr>
                <p:sp>
                  <p:nvSpPr>
                    <p:cNvPr id="1514" name="Freeform 657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5" name="Freeform 658"/>
                    <p:cNvSpPr/>
                    <p:nvPr/>
                  </p:nvSpPr>
                  <p:spPr>
                    <a:xfrm flipH="1" rot="21396000">
                      <a:off x="8951760" y="5357160"/>
                      <a:ext cx="268200" cy="27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16" name="Freeform 659"/>
                <p:cNvSpPr/>
                <p:nvPr/>
              </p:nvSpPr>
              <p:spPr>
                <a:xfrm flipH="1" rot="21396000">
                  <a:off x="10515600" y="5078160"/>
                  <a:ext cx="2880" cy="200520"/>
                </a:xfrm>
                <a:custGeom>
                  <a:avLst/>
                  <a:gdLst/>
                  <a:ahLst/>
                  <a:rect l="l" t="t" r="r" b="b"/>
                  <a:pathLst>
                    <a:path w="4" h="232">
                      <a:moveTo>
                        <a:pt x="0" y="0"/>
                      </a:moveTo>
                      <a:lnTo>
                        <a:pt x="4" y="232"/>
                      </a:lnTo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Group 660"/>
                <p:cNvGrpSpPr/>
                <p:nvPr/>
              </p:nvGrpSpPr>
              <p:grpSpPr>
                <a:xfrm>
                  <a:off x="10394280" y="5078160"/>
                  <a:ext cx="254520" cy="246600"/>
                  <a:chOff x="10394280" y="5078160"/>
                  <a:chExt cx="254520" cy="246600"/>
                </a:xfrm>
              </p:grpSpPr>
              <p:sp>
                <p:nvSpPr>
                  <p:cNvPr id="1518" name="Line 661"/>
                  <p:cNvSpPr/>
                  <p:nvPr/>
                </p:nvSpPr>
                <p:spPr>
                  <a:xfrm>
                    <a:off x="10518840" y="5078160"/>
                    <a:ext cx="12240" cy="2466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Freeform 662"/>
                  <p:cNvSpPr/>
                  <p:nvPr/>
                </p:nvSpPr>
                <p:spPr>
                  <a:xfrm flipH="1" rot="21396000">
                    <a:off x="10394640" y="5160960"/>
                    <a:ext cx="252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0" name="Freeform 663"/>
                <p:cNvSpPr/>
                <p:nvPr/>
              </p:nvSpPr>
              <p:spPr>
                <a:xfrm flipH="1" rot="21396000">
                  <a:off x="8779320" y="4737960"/>
                  <a:ext cx="1648080" cy="685440"/>
                </a:xfrm>
                <a:custGeom>
                  <a:avLst/>
                  <a:gdLst/>
                  <a:ahLst/>
                  <a:rect l="l" t="t" r="r" b="b"/>
                  <a:pathLst>
                    <a:path w="2088" h="891">
                      <a:moveTo>
                        <a:pt x="0" y="143"/>
                      </a:moveTo>
                      <a:lnTo>
                        <a:pt x="110" y="0"/>
                      </a:lnTo>
                      <a:lnTo>
                        <a:pt x="1668" y="0"/>
                      </a:lnTo>
                      <a:lnTo>
                        <a:pt x="1875" y="99"/>
                      </a:lnTo>
                      <a:lnTo>
                        <a:pt x="2088" y="513"/>
                      </a:lnTo>
                      <a:lnTo>
                        <a:pt x="2072" y="881"/>
                      </a:lnTo>
                      <a:lnTo>
                        <a:pt x="1771" y="891"/>
                      </a:lnTo>
                      <a:lnTo>
                        <a:pt x="110" y="891"/>
                      </a:lnTo>
                      <a:lnTo>
                        <a:pt x="6" y="792"/>
                      </a:lnTo>
                      <a:lnTo>
                        <a:pt x="8" y="131"/>
                      </a:lnTo>
                    </a:path>
                  </a:pathLst>
                </a:custGeom>
                <a:gradFill rotWithShape="0">
                  <a:gsLst>
                    <a:gs pos="0">
                      <a:srgbClr val="00d200"/>
                    </a:gs>
                    <a:gs pos="50000">
                      <a:srgbClr val="008000"/>
                    </a:gs>
                    <a:gs pos="100000">
                      <a:srgbClr val="00d20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107932" dir="18900000" blurRad="0" rotWithShape="0">
                    <a:srgbClr val="0048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Rectangle 664"/>
                <p:cNvSpPr/>
                <p:nvPr/>
              </p:nvSpPr>
              <p:spPr>
                <a:xfrm flipH="1" rot="21396000">
                  <a:off x="10198800" y="4905720"/>
                  <a:ext cx="146520" cy="2030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Rectangle 665"/>
                <p:cNvSpPr/>
                <p:nvPr/>
              </p:nvSpPr>
              <p:spPr>
                <a:xfrm flipH="1" rot="21396000">
                  <a:off x="9857520" y="4925880"/>
                  <a:ext cx="146520" cy="2030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Rectangle 666"/>
                <p:cNvSpPr/>
                <p:nvPr/>
              </p:nvSpPr>
              <p:spPr>
                <a:xfrm flipH="1" rot="21396000">
                  <a:off x="9126360" y="4968360"/>
                  <a:ext cx="182880" cy="24228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Group 667"/>
                <p:cNvGrpSpPr/>
                <p:nvPr/>
              </p:nvGrpSpPr>
              <p:grpSpPr>
                <a:xfrm>
                  <a:off x="9961920" y="4602240"/>
                  <a:ext cx="161640" cy="154440"/>
                  <a:chOff x="9961920" y="4602240"/>
                  <a:chExt cx="161640" cy="154440"/>
                </a:xfrm>
              </p:grpSpPr>
              <p:sp>
                <p:nvSpPr>
                  <p:cNvPr id="1525" name="Oval 668"/>
                  <p:cNvSpPr/>
                  <p:nvPr/>
                </p:nvSpPr>
                <p:spPr>
                  <a:xfrm flipH="1" rot="21396000">
                    <a:off x="9962640" y="4606560"/>
                    <a:ext cx="159480" cy="41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669"/>
                  <p:cNvSpPr/>
                  <p:nvPr/>
                </p:nvSpPr>
                <p:spPr>
                  <a:xfrm flipH="1" rot="21396000">
                    <a:off x="10005120" y="4606920"/>
                    <a:ext cx="795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71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82" y="156"/>
                        </a:lnTo>
                        <a:lnTo>
                          <a:pt x="4" y="171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7" name="Freeform 670"/>
                <p:cNvSpPr/>
                <p:nvPr/>
              </p:nvSpPr>
              <p:spPr>
                <a:xfrm flipH="1" rot="21396000">
                  <a:off x="8967240" y="5335200"/>
                  <a:ext cx="1434960" cy="720"/>
                </a:xfrm>
                <a:custGeom>
                  <a:avLst/>
                  <a:gdLst/>
                  <a:ahLst/>
                  <a:rect l="l" t="t" r="r" b="b"/>
                  <a:pathLst>
                    <a:path w="1728" h="1">
                      <a:moveTo>
                        <a:pt x="0" y="0"/>
                      </a:moveTo>
                      <a:cubicBezTo>
                        <a:pt x="0" y="0"/>
                        <a:pt x="864" y="0"/>
                        <a:pt x="1728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671"/>
                <p:cNvSpPr/>
                <p:nvPr/>
              </p:nvSpPr>
              <p:spPr>
                <a:xfrm flipH="1" rot="21396000">
                  <a:off x="8937720" y="4836240"/>
                  <a:ext cx="1463400" cy="360"/>
                </a:xfrm>
                <a:custGeom>
                  <a:avLst/>
                  <a:gdLst/>
                  <a:ahLst/>
                  <a:rect l="l" t="t" r="r" b="b"/>
                  <a:pathLst>
                    <a:path w="1762" h="1">
                      <a:moveTo>
                        <a:pt x="0" y="0"/>
                      </a:moveTo>
                      <a:cubicBezTo>
                        <a:pt x="293" y="0"/>
                        <a:pt x="1395" y="0"/>
                        <a:pt x="1762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Group 672"/>
                <p:cNvGrpSpPr/>
                <p:nvPr/>
              </p:nvGrpSpPr>
              <p:grpSpPr>
                <a:xfrm>
                  <a:off x="9206280" y="4647240"/>
                  <a:ext cx="161640" cy="154080"/>
                  <a:chOff x="9206280" y="4647240"/>
                  <a:chExt cx="161640" cy="154080"/>
                </a:xfrm>
              </p:grpSpPr>
              <p:sp>
                <p:nvSpPr>
                  <p:cNvPr id="1530" name="Oval 673"/>
                  <p:cNvSpPr/>
                  <p:nvPr/>
                </p:nvSpPr>
                <p:spPr>
                  <a:xfrm flipH="1" rot="21396000">
                    <a:off x="9207000" y="4651560"/>
                    <a:ext cx="159480" cy="41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Freeform 674"/>
                  <p:cNvSpPr/>
                  <p:nvPr/>
                </p:nvSpPr>
                <p:spPr>
                  <a:xfrm flipH="1" rot="21396000">
                    <a:off x="9249480" y="4651560"/>
                    <a:ext cx="795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71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82" y="156"/>
                        </a:lnTo>
                        <a:lnTo>
                          <a:pt x="4" y="171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2" name="Freeform 675"/>
                <p:cNvSpPr/>
                <p:nvPr/>
              </p:nvSpPr>
              <p:spPr>
                <a:xfrm flipH="1" rot="21396000">
                  <a:off x="10219320" y="5136840"/>
                  <a:ext cx="13320" cy="2664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0" y="31"/>
                      </a:moveTo>
                      <a:cubicBezTo>
                        <a:pt x="5" y="21"/>
                        <a:pt x="16" y="0"/>
                        <a:pt x="16" y="0"/>
                      </a:cubicBezTo>
                      <a:cubicBezTo>
                        <a:pt x="16" y="0"/>
                        <a:pt x="5" y="21"/>
                        <a:pt x="0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76"/>
                <p:cNvSpPr/>
                <p:nvPr/>
              </p:nvSpPr>
              <p:spPr>
                <a:xfrm flipH="1" rot="21396000">
                  <a:off x="10189080" y="4843080"/>
                  <a:ext cx="177480" cy="456840"/>
                </a:xfrm>
                <a:custGeom>
                  <a:avLst/>
                  <a:gdLst/>
                  <a:ahLst/>
                  <a:rect l="l" t="t" r="r" b="b"/>
                  <a:pathLst>
                    <a:path w="214" h="528">
                      <a:moveTo>
                        <a:pt x="214" y="528"/>
                      </a:moveTo>
                      <a:lnTo>
                        <a:pt x="214" y="0"/>
                      </a:lnTo>
                      <a:lnTo>
                        <a:pt x="0" y="2"/>
                      </a:lnTo>
                      <a:lnTo>
                        <a:pt x="0" y="527"/>
                      </a:lnTo>
                      <a:lnTo>
                        <a:pt x="214" y="528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677"/>
                <p:cNvSpPr/>
                <p:nvPr/>
              </p:nvSpPr>
              <p:spPr>
                <a:xfrm flipH="1" rot="21396000">
                  <a:off x="8764200" y="4858200"/>
                  <a:ext cx="340920" cy="399960"/>
                </a:xfrm>
                <a:custGeom>
                  <a:avLst/>
                  <a:gdLst/>
                  <a:ahLst/>
                  <a:rect l="l" t="t" r="r" b="b"/>
                  <a:pathLst>
                    <a:path w="432" h="520">
                      <a:moveTo>
                        <a:pt x="216" y="0"/>
                      </a:moveTo>
                      <a:lnTo>
                        <a:pt x="0" y="136"/>
                      </a:lnTo>
                      <a:lnTo>
                        <a:pt x="64" y="520"/>
                      </a:lnTo>
                      <a:lnTo>
                        <a:pt x="400" y="520"/>
                      </a:lnTo>
                      <a:lnTo>
                        <a:pt x="432" y="424"/>
                      </a:lnTo>
                    </a:path>
                  </a:pathLst>
                </a:custGeom>
                <a:blipFill rotWithShape="0">
                  <a:blip r:embed="rId6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Rectangle 678"/>
                <p:cNvSpPr/>
                <p:nvPr/>
              </p:nvSpPr>
              <p:spPr>
                <a:xfrm flipH="1" rot="21396000">
                  <a:off x="9353520" y="4954680"/>
                  <a:ext cx="182880" cy="24228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679"/>
                <p:cNvSpPr/>
                <p:nvPr/>
              </p:nvSpPr>
              <p:spPr>
                <a:xfrm flipH="1" rot="21396000">
                  <a:off x="9122760" y="4575600"/>
                  <a:ext cx="618480" cy="252360"/>
                </a:xfrm>
                <a:custGeom>
                  <a:avLst/>
                  <a:gdLst/>
                  <a:ahLst/>
                  <a:rect l="l" t="t" r="r" b="b"/>
                  <a:pathLst>
                    <a:path w="784" h="328">
                      <a:moveTo>
                        <a:pt x="328" y="280"/>
                      </a:moveTo>
                      <a:lnTo>
                        <a:pt x="0" y="0"/>
                      </a:lnTo>
                      <a:lnTo>
                        <a:pt x="784" y="0"/>
                      </a:lnTo>
                      <a:lnTo>
                        <a:pt x="232" y="32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Rectangle 680"/>
                <p:cNvSpPr/>
                <p:nvPr/>
              </p:nvSpPr>
              <p:spPr>
                <a:xfrm flipH="1" rot="21396000">
                  <a:off x="9586440" y="4941000"/>
                  <a:ext cx="182880" cy="24228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681"/>
            <p:cNvGrpSpPr/>
            <p:nvPr/>
          </p:nvGrpSpPr>
          <p:grpSpPr>
            <a:xfrm>
              <a:off x="11196720" y="4437000"/>
              <a:ext cx="358560" cy="936360"/>
              <a:chOff x="11196720" y="4437000"/>
              <a:chExt cx="358560" cy="936360"/>
            </a:xfrm>
          </p:grpSpPr>
          <p:sp>
            <p:nvSpPr>
              <p:cNvPr id="1539" name="WordArt 682"/>
              <p:cNvSpPr txBox="1"/>
              <p:nvPr/>
            </p:nvSpPr>
            <p:spPr>
              <a:xfrm>
                <a:off x="11261160" y="4437000"/>
                <a:ext cx="293040" cy="34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0" name="WordArt 683"/>
              <p:cNvSpPr txBox="1"/>
              <p:nvPr/>
            </p:nvSpPr>
            <p:spPr>
              <a:xfrm>
                <a:off x="11261160" y="4983480"/>
                <a:ext cx="293760" cy="389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e1fb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lang="en-US" sz="1800" spc="1" strike="noStrike">
                  <a:ln w="19080">
                    <a:solidFill>
                      <a:srgbClr val="ffe1fb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1" name="WordArt 684"/>
              <p:cNvSpPr txBox="1"/>
              <p:nvPr/>
            </p:nvSpPr>
            <p:spPr>
              <a:xfrm>
                <a:off x="11196720" y="4857480"/>
                <a:ext cx="358560" cy="42480"/>
              </a:xfrm>
              <a:prstGeom prst="rect">
                <a:avLst/>
              </a:prstGeom>
            </p:spPr>
            <p:txBody>
              <a:bodyPr wrap="none" lIns="90000" rIns="90000" tIns="-4320" bIns="-432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e1fb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e1fb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542" name="Group 685"/>
            <p:cNvGrpSpPr/>
            <p:nvPr/>
          </p:nvGrpSpPr>
          <p:grpSpPr>
            <a:xfrm>
              <a:off x="14436720" y="4292640"/>
              <a:ext cx="358920" cy="936360"/>
              <a:chOff x="14436720" y="4292640"/>
              <a:chExt cx="358920" cy="936360"/>
            </a:xfrm>
          </p:grpSpPr>
          <p:sp>
            <p:nvSpPr>
              <p:cNvPr id="1543" name="WordArt 686"/>
              <p:cNvSpPr txBox="1"/>
              <p:nvPr/>
            </p:nvSpPr>
            <p:spPr>
              <a:xfrm>
                <a:off x="14501520" y="4292640"/>
                <a:ext cx="293400" cy="34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80008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lang="en-US" sz="1800" spc="1" strike="noStrike">
                  <a:ln w="19080">
                    <a:solidFill>
                      <a:srgbClr val="8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4" name="WordArt 687"/>
              <p:cNvSpPr txBox="1"/>
              <p:nvPr/>
            </p:nvSpPr>
            <p:spPr>
              <a:xfrm>
                <a:off x="14501520" y="4839120"/>
                <a:ext cx="294120" cy="389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80008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lang="en-US" sz="1800" spc="1" strike="noStrike">
                  <a:ln w="19080">
                    <a:solidFill>
                      <a:srgbClr val="8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5" name="WordArt 688"/>
              <p:cNvSpPr txBox="1"/>
              <p:nvPr/>
            </p:nvSpPr>
            <p:spPr>
              <a:xfrm>
                <a:off x="14436720" y="4713120"/>
                <a:ext cx="358920" cy="42480"/>
              </a:xfrm>
              <a:prstGeom prst="rect">
                <a:avLst/>
              </a:prstGeom>
            </p:spPr>
            <p:txBody>
              <a:bodyPr wrap="none" lIns="90000" rIns="90000" tIns="-4320" bIns="-432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80008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8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546" name="AutoShape 689"/>
          <p:cNvSpPr/>
          <p:nvPr/>
        </p:nvSpPr>
        <p:spPr>
          <a:xfrm>
            <a:off x="6156360" y="1268280"/>
            <a:ext cx="2160720" cy="57636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0939" h="21600">
                <a:moveTo>
                  <a:pt x="0" y="0"/>
                </a:moveTo>
                <a:lnTo>
                  <a:pt x="80939" y="0"/>
                </a:lnTo>
                <a:lnTo>
                  <a:pt x="80939" y="21600"/>
                </a:lnTo>
                <a:lnTo>
                  <a:pt x="0" y="21600"/>
                </a:lnTo>
                <a:close/>
              </a:path>
              <a:path fill="lightenLess" w="80939" h="21600">
                <a:moveTo>
                  <a:pt x="0" y="0"/>
                </a:moveTo>
                <a:lnTo>
                  <a:pt x="80939" y="0"/>
                </a:lnTo>
                <a:lnTo>
                  <a:pt x="79539" y="1400"/>
                </a:lnTo>
                <a:lnTo>
                  <a:pt x="1400" y="1400"/>
                </a:lnTo>
                <a:close/>
              </a:path>
              <a:path fill="darken" w="80939" h="21600">
                <a:moveTo>
                  <a:pt x="80939" y="0"/>
                </a:moveTo>
                <a:lnTo>
                  <a:pt x="80939" y="21600"/>
                </a:lnTo>
                <a:lnTo>
                  <a:pt x="79539" y="20200"/>
                </a:lnTo>
                <a:lnTo>
                  <a:pt x="79539" y="1400"/>
                </a:lnTo>
                <a:close/>
              </a:path>
              <a:path fill="darkenLess" w="80939" h="21600">
                <a:moveTo>
                  <a:pt x="80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9" y="20200"/>
                </a:lnTo>
                <a:close/>
              </a:path>
              <a:path fill="lighten" w="80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546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546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698 0.07453 L -0.87205 0.12708 E">
                                      <p:cBhvr>
                                        <p:cTn id="141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59:49Z</dcterms:created>
  <dc:creator>СВЕТЛАНА</dc:creator>
  <dc:description/>
  <dc:language>en-US</dc:language>
  <cp:lastModifiedBy>chip</cp:lastModifiedBy>
  <dcterms:modified xsi:type="dcterms:W3CDTF">2013-01-23T19:17:24Z</dcterms:modified>
  <cp:revision>15</cp:revision>
  <dc:subject/>
  <dc:title>Слайд 1</dc:title>
</cp:coreProperties>
</file>