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B871-5044-4515-B792-33E0E57BDE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понимика одна из нау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777D-B1CD-4C58-B174-85A67C1A1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780F-CB54-4556-9342-3E358914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695C-B807-41F0-8E21-21989DDB6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657E-AA52-4E00-BC12-40EEA4A48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A127F2-5419-455C-AAEC-E5BC4E4A7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7574F-5B90-441C-8D27-6373865F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19F01-22F7-4267-91DC-DAA75516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A4702-B5F9-4F9C-9B48-8EF6C112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07C27-6C93-42CC-83B5-D12AFC02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26BB8-573C-44E7-B639-F6370BCA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04B8D-49E7-46AF-8FFD-D38E9BEF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DBE0-F7E1-4654-8041-9A1AFB3B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271BC8-7231-4376-94C3-3690128F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B44499-5C4C-45E7-9749-C99A40F8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10277-AC70-4179-B04F-69D2DBEE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F8F53-D627-41ED-81C5-E4EE1EF10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B689B-65EB-4832-924E-39DA639B2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5589-4115-4A14-8E43-A7DF01B0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C920-7CB5-4EA6-B008-2102E896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B3C1-C483-4425-B266-58DFD4CC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D38D-4963-455C-ABBD-A2E2119C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C747-B8B6-494A-9F92-A73B8D4C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3CA2-309A-4EFC-8512-63BB0580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336F-9E31-43F3-AE6F-F3E24A39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1FDF-2209-47D3-9371-4003E011A5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449B-83EC-4D74-8BC8-D5EDB2B7FF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476360" y="1197000"/>
            <a:ext cx="65516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cc"/>
                </a:solidFill>
                <a:latin typeface="Arial"/>
              </a:rPr>
              <a:t>Топонимы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cc"/>
                </a:solidFill>
                <a:latin typeface="Arial"/>
              </a:rPr>
              <a:t>Лазаревского райо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cc"/>
              </a:solidFill>
              <a:latin typeface="Arial"/>
              <a:ea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140360" y="4508640"/>
            <a:ext cx="446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: Пивень Татья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учный руководитель: Куба И.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403280" y="1484280"/>
            <a:ext cx="6624720" cy="7491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ff99"/>
                    </a:gs>
                    <a:gs pos="100000">
                      <a:srgbClr val="2f7546"/>
                    </a:gs>
                  </a:gsLst>
                  <a:lin ang="5400000"/>
                </a:gradFill>
                <a:latin typeface="Arial"/>
              </a:rPr>
              <a:t>"Что в имени твоем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ff99"/>
                  </a:gs>
                  <a:gs pos="100000">
                    <a:srgbClr val="2f754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4360" y="3068640"/>
            <a:ext cx="780876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cc"/>
                </a:solidFill>
                <a:latin typeface="Arial"/>
              </a:rPr>
              <a:t>Лазаревский район: прошлое и настоящее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cc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042920" y="1916280"/>
            <a:ext cx="7274160" cy="20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ff99"/>
                    </a:gs>
                    <a:gs pos="100000">
                      <a:srgbClr val="46b16a"/>
                    </a:gs>
                  </a:gsLst>
                  <a:lin ang="5400000"/>
                </a:gradFill>
                <a:latin typeface="Arial"/>
              </a:rPr>
              <a:t>"Каждый город имеет свой норов,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ff99"/>
                  </a:gs>
                  <a:gs pos="100000">
                    <a:srgbClr val="46b16a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ff99"/>
                    </a:gs>
                    <a:gs pos="100000">
                      <a:srgbClr val="46b16a"/>
                    </a:gs>
                  </a:gsLst>
                  <a:lin ang="5400000"/>
                </a:gradFill>
                <a:latin typeface="Arial"/>
              </a:rPr>
              <a:t>каждое сельцо - свое лицо"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ff99"/>
                  </a:gs>
                  <a:gs pos="100000">
                    <a:srgbClr val="46b16a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900000" y="836640"/>
            <a:ext cx="2303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ель: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191628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бобщить знания по топонимике Лазаревского района города Соч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39640" y="404640"/>
            <a:ext cx="269100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и: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1700280"/>
            <a:ext cx="828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112536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зучить историю заселения территории      Лазаревского район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9280" y="2133720"/>
            <a:ext cx="86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чертить границы распространения языков и их  отображение в топонимике Лазаревского район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314172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явить относительный возраст названий населенных пунктов район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414972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копить краеведческий материал для учащихся , учителей, краеведов, экскурсоводов и т.п.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522936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пособствовать популяризации знаний по краеведен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60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908000" y="1125360"/>
            <a:ext cx="5759640" cy="1224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cc"/>
                </a:solidFill>
                <a:latin typeface="Arial"/>
              </a:rPr>
              <a:t>Топонимика 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cc"/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84200" y="3952800"/>
            <a:ext cx="642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3429000"/>
            <a:ext cx="8209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от греческого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pos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место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ima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имя) собственное название отдельного географического места (населенного пункта, реки и т.п.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3213000"/>
            <a:ext cx="82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ука, занимающаяся изучением  истории возникновения, расшифровкой (переводом) географического назва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17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31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6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1476360" y="765000"/>
            <a:ext cx="6264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азаревский район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95280" y="1844640"/>
            <a:ext cx="84978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ротяженность 135 км от села Сергей Поле до поелка Магр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16:04:50Z</dcterms:created>
  <dc:creator>Куба</dc:creator>
  <dc:description/>
  <dc:language>en-US</dc:language>
  <cp:lastModifiedBy>Куба</cp:lastModifiedBy>
  <dcterms:modified xsi:type="dcterms:W3CDTF">2006-04-09T15:45:52Z</dcterms:modified>
  <cp:revision>11</cp:revision>
  <dc:subject/>
  <dc:title>Слайд 1</dc:title>
</cp:coreProperties>
</file>