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BC6-B342-465B-B1BB-71D6599B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C90-B7B3-4BBA-95F3-201B497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A13-54D1-4419-A0A3-13E51B53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B55-EE57-4662-A642-A8624DC7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A2BD-01F8-467F-92F3-1A06C28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0C4-E6BC-4B5B-86FD-225D9CC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76F-BAAB-48B0-BE29-1C51538D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5888-FD42-4C50-A5C0-7E6EB0C9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365F-0E82-4D96-AF24-4A83972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2297-E659-434D-922B-2AF225AF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F2D-5675-4815-9A22-A1A8F65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CDC-6FFF-4787-93C3-F165239B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7EF1-47E1-41FF-B1C3-41618DB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576-8655-4A66-B3AC-95FF5E1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5F8C-44E4-45C3-82FE-303EF28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2FF9-AF41-48F9-8D82-A2B1652B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B630-50D0-4AFE-AC63-34D172F3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73B0-C893-4459-9481-8F973AC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C3C8-C2AC-4790-A20C-482A5DC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B674-02AA-48AA-B2F0-BDEE0E1A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8A68-90B8-44DE-B9D8-9E8D6FA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5EBD-C83F-43B9-9446-6E0AC901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92-2BFC-429D-8D84-F50EC779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54CE-881E-42B8-8E4C-2E0F5D42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49C1-383E-44C9-A539-8FB40F8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EC33-C369-4504-825D-7C69DFB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7FE4-8369-447F-8608-C857809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E713-CB8F-452F-ABBD-01E80BED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5EFE-C3DF-4611-89D8-25D4E7AF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AC09-8AB3-4EB7-AFCC-62F8D5B5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93A1-9B98-49FD-9250-1DDCBAA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8B21-2047-4C6A-AFB7-4DD0281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3ADA-208A-45E1-8754-2972B2F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E61-F497-42A6-A541-3B5E782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6000-1F4D-4B4D-B12C-2D03D38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DA73-1219-4880-BBBC-83313599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7031-4552-4780-8A09-D995A3D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C533-0156-4203-ACDB-B43B251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E690-50F6-49C8-BBC1-7D2A019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B0FC-FE4A-45FA-9A09-5819C31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0C67-6E2B-43AA-97AF-AAC799A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F11C-80D7-4828-B3F5-D0837B3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5709-03A9-4A2A-B80E-357AB95B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3D8-B5BA-42FC-BF9B-A6E48E2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C74-1FA4-4F54-97A4-4657D25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CA7-C189-4C6C-BDDE-058E681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9FE-6F0F-4792-96C9-3973BC6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591-45DA-4024-8C02-ACD66A4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15BD-2CB7-4A7F-AAC4-A1002B38C1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0044-4797-4204-985B-010A32D01D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D6A-C66F-446A-94C0-DF2D454F23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C2F7-1DD5-4A3A-9894-BF3C70864C7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17680" y="158760"/>
            <a:ext cx="8503920" cy="2577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141720"/>
            <a:ext cx="813744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Constantia"/>
              </a:rPr>
              <a:t>Башкаралар : 4 сыйныф укучылары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Constantia"/>
              </a:rPr>
              <a:t>Режиссер : Сафина Резеда Рашат кызы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ttp://img.rosrealt.ru/pics/house/2011/Jun/600_110612_1307886066_0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mehmetler.com/contents/icerik/12_2972833.jpg"/>
          <p:cNvPicPr/>
          <p:nvPr/>
        </p:nvPicPr>
        <p:blipFill>
          <a:blip r:embed="rId1"/>
          <a:stretch/>
        </p:blipFill>
        <p:spPr>
          <a:xfrm>
            <a:off x="250920" y="404640"/>
            <a:ext cx="86058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img.mota.ru/upload/wallpapers/source/2011/02/27/18/04/24399/etYibMKVGL.jpg"/>
          <p:cNvPicPr/>
          <p:nvPr/>
        </p:nvPicPr>
        <p:blipFill>
          <a:blip r:embed="rId1"/>
          <a:stretch/>
        </p:blipFill>
        <p:spPr>
          <a:xfrm>
            <a:off x="0" y="260280"/>
            <a:ext cx="90964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img-fotki.yandex.ru/get/4913/44774248.e0/0_67449_36743276_XL"/>
          <p:cNvPicPr/>
          <p:nvPr/>
        </p:nvPicPr>
        <p:blipFill>
          <a:blip r:embed="rId1"/>
          <a:stretch/>
        </p:blipFill>
        <p:spPr>
          <a:xfrm>
            <a:off x="122400" y="549360"/>
            <a:ext cx="8740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static.diary.ru/userdir/1/6/8/1/168180/8618465.jpg"/>
          <p:cNvPicPr/>
          <p:nvPr/>
        </p:nvPicPr>
        <p:blipFill>
          <a:blip r:embed="rId1"/>
          <a:stretch/>
        </p:blipFill>
        <p:spPr>
          <a:xfrm>
            <a:off x="0" y="260280"/>
            <a:ext cx="89028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2:48:34Z</dcterms:created>
  <dc:creator>резеда</dc:creator>
  <dc:description/>
  <dc:language>en-US</dc:language>
  <cp:lastModifiedBy>резеда</cp:lastModifiedBy>
  <dcterms:modified xsi:type="dcterms:W3CDTF">2013-01-24T09:40:32Z</dcterms:modified>
  <cp:revision>5</cp:revision>
  <dc:subject/>
  <dc:title>Акбай белән Кәҗә турында әкият</dc:title>
</cp:coreProperties>
</file>