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B388-68B9-4B52-9E7C-5EE2691E1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9EB8-25E4-41F5-8F9A-A6AB0FCD1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5EA0-FB51-452F-90C7-5FB9D9E1A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58E3-3BE1-433E-AF00-865969BD8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2DF1D-7954-444A-87BF-4B525E944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5FA14-72BF-4A8F-9F7D-C8AE94174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E8313-CD83-4AD4-BBC9-94B8E8206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A85B4-D793-4D75-8DA9-663C9D11C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C018C-E086-44C2-B6FE-9B50B7226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D4D45-9E6C-4223-84FB-E92F39CBB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BD4E5-54BC-4692-A5CC-36452A82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14F6-3307-4E07-82D8-70290617F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DB87D-1E3A-437C-90FA-7AABD07B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3E22E-1D68-44FA-8790-DCAD5544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C6138-8CD7-4B11-B300-EFDF1A87F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96FA1-4EEA-47C6-9042-473B9BBDE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9332A-AB4E-42CC-A1A7-C8A129F5D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4DF2-2B73-48E0-8067-0DB7F3B6D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5965-77B3-4A69-B015-30B76839F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476A-D27E-4F5A-8A02-4E3C1E617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8103-8A76-480B-A5EC-0253E9B45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A917-532F-4A57-9040-B11789BB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FAB7-A025-4A12-86C7-39219FDE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9816-FD38-40AA-A19F-3505A693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EEF22-E500-4E7F-9B7B-6882E93A55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51E31-3D11-4EDB-8F59-E2987F7FE9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55640" y="2491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Bookman Old Style"/>
              </a:rPr>
              <a:t>Арифметический диктант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">
            <a:hlinkClick r:id="" action="ppaction://hlinkshowjump?jump=nextslide"/>
          </p:cNvPr>
          <p:cNvSpPr/>
          <p:nvPr/>
        </p:nvSpPr>
        <p:spPr>
          <a:xfrm>
            <a:off x="7740720" y="5877000"/>
            <a:ext cx="1224000" cy="792000"/>
          </a:xfrm>
          <a:custGeom>
            <a:avLst/>
            <a:gdLst>
              <a:gd name="textAreaLeft" fmla="*/ 51120 w 1224000"/>
              <a:gd name="textAreaRight" fmla="*/ 1172880 w 1224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33376" h="21600">
                <a:moveTo>
                  <a:pt x="0" y="0"/>
                </a:moveTo>
                <a:lnTo>
                  <a:pt x="33376" y="0"/>
                </a:lnTo>
                <a:lnTo>
                  <a:pt x="33376" y="21600"/>
                </a:lnTo>
                <a:lnTo>
                  <a:pt x="0" y="21600"/>
                </a:lnTo>
                <a:close/>
              </a:path>
              <a:path fill="lightenLess" w="33376" h="21600">
                <a:moveTo>
                  <a:pt x="0" y="0"/>
                </a:moveTo>
                <a:lnTo>
                  <a:pt x="33376" y="0"/>
                </a:lnTo>
                <a:lnTo>
                  <a:pt x="31976" y="1400"/>
                </a:lnTo>
                <a:lnTo>
                  <a:pt x="1400" y="1400"/>
                </a:lnTo>
                <a:close/>
              </a:path>
              <a:path fill="darken" w="33376" h="21600">
                <a:moveTo>
                  <a:pt x="33376" y="0"/>
                </a:moveTo>
                <a:lnTo>
                  <a:pt x="33376" y="21600"/>
                </a:lnTo>
                <a:lnTo>
                  <a:pt x="31976" y="20200"/>
                </a:lnTo>
                <a:lnTo>
                  <a:pt x="31976" y="1400"/>
                </a:lnTo>
                <a:close/>
              </a:path>
              <a:path fill="darkenLess" w="33376" h="21600">
                <a:moveTo>
                  <a:pt x="33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76" y="20200"/>
                </a:lnTo>
                <a:close/>
              </a:path>
              <a:path fill="lighten" w="33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76" h="21600">
                <a:moveTo>
                  <a:pt x="9682" y="3794"/>
                </a:moveTo>
                <a:lnTo>
                  <a:pt x="23695" y="10800"/>
                </a:lnTo>
                <a:lnTo>
                  <a:pt x="9682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836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ookman Old Style"/>
              </a:rPr>
              <a:t>Чему равно частное чисел 810 и 9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>
            <a:hlinkClick r:id="" action="ppaction://hlinkshowjump?jump=nextslide"/>
          </p:cNvPr>
          <p:cNvSpPr/>
          <p:nvPr/>
        </p:nvSpPr>
        <p:spPr>
          <a:xfrm>
            <a:off x="1908000" y="3933720"/>
            <a:ext cx="5400720" cy="2016360"/>
          </a:xfrm>
          <a:custGeom>
            <a:avLst/>
            <a:gdLst>
              <a:gd name="textAreaLeft" fmla="*/ 130680 w 5400720"/>
              <a:gd name="textAreaRight" fmla="*/ 5270040 w 5400720"/>
              <a:gd name="textAreaTop" fmla="*/ 130680 h 2016360"/>
              <a:gd name="textAreaBottom" fmla="*/ 1885680 h 2016360"/>
            </a:gdLst>
            <a:ahLst/>
            <a:rect l="textAreaLeft" t="textAreaTop" r="textAreaRight" b="textAreaBottom"/>
            <a:pathLst>
              <a:path w="57848" h="21600">
                <a:moveTo>
                  <a:pt x="0" y="0"/>
                </a:moveTo>
                <a:lnTo>
                  <a:pt x="57848" y="0"/>
                </a:lnTo>
                <a:lnTo>
                  <a:pt x="57848" y="21600"/>
                </a:lnTo>
                <a:lnTo>
                  <a:pt x="0" y="21600"/>
                </a:lnTo>
                <a:close/>
              </a:path>
              <a:path fill="lightenLess" w="57848" h="21600">
                <a:moveTo>
                  <a:pt x="0" y="0"/>
                </a:moveTo>
                <a:lnTo>
                  <a:pt x="57848" y="0"/>
                </a:lnTo>
                <a:lnTo>
                  <a:pt x="56448" y="1400"/>
                </a:lnTo>
                <a:lnTo>
                  <a:pt x="1400" y="1400"/>
                </a:lnTo>
                <a:close/>
              </a:path>
              <a:path fill="darken" w="57848" h="21600">
                <a:moveTo>
                  <a:pt x="57848" y="0"/>
                </a:moveTo>
                <a:lnTo>
                  <a:pt x="57848" y="21600"/>
                </a:lnTo>
                <a:lnTo>
                  <a:pt x="56448" y="20200"/>
                </a:lnTo>
                <a:lnTo>
                  <a:pt x="56448" y="1400"/>
                </a:lnTo>
                <a:close/>
              </a:path>
              <a:path fill="darkenLess" w="57848" h="21600">
                <a:moveTo>
                  <a:pt x="57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448" y="20200"/>
                </a:lnTo>
                <a:close/>
              </a:path>
              <a:path fill="lighten" w="57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848" h="21600">
                <a:moveTo>
                  <a:pt x="28924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57848" h="21600">
                <a:moveTo>
                  <a:pt x="28924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57848" h="21600">
                <a:moveTo>
                  <a:pt x="26348" y="8224"/>
                </a:moveTo>
                <a:lnTo>
                  <a:pt x="30212" y="8224"/>
                </a:lnTo>
                <a:lnTo>
                  <a:pt x="30212" y="15221"/>
                </a:lnTo>
                <a:lnTo>
                  <a:pt x="31500" y="15221"/>
                </a:lnTo>
                <a:lnTo>
                  <a:pt x="31500" y="16144"/>
                </a:lnTo>
                <a:lnTo>
                  <a:pt x="26348" y="16144"/>
                </a:lnTo>
                <a:lnTo>
                  <a:pt x="26348" y="15221"/>
                </a:lnTo>
                <a:lnTo>
                  <a:pt x="27636" y="15221"/>
                </a:lnTo>
                <a:lnTo>
                  <a:pt x="27636" y="9129"/>
                </a:lnTo>
                <a:lnTo>
                  <a:pt x="26348" y="912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Bookman Old Style"/>
              </a:rPr>
              <a:t>Правильный отв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Bookman Old Style"/>
              </a:rPr>
              <a:t>90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>
            <a:hlinkClick r:id="" action="ppaction://hlinkshowjump?jump=nextslide"/>
          </p:cNvPr>
          <p:cNvSpPr/>
          <p:nvPr/>
        </p:nvSpPr>
        <p:spPr>
          <a:xfrm>
            <a:off x="7740720" y="5877000"/>
            <a:ext cx="1224000" cy="792000"/>
          </a:xfrm>
          <a:custGeom>
            <a:avLst/>
            <a:gdLst>
              <a:gd name="textAreaLeft" fmla="*/ 51120 w 1224000"/>
              <a:gd name="textAreaRight" fmla="*/ 1172880 w 1224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33376" h="21600">
                <a:moveTo>
                  <a:pt x="0" y="0"/>
                </a:moveTo>
                <a:lnTo>
                  <a:pt x="33376" y="0"/>
                </a:lnTo>
                <a:lnTo>
                  <a:pt x="33376" y="21600"/>
                </a:lnTo>
                <a:lnTo>
                  <a:pt x="0" y="21600"/>
                </a:lnTo>
                <a:close/>
              </a:path>
              <a:path fill="lightenLess" w="33376" h="21600">
                <a:moveTo>
                  <a:pt x="0" y="0"/>
                </a:moveTo>
                <a:lnTo>
                  <a:pt x="33376" y="0"/>
                </a:lnTo>
                <a:lnTo>
                  <a:pt x="31976" y="1400"/>
                </a:lnTo>
                <a:lnTo>
                  <a:pt x="1400" y="1400"/>
                </a:lnTo>
                <a:close/>
              </a:path>
              <a:path fill="darken" w="33376" h="21600">
                <a:moveTo>
                  <a:pt x="33376" y="0"/>
                </a:moveTo>
                <a:lnTo>
                  <a:pt x="33376" y="21600"/>
                </a:lnTo>
                <a:lnTo>
                  <a:pt x="31976" y="20200"/>
                </a:lnTo>
                <a:lnTo>
                  <a:pt x="31976" y="1400"/>
                </a:lnTo>
                <a:close/>
              </a:path>
              <a:path fill="darkenLess" w="33376" h="21600">
                <a:moveTo>
                  <a:pt x="33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76" y="20200"/>
                </a:lnTo>
                <a:close/>
              </a:path>
              <a:path fill="lighten" w="33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76" h="21600">
                <a:moveTo>
                  <a:pt x="9682" y="3794"/>
                </a:moveTo>
                <a:lnTo>
                  <a:pt x="23695" y="10800"/>
                </a:lnTo>
                <a:lnTo>
                  <a:pt x="9682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1128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ookman Old Style"/>
              </a:rPr>
              <a:t>На сколько 999 больше 199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>
            <a:hlinkClick r:id="" action="ppaction://hlinkshowjump?jump=nextslide"/>
          </p:cNvPr>
          <p:cNvSpPr/>
          <p:nvPr/>
        </p:nvSpPr>
        <p:spPr>
          <a:xfrm>
            <a:off x="1908000" y="3933720"/>
            <a:ext cx="5400720" cy="2016360"/>
          </a:xfrm>
          <a:custGeom>
            <a:avLst/>
            <a:gdLst>
              <a:gd name="textAreaLeft" fmla="*/ 130680 w 5400720"/>
              <a:gd name="textAreaRight" fmla="*/ 5270040 w 5400720"/>
              <a:gd name="textAreaTop" fmla="*/ 130680 h 2016360"/>
              <a:gd name="textAreaBottom" fmla="*/ 1885680 h 2016360"/>
            </a:gdLst>
            <a:ahLst/>
            <a:rect l="textAreaLeft" t="textAreaTop" r="textAreaRight" b="textAreaBottom"/>
            <a:pathLst>
              <a:path w="57848" h="21600">
                <a:moveTo>
                  <a:pt x="0" y="0"/>
                </a:moveTo>
                <a:lnTo>
                  <a:pt x="57848" y="0"/>
                </a:lnTo>
                <a:lnTo>
                  <a:pt x="57848" y="21600"/>
                </a:lnTo>
                <a:lnTo>
                  <a:pt x="0" y="21600"/>
                </a:lnTo>
                <a:close/>
              </a:path>
              <a:path fill="lightenLess" w="57848" h="21600">
                <a:moveTo>
                  <a:pt x="0" y="0"/>
                </a:moveTo>
                <a:lnTo>
                  <a:pt x="57848" y="0"/>
                </a:lnTo>
                <a:lnTo>
                  <a:pt x="56448" y="1400"/>
                </a:lnTo>
                <a:lnTo>
                  <a:pt x="1400" y="1400"/>
                </a:lnTo>
                <a:close/>
              </a:path>
              <a:path fill="darken" w="57848" h="21600">
                <a:moveTo>
                  <a:pt x="57848" y="0"/>
                </a:moveTo>
                <a:lnTo>
                  <a:pt x="57848" y="21600"/>
                </a:lnTo>
                <a:lnTo>
                  <a:pt x="56448" y="20200"/>
                </a:lnTo>
                <a:lnTo>
                  <a:pt x="56448" y="1400"/>
                </a:lnTo>
                <a:close/>
              </a:path>
              <a:path fill="darkenLess" w="57848" h="21600">
                <a:moveTo>
                  <a:pt x="57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448" y="20200"/>
                </a:lnTo>
                <a:close/>
              </a:path>
              <a:path fill="lighten" w="57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848" h="21600">
                <a:moveTo>
                  <a:pt x="28924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57848" h="21600">
                <a:moveTo>
                  <a:pt x="28924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57848" h="21600">
                <a:moveTo>
                  <a:pt x="26348" y="8224"/>
                </a:moveTo>
                <a:lnTo>
                  <a:pt x="30212" y="8224"/>
                </a:lnTo>
                <a:lnTo>
                  <a:pt x="30212" y="15221"/>
                </a:lnTo>
                <a:lnTo>
                  <a:pt x="31500" y="15221"/>
                </a:lnTo>
                <a:lnTo>
                  <a:pt x="31500" y="16144"/>
                </a:lnTo>
                <a:lnTo>
                  <a:pt x="26348" y="16144"/>
                </a:lnTo>
                <a:lnTo>
                  <a:pt x="26348" y="15221"/>
                </a:lnTo>
                <a:lnTo>
                  <a:pt x="27636" y="15221"/>
                </a:lnTo>
                <a:lnTo>
                  <a:pt x="27636" y="9129"/>
                </a:lnTo>
                <a:lnTo>
                  <a:pt x="26348" y="912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Bookman Old Style"/>
              </a:rPr>
              <a:t>Правильный отв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Bookman Old Style"/>
              </a:rPr>
              <a:t>800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>
            <a:hlinkClick r:id="" action="ppaction://hlinkshowjump?jump=nextslide"/>
          </p:cNvPr>
          <p:cNvSpPr/>
          <p:nvPr/>
        </p:nvSpPr>
        <p:spPr>
          <a:xfrm>
            <a:off x="7740720" y="5877000"/>
            <a:ext cx="1224000" cy="792000"/>
          </a:xfrm>
          <a:custGeom>
            <a:avLst/>
            <a:gdLst>
              <a:gd name="textAreaLeft" fmla="*/ 51120 w 1224000"/>
              <a:gd name="textAreaRight" fmla="*/ 1172880 w 1224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33376" h="21600">
                <a:moveTo>
                  <a:pt x="0" y="0"/>
                </a:moveTo>
                <a:lnTo>
                  <a:pt x="33376" y="0"/>
                </a:lnTo>
                <a:lnTo>
                  <a:pt x="33376" y="21600"/>
                </a:lnTo>
                <a:lnTo>
                  <a:pt x="0" y="21600"/>
                </a:lnTo>
                <a:close/>
              </a:path>
              <a:path fill="lightenLess" w="33376" h="21600">
                <a:moveTo>
                  <a:pt x="0" y="0"/>
                </a:moveTo>
                <a:lnTo>
                  <a:pt x="33376" y="0"/>
                </a:lnTo>
                <a:lnTo>
                  <a:pt x="31976" y="1400"/>
                </a:lnTo>
                <a:lnTo>
                  <a:pt x="1400" y="1400"/>
                </a:lnTo>
                <a:close/>
              </a:path>
              <a:path fill="darken" w="33376" h="21600">
                <a:moveTo>
                  <a:pt x="33376" y="0"/>
                </a:moveTo>
                <a:lnTo>
                  <a:pt x="33376" y="21600"/>
                </a:lnTo>
                <a:lnTo>
                  <a:pt x="31976" y="20200"/>
                </a:lnTo>
                <a:lnTo>
                  <a:pt x="31976" y="1400"/>
                </a:lnTo>
                <a:close/>
              </a:path>
              <a:path fill="darkenLess" w="33376" h="21600">
                <a:moveTo>
                  <a:pt x="33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76" y="20200"/>
                </a:lnTo>
                <a:close/>
              </a:path>
              <a:path fill="lighten" w="33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76" h="21600">
                <a:moveTo>
                  <a:pt x="9682" y="3794"/>
                </a:moveTo>
                <a:lnTo>
                  <a:pt x="23695" y="10800"/>
                </a:lnTo>
                <a:lnTo>
                  <a:pt x="9682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128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ookman Old Style"/>
              </a:rPr>
              <a:t>Во сколько раз 100 больше 20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ookman Old Style"/>
              </a:rPr>
              <a:t>На сколько 100 больше 20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>
            <a:hlinkClick r:id="" action="ppaction://hlinkshowjump?jump=nextslide"/>
          </p:cNvPr>
          <p:cNvSpPr/>
          <p:nvPr/>
        </p:nvSpPr>
        <p:spPr>
          <a:xfrm>
            <a:off x="1908000" y="4221000"/>
            <a:ext cx="5400720" cy="2016360"/>
          </a:xfrm>
          <a:custGeom>
            <a:avLst/>
            <a:gdLst>
              <a:gd name="textAreaLeft" fmla="*/ 130680 w 5400720"/>
              <a:gd name="textAreaRight" fmla="*/ 5270040 w 5400720"/>
              <a:gd name="textAreaTop" fmla="*/ 130680 h 2016360"/>
              <a:gd name="textAreaBottom" fmla="*/ 1885680 h 2016360"/>
            </a:gdLst>
            <a:ahLst/>
            <a:rect l="textAreaLeft" t="textAreaTop" r="textAreaRight" b="textAreaBottom"/>
            <a:pathLst>
              <a:path w="57848" h="21600">
                <a:moveTo>
                  <a:pt x="0" y="0"/>
                </a:moveTo>
                <a:lnTo>
                  <a:pt x="57848" y="0"/>
                </a:lnTo>
                <a:lnTo>
                  <a:pt x="57848" y="21600"/>
                </a:lnTo>
                <a:lnTo>
                  <a:pt x="0" y="21600"/>
                </a:lnTo>
                <a:close/>
              </a:path>
              <a:path fill="lightenLess" w="57848" h="21600">
                <a:moveTo>
                  <a:pt x="0" y="0"/>
                </a:moveTo>
                <a:lnTo>
                  <a:pt x="57848" y="0"/>
                </a:lnTo>
                <a:lnTo>
                  <a:pt x="56448" y="1400"/>
                </a:lnTo>
                <a:lnTo>
                  <a:pt x="1400" y="1400"/>
                </a:lnTo>
                <a:close/>
              </a:path>
              <a:path fill="darken" w="57848" h="21600">
                <a:moveTo>
                  <a:pt x="57848" y="0"/>
                </a:moveTo>
                <a:lnTo>
                  <a:pt x="57848" y="21600"/>
                </a:lnTo>
                <a:lnTo>
                  <a:pt x="56448" y="20200"/>
                </a:lnTo>
                <a:lnTo>
                  <a:pt x="56448" y="1400"/>
                </a:lnTo>
                <a:close/>
              </a:path>
              <a:path fill="darkenLess" w="57848" h="21600">
                <a:moveTo>
                  <a:pt x="57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448" y="20200"/>
                </a:lnTo>
                <a:close/>
              </a:path>
              <a:path fill="lighten" w="57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848" h="21600">
                <a:moveTo>
                  <a:pt x="28924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57848" h="21600">
                <a:moveTo>
                  <a:pt x="28924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57848" h="21600">
                <a:moveTo>
                  <a:pt x="26348" y="8224"/>
                </a:moveTo>
                <a:lnTo>
                  <a:pt x="30212" y="8224"/>
                </a:lnTo>
                <a:lnTo>
                  <a:pt x="30212" y="15221"/>
                </a:lnTo>
                <a:lnTo>
                  <a:pt x="31500" y="15221"/>
                </a:lnTo>
                <a:lnTo>
                  <a:pt x="31500" y="16144"/>
                </a:lnTo>
                <a:lnTo>
                  <a:pt x="26348" y="16144"/>
                </a:lnTo>
                <a:lnTo>
                  <a:pt x="26348" y="15221"/>
                </a:lnTo>
                <a:lnTo>
                  <a:pt x="27636" y="15221"/>
                </a:lnTo>
                <a:lnTo>
                  <a:pt x="27636" y="9129"/>
                </a:lnTo>
                <a:lnTo>
                  <a:pt x="26348" y="912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Bookman Old Style"/>
              </a:rPr>
              <a:t>Правильный отв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4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Bookman Old Style"/>
              </a:rPr>
              <a:t>80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7740720" y="5877000"/>
            <a:ext cx="1224000" cy="792000"/>
          </a:xfrm>
          <a:custGeom>
            <a:avLst/>
            <a:gdLst>
              <a:gd name="textAreaLeft" fmla="*/ 51120 w 1224000"/>
              <a:gd name="textAreaRight" fmla="*/ 1172880 w 1224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33376" h="21600">
                <a:moveTo>
                  <a:pt x="0" y="0"/>
                </a:moveTo>
                <a:lnTo>
                  <a:pt x="33376" y="0"/>
                </a:lnTo>
                <a:lnTo>
                  <a:pt x="33376" y="21600"/>
                </a:lnTo>
                <a:lnTo>
                  <a:pt x="0" y="21600"/>
                </a:lnTo>
                <a:close/>
              </a:path>
              <a:path fill="lightenLess" w="33376" h="21600">
                <a:moveTo>
                  <a:pt x="0" y="0"/>
                </a:moveTo>
                <a:lnTo>
                  <a:pt x="33376" y="0"/>
                </a:lnTo>
                <a:lnTo>
                  <a:pt x="31976" y="1400"/>
                </a:lnTo>
                <a:lnTo>
                  <a:pt x="1400" y="1400"/>
                </a:lnTo>
                <a:close/>
              </a:path>
              <a:path fill="darken" w="33376" h="21600">
                <a:moveTo>
                  <a:pt x="33376" y="0"/>
                </a:moveTo>
                <a:lnTo>
                  <a:pt x="33376" y="21600"/>
                </a:lnTo>
                <a:lnTo>
                  <a:pt x="31976" y="20200"/>
                </a:lnTo>
                <a:lnTo>
                  <a:pt x="31976" y="1400"/>
                </a:lnTo>
                <a:close/>
              </a:path>
              <a:path fill="darkenLess" w="33376" h="21600">
                <a:moveTo>
                  <a:pt x="33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76" y="20200"/>
                </a:lnTo>
                <a:close/>
              </a:path>
              <a:path fill="lighten" w="33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76" h="21600">
                <a:moveTo>
                  <a:pt x="9682" y="3794"/>
                </a:moveTo>
                <a:lnTo>
                  <a:pt x="23695" y="10800"/>
                </a:lnTo>
                <a:lnTo>
                  <a:pt x="9682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92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ookman Old Style"/>
              </a:rPr>
              <a:t>Во сколько раз 4 меньше 400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ookman Old Style"/>
              </a:rPr>
              <a:t>На сколько 4 меньше 400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>
            <a:hlinkClick r:id="" action="ppaction://hlinkshowjump?jump=nextslide"/>
          </p:cNvPr>
          <p:cNvSpPr/>
          <p:nvPr/>
        </p:nvSpPr>
        <p:spPr>
          <a:xfrm>
            <a:off x="1979640" y="4365720"/>
            <a:ext cx="5400720" cy="2016000"/>
          </a:xfrm>
          <a:custGeom>
            <a:avLst/>
            <a:gdLst>
              <a:gd name="textAreaLeft" fmla="*/ 130680 w 5400720"/>
              <a:gd name="textAreaRight" fmla="*/ 5270040 w 5400720"/>
              <a:gd name="textAreaTop" fmla="*/ 130680 h 2016000"/>
              <a:gd name="textAreaBottom" fmla="*/ 1885320 h 2016000"/>
            </a:gdLst>
            <a:ahLst/>
            <a:rect l="textAreaLeft" t="textAreaTop" r="textAreaRight" b="textAreaBottom"/>
            <a:pathLst>
              <a:path w="57858" h="21600">
                <a:moveTo>
                  <a:pt x="0" y="0"/>
                </a:moveTo>
                <a:lnTo>
                  <a:pt x="57858" y="0"/>
                </a:lnTo>
                <a:lnTo>
                  <a:pt x="57858" y="21600"/>
                </a:lnTo>
                <a:lnTo>
                  <a:pt x="0" y="21600"/>
                </a:lnTo>
                <a:close/>
              </a:path>
              <a:path fill="lightenLess" w="57858" h="21600">
                <a:moveTo>
                  <a:pt x="0" y="0"/>
                </a:moveTo>
                <a:lnTo>
                  <a:pt x="57858" y="0"/>
                </a:lnTo>
                <a:lnTo>
                  <a:pt x="56458" y="1400"/>
                </a:lnTo>
                <a:lnTo>
                  <a:pt x="1400" y="1400"/>
                </a:lnTo>
                <a:close/>
              </a:path>
              <a:path fill="darken" w="57858" h="21600">
                <a:moveTo>
                  <a:pt x="57858" y="0"/>
                </a:moveTo>
                <a:lnTo>
                  <a:pt x="57858" y="21600"/>
                </a:lnTo>
                <a:lnTo>
                  <a:pt x="56458" y="20200"/>
                </a:lnTo>
                <a:lnTo>
                  <a:pt x="56458" y="1400"/>
                </a:lnTo>
                <a:close/>
              </a:path>
              <a:path fill="darkenLess" w="57858" h="21600">
                <a:moveTo>
                  <a:pt x="578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458" y="20200"/>
                </a:lnTo>
                <a:close/>
              </a:path>
              <a:path fill="lighten" w="578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858" h="21600">
                <a:moveTo>
                  <a:pt x="28929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57858" h="21600">
                <a:moveTo>
                  <a:pt x="28929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57858" h="21600">
                <a:moveTo>
                  <a:pt x="26353" y="8224"/>
                </a:moveTo>
                <a:lnTo>
                  <a:pt x="30217" y="8224"/>
                </a:lnTo>
                <a:lnTo>
                  <a:pt x="30217" y="15221"/>
                </a:lnTo>
                <a:lnTo>
                  <a:pt x="31505" y="15221"/>
                </a:lnTo>
                <a:lnTo>
                  <a:pt x="31505" y="16144"/>
                </a:lnTo>
                <a:lnTo>
                  <a:pt x="26353" y="16144"/>
                </a:lnTo>
                <a:lnTo>
                  <a:pt x="26353" y="15221"/>
                </a:lnTo>
                <a:lnTo>
                  <a:pt x="27641" y="15221"/>
                </a:lnTo>
                <a:lnTo>
                  <a:pt x="27641" y="9129"/>
                </a:lnTo>
                <a:lnTo>
                  <a:pt x="26353" y="912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Bookman Old Style"/>
              </a:rPr>
              <a:t>Правильный отв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092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Bookman Old Style"/>
              </a:rPr>
              <a:t>100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4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Bookman Old Style"/>
              </a:rPr>
              <a:t>396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>
            <a:hlinkClick r:id="" action="ppaction://hlinkshowjump?jump=nextslide"/>
          </p:cNvPr>
          <p:cNvSpPr/>
          <p:nvPr/>
        </p:nvSpPr>
        <p:spPr>
          <a:xfrm>
            <a:off x="7740720" y="5877000"/>
            <a:ext cx="1224000" cy="792000"/>
          </a:xfrm>
          <a:custGeom>
            <a:avLst/>
            <a:gdLst>
              <a:gd name="textAreaLeft" fmla="*/ 51120 w 1224000"/>
              <a:gd name="textAreaRight" fmla="*/ 1172880 w 1224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33376" h="21600">
                <a:moveTo>
                  <a:pt x="0" y="0"/>
                </a:moveTo>
                <a:lnTo>
                  <a:pt x="33376" y="0"/>
                </a:lnTo>
                <a:lnTo>
                  <a:pt x="33376" y="21600"/>
                </a:lnTo>
                <a:lnTo>
                  <a:pt x="0" y="21600"/>
                </a:lnTo>
                <a:close/>
              </a:path>
              <a:path fill="lightenLess" w="33376" h="21600">
                <a:moveTo>
                  <a:pt x="0" y="0"/>
                </a:moveTo>
                <a:lnTo>
                  <a:pt x="33376" y="0"/>
                </a:lnTo>
                <a:lnTo>
                  <a:pt x="31976" y="1400"/>
                </a:lnTo>
                <a:lnTo>
                  <a:pt x="1400" y="1400"/>
                </a:lnTo>
                <a:close/>
              </a:path>
              <a:path fill="darken" w="33376" h="21600">
                <a:moveTo>
                  <a:pt x="33376" y="0"/>
                </a:moveTo>
                <a:lnTo>
                  <a:pt x="33376" y="21600"/>
                </a:lnTo>
                <a:lnTo>
                  <a:pt x="31976" y="20200"/>
                </a:lnTo>
                <a:lnTo>
                  <a:pt x="31976" y="1400"/>
                </a:lnTo>
                <a:close/>
              </a:path>
              <a:path fill="darkenLess" w="33376" h="21600">
                <a:moveTo>
                  <a:pt x="33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76" y="20200"/>
                </a:lnTo>
                <a:close/>
              </a:path>
              <a:path fill="lighten" w="33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76" h="21600">
                <a:moveTo>
                  <a:pt x="9682" y="3794"/>
                </a:moveTo>
                <a:lnTo>
                  <a:pt x="23695" y="10800"/>
                </a:lnTo>
                <a:lnTo>
                  <a:pt x="9682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1280" y="11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ookman Old Style"/>
              </a:rPr>
              <a:t>Наименьшее трёхзначное число увеличьте в 5 раз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>
            <a:hlinkClick r:id="" action="ppaction://hlinkshowjump?jump=nextslide"/>
          </p:cNvPr>
          <p:cNvSpPr/>
          <p:nvPr/>
        </p:nvSpPr>
        <p:spPr>
          <a:xfrm>
            <a:off x="1979640" y="4365720"/>
            <a:ext cx="5400720" cy="2016000"/>
          </a:xfrm>
          <a:custGeom>
            <a:avLst/>
            <a:gdLst>
              <a:gd name="textAreaLeft" fmla="*/ 130680 w 5400720"/>
              <a:gd name="textAreaRight" fmla="*/ 5270040 w 5400720"/>
              <a:gd name="textAreaTop" fmla="*/ 130680 h 2016000"/>
              <a:gd name="textAreaBottom" fmla="*/ 1885320 h 2016000"/>
            </a:gdLst>
            <a:ahLst/>
            <a:rect l="textAreaLeft" t="textAreaTop" r="textAreaRight" b="textAreaBottom"/>
            <a:pathLst>
              <a:path w="57858" h="21600">
                <a:moveTo>
                  <a:pt x="0" y="0"/>
                </a:moveTo>
                <a:lnTo>
                  <a:pt x="57858" y="0"/>
                </a:lnTo>
                <a:lnTo>
                  <a:pt x="57858" y="21600"/>
                </a:lnTo>
                <a:lnTo>
                  <a:pt x="0" y="21600"/>
                </a:lnTo>
                <a:close/>
              </a:path>
              <a:path fill="lightenLess" w="57858" h="21600">
                <a:moveTo>
                  <a:pt x="0" y="0"/>
                </a:moveTo>
                <a:lnTo>
                  <a:pt x="57858" y="0"/>
                </a:lnTo>
                <a:lnTo>
                  <a:pt x="56458" y="1400"/>
                </a:lnTo>
                <a:lnTo>
                  <a:pt x="1400" y="1400"/>
                </a:lnTo>
                <a:close/>
              </a:path>
              <a:path fill="darken" w="57858" h="21600">
                <a:moveTo>
                  <a:pt x="57858" y="0"/>
                </a:moveTo>
                <a:lnTo>
                  <a:pt x="57858" y="21600"/>
                </a:lnTo>
                <a:lnTo>
                  <a:pt x="56458" y="20200"/>
                </a:lnTo>
                <a:lnTo>
                  <a:pt x="56458" y="1400"/>
                </a:lnTo>
                <a:close/>
              </a:path>
              <a:path fill="darkenLess" w="57858" h="21600">
                <a:moveTo>
                  <a:pt x="578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458" y="20200"/>
                </a:lnTo>
                <a:close/>
              </a:path>
              <a:path fill="lighten" w="578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858" h="21600">
                <a:moveTo>
                  <a:pt x="28929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57858" h="21600">
                <a:moveTo>
                  <a:pt x="28929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57858" h="21600">
                <a:moveTo>
                  <a:pt x="26353" y="8224"/>
                </a:moveTo>
                <a:lnTo>
                  <a:pt x="30217" y="8224"/>
                </a:lnTo>
                <a:lnTo>
                  <a:pt x="30217" y="15221"/>
                </a:lnTo>
                <a:lnTo>
                  <a:pt x="31505" y="15221"/>
                </a:lnTo>
                <a:lnTo>
                  <a:pt x="31505" y="16144"/>
                </a:lnTo>
                <a:lnTo>
                  <a:pt x="26353" y="16144"/>
                </a:lnTo>
                <a:lnTo>
                  <a:pt x="26353" y="15221"/>
                </a:lnTo>
                <a:lnTo>
                  <a:pt x="27641" y="15221"/>
                </a:lnTo>
                <a:lnTo>
                  <a:pt x="27641" y="9129"/>
                </a:lnTo>
                <a:lnTo>
                  <a:pt x="26353" y="912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Bookman Old Style"/>
              </a:rPr>
              <a:t>Правильный отв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Bookman Old Style"/>
              </a:rPr>
              <a:t>500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>
            <a:hlinkClick r:id="" action="ppaction://hlinkshowjump?jump=nextslide"/>
          </p:cNvPr>
          <p:cNvSpPr/>
          <p:nvPr/>
        </p:nvSpPr>
        <p:spPr>
          <a:xfrm>
            <a:off x="7740720" y="5877000"/>
            <a:ext cx="1224000" cy="792000"/>
          </a:xfrm>
          <a:custGeom>
            <a:avLst/>
            <a:gdLst>
              <a:gd name="textAreaLeft" fmla="*/ 51120 w 1224000"/>
              <a:gd name="textAreaRight" fmla="*/ 1172880 w 1224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33376" h="21600">
                <a:moveTo>
                  <a:pt x="0" y="0"/>
                </a:moveTo>
                <a:lnTo>
                  <a:pt x="33376" y="0"/>
                </a:lnTo>
                <a:lnTo>
                  <a:pt x="33376" y="21600"/>
                </a:lnTo>
                <a:lnTo>
                  <a:pt x="0" y="21600"/>
                </a:lnTo>
                <a:close/>
              </a:path>
              <a:path fill="lightenLess" w="33376" h="21600">
                <a:moveTo>
                  <a:pt x="0" y="0"/>
                </a:moveTo>
                <a:lnTo>
                  <a:pt x="33376" y="0"/>
                </a:lnTo>
                <a:lnTo>
                  <a:pt x="31976" y="1400"/>
                </a:lnTo>
                <a:lnTo>
                  <a:pt x="1400" y="1400"/>
                </a:lnTo>
                <a:close/>
              </a:path>
              <a:path fill="darken" w="33376" h="21600">
                <a:moveTo>
                  <a:pt x="33376" y="0"/>
                </a:moveTo>
                <a:lnTo>
                  <a:pt x="33376" y="21600"/>
                </a:lnTo>
                <a:lnTo>
                  <a:pt x="31976" y="20200"/>
                </a:lnTo>
                <a:lnTo>
                  <a:pt x="31976" y="1400"/>
                </a:lnTo>
                <a:close/>
              </a:path>
              <a:path fill="darkenLess" w="33376" h="21600">
                <a:moveTo>
                  <a:pt x="33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76" y="20200"/>
                </a:lnTo>
                <a:close/>
              </a:path>
              <a:path fill="lighten" w="33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76" h="21600">
                <a:moveTo>
                  <a:pt x="9682" y="3794"/>
                </a:moveTo>
                <a:lnTo>
                  <a:pt x="23695" y="10800"/>
                </a:lnTo>
                <a:lnTo>
                  <a:pt x="9682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64072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ookman Old Style"/>
              </a:rPr>
              <a:t>Вычислите сумму чисел 480 и 200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>
            <a:hlinkClick r:id="" action="ppaction://hlinkshowjump?jump=nextslide"/>
          </p:cNvPr>
          <p:cNvSpPr/>
          <p:nvPr/>
        </p:nvSpPr>
        <p:spPr>
          <a:xfrm>
            <a:off x="1908000" y="3933720"/>
            <a:ext cx="5400720" cy="2016360"/>
          </a:xfrm>
          <a:custGeom>
            <a:avLst/>
            <a:gdLst>
              <a:gd name="textAreaLeft" fmla="*/ 130680 w 5400720"/>
              <a:gd name="textAreaRight" fmla="*/ 5270040 w 5400720"/>
              <a:gd name="textAreaTop" fmla="*/ 130680 h 2016360"/>
              <a:gd name="textAreaBottom" fmla="*/ 1885680 h 2016360"/>
            </a:gdLst>
            <a:ahLst/>
            <a:rect l="textAreaLeft" t="textAreaTop" r="textAreaRight" b="textAreaBottom"/>
            <a:pathLst>
              <a:path w="57848" h="21600">
                <a:moveTo>
                  <a:pt x="0" y="0"/>
                </a:moveTo>
                <a:lnTo>
                  <a:pt x="57848" y="0"/>
                </a:lnTo>
                <a:lnTo>
                  <a:pt x="57848" y="21600"/>
                </a:lnTo>
                <a:lnTo>
                  <a:pt x="0" y="21600"/>
                </a:lnTo>
                <a:close/>
              </a:path>
              <a:path fill="lightenLess" w="57848" h="21600">
                <a:moveTo>
                  <a:pt x="0" y="0"/>
                </a:moveTo>
                <a:lnTo>
                  <a:pt x="57848" y="0"/>
                </a:lnTo>
                <a:lnTo>
                  <a:pt x="56448" y="1400"/>
                </a:lnTo>
                <a:lnTo>
                  <a:pt x="1400" y="1400"/>
                </a:lnTo>
                <a:close/>
              </a:path>
              <a:path fill="darken" w="57848" h="21600">
                <a:moveTo>
                  <a:pt x="57848" y="0"/>
                </a:moveTo>
                <a:lnTo>
                  <a:pt x="57848" y="21600"/>
                </a:lnTo>
                <a:lnTo>
                  <a:pt x="56448" y="20200"/>
                </a:lnTo>
                <a:lnTo>
                  <a:pt x="56448" y="1400"/>
                </a:lnTo>
                <a:close/>
              </a:path>
              <a:path fill="darkenLess" w="57848" h="21600">
                <a:moveTo>
                  <a:pt x="57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448" y="20200"/>
                </a:lnTo>
                <a:close/>
              </a:path>
              <a:path fill="lighten" w="57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848" h="21600">
                <a:moveTo>
                  <a:pt x="28924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57848" h="21600">
                <a:moveTo>
                  <a:pt x="28924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57848" h="21600">
                <a:moveTo>
                  <a:pt x="26348" y="8224"/>
                </a:moveTo>
                <a:lnTo>
                  <a:pt x="30212" y="8224"/>
                </a:lnTo>
                <a:lnTo>
                  <a:pt x="30212" y="15221"/>
                </a:lnTo>
                <a:lnTo>
                  <a:pt x="31500" y="15221"/>
                </a:lnTo>
                <a:lnTo>
                  <a:pt x="31500" y="16144"/>
                </a:lnTo>
                <a:lnTo>
                  <a:pt x="26348" y="16144"/>
                </a:lnTo>
                <a:lnTo>
                  <a:pt x="26348" y="15221"/>
                </a:lnTo>
                <a:lnTo>
                  <a:pt x="27636" y="15221"/>
                </a:lnTo>
                <a:lnTo>
                  <a:pt x="27636" y="9129"/>
                </a:lnTo>
                <a:lnTo>
                  <a:pt x="26348" y="912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Bookman Old Style"/>
              </a:rPr>
              <a:t>Правильный отв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964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ookman Old Style"/>
              </a:rPr>
              <a:t>Наибольшее двухзначное число уменьшите в 3 раза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>
            <a:hlinkClick r:id="" action="ppaction://hlinkshowjump?jump=nextslide"/>
          </p:cNvPr>
          <p:cNvSpPr/>
          <p:nvPr/>
        </p:nvSpPr>
        <p:spPr>
          <a:xfrm>
            <a:off x="1979640" y="4365720"/>
            <a:ext cx="5400720" cy="2016000"/>
          </a:xfrm>
          <a:custGeom>
            <a:avLst/>
            <a:gdLst>
              <a:gd name="textAreaLeft" fmla="*/ 130680 w 5400720"/>
              <a:gd name="textAreaRight" fmla="*/ 5270040 w 5400720"/>
              <a:gd name="textAreaTop" fmla="*/ 130680 h 2016000"/>
              <a:gd name="textAreaBottom" fmla="*/ 1885320 h 2016000"/>
            </a:gdLst>
            <a:ahLst/>
            <a:rect l="textAreaLeft" t="textAreaTop" r="textAreaRight" b="textAreaBottom"/>
            <a:pathLst>
              <a:path w="57858" h="21600">
                <a:moveTo>
                  <a:pt x="0" y="0"/>
                </a:moveTo>
                <a:lnTo>
                  <a:pt x="57858" y="0"/>
                </a:lnTo>
                <a:lnTo>
                  <a:pt x="57858" y="21600"/>
                </a:lnTo>
                <a:lnTo>
                  <a:pt x="0" y="21600"/>
                </a:lnTo>
                <a:close/>
              </a:path>
              <a:path fill="lightenLess" w="57858" h="21600">
                <a:moveTo>
                  <a:pt x="0" y="0"/>
                </a:moveTo>
                <a:lnTo>
                  <a:pt x="57858" y="0"/>
                </a:lnTo>
                <a:lnTo>
                  <a:pt x="56458" y="1400"/>
                </a:lnTo>
                <a:lnTo>
                  <a:pt x="1400" y="1400"/>
                </a:lnTo>
                <a:close/>
              </a:path>
              <a:path fill="darken" w="57858" h="21600">
                <a:moveTo>
                  <a:pt x="57858" y="0"/>
                </a:moveTo>
                <a:lnTo>
                  <a:pt x="57858" y="21600"/>
                </a:lnTo>
                <a:lnTo>
                  <a:pt x="56458" y="20200"/>
                </a:lnTo>
                <a:lnTo>
                  <a:pt x="56458" y="1400"/>
                </a:lnTo>
                <a:close/>
              </a:path>
              <a:path fill="darkenLess" w="57858" h="21600">
                <a:moveTo>
                  <a:pt x="578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458" y="20200"/>
                </a:lnTo>
                <a:close/>
              </a:path>
              <a:path fill="lighten" w="578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858" h="21600">
                <a:moveTo>
                  <a:pt x="28929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57858" h="21600">
                <a:moveTo>
                  <a:pt x="28929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57858" h="21600">
                <a:moveTo>
                  <a:pt x="26353" y="8224"/>
                </a:moveTo>
                <a:lnTo>
                  <a:pt x="30217" y="8224"/>
                </a:lnTo>
                <a:lnTo>
                  <a:pt x="30217" y="15221"/>
                </a:lnTo>
                <a:lnTo>
                  <a:pt x="31505" y="15221"/>
                </a:lnTo>
                <a:lnTo>
                  <a:pt x="31505" y="16144"/>
                </a:lnTo>
                <a:lnTo>
                  <a:pt x="26353" y="16144"/>
                </a:lnTo>
                <a:lnTo>
                  <a:pt x="26353" y="15221"/>
                </a:lnTo>
                <a:lnTo>
                  <a:pt x="27641" y="15221"/>
                </a:lnTo>
                <a:lnTo>
                  <a:pt x="27641" y="9129"/>
                </a:lnTo>
                <a:lnTo>
                  <a:pt x="26353" y="912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Bookman Old Style"/>
              </a:rPr>
              <a:t>Правильный отв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Bookman Old Style"/>
              </a:rPr>
              <a:t>33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>
            <a:hlinkClick r:id="" action="ppaction://hlinkshowjump?jump=nextslide"/>
          </p:cNvPr>
          <p:cNvSpPr/>
          <p:nvPr/>
        </p:nvSpPr>
        <p:spPr>
          <a:xfrm>
            <a:off x="7740720" y="5877000"/>
            <a:ext cx="1224000" cy="792000"/>
          </a:xfrm>
          <a:custGeom>
            <a:avLst/>
            <a:gdLst>
              <a:gd name="textAreaLeft" fmla="*/ 51120 w 1224000"/>
              <a:gd name="textAreaRight" fmla="*/ 1172880 w 1224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33376" h="21600">
                <a:moveTo>
                  <a:pt x="0" y="0"/>
                </a:moveTo>
                <a:lnTo>
                  <a:pt x="33376" y="0"/>
                </a:lnTo>
                <a:lnTo>
                  <a:pt x="33376" y="21600"/>
                </a:lnTo>
                <a:lnTo>
                  <a:pt x="0" y="21600"/>
                </a:lnTo>
                <a:close/>
              </a:path>
              <a:path fill="lightenLess" w="33376" h="21600">
                <a:moveTo>
                  <a:pt x="0" y="0"/>
                </a:moveTo>
                <a:lnTo>
                  <a:pt x="33376" y="0"/>
                </a:lnTo>
                <a:lnTo>
                  <a:pt x="31976" y="1400"/>
                </a:lnTo>
                <a:lnTo>
                  <a:pt x="1400" y="1400"/>
                </a:lnTo>
                <a:close/>
              </a:path>
              <a:path fill="darken" w="33376" h="21600">
                <a:moveTo>
                  <a:pt x="33376" y="0"/>
                </a:moveTo>
                <a:lnTo>
                  <a:pt x="33376" y="21600"/>
                </a:lnTo>
                <a:lnTo>
                  <a:pt x="31976" y="20200"/>
                </a:lnTo>
                <a:lnTo>
                  <a:pt x="31976" y="1400"/>
                </a:lnTo>
                <a:close/>
              </a:path>
              <a:path fill="darkenLess" w="33376" h="21600">
                <a:moveTo>
                  <a:pt x="33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76" y="20200"/>
                </a:lnTo>
                <a:close/>
              </a:path>
              <a:path fill="lighten" w="33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76" h="21600">
                <a:moveTo>
                  <a:pt x="9682" y="3794"/>
                </a:moveTo>
                <a:lnTo>
                  <a:pt x="23695" y="10800"/>
                </a:lnTo>
                <a:lnTo>
                  <a:pt x="9682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Monotype Corsiva"/>
              </a:rPr>
              <a:t>Спасибо за работу!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1476360" y="1052280"/>
            <a:ext cx="6275520" cy="31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Bookman Old Style"/>
              </a:rPr>
              <a:t>680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7740720" y="5877000"/>
            <a:ext cx="1224000" cy="792000"/>
          </a:xfrm>
          <a:custGeom>
            <a:avLst/>
            <a:gdLst>
              <a:gd name="textAreaLeft" fmla="*/ 51120 w 1224000"/>
              <a:gd name="textAreaRight" fmla="*/ 1172880 w 1224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33376" h="21600">
                <a:moveTo>
                  <a:pt x="0" y="0"/>
                </a:moveTo>
                <a:lnTo>
                  <a:pt x="33376" y="0"/>
                </a:lnTo>
                <a:lnTo>
                  <a:pt x="33376" y="21600"/>
                </a:lnTo>
                <a:lnTo>
                  <a:pt x="0" y="21600"/>
                </a:lnTo>
                <a:close/>
              </a:path>
              <a:path fill="lightenLess" w="33376" h="21600">
                <a:moveTo>
                  <a:pt x="0" y="0"/>
                </a:moveTo>
                <a:lnTo>
                  <a:pt x="33376" y="0"/>
                </a:lnTo>
                <a:lnTo>
                  <a:pt x="31976" y="1400"/>
                </a:lnTo>
                <a:lnTo>
                  <a:pt x="1400" y="1400"/>
                </a:lnTo>
                <a:close/>
              </a:path>
              <a:path fill="darken" w="33376" h="21600">
                <a:moveTo>
                  <a:pt x="33376" y="0"/>
                </a:moveTo>
                <a:lnTo>
                  <a:pt x="33376" y="21600"/>
                </a:lnTo>
                <a:lnTo>
                  <a:pt x="31976" y="20200"/>
                </a:lnTo>
                <a:lnTo>
                  <a:pt x="31976" y="1400"/>
                </a:lnTo>
                <a:close/>
              </a:path>
              <a:path fill="darkenLess" w="33376" h="21600">
                <a:moveTo>
                  <a:pt x="33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76" y="20200"/>
                </a:lnTo>
                <a:close/>
              </a:path>
              <a:path fill="lighten" w="33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76" h="21600">
                <a:moveTo>
                  <a:pt x="9682" y="3794"/>
                </a:moveTo>
                <a:lnTo>
                  <a:pt x="23695" y="10800"/>
                </a:lnTo>
                <a:lnTo>
                  <a:pt x="9682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650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Bookman Old Style"/>
              </a:rPr>
              <a:t>Найдите разность чисел 500 и 50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>
            <a:hlinkClick r:id="" action="ppaction://hlinkshowjump?jump=nextslide"/>
          </p:cNvPr>
          <p:cNvSpPr/>
          <p:nvPr/>
        </p:nvSpPr>
        <p:spPr>
          <a:xfrm>
            <a:off x="1908000" y="3933720"/>
            <a:ext cx="5400720" cy="2016360"/>
          </a:xfrm>
          <a:custGeom>
            <a:avLst/>
            <a:gdLst>
              <a:gd name="textAreaLeft" fmla="*/ 130680 w 5400720"/>
              <a:gd name="textAreaRight" fmla="*/ 5270040 w 5400720"/>
              <a:gd name="textAreaTop" fmla="*/ 130680 h 2016360"/>
              <a:gd name="textAreaBottom" fmla="*/ 1885680 h 2016360"/>
            </a:gdLst>
            <a:ahLst/>
            <a:rect l="textAreaLeft" t="textAreaTop" r="textAreaRight" b="textAreaBottom"/>
            <a:pathLst>
              <a:path w="57848" h="21600">
                <a:moveTo>
                  <a:pt x="0" y="0"/>
                </a:moveTo>
                <a:lnTo>
                  <a:pt x="57848" y="0"/>
                </a:lnTo>
                <a:lnTo>
                  <a:pt x="57848" y="21600"/>
                </a:lnTo>
                <a:lnTo>
                  <a:pt x="0" y="21600"/>
                </a:lnTo>
                <a:close/>
              </a:path>
              <a:path fill="lightenLess" w="57848" h="21600">
                <a:moveTo>
                  <a:pt x="0" y="0"/>
                </a:moveTo>
                <a:lnTo>
                  <a:pt x="57848" y="0"/>
                </a:lnTo>
                <a:lnTo>
                  <a:pt x="56448" y="1400"/>
                </a:lnTo>
                <a:lnTo>
                  <a:pt x="1400" y="1400"/>
                </a:lnTo>
                <a:close/>
              </a:path>
              <a:path fill="darken" w="57848" h="21600">
                <a:moveTo>
                  <a:pt x="57848" y="0"/>
                </a:moveTo>
                <a:lnTo>
                  <a:pt x="57848" y="21600"/>
                </a:lnTo>
                <a:lnTo>
                  <a:pt x="56448" y="20200"/>
                </a:lnTo>
                <a:lnTo>
                  <a:pt x="56448" y="1400"/>
                </a:lnTo>
                <a:close/>
              </a:path>
              <a:path fill="darkenLess" w="57848" h="21600">
                <a:moveTo>
                  <a:pt x="57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448" y="20200"/>
                </a:lnTo>
                <a:close/>
              </a:path>
              <a:path fill="lighten" w="57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848" h="21600">
                <a:moveTo>
                  <a:pt x="28924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57848" h="21600">
                <a:moveTo>
                  <a:pt x="28924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57848" h="21600">
                <a:moveTo>
                  <a:pt x="26348" y="8224"/>
                </a:moveTo>
                <a:lnTo>
                  <a:pt x="30212" y="8224"/>
                </a:lnTo>
                <a:lnTo>
                  <a:pt x="30212" y="15221"/>
                </a:lnTo>
                <a:lnTo>
                  <a:pt x="31500" y="15221"/>
                </a:lnTo>
                <a:lnTo>
                  <a:pt x="31500" y="16144"/>
                </a:lnTo>
                <a:lnTo>
                  <a:pt x="26348" y="16144"/>
                </a:lnTo>
                <a:lnTo>
                  <a:pt x="26348" y="15221"/>
                </a:lnTo>
                <a:lnTo>
                  <a:pt x="27636" y="15221"/>
                </a:lnTo>
                <a:lnTo>
                  <a:pt x="27636" y="9129"/>
                </a:lnTo>
                <a:lnTo>
                  <a:pt x="26348" y="912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Bookman Old Style"/>
              </a:rPr>
              <a:t>Правильный отв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8360" y="24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Bookman Old Style"/>
              </a:rPr>
              <a:t>450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>
            <a:hlinkClick r:id="" action="ppaction://hlinkshowjump?jump=nextslide"/>
          </p:cNvPr>
          <p:cNvSpPr/>
          <p:nvPr/>
        </p:nvSpPr>
        <p:spPr>
          <a:xfrm>
            <a:off x="7740720" y="5877000"/>
            <a:ext cx="1224000" cy="792000"/>
          </a:xfrm>
          <a:custGeom>
            <a:avLst/>
            <a:gdLst>
              <a:gd name="textAreaLeft" fmla="*/ 51120 w 1224000"/>
              <a:gd name="textAreaRight" fmla="*/ 1172880 w 1224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33376" h="21600">
                <a:moveTo>
                  <a:pt x="0" y="0"/>
                </a:moveTo>
                <a:lnTo>
                  <a:pt x="33376" y="0"/>
                </a:lnTo>
                <a:lnTo>
                  <a:pt x="33376" y="21600"/>
                </a:lnTo>
                <a:lnTo>
                  <a:pt x="0" y="21600"/>
                </a:lnTo>
                <a:close/>
              </a:path>
              <a:path fill="lightenLess" w="33376" h="21600">
                <a:moveTo>
                  <a:pt x="0" y="0"/>
                </a:moveTo>
                <a:lnTo>
                  <a:pt x="33376" y="0"/>
                </a:lnTo>
                <a:lnTo>
                  <a:pt x="31976" y="1400"/>
                </a:lnTo>
                <a:lnTo>
                  <a:pt x="1400" y="1400"/>
                </a:lnTo>
                <a:close/>
              </a:path>
              <a:path fill="darken" w="33376" h="21600">
                <a:moveTo>
                  <a:pt x="33376" y="0"/>
                </a:moveTo>
                <a:lnTo>
                  <a:pt x="33376" y="21600"/>
                </a:lnTo>
                <a:lnTo>
                  <a:pt x="31976" y="20200"/>
                </a:lnTo>
                <a:lnTo>
                  <a:pt x="31976" y="1400"/>
                </a:lnTo>
                <a:close/>
              </a:path>
              <a:path fill="darkenLess" w="33376" h="21600">
                <a:moveTo>
                  <a:pt x="33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76" y="20200"/>
                </a:lnTo>
                <a:close/>
              </a:path>
              <a:path fill="lighten" w="33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76" h="21600">
                <a:moveTo>
                  <a:pt x="9682" y="3794"/>
                </a:moveTo>
                <a:lnTo>
                  <a:pt x="23695" y="10800"/>
                </a:lnTo>
                <a:lnTo>
                  <a:pt x="9682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436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ookman Old Style"/>
              </a:rPr>
              <a:t>Увеличьте 52 в 8 раз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>
            <a:hlinkClick r:id="" action="ppaction://hlinkshowjump?jump=nextslide"/>
          </p:cNvPr>
          <p:cNvSpPr/>
          <p:nvPr/>
        </p:nvSpPr>
        <p:spPr>
          <a:xfrm>
            <a:off x="1908000" y="3933720"/>
            <a:ext cx="5400720" cy="2016360"/>
          </a:xfrm>
          <a:custGeom>
            <a:avLst/>
            <a:gdLst>
              <a:gd name="textAreaLeft" fmla="*/ 130680 w 5400720"/>
              <a:gd name="textAreaRight" fmla="*/ 5270040 w 5400720"/>
              <a:gd name="textAreaTop" fmla="*/ 130680 h 2016360"/>
              <a:gd name="textAreaBottom" fmla="*/ 1885680 h 2016360"/>
            </a:gdLst>
            <a:ahLst/>
            <a:rect l="textAreaLeft" t="textAreaTop" r="textAreaRight" b="textAreaBottom"/>
            <a:pathLst>
              <a:path w="57848" h="21600">
                <a:moveTo>
                  <a:pt x="0" y="0"/>
                </a:moveTo>
                <a:lnTo>
                  <a:pt x="57848" y="0"/>
                </a:lnTo>
                <a:lnTo>
                  <a:pt x="57848" y="21600"/>
                </a:lnTo>
                <a:lnTo>
                  <a:pt x="0" y="21600"/>
                </a:lnTo>
                <a:close/>
              </a:path>
              <a:path fill="lightenLess" w="57848" h="21600">
                <a:moveTo>
                  <a:pt x="0" y="0"/>
                </a:moveTo>
                <a:lnTo>
                  <a:pt x="57848" y="0"/>
                </a:lnTo>
                <a:lnTo>
                  <a:pt x="56448" y="1400"/>
                </a:lnTo>
                <a:lnTo>
                  <a:pt x="1400" y="1400"/>
                </a:lnTo>
                <a:close/>
              </a:path>
              <a:path fill="darken" w="57848" h="21600">
                <a:moveTo>
                  <a:pt x="57848" y="0"/>
                </a:moveTo>
                <a:lnTo>
                  <a:pt x="57848" y="21600"/>
                </a:lnTo>
                <a:lnTo>
                  <a:pt x="56448" y="20200"/>
                </a:lnTo>
                <a:lnTo>
                  <a:pt x="56448" y="1400"/>
                </a:lnTo>
                <a:close/>
              </a:path>
              <a:path fill="darkenLess" w="57848" h="21600">
                <a:moveTo>
                  <a:pt x="57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448" y="20200"/>
                </a:lnTo>
                <a:close/>
              </a:path>
              <a:path fill="lighten" w="57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848" h="21600">
                <a:moveTo>
                  <a:pt x="28924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57848" h="21600">
                <a:moveTo>
                  <a:pt x="28924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57848" h="21600">
                <a:moveTo>
                  <a:pt x="26348" y="8224"/>
                </a:moveTo>
                <a:lnTo>
                  <a:pt x="30212" y="8224"/>
                </a:lnTo>
                <a:lnTo>
                  <a:pt x="30212" y="15221"/>
                </a:lnTo>
                <a:lnTo>
                  <a:pt x="31500" y="15221"/>
                </a:lnTo>
                <a:lnTo>
                  <a:pt x="31500" y="16144"/>
                </a:lnTo>
                <a:lnTo>
                  <a:pt x="26348" y="16144"/>
                </a:lnTo>
                <a:lnTo>
                  <a:pt x="26348" y="15221"/>
                </a:lnTo>
                <a:lnTo>
                  <a:pt x="27636" y="15221"/>
                </a:lnTo>
                <a:lnTo>
                  <a:pt x="27636" y="9129"/>
                </a:lnTo>
                <a:lnTo>
                  <a:pt x="26348" y="912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Bookman Old Style"/>
              </a:rPr>
              <a:t>Правильный отв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360" y="24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Bookman Old Style"/>
              </a:rPr>
              <a:t>416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>
            <a:hlinkClick r:id="" action="ppaction://hlinkshowjump?jump=nextslide"/>
          </p:cNvPr>
          <p:cNvSpPr/>
          <p:nvPr/>
        </p:nvSpPr>
        <p:spPr>
          <a:xfrm>
            <a:off x="7740720" y="5877000"/>
            <a:ext cx="1224000" cy="792000"/>
          </a:xfrm>
          <a:custGeom>
            <a:avLst/>
            <a:gdLst>
              <a:gd name="textAreaLeft" fmla="*/ 51120 w 1224000"/>
              <a:gd name="textAreaRight" fmla="*/ 1172880 w 1224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33376" h="21600">
                <a:moveTo>
                  <a:pt x="0" y="0"/>
                </a:moveTo>
                <a:lnTo>
                  <a:pt x="33376" y="0"/>
                </a:lnTo>
                <a:lnTo>
                  <a:pt x="33376" y="21600"/>
                </a:lnTo>
                <a:lnTo>
                  <a:pt x="0" y="21600"/>
                </a:lnTo>
                <a:close/>
              </a:path>
              <a:path fill="lightenLess" w="33376" h="21600">
                <a:moveTo>
                  <a:pt x="0" y="0"/>
                </a:moveTo>
                <a:lnTo>
                  <a:pt x="33376" y="0"/>
                </a:lnTo>
                <a:lnTo>
                  <a:pt x="31976" y="1400"/>
                </a:lnTo>
                <a:lnTo>
                  <a:pt x="1400" y="1400"/>
                </a:lnTo>
                <a:close/>
              </a:path>
              <a:path fill="darken" w="33376" h="21600">
                <a:moveTo>
                  <a:pt x="33376" y="0"/>
                </a:moveTo>
                <a:lnTo>
                  <a:pt x="33376" y="21600"/>
                </a:lnTo>
                <a:lnTo>
                  <a:pt x="31976" y="20200"/>
                </a:lnTo>
                <a:lnTo>
                  <a:pt x="31976" y="1400"/>
                </a:lnTo>
                <a:close/>
              </a:path>
              <a:path fill="darkenLess" w="33376" h="21600">
                <a:moveTo>
                  <a:pt x="33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76" y="20200"/>
                </a:lnTo>
                <a:close/>
              </a:path>
              <a:path fill="lighten" w="33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76" h="21600">
                <a:moveTo>
                  <a:pt x="9682" y="3794"/>
                </a:moveTo>
                <a:lnTo>
                  <a:pt x="23695" y="10800"/>
                </a:lnTo>
                <a:lnTo>
                  <a:pt x="9682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Bookman Old Style"/>
              </a:rPr>
              <a:t>Увеличьте 52 на 8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>
            <a:hlinkClick r:id="" action="ppaction://hlinkshowjump?jump=nextslide"/>
          </p:cNvPr>
          <p:cNvSpPr/>
          <p:nvPr/>
        </p:nvSpPr>
        <p:spPr>
          <a:xfrm>
            <a:off x="1908000" y="3933720"/>
            <a:ext cx="5400720" cy="2016360"/>
          </a:xfrm>
          <a:custGeom>
            <a:avLst/>
            <a:gdLst>
              <a:gd name="textAreaLeft" fmla="*/ 130680 w 5400720"/>
              <a:gd name="textAreaRight" fmla="*/ 5270040 w 5400720"/>
              <a:gd name="textAreaTop" fmla="*/ 130680 h 2016360"/>
              <a:gd name="textAreaBottom" fmla="*/ 1885680 h 2016360"/>
            </a:gdLst>
            <a:ahLst/>
            <a:rect l="textAreaLeft" t="textAreaTop" r="textAreaRight" b="textAreaBottom"/>
            <a:pathLst>
              <a:path w="57848" h="21600">
                <a:moveTo>
                  <a:pt x="0" y="0"/>
                </a:moveTo>
                <a:lnTo>
                  <a:pt x="57848" y="0"/>
                </a:lnTo>
                <a:lnTo>
                  <a:pt x="57848" y="21600"/>
                </a:lnTo>
                <a:lnTo>
                  <a:pt x="0" y="21600"/>
                </a:lnTo>
                <a:close/>
              </a:path>
              <a:path fill="lightenLess" w="57848" h="21600">
                <a:moveTo>
                  <a:pt x="0" y="0"/>
                </a:moveTo>
                <a:lnTo>
                  <a:pt x="57848" y="0"/>
                </a:lnTo>
                <a:lnTo>
                  <a:pt x="56448" y="1400"/>
                </a:lnTo>
                <a:lnTo>
                  <a:pt x="1400" y="1400"/>
                </a:lnTo>
                <a:close/>
              </a:path>
              <a:path fill="darken" w="57848" h="21600">
                <a:moveTo>
                  <a:pt x="57848" y="0"/>
                </a:moveTo>
                <a:lnTo>
                  <a:pt x="57848" y="21600"/>
                </a:lnTo>
                <a:lnTo>
                  <a:pt x="56448" y="20200"/>
                </a:lnTo>
                <a:lnTo>
                  <a:pt x="56448" y="1400"/>
                </a:lnTo>
                <a:close/>
              </a:path>
              <a:path fill="darkenLess" w="57848" h="21600">
                <a:moveTo>
                  <a:pt x="57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448" y="20200"/>
                </a:lnTo>
                <a:close/>
              </a:path>
              <a:path fill="lighten" w="57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848" h="21600">
                <a:moveTo>
                  <a:pt x="28924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57848" h="21600">
                <a:moveTo>
                  <a:pt x="28924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57848" h="21600">
                <a:moveTo>
                  <a:pt x="26348" y="8224"/>
                </a:moveTo>
                <a:lnTo>
                  <a:pt x="30212" y="8224"/>
                </a:lnTo>
                <a:lnTo>
                  <a:pt x="30212" y="15221"/>
                </a:lnTo>
                <a:lnTo>
                  <a:pt x="31500" y="15221"/>
                </a:lnTo>
                <a:lnTo>
                  <a:pt x="31500" y="16144"/>
                </a:lnTo>
                <a:lnTo>
                  <a:pt x="26348" y="16144"/>
                </a:lnTo>
                <a:lnTo>
                  <a:pt x="26348" y="15221"/>
                </a:lnTo>
                <a:lnTo>
                  <a:pt x="27636" y="15221"/>
                </a:lnTo>
                <a:lnTo>
                  <a:pt x="27636" y="9129"/>
                </a:lnTo>
                <a:lnTo>
                  <a:pt x="26348" y="912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Bookman Old Style"/>
              </a:rPr>
              <a:t>Правильный отв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4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Bookman Old Style"/>
              </a:rPr>
              <a:t>60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>
            <a:hlinkClick r:id="" action="ppaction://hlinkshowjump?jump=nextslide"/>
          </p:cNvPr>
          <p:cNvSpPr/>
          <p:nvPr/>
        </p:nvSpPr>
        <p:spPr>
          <a:xfrm>
            <a:off x="7740720" y="5877000"/>
            <a:ext cx="1224000" cy="792000"/>
          </a:xfrm>
          <a:custGeom>
            <a:avLst/>
            <a:gdLst>
              <a:gd name="textAreaLeft" fmla="*/ 51120 w 1224000"/>
              <a:gd name="textAreaRight" fmla="*/ 1172880 w 1224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33376" h="21600">
                <a:moveTo>
                  <a:pt x="0" y="0"/>
                </a:moveTo>
                <a:lnTo>
                  <a:pt x="33376" y="0"/>
                </a:lnTo>
                <a:lnTo>
                  <a:pt x="33376" y="21600"/>
                </a:lnTo>
                <a:lnTo>
                  <a:pt x="0" y="21600"/>
                </a:lnTo>
                <a:close/>
              </a:path>
              <a:path fill="lightenLess" w="33376" h="21600">
                <a:moveTo>
                  <a:pt x="0" y="0"/>
                </a:moveTo>
                <a:lnTo>
                  <a:pt x="33376" y="0"/>
                </a:lnTo>
                <a:lnTo>
                  <a:pt x="31976" y="1400"/>
                </a:lnTo>
                <a:lnTo>
                  <a:pt x="1400" y="1400"/>
                </a:lnTo>
                <a:close/>
              </a:path>
              <a:path fill="darken" w="33376" h="21600">
                <a:moveTo>
                  <a:pt x="33376" y="0"/>
                </a:moveTo>
                <a:lnTo>
                  <a:pt x="33376" y="21600"/>
                </a:lnTo>
                <a:lnTo>
                  <a:pt x="31976" y="20200"/>
                </a:lnTo>
                <a:lnTo>
                  <a:pt x="31976" y="1400"/>
                </a:lnTo>
                <a:close/>
              </a:path>
              <a:path fill="darkenLess" w="33376" h="21600">
                <a:moveTo>
                  <a:pt x="33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76" y="20200"/>
                </a:lnTo>
                <a:close/>
              </a:path>
              <a:path fill="lighten" w="33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76" h="21600">
                <a:moveTo>
                  <a:pt x="9682" y="3794"/>
                </a:moveTo>
                <a:lnTo>
                  <a:pt x="23695" y="10800"/>
                </a:lnTo>
                <a:lnTo>
                  <a:pt x="9682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3T12:47:39Z</dcterms:created>
  <dc:creator>User</dc:creator>
  <dc:description/>
  <dc:language>en-US</dc:language>
  <cp:lastModifiedBy>User</cp:lastModifiedBy>
  <dcterms:modified xsi:type="dcterms:W3CDTF">2012-12-23T13:20:00Z</dcterms:modified>
  <cp:revision>2</cp:revision>
  <dc:subject/>
  <dc:title>Арифметический диктант</dc:title>
</cp:coreProperties>
</file>