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8724-B747-4D4C-A2B5-80059F2F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076D-9D74-4554-8220-E0B5A55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D9D1-7D8D-4944-A1E1-0D10E7A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9DA9-CCB2-4D03-A594-212B625B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680-1081-4733-80AE-DD1796A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9B4F-26E5-4D6F-BE82-E9F793F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627-9E3F-4CD1-A5B7-1C50B6F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D1F-9EAE-4C51-96A5-CD94982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9F2A-029D-4D27-94BC-BEEBB4E5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9F22-02F7-4A8C-81DF-830AEAE7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12C-B7BF-44AD-BB89-E4D8295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6026-F9AF-4F97-97D3-2151205E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F719-4B16-4819-9DF8-5EFAEA1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4FC-545A-4089-988C-138101E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C30-2962-4B9C-9A0B-B20C82C0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2309-6773-49F8-97CE-0E012947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B3F2-8F62-4CCB-9722-17A9AC9B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857F-7FBC-4AAA-8C8D-1AA132A6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A39F-1B9D-4F0B-BA8E-475F3D6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13FF-AF36-4B58-B04E-230CB7FE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BB05-CB9A-42C6-8532-D76BBA0A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BCE2-CDC1-4924-B464-D581104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28C0-7691-4959-BAC9-887E943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93EF-79E4-477D-AB06-5C43599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3E7-551D-4A34-9E96-C13CB888A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31D-DBCB-4E96-B9F5-32DE4C108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tihi.ru/pics/2004/06/28-1210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Босоногий гарнизон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4941720"/>
            <a:ext cx="21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вашин Матв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Кочикова Оксана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6880" y="630864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.Пригородный-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4920" y="18900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дел образования Администрации Фроловского муниципальн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елено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7372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 ноября 1942 год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ыли расстреляны: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сен Тимон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мофей Тимон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силий Егор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Егор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н Манж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антин Головл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фор Назаркин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мельян Сафон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силий Гор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н Мах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Мемориал Босоногий гарнизон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Мемориал Босоногий гарниз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Мемориал Босоногий гарнизон"/>
          <p:cNvPicPr/>
          <p:nvPr/>
        </p:nvPicPr>
        <p:blipFill>
          <a:blip r:embed="rId1"/>
          <a:stretch/>
        </p:blipFill>
        <p:spPr>
          <a:xfrm>
            <a:off x="0" y="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Совсем юнцы, совсем мальчишки,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о бились в них сердца солдат.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 верили, что фрицам крышка,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Что их могила – Сталинград!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 логах, в кустарниках, в бурьянах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скал враг партизанский след,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о были рядом партизаны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Лишь девяти отроду лет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karta"/>
          <p:cNvPicPr/>
          <p:nvPr/>
        </p:nvPicPr>
        <p:blipFill>
          <a:blip r:embed="rId1"/>
          <a:stretch/>
        </p:blipFill>
        <p:spPr>
          <a:xfrm>
            <a:off x="1332000" y="0"/>
            <a:ext cx="672444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3780000" y="28526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Black"/>
              </a:rPr>
              <a:t>Калач на До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Дети `босоногого гарнизона` (г. Калач). (Из фондов музея-панорамы &lt;Сталинградская битва&gt;)"/>
          <p:cNvPicPr/>
          <p:nvPr/>
        </p:nvPicPr>
        <p:blipFill>
          <a:blip r:embed="rId1"/>
          <a:stretch/>
        </p:blipFill>
        <p:spPr>
          <a:xfrm>
            <a:off x="539640" y="1628640"/>
            <a:ext cx="2238480" cy="3024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Дети `босоногого гарнизона` (г. Калач). (Из фондов музея-панорамы &lt;Сталинградская битва&gt;)"/>
          <p:cNvPicPr/>
          <p:nvPr/>
        </p:nvPicPr>
        <p:blipFill>
          <a:blip r:embed="rId2"/>
          <a:stretch/>
        </p:blipFill>
        <p:spPr>
          <a:xfrm>
            <a:off x="3492360" y="1628640"/>
            <a:ext cx="2238480" cy="3024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Дети `босоногого гарнизона` (г. Калач). (Из фондов музея-панорамы &lt;Сталинградская битва&gt;)"/>
          <p:cNvPicPr/>
          <p:nvPr/>
        </p:nvPicPr>
        <p:blipFill>
          <a:blip r:embed="rId3"/>
          <a:stretch/>
        </p:blipFill>
        <p:spPr>
          <a:xfrm>
            <a:off x="6372360" y="1700280"/>
            <a:ext cx="2184120" cy="2952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«Босоногий гарнизон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50839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имонин Тимоф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17080" y="5083920"/>
            <a:ext cx="23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монин Аксен     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3240" y="5157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горов Васил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"Товарищи!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емцы брешут, что Советская власть разбита. Брешут, сволочи, что Сталинград сдался. Сталинград наш, и наши скоро придут. Не верьте гадам. Партизаны"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kaz"/>
          <p:cNvPicPr/>
          <p:nvPr/>
        </p:nvPicPr>
        <p:blipFill>
          <a:blip r:embed="rId1"/>
          <a:stretch/>
        </p:blipFill>
        <p:spPr>
          <a:xfrm>
            <a:off x="4805280" y="0"/>
            <a:ext cx="4338720" cy="472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28" name="Picture 8" descr="uta"/>
          <p:cNvPicPr/>
          <p:nvPr/>
        </p:nvPicPr>
        <p:blipFill>
          <a:blip r:embed="rId2"/>
          <a:stretch/>
        </p:blipFill>
        <p:spPr>
          <a:xfrm>
            <a:off x="0" y="2160720"/>
            <a:ext cx="4495680" cy="469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А К Т</a:t>
            </a:r>
            <a:br>
              <a:rPr sz="14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18 декабря 1942 года в хуторе Аверинском (Вербовка тогда входила в состав этого хутора) Ляпичевского сельсовета Калачевского района Сталинградской области комиссией в составе: капитана Хаитова Г.А., уполномоченного Ляпичевского сельсовета по хутору Аверинскому Силкина М.И. и местных жителей - отца двух убитых детей Тимонина Ф.Д., колхозников Горина А.Ф., Силкиной Д.М., Силкиной Н.Ф. составлен настоящий акт о нижеследующем: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4 ноября 1042 года в хут. Аверинском немцы, запуганные действиями неизвестных партизан в районе хуторов Вербовки, Ляпичево, Аверинский, заподозрили в этих действиях ребят, бывших школьников и предприняли облаву на мальчиков хутора. Они врывались в хаты, силой брали мальчиков и избивали их палками, ногайками, резиной и ногами. Затем выбрасывали детей на улицу и, издеваясь, требовали, чтобы каждый из детей оговаривал кого-либо из своих товарищей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Избив детей до потери сознания, немцы бросили их в крытую холодную автомашину. Гитлеровские изверги взяли 17 мальчиков, двух матерей и одного отца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Схвачены немцами были следующие: Махин Иван - 11 лет, Егоров Николай - 12 лет, Горин Василий - 13 лет, Тимонин Тимофей - 12 лет, Тимонин Аксен - 14 лет, Егоров Василий - 13 лет, Манжин Семен - 9 лет, Назаркин Никифор - 12 лет, Головлев Константин - 13 лет, Сафонов Емельян - 12 лет, Церковников Максим - 13 лет, Семенов Анатолий - 10 лет, Ребриков Григорий - 12 лет, Сафонов Сергей - 12 лет, Силкин Петр - 11 лет, Силкин Федор - 13 лет, Головлев Филипп - 13 лет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Вместе с детьми в эту машину фашисты посадили Тимонина Филиппа Дмитриевича - отца Тимониных Аксена и Тимофея, Головлеву Дарью Ивановну - мать Головлева Константина и Сафонову Степаниду Акимову - мать Сафонова Емельяна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Дети и трое взрослых, как указано выше, находились под арестом в холодной автомашине. Мальчики после истязаний были в крови, с опухшими и окровавленными лицами, все в синяках. Немцы с 4 до 7 ноября врывались в машину по несколько раз в день, снова избивали детей, грозили им расстрелом и виселицей. После трехдневного издевательства над детьми в автомашине были оставлены 10 мальчиков, приговоренных к расстрелу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Согласно, показаниям жителей хутора Аверинского, немецкий комендант выезжал в Калач санкционировать расправу над людьми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7 ноября 1942 года немецкий комендант согнал население на площадь хутора Аверинского и через немца-переводчика объявил, что мальчиков расстреляют и что в дальнейшем за неподчинение немцам виновные будут расстреливаться, а если у жителей хутора будет обнаружен кто-либо чужой, то хозяин будет выгнан из дому и дом сожжен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Днем в двадцать пятую годовщину Великой Октябрьской социалистической революции измученных после пыток детей начали выводить связанными по пять человек на расстрел к силосной яме возле МТФ, где и расстреляли их под смех и шум пьяных немцев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Были расстреляны: Аксен Тимонин, Тимофей Тимонин, Василий Егоров, Николай Егоров, Семен Манжин, Константин Головлев, Никофор Назаркин, Емельян Сафонов, Василий Горин и Иван Махин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Руководил расправой обер-лейтенант Фридрих Гук и унтер-офицер, переводчик Асмус.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Подписи: капитан Х а и т о в,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уполномоченный сельсовета С и л к и н,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отец двух расстрелянных сыновей Т и м о н и н,</a:t>
            </a:r>
            <a:br>
              <a:rPr sz="1000"/>
            </a:br>
            <a:r>
              <a:rPr b="0" lang="ru-RU" sz="1000" spc="-1" strike="noStrike">
                <a:solidFill>
                  <a:srgbClr val="dfdef6"/>
                </a:solidFill>
                <a:latin typeface="Arial"/>
              </a:rPr>
              <a:t>местные жители С и л к и н а, Г о р и н , С и л к и н а</a:t>
            </a: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4 ноября схвачены немцами: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Махин Иван – 11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Егоров Николай – 12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Горин Василий – 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Тимонин Тимофей -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Тимонин Аксен – 14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Егоров Василий - 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Манжин Семен - 9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Назаркин Никифор – 12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Головлев Константин – 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афонов Емельян – 12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Церковников Максим – 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еменов Анатолий - 10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Ребриков Григорий – 12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афонов Сергей – 12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илкин Петр – 11 лет 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Силкин Федор – 13 лет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Головлев Филипп – 13 лет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8000" cy="3276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2" name="Picture 8" descr="Картинка 3 из 198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429000"/>
            <a:ext cx="4284720" cy="3103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1" descr="дети в концлагере"/>
          <p:cNvPicPr/>
          <p:nvPr/>
        </p:nvPicPr>
        <p:blipFill>
          <a:blip r:embed="rId1"/>
          <a:stretch/>
        </p:blipFill>
        <p:spPr>
          <a:xfrm>
            <a:off x="250920" y="3021120"/>
            <a:ext cx="4897440" cy="352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4" name="Picture 12" descr="дети войны белорусия"/>
          <p:cNvPicPr/>
          <p:nvPr/>
        </p:nvPicPr>
        <p:blipFill>
          <a:blip r:embed="rId2"/>
          <a:stretch/>
        </p:blipFill>
        <p:spPr>
          <a:xfrm>
            <a:off x="4067280" y="260280"/>
            <a:ext cx="4789440" cy="339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7:07:18Z</dcterms:created>
  <dc:creator>XP</dc:creator>
  <dc:description/>
  <dc:language>en-US</dc:language>
  <cp:lastModifiedBy>XP</cp:lastModifiedBy>
  <dcterms:modified xsi:type="dcterms:W3CDTF">2013-01-24T06:02:10Z</dcterms:modified>
  <cp:revision>12</cp:revision>
  <dc:subject/>
  <dc:title>Дети на войне</dc:title>
</cp:coreProperties>
</file>