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9FE-978A-42B6-B563-34F85CE1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EA0-BDB2-49CC-BF82-C6F9A03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A0F-AD27-4227-9AC9-0B8FAC46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531-FA41-44B9-BE32-DF512EFB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7C1-B697-4328-A8E1-83AF0999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ACB-3831-4478-AA4E-546F94D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B031-6274-4ACD-89C6-EE027F8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97C-2A0E-4683-9419-AFA9762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FDAB-209E-4E89-B5F7-87779CB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8246-7A9F-4195-814B-04D4BCE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EBA4-E9EA-4A48-911F-1262C0B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43D-0F28-4DAD-B92B-3124A957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5F3-F984-4EA6-A099-4509466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146-90B2-4A91-9426-E94E7FA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A72-3BE7-47DA-B6B1-6E364F7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0610-70A3-4C9E-A051-AD53FA0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3210-2B16-4E31-8FE5-47306285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ECCC-9475-4343-9897-F45562C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0588-DF1B-4C8E-9F9F-71C9C74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8DB6-FB43-42C1-BBA7-8909167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A497-90CC-4D9D-A214-99E0886F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F2B4-1C9C-4F5A-8A01-5EE1FD4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C9C-FB3E-43C2-9ADA-7A714E1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6529-A090-4CE9-A2A8-0CD0DC0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9443-E2E8-4D48-84C8-26BB043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915F-8291-498D-B082-41375AD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4D79-DFB9-49FC-9229-66B4C25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793C-5C3D-4681-804F-8DD3E8AA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36F1-5F8E-427B-8859-3D5D2859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6D73-B21D-4B4B-B219-8714D549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8902-ED3E-4409-9C5D-FEDE682E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7DFD-F93B-4A77-A71C-A704CC5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ABB8-1E25-4529-AF02-C7F9523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905-FD4A-4031-9482-D023204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0D94-5F58-4F29-A0DC-4749557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A7F1-4B7A-45B5-9EAB-43B1F95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BBA9-23AA-49B3-B176-0A55222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5BB6-B26D-4C5E-BF22-40C46CB4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B060-45AB-4D4C-8009-44E40B1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1C2F-A204-4FE1-90B3-658E4F8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8F05-4800-4916-B95D-26A4AF46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B3EC-0F29-4DD2-B47C-B93B9B26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AA4D-BE00-4E3D-8722-4739A5D3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1DA2-1174-4761-B298-F5B6EBA7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857-C30B-4C56-A34A-B9B3C5B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40F0-9DD7-48A8-BE14-C3371BC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989F-758D-4DC5-9A7D-A2E4654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6CB33-4244-4CBF-982F-32F10F8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77F1A-A20E-4D26-81B8-6F2A35F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ED12-CBA8-45D9-9767-F2BA18AF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4AAB-1A79-43DF-819D-F532A76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1B94D-26AD-4C32-B173-F57EC00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6824-C3C4-43B0-A47B-1692EA8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051C-77C2-4ADA-8535-FBCF1EC1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FF34-B4A9-4413-AD1A-8FA87908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1E9-4442-451E-A69D-0CB24AC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6382-DB09-4188-AED3-ABE01080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CBA-DA61-4857-B771-88E67EB7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9C1-EB89-4DF0-ACFC-8FD0594C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963-A8ED-40EA-B8EA-4D67714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6EA-3FD3-43A0-83EA-EEE6A51198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BEB-F6C8-434D-B635-3EB4067FF55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91F8-A20E-431B-8DA7-87A81F50CD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FC94-0290-4EA4-A374-89BDF99E4E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3BF-E89A-4A02-AB15-FFA7CB15A6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исперсия света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Физика 11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исперсия све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0040" y="1714680"/>
          <a:ext cx="8183520" cy="1315800"/>
        </p:xfrm>
        <a:graphic>
          <a:graphicData uri="http://schemas.openxmlformats.org/drawingml/2006/table">
            <a:tbl>
              <a:tblPr/>
              <a:tblGrid>
                <a:gridCol w="1428840"/>
                <a:gridCol w="1143000"/>
                <a:gridCol w="2071800"/>
                <a:gridCol w="1500120"/>
                <a:gridCol w="2039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ы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ед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исперсия свет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400" y="999720"/>
            <a:ext cx="835812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Диспер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изическое явление разложение белого света в спектр в результате взаимодействия с вещ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ютон направлял на приз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пучок. Пучок све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л в затемненную комнат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маленькое отверстие в ставне. Падая на стеклянную призму, он преломлялся и давал на противоположной стороне удивительное изображение с радужным чередованием цветов. Цветную картину Ньютон назвал спект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2" descr="C:\Users\Пол\Desktop\resE4423040-0A01-01FD-0017-C4E12B2F4A63.bmp"/>
          <p:cNvPicPr/>
          <p:nvPr/>
        </p:nvPicPr>
        <p:blipFill>
          <a:blip r:embed="rId1"/>
          <a:stretch/>
        </p:blipFill>
        <p:spPr>
          <a:xfrm>
            <a:off x="5724360" y="2077920"/>
            <a:ext cx="3114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исперсия свет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999720"/>
            <a:ext cx="8183520" cy="528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только для сложных вол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– разложение в спект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зависит от формы, прозрачности и других свойств сре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а одного цвета называется монохроматичес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свет – электромагнитная волна, имеющая сложное строение – состоит из семи монохроматических вол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ые пучки отличаются по цвету и степени преломления (показатель преломления зависит от частоты све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казатели преломления вол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03280" y="1143000"/>
          <a:ext cx="8183520" cy="3292560"/>
        </p:xfrm>
        <a:graphic>
          <a:graphicData uri="http://schemas.openxmlformats.org/drawingml/2006/table">
            <a:tbl>
              <a:tblPr/>
              <a:tblGrid>
                <a:gridCol w="1636560"/>
                <a:gridCol w="1636920"/>
                <a:gridCol w="1509480"/>
                <a:gridCol w="1764000"/>
                <a:gridCol w="16365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волны в воздухе, н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ота, 10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 прелом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рость распространения в стекле, м/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795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762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735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78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71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Пол\Desktop\resE442309F-0A01-01FD-0046-4529CDE5B605.bmp"/>
          <p:cNvPicPr/>
          <p:nvPr/>
        </p:nvPicPr>
        <p:blipFill>
          <a:blip r:embed="rId1"/>
          <a:stretch/>
        </p:blipFill>
        <p:spPr>
          <a:xfrm>
            <a:off x="304920" y="719280"/>
            <a:ext cx="8485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исперсия све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1071720"/>
            <a:ext cx="8183520" cy="5214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я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я природы радуг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техника (объяснения света тел)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ый анализ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C:\Users\Пол\Desktop\resE442307D-0A01-01FD-012E-EC9A8AEEA523.bmp"/>
          <p:cNvPicPr/>
          <p:nvPr/>
        </p:nvPicPr>
        <p:blipFill>
          <a:blip r:embed="rId1"/>
          <a:stretch/>
        </p:blipFill>
        <p:spPr>
          <a:xfrm>
            <a:off x="3929040" y="264312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0:34:21Z</dcterms:created>
  <dc:creator>татьяна</dc:creator>
  <dc:description/>
  <dc:language>en-US</dc:language>
  <cp:lastModifiedBy>татьяна</cp:lastModifiedBy>
  <dcterms:modified xsi:type="dcterms:W3CDTF">2010-03-01T11:22:25Z</dcterms:modified>
  <cp:revision>5</cp:revision>
  <dc:subject/>
  <dc:title>Дисперсия света</dc:title>
</cp:coreProperties>
</file>