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1A7-53A6-465A-8289-A82C620A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214-C864-4EB1-81AE-504B71CB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ED7-914A-44B0-B57B-651A6195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BD5-FF23-47A9-B771-8362755E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C6A5-A25E-4CE0-B875-E074B62C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F99-47D4-449D-8020-C72AEDB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34A3-EC30-44D2-99CB-30301C3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A559-364A-4988-8D9F-BBBBE19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856-4374-4748-9DF3-9E5DE9C2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BB7-6F17-4185-8AD5-2576BC65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64A1-A110-448C-A7B5-91170EE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F32-13BE-43F9-91A0-C0D80B06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BD0A-0B86-4210-80C0-99CFA63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3D6E-73A9-41C1-B5BE-B8372B6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CC63-7443-4A9F-871E-C61DBDD4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973-030E-4715-9A32-C23E556A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E42-82D1-4F4B-A87C-5ED0BB7C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DC767-54DF-4164-9D61-A803F76C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FC915-772D-4B0D-AD64-9D8F67C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8A59F-B129-4067-BA51-B81AEC98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5D9EF-286B-4AF8-80F9-D5FB7F7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E826A-754C-489E-AB28-AEE74CA8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2AE-E887-4CC3-8721-2CEEA88E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36428-1ADF-4328-95F7-BBF3A421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0BDB1-3965-43EC-974D-9926F15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DA4F7-CCDA-4E8B-9879-F2E1288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9A2A4-9EB1-4CEB-AFE4-F2701E99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76674-EA7D-4073-AC52-F8CB0E5D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0E249-75DF-4EDE-ABFF-A33B7D28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20198-655E-4393-B1A6-31DC0BF5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B8F1-9CB2-4422-9DE2-3C8CA530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C380-449E-42B2-B592-441F2B4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4164-8541-4262-9082-BE59DD33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CC2-D951-464F-86F0-8B3A095C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BB26-E6D0-4937-BE9E-C05AB3CD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57BC-DEB8-430F-90D6-1659C2C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5AE50-7CC5-4E8B-BCC2-C5398C7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3B9E-A265-4359-B66F-32C63D2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7465-1F1E-464E-909A-AF2F067D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F01F-CE6C-4CAE-88C8-6517A1C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726B-2F05-4CE0-A1C8-62809C7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884F-7A54-4A3A-91F2-568CEFC3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C8F4-2510-417E-B191-45314581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ACEBB-19C1-4C3F-9F4F-AF8A43AF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F67-629A-4A17-8091-2E20145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443FA-6247-405C-9323-0E006B3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80792-E3B4-408F-AD1E-A9923671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4CFA9-064C-483C-814B-05D836D3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A8024-FC09-45A2-94E5-E26F03D7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B7852-181B-4EB7-ACEC-11E8973D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6B8C7-AD15-4A56-B95F-021AC251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CBFAD-0860-4A08-B144-C5EC4EA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0B95F-399A-4583-A70F-7FDD6C1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7D91D-BA77-4409-A924-74FB9F43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CBB8E-B5DF-4574-86C8-D8AD98DA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249-5F40-4C70-9E24-84F45F6B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25940-467F-462E-A3BD-17C3AAF9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B951C-7A4A-4F8F-9D4F-07FFADB9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BF433-284A-4B0C-BE27-00CF727D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D341C-902D-4C7B-86F6-A499670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6B014-0E22-44B4-9F63-0A19505E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1A640-18A4-4016-91CD-53B92675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A9065-F8E0-408D-9CF0-AC9BAFD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BCDD6-6B9D-44F7-ABEF-3D15AB4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AE27D-8825-4641-982E-BA2D4C1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EA3F4-3B66-4C10-A5F7-B38B4BC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867-5068-4272-9DDA-FE77583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7EEA7-3F81-4116-B6F8-E8739A2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E8B49-CBF7-4D25-A3FB-674D68B6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B8AC9-80A8-4822-A36B-4FD6B059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BF7B4-43CC-45FA-89DE-51ED1151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F4926-C11F-4309-9690-2A164A64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0F7DA-42DD-49A0-8D09-A0B8BD8E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F3921-6DFE-4C19-A724-26E31B1A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564E6-3922-4E36-872B-222CEF2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4A030-7DD8-4E06-B55A-BB73AF4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31FEF-40CE-4146-98E6-704E202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7BE-1C9E-4341-A0FC-2F10A18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88D99-2C6C-48BF-865C-E6E9A62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9A44B-26F9-48D5-8EBF-0486165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E2841-08BC-45D0-AF99-3D077628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5E373-21D5-4E37-8235-D1D8C329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C1CF0-F8E3-46B1-B13A-FD187C8F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4D9-CD9F-4D5E-86B6-7632CD8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9143-BC36-44AA-BCCF-4DD5ABFA493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0FB-362F-423A-A47C-40B5673540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594A-6A66-4367-B7A0-19FDB0E795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D2D3-8F30-4F68-BA93-70D4ADCCE1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0C6-5534-4E53-9750-CC107A366B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F6D-9E5A-41A9-A586-3311CFBF11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18A9-C864-4222-A2CD-F876FA3796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3"/>
          <p:cNvSpPr/>
          <p:nvPr/>
        </p:nvSpPr>
        <p:spPr>
          <a:xfrm>
            <a:off x="214200" y="1071720"/>
            <a:ext cx="842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Кто повторяет старое и узнает новое, тот может быть предводите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5286240" y="392904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Конфу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214880" y="1428840"/>
          <a:ext cx="4286160" cy="3929040"/>
        </p:xfrm>
        <a:graphic>
          <a:graphicData uri="http://schemas.openxmlformats.org/drawingml/2006/table">
            <a:tbl>
              <a:tblPr/>
              <a:tblGrid>
                <a:gridCol w="4286160"/>
              </a:tblGrid>
              <a:tr h="4479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править коз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озвратиться сам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править во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озвратиться вместе с вол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править капус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озвратиться сам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править капусту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387" name="Rectangle 5"/>
          <p:cNvSpPr/>
          <p:nvPr/>
        </p:nvSpPr>
        <p:spPr>
          <a:xfrm>
            <a:off x="428760" y="42876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Georgia"/>
              </a:rPr>
              <a:t>Словесн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лов и (или)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85840" y="1357200"/>
          <a:ext cx="3857400" cy="392904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Задач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</a:t>
                      </a:r>
                      <a:br>
                        <a:rPr sz="2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ловеку, находящемуся на берегу реки, нужно переправить на противоположный берег волка, козу и капусту. В лодку человек может взять одновременно только одного «пассажира». Нельзя оставить вместе волка с козой и козу с капуст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9" name="Рисунок 6" descr=""/>
          <p:cNvPicPr/>
          <p:nvPr/>
        </p:nvPicPr>
        <p:blipFill>
          <a:blip r:embed="rId1"/>
          <a:stretch/>
        </p:blipFill>
        <p:spPr>
          <a:xfrm>
            <a:off x="1428840" y="4143240"/>
            <a:ext cx="2403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57120" y="428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392" name="Скругленный прямоугольник 3"/>
          <p:cNvSpPr/>
          <p:nvPr/>
        </p:nvSpPr>
        <p:spPr>
          <a:xfrm>
            <a:off x="5429160" y="157176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5429160" y="21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5429160" y="34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5429160" y="27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8"/>
          <p:cNvSpPr/>
          <p:nvPr/>
        </p:nvSpPr>
        <p:spPr>
          <a:xfrm>
            <a:off x="5429160" y="40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9"/>
          <p:cNvSpPr/>
          <p:nvPr/>
        </p:nvSpPr>
        <p:spPr>
          <a:xfrm>
            <a:off x="5429160" y="47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0"/>
          <p:cNvSpPr/>
          <p:nvPr/>
        </p:nvSpPr>
        <p:spPr>
          <a:xfrm>
            <a:off x="5429160" y="53578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11"/>
          <p:cNvSpPr/>
          <p:nvPr/>
        </p:nvSpPr>
        <p:spPr>
          <a:xfrm>
            <a:off x="5429160" y="600084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Прямая со стрелкой 13"/>
          <p:cNvCxnSpPr/>
          <p:nvPr/>
        </p:nvCxnSpPr>
        <p:spPr>
          <a:xfrm>
            <a:off x="6571080" y="1928520"/>
            <a:ext cx="1080" cy="2149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cxnSp>
        <p:nvCxnSpPr>
          <p:cNvPr id="401" name="Прямая со стрелкой 17"/>
          <p:cNvCxnSpPr/>
          <p:nvPr/>
        </p:nvCxnSpPr>
        <p:spPr>
          <a:xfrm>
            <a:off x="6571080" y="2571480"/>
            <a:ext cx="1080" cy="2149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cxnSp>
        <p:nvCxnSpPr>
          <p:cNvPr id="402" name="Прямая со стрелкой 18"/>
          <p:cNvCxnSpPr/>
          <p:nvPr/>
        </p:nvCxnSpPr>
        <p:spPr>
          <a:xfrm>
            <a:off x="6571080" y="3214440"/>
            <a:ext cx="1080" cy="2149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cxnSp>
        <p:nvCxnSpPr>
          <p:cNvPr id="403" name="Прямая со стрелкой 19"/>
          <p:cNvCxnSpPr/>
          <p:nvPr/>
        </p:nvCxnSpPr>
        <p:spPr>
          <a:xfrm>
            <a:off x="6571080" y="3857400"/>
            <a:ext cx="1080" cy="2149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cxnSp>
        <p:nvCxnSpPr>
          <p:cNvPr id="404" name="Прямая со стрелкой 20"/>
          <p:cNvCxnSpPr/>
          <p:nvPr/>
        </p:nvCxnSpPr>
        <p:spPr>
          <a:xfrm>
            <a:off x="6571080" y="4500360"/>
            <a:ext cx="1080" cy="2149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cxnSp>
        <p:nvCxnSpPr>
          <p:cNvPr id="405" name="Прямая со стрелкой 21"/>
          <p:cNvCxnSpPr/>
          <p:nvPr/>
        </p:nvCxnSpPr>
        <p:spPr>
          <a:xfrm>
            <a:off x="6571080" y="5143320"/>
            <a:ext cx="1080" cy="2149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cxnSp>
        <p:nvCxnSpPr>
          <p:cNvPr id="406" name="Прямая со стрелкой 22"/>
          <p:cNvCxnSpPr/>
          <p:nvPr/>
        </p:nvCxnSpPr>
        <p:spPr>
          <a:xfrm>
            <a:off x="6571080" y="5786280"/>
            <a:ext cx="1080" cy="21528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  <p:sp>
        <p:nvSpPr>
          <p:cNvPr id="407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428760" y="42876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Georgia"/>
              </a:rPr>
              <a:t>Табличная форма записи алгорит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14280" y="1143000"/>
          <a:ext cx="657252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92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285840" y="3571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Georgia"/>
              </a:rPr>
              <a:t>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 запись алгоритма в виде последовательности операторов-команд некоторого языка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8760" y="2714760"/>
          <a:ext cx="7500960" cy="3929040"/>
        </p:xfrm>
        <a:graphic>
          <a:graphicData uri="http://schemas.openxmlformats.org/drawingml/2006/table">
            <a:tbl>
              <a:tblPr/>
              <a:tblGrid>
                <a:gridCol w="5418000"/>
                <a:gridCol w="2082960"/>
              </a:tblGrid>
              <a:tr h="392904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  <a:ea typeface="Georgia"/>
                        </a:rPr>
                        <a:t>Задач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аписать программу рисования квадрата для исполнителя «Черепашка» на языке программирования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Lo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п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р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п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р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п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р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вп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1" descr="C:\Users\Laki1\Desktop\tortila.JPG"/>
          <p:cNvPicPr/>
          <p:nvPr/>
        </p:nvPicPr>
        <p:blipFill>
          <a:blip r:embed="rId1"/>
          <a:stretch/>
        </p:blipFill>
        <p:spPr>
          <a:xfrm>
            <a:off x="2500200" y="13572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3"/>
          <p:cNvSpPr/>
          <p:nvPr/>
        </p:nvSpPr>
        <p:spPr>
          <a:xfrm>
            <a:off x="714240" y="42876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Формы записи алгорит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4"/>
          <p:cNvSpPr/>
          <p:nvPr/>
        </p:nvSpPr>
        <p:spPr>
          <a:xfrm>
            <a:off x="214200" y="2357280"/>
            <a:ext cx="835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42920" y="3214800"/>
          <a:ext cx="857232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41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</a:tbl>
          </a:graphicData>
        </a:graphic>
      </p:graphicFrame>
      <p:sp>
        <p:nvSpPr>
          <p:cNvPr id="418" name="TextBox 2"/>
          <p:cNvSpPr/>
          <p:nvPr/>
        </p:nvSpPr>
        <p:spPr>
          <a:xfrm>
            <a:off x="928800" y="857160"/>
            <a:ext cx="50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4458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Словесная (спис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4458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Графическая (блок-сх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4458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Табл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4458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3" descr="46341662.png"/>
          <p:cNvPicPr/>
          <p:nvPr/>
        </p:nvPicPr>
        <p:blipFill>
          <a:blip r:embed="rId1"/>
          <a:stretch/>
        </p:blipFill>
        <p:spPr>
          <a:xfrm>
            <a:off x="6286680" y="428760"/>
            <a:ext cx="1161720" cy="1162080"/>
          </a:xfrm>
          <a:prstGeom prst="rect">
            <a:avLst/>
          </a:prstGeom>
          <a:ln w="0">
            <a:noFill/>
          </a:ln>
        </p:spPr>
      </p:pic>
      <p:sp>
        <p:nvSpPr>
          <p:cNvPr id="420" name="Скругленный прямоугольник 6"/>
          <p:cNvSpPr/>
          <p:nvPr/>
        </p:nvSpPr>
        <p:spPr>
          <a:xfrm>
            <a:off x="3429000" y="3286080"/>
            <a:ext cx="157176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араллелограмм 8"/>
          <p:cNvSpPr/>
          <p:nvPr/>
        </p:nvSpPr>
        <p:spPr>
          <a:xfrm>
            <a:off x="3357720" y="4000680"/>
            <a:ext cx="1857240" cy="500040"/>
          </a:xfrm>
          <a:prstGeom prst="parallelogram">
            <a:avLst>
              <a:gd name="adj" fmla="val 25002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Ромб 9"/>
          <p:cNvSpPr/>
          <p:nvPr/>
        </p:nvSpPr>
        <p:spPr>
          <a:xfrm>
            <a:off x="3357720" y="478620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3214800" y="550080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214200" y="614376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557f"/>
                </a:solidFill>
                <a:latin typeface="Century Schoolbook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1"/>
          <p:cNvSpPr/>
          <p:nvPr/>
        </p:nvSpPr>
        <p:spPr>
          <a:xfrm>
            <a:off x="142920" y="2357280"/>
            <a:ext cx="8572320" cy="450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Алгоритм «Подготовка к уро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кругленный прямоугольник 3"/>
          <p:cNvSpPr/>
          <p:nvPr/>
        </p:nvSpPr>
        <p:spPr>
          <a:xfrm>
            <a:off x="428760" y="107172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4"/>
          <p:cNvSpPr/>
          <p:nvPr/>
        </p:nvSpPr>
        <p:spPr>
          <a:xfrm>
            <a:off x="428760" y="5786280"/>
            <a:ext cx="2928960" cy="500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428760" y="1857240"/>
            <a:ext cx="2928960" cy="5716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крыть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428760" y="2643120"/>
            <a:ext cx="2928960" cy="5716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стать 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428760" y="3429000"/>
            <a:ext cx="2928960" cy="5716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стать тетр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428760" y="4214880"/>
            <a:ext cx="2928960" cy="57132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стать 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1"/>
          <p:cNvSpPr/>
          <p:nvPr/>
        </p:nvSpPr>
        <p:spPr>
          <a:xfrm>
            <a:off x="428760" y="5000760"/>
            <a:ext cx="2928960" cy="57132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брать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Прямая со стрелкой 13"/>
          <p:cNvCxnSpPr>
            <a:stCxn id="427" idx="2"/>
            <a:endCxn id="429" idx="0"/>
          </p:cNvCxnSpPr>
          <p:nvPr/>
        </p:nvCxnSpPr>
        <p:spPr>
          <a:xfrm flipH="1">
            <a:off x="1891440" y="1642680"/>
            <a:ext cx="252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5" name="Прямая со стрелкой 14"/>
          <p:cNvCxnSpPr/>
          <p:nvPr/>
        </p:nvCxnSpPr>
        <p:spPr>
          <a:xfrm flipH="1">
            <a:off x="1928520" y="2428560"/>
            <a:ext cx="21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6" name="Прямая со стрелкой 15"/>
          <p:cNvCxnSpPr/>
          <p:nvPr/>
        </p:nvCxnSpPr>
        <p:spPr>
          <a:xfrm flipH="1">
            <a:off x="1928520" y="3214440"/>
            <a:ext cx="21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7" name="Прямая со стрелкой 16"/>
          <p:cNvCxnSpPr/>
          <p:nvPr/>
        </p:nvCxnSpPr>
        <p:spPr>
          <a:xfrm flipH="1">
            <a:off x="1928520" y="4000320"/>
            <a:ext cx="21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8" name="Прямая со стрелкой 17"/>
          <p:cNvCxnSpPr/>
          <p:nvPr/>
        </p:nvCxnSpPr>
        <p:spPr>
          <a:xfrm flipH="1">
            <a:off x="1928520" y="4786200"/>
            <a:ext cx="2160" cy="215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9" name="Прямая со стрелкой 18"/>
          <p:cNvCxnSpPr/>
          <p:nvPr/>
        </p:nvCxnSpPr>
        <p:spPr>
          <a:xfrm flipH="1">
            <a:off x="1928520" y="5571720"/>
            <a:ext cx="21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440" name="TextBox 21"/>
          <p:cNvSpPr/>
          <p:nvPr/>
        </p:nvSpPr>
        <p:spPr>
          <a:xfrm>
            <a:off x="4429080" y="11430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ачало алгоритма - 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право 24"/>
          <p:cNvSpPr/>
          <p:nvPr/>
        </p:nvSpPr>
        <p:spPr>
          <a:xfrm>
            <a:off x="3500280" y="12859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право 25"/>
          <p:cNvSpPr/>
          <p:nvPr/>
        </p:nvSpPr>
        <p:spPr>
          <a:xfrm>
            <a:off x="3500280" y="20718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право 26"/>
          <p:cNvSpPr/>
          <p:nvPr/>
        </p:nvSpPr>
        <p:spPr>
          <a:xfrm>
            <a:off x="3500280" y="2857680"/>
            <a:ext cx="785880" cy="14256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трелка вправо 27"/>
          <p:cNvSpPr/>
          <p:nvPr/>
        </p:nvSpPr>
        <p:spPr>
          <a:xfrm>
            <a:off x="3500280" y="36432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право 28"/>
          <p:cNvSpPr/>
          <p:nvPr/>
        </p:nvSpPr>
        <p:spPr>
          <a:xfrm>
            <a:off x="3500280" y="442908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29"/>
          <p:cNvSpPr/>
          <p:nvPr/>
        </p:nvSpPr>
        <p:spPr>
          <a:xfrm>
            <a:off x="3500280" y="5143680"/>
            <a:ext cx="785880" cy="14256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трелка вправо 30"/>
          <p:cNvSpPr/>
          <p:nvPr/>
        </p:nvSpPr>
        <p:spPr>
          <a:xfrm>
            <a:off x="3500280" y="59292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1"/>
          <p:cNvSpPr/>
          <p:nvPr/>
        </p:nvSpPr>
        <p:spPr>
          <a:xfrm>
            <a:off x="4500720" y="5715000"/>
            <a:ext cx="428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нец алгоритма – 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2"/>
          <p:cNvSpPr/>
          <p:nvPr/>
        </p:nvSpPr>
        <p:spPr>
          <a:xfrm>
            <a:off x="4357800" y="1857240"/>
            <a:ext cx="442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Georgia"/>
              </a:rPr>
              <a:t>действие - прямоугольн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3"/>
          <p:cNvSpPr/>
          <p:nvPr/>
        </p:nvSpPr>
        <p:spPr>
          <a:xfrm>
            <a:off x="4357800" y="2643120"/>
            <a:ext cx="442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Georgia"/>
              </a:rPr>
              <a:t>действие - прямоугольн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4"/>
          <p:cNvSpPr/>
          <p:nvPr/>
        </p:nvSpPr>
        <p:spPr>
          <a:xfrm>
            <a:off x="4357800" y="3500280"/>
            <a:ext cx="442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Georgia"/>
              </a:rPr>
              <a:t>действие - прямоугольн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5"/>
          <p:cNvSpPr/>
          <p:nvPr/>
        </p:nvSpPr>
        <p:spPr>
          <a:xfrm>
            <a:off x="4357800" y="4286160"/>
            <a:ext cx="442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Georgia"/>
              </a:rPr>
              <a:t>действие - прямоугольн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6"/>
          <p:cNvSpPr/>
          <p:nvPr/>
        </p:nvSpPr>
        <p:spPr>
          <a:xfrm>
            <a:off x="4357800" y="5000760"/>
            <a:ext cx="442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Georgia"/>
              </a:rPr>
              <a:t>действие - прямоугольн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7" descr="Безымянный4.jpg"/>
          <p:cNvPicPr/>
          <p:nvPr/>
        </p:nvPicPr>
        <p:blipFill>
          <a:blip r:embed="rId1"/>
          <a:stretch/>
        </p:blipFill>
        <p:spPr>
          <a:xfrm>
            <a:off x="5286240" y="3695760"/>
            <a:ext cx="3424320" cy="316224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28"/>
                </a:solidFill>
                <a:latin typeface="Georgia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"/>
          <p:cNvSpPr/>
          <p:nvPr/>
        </p:nvSpPr>
        <p:spPr>
          <a:xfrm>
            <a:off x="285840" y="857160"/>
            <a:ext cx="8429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Алгоритм  «Создай и раскрась звез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Создай новую Черепашку на рабочем 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Для создания восьмиугольной звезды напиши в поле команд: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пусти перо 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втори 8 раз команды вперед 200, направо 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Запусти Черепа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Перейди в режим Рис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 Раскрась у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.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Рисунок 3" descr="Безымянный3.png"/>
          <p:cNvPicPr/>
          <p:nvPr/>
        </p:nvPicPr>
        <p:blipFill>
          <a:blip r:embed="rId1"/>
          <a:stretch/>
        </p:blipFill>
        <p:spPr>
          <a:xfrm>
            <a:off x="2928960" y="3000240"/>
            <a:ext cx="5734080" cy="36435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28"/>
                </a:solidFill>
                <a:latin typeface="Georgia"/>
              </a:rPr>
              <a:t>Практическая работа (дополните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285840" y="85716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Алгоритм «Создай орна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В режиме Рисование возьми инструмент Прямоугольное вы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Скопируй Звезду 6 раз и создай свой орн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1071720" y="50004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357120" y="200016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Учебник: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§ 3.3, вопросы и задания 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РТ: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упр. №11, стр.81-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extBox 1" descr=""/>
          <p:cNvPicPr/>
          <p:nvPr/>
        </p:nvPicPr>
        <p:blipFill>
          <a:blip r:embed="rId1"/>
          <a:stretch/>
        </p:blipFill>
        <p:spPr>
          <a:xfrm>
            <a:off x="285840" y="1901880"/>
            <a:ext cx="80042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6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Заверши фраз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285840" y="121428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Конечная последовательность шагов в решении задачи, приводящая от исходных данных к требуемому результату,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2143080" y="4286160"/>
            <a:ext cx="46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Georgia"/>
              </a:rPr>
              <a:t>АЛГОРИТМ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2"/>
          <p:cNvSpPr/>
          <p:nvPr/>
        </p:nvSpPr>
        <p:spPr>
          <a:xfrm>
            <a:off x="2071800" y="4357800"/>
            <a:ext cx="4500360" cy="71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be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тветь на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85840" y="121428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Кто может разрабатывать алгорит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785960" y="2571840"/>
            <a:ext cx="55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еловек и 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000680" y="4500720"/>
            <a:ext cx="2643120" cy="2119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357120" y="3786120"/>
            <a:ext cx="1532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20"/>
                            </p:stCondLst>
                            <p:childTnLst>
                              <p:par>
                                <p:cTn id="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6b2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тветь на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285840" y="121428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Кто может исполнять алгорит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428760" y="221472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Технически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еловек и технические у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9" descr="ARMY085"/>
          <p:cNvPicPr/>
          <p:nvPr/>
        </p:nvPicPr>
        <p:blipFill>
          <a:blip r:embed="rId1"/>
          <a:stretch/>
        </p:blipFill>
        <p:spPr>
          <a:xfrm>
            <a:off x="1285920" y="3857760"/>
            <a:ext cx="2357280" cy="2598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5000760" y="4214880"/>
            <a:ext cx="2500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60"/>
                            </p:stCondLst>
                            <p:childTnLst>
                              <p:par>
                                <p:cTn id="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6b2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тветь на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"/>
          <p:cNvSpPr/>
          <p:nvPr/>
        </p:nvSpPr>
        <p:spPr>
          <a:xfrm>
            <a:off x="285840" y="1214280"/>
            <a:ext cx="8286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Как называется человек, группа людей, животные и технические устройства, способные выполнить заданные коман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715000" y="3571920"/>
            <a:ext cx="2203560" cy="25002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571680" y="414324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Georgia"/>
              </a:rPr>
              <a:t>ИСПОЛН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642960" y="4143240"/>
            <a:ext cx="4929120" cy="71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be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Заверши фраз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214200" y="12142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Все команды, которые исполнитель может выполнять, образ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714240" y="25718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2c16"/>
                </a:solidFill>
                <a:latin typeface="Georgia"/>
              </a:rPr>
              <a:t>СИСТЕМУ КОМАНД ИСПОЛН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2c16"/>
                </a:solidFill>
                <a:latin typeface="Georgia"/>
              </a:rPr>
              <a:t>(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714240" y="2571840"/>
            <a:ext cx="7429680" cy="92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be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3071880" y="3571920"/>
            <a:ext cx="25718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4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тветь на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"/>
          <p:cNvSpPr/>
          <p:nvPr/>
        </p:nvSpPr>
        <p:spPr>
          <a:xfrm>
            <a:off x="571680" y="142884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Кого можно назвать формальным исполнител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1214280" y="335772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еловека и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"/>
                            </p:stCondLst>
                            <p:childTnLst>
                              <p:par>
                                <p:cTn id="5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6b2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500040" y="285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57f"/>
                </a:solidFill>
                <a:latin typeface="Century Schoolbook"/>
              </a:rPr>
              <a:t>Ответь на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857160" y="14288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Для чего нужны алгорит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428760" y="292896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Чтобы выполн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Georgia"/>
              </a:rPr>
              <a:t>разнообразны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5"/>
          <p:cNvGraphicFramePr/>
          <p:nvPr/>
        </p:nvGraphicFramePr>
        <p:xfrm>
          <a:off x="3143160" y="3643200"/>
          <a:ext cx="2757600" cy="24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643200"/>
                    <a:ext cx="275760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TextBox 2"/>
          <p:cNvSpPr/>
          <p:nvPr/>
        </p:nvSpPr>
        <p:spPr>
          <a:xfrm>
            <a:off x="571680" y="64296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entury Schoolbook"/>
              </a:rPr>
              <a:t>Формы записи алгоритм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9:49:35Z</dcterms:created>
  <dc:creator>Laki1</dc:creator>
  <dc:description/>
  <dc:language>en-US</dc:language>
  <cp:lastModifiedBy>Laki1</cp:lastModifiedBy>
  <dcterms:modified xsi:type="dcterms:W3CDTF">2012-05-08T20:02:52Z</dcterms:modified>
  <cp:revision>36</cp:revision>
  <dc:subject/>
  <dc:title>Слайд 1</dc:title>
</cp:coreProperties>
</file>