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CA2-C9A7-4B71-8EE1-976C70E6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7F5-7BC1-4E08-B032-B98A989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5D4-DE4A-4AF4-A045-7537C21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945-7108-47E4-8302-398AF2F0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792-3520-4971-A352-8463D80A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97B-69D9-4D62-A711-990520BD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700-F0C9-4158-81C1-4E3212A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308-B6E4-4125-B24B-B6EE4327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719-C0A3-47B2-A5A8-6944EA1C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360-4EBB-4965-957B-23DD644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53A-0B96-4457-8A0C-5FB4430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A2B-EBF2-47C8-8CC5-B4545E9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8F61-A4FA-48E9-9224-71AE86657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Геометр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 математики, изучающий пространственные отношения и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782880" y="5929200"/>
            <a:ext cx="49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Коротк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.кл. МБОУ СОШ №7 г. Лобня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метрические фиг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00000" y="1484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57440" y="27082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564000" y="1341360"/>
            <a:ext cx="2016000" cy="120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496320" y="2708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7093080" y="1268280"/>
            <a:ext cx="1214280" cy="1214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310880" y="26370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900000" y="3429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3440" y="458136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3564000" y="3429000"/>
            <a:ext cx="1800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567600" y="443700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(ЭЛИП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7020000" y="3357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591600" y="443700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826920" y="5084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54520" y="602136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СТИ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 rot="10800000">
            <a:off x="3708360" y="5157720"/>
            <a:ext cx="1214640" cy="91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206520" y="609300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ЁХ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7020000" y="5013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428160" y="611352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826920" y="1413000"/>
            <a:ext cx="158436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>
            <a:off x="6012000" y="1628640"/>
            <a:ext cx="2520720" cy="2427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635280" y="3141720"/>
            <a:ext cx="720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364000" y="4797360"/>
            <a:ext cx="158436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1258920" y="443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21280" y="5769000"/>
            <a:ext cx="22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42920" y="1773360"/>
            <a:ext cx="914400" cy="9144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076720" y="5373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948360" y="4005360"/>
            <a:ext cx="914400" cy="914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132000" y="3141720"/>
            <a:ext cx="914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435640" y="184464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36200" y="5361120"/>
            <a:ext cx="168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826920" y="1844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7093080" y="242100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6084720" y="4653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700360" y="3716280"/>
            <a:ext cx="1873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500720" y="1773360"/>
            <a:ext cx="1214280" cy="9144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64560" y="5576760"/>
            <a:ext cx="22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395280" y="1125360"/>
            <a:ext cx="2087640" cy="2087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468360" y="4365720"/>
            <a:ext cx="2087640" cy="2016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6300720" y="4149720"/>
            <a:ext cx="2303640" cy="223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6300720" y="1341360"/>
            <a:ext cx="2160720" cy="2087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410920" y="2852640"/>
            <a:ext cx="441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из чего сдела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ие фигуры можно сравнить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фо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цве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разме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матери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8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4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2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64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3:31:56Z</dcterms:created>
  <dc:creator>User</dc:creator>
  <dc:description/>
  <dc:language>en-US</dc:language>
  <cp:lastModifiedBy>User</cp:lastModifiedBy>
  <dcterms:modified xsi:type="dcterms:W3CDTF">2013-01-24T07:05:56Z</dcterms:modified>
  <cp:revision>3</cp:revision>
  <dc:subject/>
  <dc:title>Геометрия</dc:title>
</cp:coreProperties>
</file>