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2C5-BC80-40E2-AC3F-1A126F5F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52E-28C1-4657-95CB-2FF5E597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1BA-3C23-443B-A0E7-978FFFBB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A5A-E569-4D43-B3D3-19DB21F1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36EB-D1B2-4BCC-84F2-9DFF8746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4D23-C27E-4410-AEAA-63A17881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5E9F-6604-40CE-8085-442DB98E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FD5F-EB5D-4FF7-BC8C-68B05EC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82DC-45F3-4F31-B9EF-E7503C36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DD8F-CEE1-48C8-A60D-BE4AA08A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C4B2-3FC4-4E67-9743-DA09A94A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BBF-1F9A-4E60-B27D-DD825C4A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458C-8092-4783-B59B-30D2E404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711B-CCC6-43AA-9254-0D1E0F4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FE5E-87B2-4D9D-9757-345E6BB3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0343-53A2-439E-AAB5-81ED796A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9BF5-DD9D-4F55-9784-AA01AA00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14AC-E46C-4B9D-975D-D87677B8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5CB1-4FF2-440F-991A-41D4FE1B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914A-DF9D-4A53-8007-A4C1563D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06C5-12E0-4FD1-BB0F-C9399A7C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A0CC-A535-41F6-9FB2-F5004FC3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A2F-F4E9-4CB8-A001-C00E6B66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28D9-498E-4115-B96B-85693AA9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0A5C-0566-41CD-92E6-D44823C4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3878-A316-4378-A64F-F934D976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8F06-74B8-4EED-ADC2-50E9F209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75B2-D959-4745-B315-4A4501CA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FDDC-972A-4C17-9751-C341172B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7D4F-5645-43F7-ACC8-E5B6B99F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3E021-16AE-476D-BF4E-9159BB2D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6FDC-4865-4F3B-818A-608EEC88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7423-38A7-4878-9F44-4EEAD5E1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F56-757F-4F72-8443-2BEA088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A4CC7-57F8-4212-85FB-A1D48325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44EF0-AD21-46E0-826F-8E44528A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1B58-1BE8-4B55-A5F3-3EA142FB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E9DC-83E4-427F-85C3-FB6537E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5C50-4C6E-4D22-9227-DF6E909D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3D448-CD03-4691-AD2F-243483E6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CD857-C807-4CC4-A537-248CB4FB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72D4-9498-43FB-9BA0-233493BA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274F-1067-4275-8721-92C8E7D0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44A02-E00E-4C3D-93CB-887359A1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FEE-D830-4479-8552-3A23DF02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3969-7A97-482C-B0F4-FB8B7E6F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37346-35A6-4A6A-A011-CA8EE696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88B5-9848-43BD-BD65-90A75597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EE10-437E-4092-A8C4-256FDE70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B5558-C678-4DBB-9273-EA74E5A0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872C-8219-4D30-93C6-3B10923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EF21-4D4F-47D2-9D68-CCD5952A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5DF5A-74DC-4EBD-AD4C-5BF97B3E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F3BB-BF3B-47E5-8B02-37B03633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F500D-F6B3-47A9-ACC4-AA50B5E7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080-830E-46BD-9100-225D82EB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46B60-AD85-4505-9DD9-363F5B94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B190D-6CC8-4408-98C6-D4E16BCF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BB09-24A0-43B6-AFA6-ACAE955A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EE90-1667-4C19-93C3-9061EF53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F87B1-4291-40FF-AB2B-262F323A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FFFE5-3107-4510-B8F3-5DD85E85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B17F3-72B4-42B0-90D3-060F94FE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F9508-37BA-42BA-88DE-738C00B3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68324-8CFA-4A42-8516-780F5E87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BEDBE-E835-4F9E-8B1E-F436405B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7A3-872E-4851-94D7-896622D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1FD3B-E094-40DC-BBE2-CFF47968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E46D4-294E-4F48-A45B-571C93D6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3A1A6-BCCF-4FB9-9B70-134337B1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B6C2-9FB8-4012-A6FE-B5D390DB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3CB2E-3E1F-4AFB-BCCD-A2CEF866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A70AE-5B47-45E6-9448-C89E21CB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C89E6-7417-47F0-8BAE-C64AB182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374F-E907-4D13-AA06-E27259B3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15641-31A0-4968-AA68-B82ED19C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56580-1FA3-422C-ACF0-5941616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386-2AFE-4FC2-BC6A-4AEE3989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C252E-8B43-47E0-BA5F-9A1BCFCC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48B87-236C-473B-B881-DC77C23F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DAA2A-6BDA-44B2-965C-A8172126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CEC2-6C52-41C8-B7AF-5DDF78B7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F0A7C-D99D-4B81-9C11-B80F0503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C71-E456-4994-BA84-F47CA96F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7790-8C6A-4F62-B939-1B7A3631BD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0CF2-7447-4AE5-B704-5206A109C9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3FA4-13A0-466B-9154-275CCD29A0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A386-F466-4A55-80DE-260ED12B59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2B20-15E7-48C8-8FEE-80026206BD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79C3-B069-4932-8A8D-DBBDD6F6FD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6677-0720-4EF7-ADC6-88ED0A8AD77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5436a"/>
                </a:solidFill>
                <a:latin typeface="Corbel"/>
              </a:rPr>
              <a:t>Как прекрасен этот мир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3" descr="русская природа.jpg"/>
          <p:cNvPicPr/>
          <p:nvPr/>
        </p:nvPicPr>
        <p:blipFill>
          <a:blip r:embed="rId1"/>
          <a:stretch/>
        </p:blipFill>
        <p:spPr>
          <a:xfrm>
            <a:off x="1779480" y="1447920"/>
            <a:ext cx="681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2a6d7d"/>
                </a:solidFill>
                <a:latin typeface="Corbel"/>
              </a:rPr>
              <a:t>Встал поутру, умылся, привёл себя в порядок и сразу же приведи в порядок свою планету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3" descr="i.jpg"/>
          <p:cNvPicPr/>
          <p:nvPr/>
        </p:nvPicPr>
        <p:blipFill>
          <a:blip r:embed="rId1"/>
          <a:stretch/>
        </p:blipFill>
        <p:spPr>
          <a:xfrm>
            <a:off x="2286000" y="1785960"/>
            <a:ext cx="5072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58d01"/>
                </a:solidFill>
                <a:latin typeface="Corbel"/>
              </a:rPr>
              <a:t>Насколько обеднела бы наша жизнь, если бы мы увидели нашу землю, лишённую трав, цветов, зверей…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3" descr="ecochina11.jpg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922223"/>
                </a:solidFill>
                <a:latin typeface="Corbel"/>
              </a:rPr>
              <a:t>Бог вложил свою любовь и мудрость в мир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1011788_PH02004.jpg"/>
          <p:cNvPicPr/>
          <p:nvPr/>
        </p:nvPicPr>
        <p:blipFill>
          <a:blip r:embed="rId1"/>
          <a:stretch/>
        </p:blipFill>
        <p:spPr>
          <a:xfrm>
            <a:off x="3294000" y="1847880"/>
            <a:ext cx="3781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654c"/>
                </a:solidFill>
                <a:latin typeface="Corbel"/>
              </a:rPr>
              <a:t>НОЕВ КОВЧЕГ</a:t>
            </a:r>
            <a:br>
              <a:rPr sz="2800"/>
            </a:b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Ной звал людей, а пришли одни скоты…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3" descr="877957114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6d7d"/>
                </a:solidFill>
                <a:latin typeface="Corbel"/>
              </a:rPr>
              <a:t>Для христианина вся природа – это его родной дом и Божий храм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0_1251e_2623d63f_XL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20:26:30Z</dcterms:created>
  <dc:creator>Луи Карпатый</dc:creator>
  <dc:description/>
  <dc:language>en-US</dc:language>
  <cp:lastModifiedBy>Луи Карпатый</cp:lastModifiedBy>
  <dcterms:modified xsi:type="dcterms:W3CDTF">2012-11-14T20:59:19Z</dcterms:modified>
  <cp:revision>4</cp:revision>
  <dc:subject/>
  <dc:title>Слайд 1</dc:title>
</cp:coreProperties>
</file>