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BF0C-72FC-47AD-9003-173678B8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D77-E4D9-4023-B62B-61F51E6C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2A0A-4BEB-4F96-8C19-6F46146E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A05-025D-4FD5-9302-CF3D6D56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BE7D-357D-4153-8641-10A7510E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94F-9240-4F8B-9FD1-EBA4A88E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BE3-D365-4267-96B4-183074D5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AC9-07B1-444A-BC85-C59E2E0A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FBA-D7FC-4CA0-9C2A-96DF145F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91D-6027-44A2-8673-5A009B7F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0E6-0417-440F-9B44-A7A7134B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B70C-11F9-4995-9BDF-8742294C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CD96-62E2-4FE7-BD51-CB60862EB2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4920" y="4508280"/>
            <a:ext cx="82803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Говорят: под Новый год</a:t>
            </a:r>
            <a:br>
              <a:rPr sz="4000"/>
            </a:b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Что ни пожелается -</a:t>
            </a:r>
            <a:br>
              <a:rPr sz="4000"/>
            </a:b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Всё всегда произойдёт,</a:t>
            </a:r>
            <a:br>
              <a:rPr sz="4000"/>
            </a:b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Всё всегда сбывается.</a:t>
            </a:r>
            <a:br>
              <a:rPr sz="800"/>
            </a:br>
            <a:br>
              <a:rPr sz="800"/>
            </a:br>
            <a:br>
              <a:rPr sz="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теперь будем сочинять стих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има всё в белое одел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имой ребятам много 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рей, за шапку, за плато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ри коньки и …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т на коньках бежит Серёж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жит, упал и едет…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вот компания Егор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брав салазки, лезет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шли салазки еле - ел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у а потом как …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ал Алёша маленьки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рчат из снега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утал ветер небо шёлком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в школе ярко свети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НК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 1 «ГОНКИ НА ВЕНИКАХ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и делятся на две команды во главе с Бабой Ягой и Кикиморой. Повязать косынку, сесть на метлу и доскакать до доски, коснуться её и поехать обратно. Чья команда выполнит задание быстрее, та и победи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 2. «СОБИРАЕМ ВАРЕЖКИ И НОСОЧКИ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има, самое холодное время года и без тёплых носочков и варежек нам не обойтись. (Дети делятся на команды.) Каждая команда будет собирать вещи парами: девочки собирают варежки, а мальчики – носочки. Как только музыка перестала играть варежки и носочки собирать нельзя! У кого пар больше, тот и победил. Приготовились! Начали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4292640"/>
            <a:ext cx="4716360" cy="25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 «ТЕЛЕГРАММА ДЕДУ МОРОЗУ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ей просят назвать 15 прилагательных. Например: "толстый", "рыжий", "горячий", "голодный", "вялый", "грязный"... Когда все прилагательные записаны, ведущий достает текст телеграммы, и вставляет в него недостающие прилагательные по списк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ТЕЛЕГРАММА ДЕДУ МОРОЗУ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54738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 ..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едушка Мороз! Все ... дети с нетерпением ожидают твоего ... прихо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овый год это самый ...и … праздник в год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ы будем петь для тебя ... песни, танцевать ... танцы! Наконец-то наступит ... Новый Год! Как не хочется говорить о ... работ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Желаем, чтобы наши …родители, приносили только … сладости, радовали своими подарками своих … детей. Так что, приноси поскорее свой ... мешок и вручай нам ... подарки.  С уважением к тебе ... и ... дети!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ИГРА 5 «СЮРПРИЗ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27280" y="1125000"/>
            <a:ext cx="446220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Все становятся в круг. В центре лежит мешок с подарками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моих руках снежинка. Эту снежинку вы будете передавать по кругу под музыку. Как только музыка останавливается, вы, не заглядывая в мешок, достаёте первый попавшийся подарок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51280" y="1989000"/>
            <a:ext cx="529272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д Мороз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Я желаю вам расти и не скучать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родителей не очень огорчат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всегда просить прощенья за любые огорченья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негурочк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Закаляться всем желаю и умнеть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за целый год ни разу не болеть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когда не зазнаваться и от лени избавлятьс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Всегда с охотою учиться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Всегда с охотою трудиться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 не болеть, не унывать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этом праздник завершаем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всем вам, ребята, успехов жела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826920" y="3284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Друзья мои!</a:t>
            </a:r>
            <a:br>
              <a:rPr sz="2800"/>
            </a:b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озвольте для вступленья</a:t>
            </a:r>
            <a:br>
              <a:rPr sz="2800"/>
            </a:b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ам объявить - уже настал черёд:</a:t>
            </a:r>
            <a:br>
              <a:rPr sz="2800"/>
            </a:b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Мы начинаем наше представленье,</a:t>
            </a:r>
            <a:br>
              <a:rPr sz="2800"/>
            </a:b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стречайте наш весёлый хоровод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тр 1 подписал Указ, которым повелевал "впредь лета счислять и во всяких делах писать с нынешнего генваря с 1 числа от Рождества Христова 1700 год"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Новый год, как зимний праздник, существует уже около 3-х сот столетий и 1 января 2013 года ему исполнится ровно 313 л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360" y="3284640"/>
            <a:ext cx="77724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семестно не разрешалось в первый день года выполнять тяжелую и грязную работу - иначе весь год пройдет в сплошном тяжелом труде без отдых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рещалось в новогодний праздник грустить и плакать - иначе весь год ожидает одна тоск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льзя также ссориться и браниться - весь год свары мучить буду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360" y="3499920"/>
            <a:ext cx="77724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обый смысл придавали обычаю одеваться в первый день нового года во все новое или, хотя бы, не часто одеваемое, и в продолжение дня несколько раз переодеваться, чтобы у всех всегда были обнов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ильный праздничный стол - по древней традиции - залог богатства семьи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новогодний стол ставили 12 блюд - по одному на каждый месяц, чтобы ни одного не обидеть и не остаться голодным на целых 30 дней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лавным блюдом новогоднего стола был поросенок, непременно зажаренный целиком. Считалось, что жаркое из поросенка обеспечивает благополучи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ясо зайца ели, чтобы быть, как он проворным, а петуха - чтобы быть легким, как птиц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95640" y="3428640"/>
            <a:ext cx="4968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 и добрый, он и строгий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родой седой зарос              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снощёкий, краснонос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ш любимый …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савица какая -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Стоит, светло свер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пышно убрана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Скажите, кто она…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4360" y="-360"/>
            <a:ext cx="8208720" cy="60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 новый год пришёл он в дом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им весёлым толстяк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с каждым днём терял он вес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, наконец, совсем исчез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карнизе нашем в ря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бли острые вися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Солнце выглянет - и саб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асфальт роняют капл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378720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х зверей она хитрей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убка рыжая на ней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ышный хвост её кра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рыжая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00000" y="115560"/>
            <a:ext cx="777240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ышный хвост торчит с верхушк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Что за странная зверюшка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Щёлкает орешки мелк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у конечно, это 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Быстрокрылы и лег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азочной зимою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Что за чудо мотыль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ужат над тобою?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ой это мастер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стекле нанёс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листья, и трав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заросли роз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260280"/>
            <a:ext cx="827892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землю упал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Пуховое одеял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сна настала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еяла не стал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кая, смолист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ышная, душист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лещет в зале на ви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лько раз она в год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06:11:15Z</dcterms:created>
  <dc:creator>руслан</dc:creator>
  <dc:description/>
  <dc:language>en-US</dc:language>
  <cp:lastModifiedBy>руслан</cp:lastModifiedBy>
  <dcterms:modified xsi:type="dcterms:W3CDTF">2012-12-26T07:50:10Z</dcterms:modified>
  <cp:revision>2</cp:revision>
  <dc:subject/>
  <dc:title>PowerPoint Presentation</dc:title>
</cp:coreProperties>
</file>