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2C2-D657-4851-AB3B-FA63775C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5B2-7769-4821-887A-CC60E175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855-16DE-491F-84C1-FC9C48B6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7DC-3374-4FBF-B4C5-B2DB081D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E1A3-5E0B-4BEB-8655-FA63DE7F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122A-343D-4FD0-BA4B-296BC4ED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16E5-B538-4744-811B-E9F77B25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FE9E-9E7F-41CD-9F37-36CDE34A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5DED-7E77-4EC8-9724-4C82FC4B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6B8F-0D7E-4850-9921-2EEB4732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C888-E877-4A46-A30C-6087E8B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0EC-A342-434E-BC4E-D59215A9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05E6-9583-458A-A482-5B6EE919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2AB3-7745-4D48-BA33-B9D6DA1B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2153-ACBD-4609-987C-3131E481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6608-DA20-48FB-9779-F35765AB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8146-8922-4CA8-B7EF-FD1FFFEA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BD3-B705-4698-9B26-3885716D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1B8-0898-4E35-B3B9-1B614DDA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3AD-A075-4186-9C14-4C7602DD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844-B6CB-4D6C-99D8-AA24B85F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C9A-E07E-4FF8-8878-E439A39C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B38-9DF9-461F-9351-2B0FBB28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11E-20D1-42A6-9A39-1F10CFAA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E56F-B32B-44BC-ABA2-3827361A9B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124B-62E8-40C8-A36C-A6A7994544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адачи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* обобщить изученное о сказке как виде народной прозы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* уметь находить художественно-   изобразительные средства языка в волшебной сказк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* развивать умение сочинять сказку по заданному начал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j0199661"/>
          <p:cNvPicPr/>
          <p:nvPr/>
        </p:nvPicPr>
        <p:blipFill>
          <a:blip r:embed="rId1"/>
          <a:stretch/>
        </p:blipFill>
        <p:spPr>
          <a:xfrm>
            <a:off x="539640" y="189000"/>
            <a:ext cx="905040" cy="87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MCj04123680000[1]"/>
          <p:cNvPicPr/>
          <p:nvPr/>
        </p:nvPicPr>
        <p:blipFill>
          <a:blip r:embed="rId2"/>
          <a:stretch/>
        </p:blipFill>
        <p:spPr>
          <a:xfrm>
            <a:off x="6588000" y="4941720"/>
            <a:ext cx="1177920" cy="16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MCj04239880000[1]"/>
          <p:cNvPicPr/>
          <p:nvPr/>
        </p:nvPicPr>
        <p:blipFill>
          <a:blip r:embed="rId3"/>
          <a:stretch/>
        </p:blipFill>
        <p:spPr>
          <a:xfrm>
            <a:off x="0" y="5165640"/>
            <a:ext cx="1819440" cy="1692360"/>
          </a:xfrm>
          <a:prstGeom prst="rect">
            <a:avLst/>
          </a:prstGeom>
          <a:ln w="0">
            <a:noFill/>
          </a:ln>
        </p:spPr>
      </p:pic>
      <p:sp>
        <p:nvSpPr>
          <p:cNvPr id="94" name="WordArt 14"/>
          <p:cNvSpPr txBox="1"/>
          <p:nvPr/>
        </p:nvSpPr>
        <p:spPr>
          <a:xfrm>
            <a:off x="685800" y="685800"/>
            <a:ext cx="7772400" cy="21272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49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знатоков волшебной сказк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468360" y="1773360"/>
            <a:ext cx="4390920" cy="431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5"/>
          <p:cNvSpPr/>
          <p:nvPr/>
        </p:nvSpPr>
        <p:spPr>
          <a:xfrm rot="10800000">
            <a:off x="4427280" y="1773000"/>
            <a:ext cx="4716360" cy="431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чем скрипят половиц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ветер повеял чудесны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тайна стучится в окн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в чудо поверишь вдруг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дрогнут чьи – то ресниц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сразу меняются лица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ихонько скрипят половицы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 нам сказка в гости идет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годня мы в гостя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кота Баю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6" descr="MPj01814460000[1]"/>
          <p:cNvPicPr/>
          <p:nvPr/>
        </p:nvPicPr>
        <p:blipFill>
          <a:blip r:embed="rId1"/>
          <a:stretch/>
        </p:blipFill>
        <p:spPr>
          <a:xfrm>
            <a:off x="1187280" y="2349360"/>
            <a:ext cx="2808360" cy="3527640"/>
          </a:xfrm>
          <a:prstGeom prst="rect">
            <a:avLst/>
          </a:prstGeom>
          <a:ln w="0">
            <a:noFill/>
          </a:ln>
        </p:spPr>
      </p:pic>
      <p:sp>
        <p:nvSpPr>
          <p:cNvPr id="99" name="WordArt 7"/>
          <p:cNvSpPr txBox="1"/>
          <p:nvPr/>
        </p:nvSpPr>
        <p:spPr>
          <a:xfrm>
            <a:off x="684360" y="476280"/>
            <a:ext cx="8067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 вы можете объяснить имя этого сказочного персонажа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Garamond"/>
              </a:rPr>
              <a:t>                     </a:t>
            </a:r>
            <a:r>
              <a:rPr b="0" lang="ru-RU" sz="4000" spc="-1" strike="noStrike">
                <a:solidFill>
                  <a:srgbClr val="006600"/>
                </a:solidFill>
                <a:latin typeface="Garamond"/>
              </a:rPr>
              <a:t>Конкурс знатоков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Garamond"/>
              </a:rPr>
              <a:t>                     сказочных зачинов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сская сказка имеет свое начало. Мы предлагаем вам вспомнить традиционные сказочные зачи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анда, справившаяся со своим заданием, занимает место за своим столик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MCj04321650000[1]"/>
          <p:cNvPicPr/>
          <p:nvPr/>
        </p:nvPicPr>
        <p:blipFill>
          <a:blip r:embed="rId1"/>
          <a:stretch/>
        </p:blipFill>
        <p:spPr>
          <a:xfrm>
            <a:off x="395280" y="0"/>
            <a:ext cx="1081080" cy="17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Cj04124260000[1]"/>
          <p:cNvPicPr/>
          <p:nvPr/>
        </p:nvPicPr>
        <p:blipFill>
          <a:blip r:embed="rId2"/>
          <a:stretch/>
        </p:blipFill>
        <p:spPr>
          <a:xfrm>
            <a:off x="6659640" y="3860640"/>
            <a:ext cx="196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21965E-006 C 0.02361 0.37503 0.04722 0.75029 0.18264 0.75052 C 0.31805 0.75076 0.70781 0.12671 0.81284 0.00208 E">
                                      <p:cBhvr>
                                        <p:cTn id="5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рожень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виц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лоде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уч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а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у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j0299125"/>
          <p:cNvPicPr/>
          <p:nvPr/>
        </p:nvPicPr>
        <p:blipFill>
          <a:blip r:embed="rId1"/>
          <a:stretch/>
        </p:blipFill>
        <p:spPr>
          <a:xfrm>
            <a:off x="7740720" y="12682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j0336075"/>
          <p:cNvPicPr/>
          <p:nvPr/>
        </p:nvPicPr>
        <p:blipFill>
          <a:blip r:embed="rId2"/>
          <a:stretch/>
        </p:blipFill>
        <p:spPr>
          <a:xfrm>
            <a:off x="2811600" y="2708280"/>
            <a:ext cx="1990440" cy="2016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9"/>
          <p:cNvSpPr txBox="1"/>
          <p:nvPr/>
        </p:nvSpPr>
        <p:spPr>
          <a:xfrm>
            <a:off x="395280" y="189000"/>
            <a:ext cx="8229600" cy="12240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берите постоянные эпитеты к слова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 rot="189000">
            <a:off x="971280" y="0"/>
            <a:ext cx="720072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7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ъяснить подбором синонима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7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7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чения устаревших слов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7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48120" y="1599840"/>
            <a:ext cx="2456640" cy="453096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алак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й ес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ботар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ив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раз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едащ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с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ы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3" descr="j0298897"/>
          <p:cNvPicPr/>
          <p:nvPr/>
        </p:nvPicPr>
        <p:blipFill>
          <a:blip r:embed="rId1"/>
          <a:stretch/>
        </p:blipFill>
        <p:spPr>
          <a:xfrm>
            <a:off x="6877080" y="1628640"/>
            <a:ext cx="180648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78035E-006 C -0.00972 0.01294 -0.00469 0.00855 -0.01441 0.01479 C -0.02135 0.02404 -0.02934 0.03421 -0.03819 0.04023 C -0.04496 0.04485 -0.0526 0.04901 -0.05885 0.05502 C -0.06059 0.05664 -0.06163 0.05965 -0.06354 0.06127 C -0.0743 0.06982 -0.08924 0.07745 -0.10156 0.08023 C -0.1099 0.09132 -0.11424 0.08924 -0.12708 0.09294 C -0.1368 0.09572 -0.15399 0.10404 -0.16528 0.10566 C -0.17569 0.10728 -0.18646 0.10705 -0.19687 0.10774 C -0.28976 0.13109 -0.22187 0.1156 -0.44774 0.10774 C -0.47396 0.10682 -0.49844 0.08947 -0.52378 0.08462 C -0.53819 0.07722 -0.54965 0.07144 -0.5651 0.06774 C -0.57292 0.06242 -0.58108 0.06265 -0.58889 0.0571 C -0.60764 0.04346 -0.59462 0.04832 -0.60955 0.04439 C -0.6224 0.03606 -0.63524 0.0252 -0.6493 0.02103 C -0.65625 0.01479 -0.66163 0.01063 -0.66996 0.00855 C -0.67517 0.00115 -0.6816 -0.0037 -0.68889 -0.00625 C -0.69462 -0.01133 -0.7 -0.01203 -0.70642 -0.0148 C -0.70868 -0.01688 -0.72535 -0.02775 -0.71267 -0.01688 C -0.71215 -0.0148 -0.7118 -0.01272 -0.71111 -0.01064 C -0.71024 -0.00833 -0.70868 -0.00648 -0.70799 -0.00417 C -0.70365 0.00947 -0.70955 -0.000240000000000001 -0.7033 0.00855 C -0.69983 0.01942 -0.69618 0.02982 -0.69219 0.04023 C -0.69062 0.04416 -0.69062 0.04901 -0.68889 0.05294 C -0.68559 0.0608 -0.67708 0.07075 -0.67309 0.07606 C -0.66597 0.08554 -0.65972 0.09803 -0.65243 0.10774 C -0.64253 0.12092 -0.63125 0.13179 -0.62066 0.14381 C -0.60903 0.15722 -0.62344 0.14219 -0.61111 0.15861 C -0.60295 0.16947 -0.58889 0.18219 -0.57778 0.18612 C -0.57135 0.19745 -0.56771 0.19722 -0.55885 0.20508 C -0.55694 0.2067 -0.5559 0.20971 -0.55399 0.21132 C -0.54861 0.21572 -0.54115 0.21988 -0.5349 0.22196 C -0.51094 0.24624 -0.48993 0.24878 -0.46042 0.25364 C -0.44861 0.25872 -0.46458 0.25225 -0.44288 0.2578 C -0.4375 0.25919 -0.43246 0.26288 -0.42708 0.26427 C -0.40347 0.27075 -0.37951 0.27606 -0.35555 0.27907 C -0.3368 0.28531 -0.30608 0.28577 -0.28576 0.28739 C -0.29253 0.29017 -0.29687 0.29017 -0.30174 0.29595 C -0.30503 0.29988 -0.30799 0.3045 -0.31111 0.30867 C -0.31267 0.31075 -0.31389 0.31398 -0.31597 0.31491 C -0.32656 0.31953 -0.31371 0.31375 -0.32865 0.32138 C -0.33437 0.32439 -0.33976 0.33179 -0.34444 0.3341 C -0.34948 0.33664 -0.36042 0.33826 -0.36042 0.33826 C -0.39358 0.36046 -0.43212 0.3593 -0.46823 0.36138 C -0.46528 0.3771 -0.46927 0.36416 -0.46198 0.3741 C -0.46059 0.37595 -0.46042 0.37895 -0.45885 0.38057 C -0.45486 0.38497 -0.4493 0.38566 -0.44444 0.38682 C -0.43906 0.39051 -0.43437 0.39491 -0.42865 0.39745 C -0.425 0.40369 -0.42118 0.41017 -0.41753 0.41641 C -0.41545 0.41988 -0.41111 0.42705 -0.41111 0.42705 C -0.40816 0.43907 -0.40278 0.44624 -0.39375 0.44994 C -0.3875 0.45826 -0.38055 0.4652 -0.37309 0.47144 C -0.36892 0.47491 -0.36632 0.48092 -0.36198 0.48393 C -0.35903 0.48624 -0.35555 0.48693 -0.35243 0.48832 C -0.34878 0.49156 -0.34462 0.49317 -0.34132 0.49664 C -0.33941 0.49919 -0.33854 0.50265 -0.33663 0.50497 C -0.32743 0.51606 -0.32865 0.51167 -0.3191 0.51768 C -0.30694 0.52577 -0.29583 0.53641 -0.28281 0.54103 C -0.27153 0.55514 -0.28819 0.53572 -0.27465 0.54751 C -0.26319 0.55745 -0.27743 0.55098 -0.26354 0.55583 C -0.24653 0.57202 -0.25677 0.56439 -0.23194 0.57502 C -0.225 0.5778 -0.2191 0.58358 -0.21267 0.58774 C -0.21024 0.58913 -0.20746 0.5889 -0.20486 0.58959 C -0.19774 0.59468 -0.18976 0.59514 -0.18264 0.60046 C -0.17934 0.603 -0.17656 0.6067 -0.17309 0.60878 C -0.17066 0.61017 -0.16771 0.60994 -0.16528 0.61086 C -0.16042 0.61271 -0.15521 0.61387 -0.15087 0.61734 C -0.14826 0.61942 -0.14583 0.62242 -0.14305 0.62358 C -0.13889 0.6252 -0.13437 0.62497 -0.13021 0.62566 C -0.11094 0.63861 -0.12847 0.6289 -0.09375 0.63421 C -0.08472 0.6356 -0.07569 0.63907 -0.06667 0.64046 C -0.03299 0.65387 -0.00191 0.65919 0.03333 0.66173 C 0.04236 0.66312 0.05139 0.66358 0.06024 0.66589 C 0.0651 0.66705 0.07448 0.67213 0.07448 0.67213 E">
                                      <p:cBhvr>
                                        <p:cTn id="184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74200"/>
            <a:ext cx="8229960" cy="54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Вопрос к болельщикам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68360" y="1700280"/>
            <a:ext cx="8207280" cy="468144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Какие приметы волшебной сказ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 можете назват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ы болельщиков помогут участникам  команд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Franklin Gothic Medium Cond"/>
              </a:rPr>
              <a:t>Конкурс сочинителей сказки по заданному началу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6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хранилище волшебных предмет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7" descr="MCj04123680000[1]"/>
          <p:cNvPicPr/>
          <p:nvPr/>
        </p:nvPicPr>
        <p:blipFill>
          <a:blip r:embed="rId1"/>
          <a:stretch/>
        </p:blipFill>
        <p:spPr>
          <a:xfrm>
            <a:off x="826920" y="3716280"/>
            <a:ext cx="1283040" cy="1911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MCj04124260000[1]"/>
          <p:cNvPicPr/>
          <p:nvPr/>
        </p:nvPicPr>
        <p:blipFill>
          <a:blip r:embed="rId2"/>
          <a:stretch/>
        </p:blipFill>
        <p:spPr>
          <a:xfrm>
            <a:off x="5580000" y="4005360"/>
            <a:ext cx="1968480" cy="244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j0336075"/>
          <p:cNvPicPr/>
          <p:nvPr/>
        </p:nvPicPr>
        <p:blipFill>
          <a:blip r:embed="rId3"/>
          <a:stretch/>
        </p:blipFill>
        <p:spPr>
          <a:xfrm>
            <a:off x="4427640" y="1413000"/>
            <a:ext cx="1990800" cy="201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j0299587"/>
          <p:cNvPicPr/>
          <p:nvPr/>
        </p:nvPicPr>
        <p:blipFill>
          <a:blip r:embed="rId4"/>
          <a:stretch/>
        </p:blipFill>
        <p:spPr>
          <a:xfrm>
            <a:off x="3132000" y="3500280"/>
            <a:ext cx="1827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4:42:12Z</dcterms:created>
  <dc:creator>2ST4</dc:creator>
  <dc:description/>
  <dc:language>en-US</dc:language>
  <cp:lastModifiedBy>User</cp:lastModifiedBy>
  <dcterms:modified xsi:type="dcterms:W3CDTF">2013-01-24T14:08:38Z</dcterms:modified>
  <cp:revision>8</cp:revision>
  <dc:subject/>
  <dc:title>Слайд 1</dc:title>
</cp:coreProperties>
</file>