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D6C-663B-42FB-B3D4-DAF4317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D8A-F97B-4AD3-8F27-FB0D4CF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3EB-16FB-4450-8CFD-B5DE8FAA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7A6-F760-4226-98DA-2E55F9DD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A6FC-0884-4542-B0CD-5C8C758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6895-67E6-4ACE-A1A0-90247A57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5ED2-AE9B-49C5-9851-91C4FFE6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DCF-D4DF-497F-B748-8B9AAD90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010-A914-436E-BAB4-28D4BAB7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B5A-7C85-4ED2-A8E3-C77ED4A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5B04-F0CF-4413-B72A-B22E78B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ED9-8B7D-41D3-AFFE-992B86D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BBB-B146-4B44-9E45-41769AB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DF13-E991-4035-8B0E-BB23531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5ED3-4C69-46FD-A72F-A6E137F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000-2554-4E83-9FB7-955A9EA5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D9A1-0BB7-42BB-8AA1-55A09ADC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471-E3E5-4385-B4EF-826FDF78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588-379B-43C5-A3A8-CCCC0E4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719-E878-4913-A42E-BC7B4CC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6D9-0B9C-481A-99D8-A585D753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BE6-EA83-48C9-96A5-34C2A7D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7EC-E841-4354-816C-F97EBD2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378-FEF0-4883-AF90-A03271E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prstGeom prst="pie">
            <a:avLst/>
          </a:pr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26E-FD5E-4206-9C68-81AC52F8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prstGeom prst="pie">
            <a:avLst/>
          </a:pr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35A-1EC8-415F-80E9-994FDAAD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013600" cy="19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3333cc"/>
                </a:solidFill>
                <a:latin typeface="Monotype Corsiva"/>
              </a:rPr>
              <a:t>«Непосредственная образовательная деятельность в ДОУ»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Picture 3" descr="Untitled-1"/>
          <p:cNvPicPr/>
          <p:nvPr/>
        </p:nvPicPr>
        <p:blipFill>
          <a:blip r:embed="rId1"/>
          <a:stretch/>
        </p:blipFill>
        <p:spPr>
          <a:xfrm>
            <a:off x="395280" y="4653000"/>
            <a:ext cx="14223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0" y="260280"/>
            <a:ext cx="8820000" cy="112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484280"/>
          <a:ext cx="9144000" cy="5322960"/>
        </p:xfrm>
        <a:graphic>
          <a:graphicData uri="http://schemas.openxmlformats.org/drawingml/2006/table">
            <a:tbl>
              <a:tblPr/>
              <a:tblGrid>
                <a:gridCol w="4567320"/>
                <a:gridCol w="45766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оцесс обучения в детском сад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учеб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организацию детски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Ребенок – объект формирующих педагогических воздействий взрослого человека. Взрослый – главный. Он руководит и управляет ребенк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Ребенок и взрослый – оба субъекты взаимодействия. Они равны по значимости. Каждый в равной степени ценен. Хотя взрослый, конечно, и старше, и опытне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Активность взрослого выше, чем активность ребенка, в том числе и речевая (взрослый «много» говорит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сновная деятельность – учебная. Главный результат учебной деятельности – решение какой-либо учебной задачи, поставленной перед детьми взрослым. Цель – знания, умения и навыки детей. Активность детей нужна для достижения этой цел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сновная деятельность – это так называемые детские виды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- подлинная активность (деятельность) детей, а освоение знаний, умений и навыков – побочный эффект этой акти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260280"/>
          <a:ext cx="8604000" cy="6041880"/>
        </p:xfrm>
        <a:graphic>
          <a:graphicData uri="http://schemas.openxmlformats.org/drawingml/2006/table">
            <a:tbl>
              <a:tblPr/>
              <a:tblGrid>
                <a:gridCol w="4303440"/>
                <a:gridCol w="43005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сновная модель организации образовательного процесса – учебн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сновная модель организации образовательного процесса – совместная деятельность взрослого и реб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сновная форма работы с детьми -  занят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сновные формы работы с детьми – рассматривание, наблюдения, беседы, разговоры, экспериментирование исследования, коллекционирование, чтение, реализация проектов, мастерская и т.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Применяются в основном так называемые прямые методы обучения (при частом использовании опосредованны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Мотивы обучения на занятии, как правило, не связаны с интересом детей к самой учебной деятельности. «Удерживает»  детей на занятии авторитет взрослого. Именно поэтому педагогам зачастую приходится «Украшать» занятие наглядностью, игровыми приемами, персонажами, чтобы облечь учебный процесс в привлекательную для дошкольников форму. Но ведь «подлинная цель взрослого вовсе не поиграть, а использовать игрушку для мотивации освоения непривлекательных для детей предметных знаний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549360"/>
          <a:ext cx="8686800" cy="5315040"/>
        </p:xfrm>
        <a:graphic>
          <a:graphicData uri="http://schemas.openxmlformats.org/drawingml/2006/table">
            <a:tbl>
              <a:tblPr/>
              <a:tblGrid>
                <a:gridCol w="4344840"/>
                <a:gridCol w="4341960"/>
              </a:tblGrid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Все дети обязательно должны присутствовать на занят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Допускаются так называемые свободные «вход» и «выход» детей, что вовсе не предполагает провозглашения анархии в детском саду. Уважая ребенка, его состояние, настроение, предпочтение и интересы, взрослый обязан предоставить ему возможность выбора –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25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Образовательный процесс в значительной степени регламентирован. Главное для взрослого – двигаться по заранее намеченному плану, программе. Педагог часто опирается на подготовленный конспект занятия, в котором расписаны реплики и вопросы взрослого, ответы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Образовательный процесс предполагает внесение изменений (корректив) в планы, программы с учетом потребностей и интересов детей, конспекты могут ис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«готовый образец» образовательного процесс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981000"/>
            <a:ext cx="6553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лизация занятия как дидактической формы учебной деятельности возможно только в старшем дошкольном возрасте, 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дготовительной групп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где осуществляется подготовка детей к основной форме обучения в школе занятию-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34120" y="3390840"/>
            <a:ext cx="38098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4" descr="D:\нина картинки\Картинки из презентаций\Рисунок1ddd.gif"/>
          <p:cNvPicPr/>
          <p:nvPr/>
        </p:nvPicPr>
        <p:blipFill>
          <a:blip r:embed="rId1"/>
          <a:stretch/>
        </p:blipFill>
        <p:spPr>
          <a:xfrm>
            <a:off x="1619280" y="2286000"/>
            <a:ext cx="285732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95640" y="0"/>
            <a:ext cx="6443640" cy="2303640"/>
          </a:xfrm>
          <a:prstGeom prst="cloudCallout">
            <a:avLst>
              <a:gd name="adj1" fmla="val -26717"/>
              <a:gd name="adj2" fmla="val 10534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то такое личностно-ориентированное обуч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39640" y="907920"/>
            <a:ext cx="8135640" cy="5038560"/>
            <a:chOff x="539640" y="907920"/>
            <a:chExt cx="8135640" cy="5038560"/>
          </a:xfrm>
        </p:grpSpPr>
        <p:sp>
          <p:nvSpPr>
            <p:cNvPr id="195" name="AutoShape 3"/>
            <p:cNvSpPr/>
            <p:nvPr/>
          </p:nvSpPr>
          <p:spPr>
            <a:xfrm>
              <a:off x="558360" y="907920"/>
              <a:ext cx="8101440" cy="486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539640" y="1080720"/>
              <a:ext cx="8135640" cy="48657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4320" y="134028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Опора на субъективный опыт ребенк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320" y="2275560"/>
            <a:ext cx="59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Знание психофизических особеннос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8480" y="335664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В роли равноправных партне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cb1fe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b1fe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d02a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d02a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Примерные формы организации непосредственной образовательной деятельности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00000" y="1628640"/>
          <a:ext cx="8064720" cy="4824720"/>
        </p:xfrm>
        <a:graphic>
          <a:graphicData uri="http://schemas.openxmlformats.org/drawingml/2006/table">
            <a:tbl>
              <a:tblPr/>
              <a:tblGrid>
                <a:gridCol w="2768760"/>
                <a:gridCol w="529596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ская деятельност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форм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Двигательная</a:t>
                      </a: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одвижные игры с правилами. Подвижные дидактические игры. Игровые упражнения. Соревнования. Игровые ситуации. Досуг. Ритмика. Аэробика, детский фитнес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Игро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южетные игры. Игры с правилами. Создание игровых ситуаций по режимным моментам, с использованием литературного произведения. Игры с речевым сопровождением. Пальчиковые игры. Театрализованные игр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одуктив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Мастерская по изготовлению продуктов детского творчества. Реализация проектов. Создание творческой группы. Детский дизайн. Опытно-экспериментальная деятельность. Выставки. Мини – музе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5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Чтение художественной литерату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Чтение. Обсуждение. Заучивание, рассказывание. Беседа. Театрализованная деятельность. Самостоятельная художественная речевая деятельность. Викторина. КВН. Вопросы и ответы. Презентация книжек. Выставки в книжном уголке. Литературные праздники, досуг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539640" y="692280"/>
          <a:ext cx="8147160" cy="5761080"/>
        </p:xfrm>
        <a:graphic>
          <a:graphicData uri="http://schemas.openxmlformats.org/drawingml/2006/table">
            <a:tbl>
              <a:tblPr/>
              <a:tblGrid>
                <a:gridCol w="3475080"/>
                <a:gridCol w="4672080"/>
              </a:tblGrid>
              <a:tr h="19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Наблюдение. Экскурсия. Решение проблемных ситуаций. Экспериментирование. Коллекционирование. Моделирование. Исследование. Реализация проекта. Игры (сюжетные, с правилами). Интеллектуальные игры (головоломки, викторины, задачи-шутки, ребусы, кроссворды, шарады). Мини-музеи. Конструирован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Беседа. Ситуативный разговор. Речевая ситуация. Составление и отгадывание загадок. Игры (сюжетные, с правилами, театрализованные). Игровые ситуации. Этюды и постанов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рудов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Дежурство. Поручения. Задания. Самообслуживание. Совместные действия. Экскурс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58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324000" y="1413000"/>
            <a:ext cx="8353080" cy="4320000"/>
            <a:chOff x="324000" y="1413000"/>
            <a:chExt cx="8353080" cy="4320000"/>
          </a:xfrm>
        </p:grpSpPr>
        <p:sp>
          <p:nvSpPr>
            <p:cNvPr id="206" name="AutoShape 3"/>
            <p:cNvSpPr/>
            <p:nvPr/>
          </p:nvSpPr>
          <p:spPr>
            <a:xfrm>
              <a:off x="343440" y="1413000"/>
              <a:ext cx="8318160" cy="41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"/>
            <p:cNvSpPr/>
            <p:nvPr/>
          </p:nvSpPr>
          <p:spPr>
            <a:xfrm>
              <a:off x="324000" y="1561320"/>
              <a:ext cx="8353080" cy="4171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684360" y="1773360"/>
            <a:ext cx="82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2060640"/>
            <a:ext cx="78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Технологическая кар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 это описание процесса в виде пошаговой, поэтапной последовательности действий с указанием примерных средст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179280" y="1413000"/>
            <a:ext cx="8353080" cy="4678560"/>
            <a:chOff x="179280" y="1413000"/>
            <a:chExt cx="8353080" cy="4678560"/>
          </a:xfrm>
        </p:grpSpPr>
        <p:sp>
          <p:nvSpPr>
            <p:cNvPr id="211" name="AutoShape 3"/>
            <p:cNvSpPr/>
            <p:nvPr/>
          </p:nvSpPr>
          <p:spPr>
            <a:xfrm>
              <a:off x="198720" y="1413000"/>
              <a:ext cx="8318160" cy="451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"/>
            <p:cNvSpPr/>
            <p:nvPr/>
          </p:nvSpPr>
          <p:spPr>
            <a:xfrm>
              <a:off x="179280" y="1573560"/>
              <a:ext cx="8353080" cy="451800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68680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ядок конструирования технологической карты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95280" y="1413000"/>
            <a:ext cx="8209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Постановка цели непосредственно образовательной деятельности  (далее НОД), определение темы и конечного резуль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Формулирование зад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Определение этапов НОД, их целей и промежуточных результа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Выбор методов, приёмов и форм организации деятельности воспитанников в соответствии с поставленными целями и задач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Определение и отражение в технологической карте направлений работы, свойственных данной технологии, методике, програм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Наполнение содержанием, подбор матери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 Примерный хронометраж Н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1413000"/>
            <a:ext cx="9143640" cy="5038560"/>
            <a:chOff x="0" y="1413000"/>
            <a:chExt cx="9143640" cy="5038560"/>
          </a:xfrm>
        </p:grpSpPr>
        <p:sp>
          <p:nvSpPr>
            <p:cNvPr id="142" name="AutoShape 3"/>
            <p:cNvSpPr/>
            <p:nvPr/>
          </p:nvSpPr>
          <p:spPr>
            <a:xfrm>
              <a:off x="21240" y="1413000"/>
              <a:ext cx="9105120" cy="486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0" y="1585800"/>
              <a:ext cx="9143640" cy="48657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Модель организации образовательного процесса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5" name="Picture 3" descr="Untitled-1"/>
          <p:cNvPicPr/>
          <p:nvPr/>
        </p:nvPicPr>
        <p:blipFill>
          <a:blip r:embed="rId1"/>
          <a:stretch/>
        </p:blipFill>
        <p:spPr>
          <a:xfrm>
            <a:off x="324000" y="4581360"/>
            <a:ext cx="1422360" cy="85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1555560"/>
            <a:ext cx="835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ведение занятий (в соответствии с расписанием, на которых решались образовательные задачи, сформулированные в комплексных программах по разделам - методика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шение образовательных задач и формирование у детей навыков и умений в ходе режимны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ментов (утренний прием, прогулка, подготовка ко сну,      питание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репление полученных детьми знаний и умений в индивидуальной работе и самостоя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527280" y="981000"/>
            <a:ext cx="5616720" cy="5616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496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за внимание!</a:t>
            </a: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7" name="Picture 3" descr="Untitled-1"/>
          <p:cNvPicPr/>
          <p:nvPr/>
        </p:nvPicPr>
        <p:blipFill>
          <a:blip r:embed="rId2"/>
          <a:stretch/>
        </p:blipFill>
        <p:spPr>
          <a:xfrm>
            <a:off x="250920" y="4365720"/>
            <a:ext cx="1422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риказ Министерства образования и науки РФ №655 от  23 ноября 2009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Рисунок 9" descr="шапка приказа.JPG"/>
          <p:cNvPicPr/>
          <p:nvPr/>
        </p:nvPicPr>
        <p:blipFill>
          <a:blip r:embed="rId1"/>
          <a:stretch/>
        </p:blipFill>
        <p:spPr>
          <a:xfrm>
            <a:off x="684360" y="1197000"/>
            <a:ext cx="770400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539640" y="1413000"/>
            <a:ext cx="7704000" cy="5038560"/>
            <a:chOff x="539640" y="1413000"/>
            <a:chExt cx="7704000" cy="5038560"/>
          </a:xfrm>
        </p:grpSpPr>
        <p:sp>
          <p:nvSpPr>
            <p:cNvPr id="150" name="AutoShape 3"/>
            <p:cNvSpPr/>
            <p:nvPr/>
          </p:nvSpPr>
          <p:spPr>
            <a:xfrm>
              <a:off x="557640" y="1413000"/>
              <a:ext cx="7671600" cy="486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>
              <a:off x="539640" y="1585800"/>
              <a:ext cx="7704000" cy="48657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3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Новые представления о содержании и организации дошкольного образования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103400"/>
            <a:ext cx="64803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Vivaldi"/>
              </a:rPr>
              <a:t>если  раньше в большинстве комплексных программ были разделы, которые соответствовали определённым учебным дисциплинам или предметам, то теперь речь идёт о </a:t>
            </a:r>
            <a:r>
              <a:rPr b="1" lang="en-US" sz="2500" spc="-1" strike="noStrike">
                <a:solidFill>
                  <a:srgbClr val="000000"/>
                </a:solidFill>
                <a:latin typeface="Vivaldi"/>
              </a:rPr>
              <a:t>совокупности образовательных областей: </a:t>
            </a:r>
            <a:r>
              <a:rPr b="0" lang="en-US" sz="2500" spc="-1" strike="noStrike">
                <a:solidFill>
                  <a:srgbClr val="000000"/>
                </a:solidFill>
                <a:latin typeface="Vivaldi"/>
              </a:rPr>
              <a:t>«Физическая культура», «Здоровье», «Безопасность», «Социализация, «Труд», «Познание», «Коммуникация», «Чтение художественной литературы», «Художественное творчество», «Музыка»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539640" y="1484280"/>
            <a:ext cx="8280000" cy="4391280"/>
            <a:chOff x="539640" y="1484280"/>
            <a:chExt cx="8280000" cy="4391280"/>
          </a:xfrm>
        </p:grpSpPr>
        <p:sp>
          <p:nvSpPr>
            <p:cNvPr id="155" name="AutoShape 3"/>
            <p:cNvSpPr/>
            <p:nvPr/>
          </p:nvSpPr>
          <p:spPr>
            <a:xfrm>
              <a:off x="558720" y="1484280"/>
              <a:ext cx="8245080" cy="424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>
              <a:off x="539640" y="1634760"/>
              <a:ext cx="8280000" cy="424080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25080"/>
            <a:ext cx="88930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Новые представления о содержании и организации дошкольного образования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39640" y="1355760"/>
            <a:ext cx="792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0901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цент со знаний, умений и навыков переносится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ирование общей культу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развитие «качеств, формирование предпосылок учебной деятельности, обеспечивающих социальную успешность» и т.п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395280" y="1197000"/>
            <a:ext cx="8064000" cy="5109840"/>
            <a:chOff x="395280" y="1197000"/>
            <a:chExt cx="8064000" cy="5109840"/>
          </a:xfrm>
        </p:grpSpPr>
        <p:sp>
          <p:nvSpPr>
            <p:cNvPr id="161" name="AutoShape 3"/>
            <p:cNvSpPr/>
            <p:nvPr/>
          </p:nvSpPr>
          <p:spPr>
            <a:xfrm>
              <a:off x="414000" y="1197000"/>
              <a:ext cx="8030160" cy="493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"/>
            <p:cNvSpPr/>
            <p:nvPr/>
          </p:nvSpPr>
          <p:spPr>
            <a:xfrm>
              <a:off x="395280" y="1372320"/>
              <a:ext cx="8064000" cy="493452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Новые представления о содержании и организации дошкольного образования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586520"/>
            <a:ext cx="70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решать поставленные цели и задачи предлаг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максимально приближаясь к разумному «минимуму», т.е. не за счёт «раздувания» сетки занятий, а с помощью построения  образовательного процесса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лексно-тематическом принцип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 учёт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ципа интегра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мест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зрослого и детей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й деятельности де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смещён акцент с занят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Monotype Corsiva"/>
              </a:rPr>
              <a:t>Новая модель организации образовательного процесса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"/>
          <p:cNvGrpSpPr/>
          <p:nvPr/>
        </p:nvGrpSpPr>
        <p:grpSpPr>
          <a:xfrm>
            <a:off x="324000" y="1484280"/>
            <a:ext cx="8351280" cy="5038560"/>
            <a:chOff x="324000" y="1484280"/>
            <a:chExt cx="8351280" cy="5038560"/>
          </a:xfrm>
        </p:grpSpPr>
        <p:sp>
          <p:nvSpPr>
            <p:cNvPr id="168" name="AutoShape 3"/>
            <p:cNvSpPr/>
            <p:nvPr/>
          </p:nvSpPr>
          <p:spPr>
            <a:xfrm>
              <a:off x="343440" y="1484280"/>
              <a:ext cx="8316360" cy="486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4"/>
            <p:cNvSpPr/>
            <p:nvPr/>
          </p:nvSpPr>
          <p:spPr>
            <a:xfrm>
              <a:off x="324000" y="1657080"/>
              <a:ext cx="8351280" cy="48657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4360" y="1713600"/>
            <a:ext cx="74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взрослого и детей (непосредственно образо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и режимные момен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539640" y="1413000"/>
            <a:ext cx="8135640" cy="5038560"/>
            <a:chOff x="539640" y="1413000"/>
            <a:chExt cx="8135640" cy="5038560"/>
          </a:xfrm>
        </p:grpSpPr>
        <p:sp>
          <p:nvSpPr>
            <p:cNvPr id="172" name="AutoShape 3"/>
            <p:cNvSpPr/>
            <p:nvPr/>
          </p:nvSpPr>
          <p:spPr>
            <a:xfrm>
              <a:off x="558360" y="1413000"/>
              <a:ext cx="8101440" cy="486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"/>
            <p:cNvSpPr/>
            <p:nvPr/>
          </p:nvSpPr>
          <p:spPr>
            <a:xfrm>
              <a:off x="539640" y="1585800"/>
              <a:ext cx="8135640" cy="48657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Основные тезисы организации партнерской деятельности взрослого с детьми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39640" y="126828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2060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80480"/>
            <a:ext cx="763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ключенность воспитателя в деятельность наравне с деть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добровольное присоединение дошкольников к деятельности (без психического и дисциплинарного принужд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свободное общение и перемещение детей во время деятельности (при соответствии организации рабочего пространст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открытый временной конец деятельности (каждый работает в своем темп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395280" y="1197000"/>
            <a:ext cx="8064000" cy="5109840"/>
            <a:chOff x="395280" y="1197000"/>
            <a:chExt cx="8064000" cy="5109840"/>
          </a:xfrm>
        </p:grpSpPr>
        <p:sp>
          <p:nvSpPr>
            <p:cNvPr id="179" name="AutoShape 3"/>
            <p:cNvSpPr/>
            <p:nvPr/>
          </p:nvSpPr>
          <p:spPr>
            <a:xfrm>
              <a:off x="414000" y="1197000"/>
              <a:ext cx="8030160" cy="493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"/>
            <p:cNvSpPr/>
            <p:nvPr/>
          </p:nvSpPr>
          <p:spPr>
            <a:xfrm>
              <a:off x="395280" y="1372320"/>
              <a:ext cx="8064000" cy="493452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971640" y="1341360"/>
          <a:ext cx="7056360" cy="4778280"/>
        </p:xfrm>
        <a:graphic>
          <a:graphicData uri="http://schemas.openxmlformats.org/drawingml/2006/table">
            <a:tbl>
              <a:tblPr/>
              <a:tblGrid>
                <a:gridCol w="6930360"/>
                <a:gridCol w="126000"/>
              </a:tblGrid>
              <a:tr h="45748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Занятие</a:t>
                      </a:r>
                      <a:r>
                        <a:rPr b="1" i="1" lang="en-US" sz="4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занимательное дело, которое основано на одной из специфических детских деятельностей (или нескольких таких деятельностях – интеграции различных детских деятельностей), осуществляемых совместно со взрослым, и направлено на освоение детьми одной или нескольких образовательных областей (интеграция содержания образовательных областе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7:31:18Z</dcterms:created>
  <dc:creator>katya</dc:creator>
  <dc:description/>
  <dc:language>en-US</dc:language>
  <cp:lastModifiedBy>User</cp:lastModifiedBy>
  <dcterms:modified xsi:type="dcterms:W3CDTF">2012-10-24T10:27:15Z</dcterms:modified>
  <cp:revision>2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