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106-8ADD-42A4-A6D8-1070B8B2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EEF-C0B5-43B2-A73D-CA7CB83F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C47-9B6A-41CE-B388-BD27024B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5F5-A0B7-4531-AA84-36FF1771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6FD-AD0F-4750-8EB4-48B3E03C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D1B-0083-4A43-A865-B64CC8F3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31E-213D-412E-A66C-B6762D7F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344-480C-4A57-8D9C-1EE0046E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F08-B3CE-4114-8B99-5EDD9A8B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430-8561-4134-A3DF-9451BBA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F5C-12E2-45D3-AD12-AF9BADF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CE9-B665-402D-9C6D-C58F686E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1D43-F2D4-4FB6-8346-B83EB6B5A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01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азднования русского сельского праздника «Каравон» женщины одевали красивые платья и нарядные фартуки, мужчины надевали расшитые рубахи. Головы женщин и мужчин украшали венки, сплетенные из полевых цве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92200" y="314172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41864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95280" y="536400"/>
            <a:ext cx="4135320" cy="325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4176720" cy="3247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611280" y="4005360"/>
            <a:ext cx="35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же устраивают конкурсы для девушек, например – кто быстрее и лучше нарежет лапшу, кто больше воды принес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439560" y="1844640"/>
            <a:ext cx="4691160" cy="3168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471600" y="5013360"/>
            <a:ext cx="839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68360" y="5157720"/>
            <a:ext cx="820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но шли конкурсы частушек и народных танцев, соревнования по боксу, показательные выступления картингистов. На хороводной поляне не только водили традиционный «каравон», но и играли в старинные и почти забытые игры, издавна объединявшие деревенскую молоде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826920" y="213660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изучения данной темы я использовала научно-популярную и художественную литературу, электронные источники информации. С помощью родителей я изготовила татарский женский национальный костюм, попыталась приготовить национальные татарские блюда – чак-чак, талкэш калэв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468360" y="144468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ав вам про праздник татарского народа Сабантуй и русского народа Каравон, я сделала вывод, что моя гипотеза не подтвердилась. Эти два праздника имеют тысячелетнюю историю и существовали параллельно друг другу. Однако, татарский праздник Сабантуй продолжил свое существование до настоящего времени и даже был возведен в ранг государственного праздника. А праздник русского народа Каравон потерял свое значение и празднуется лишь в некоторых районах сельской местности. В тоже время, некоторые состязания татарского праздника Сабантуй используются в различных русских праздни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47280" y="2060640"/>
            <a:ext cx="626436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лагодари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e43aafd5"/>
          <p:cNvPicPr/>
          <p:nvPr/>
        </p:nvPicPr>
        <p:blipFill>
          <a:blip r:embed="rId1"/>
          <a:stretch/>
        </p:blipFill>
        <p:spPr>
          <a:xfrm>
            <a:off x="468360" y="309600"/>
            <a:ext cx="8136000" cy="54244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324000" y="566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празднике «Сабантуй» всех гостей встречают с хлебом, солью, с национальными татарскими блюдам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ак-чак, талкэш калэв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_14e9e_9a49ef54_orig"/>
          <p:cNvPicPr/>
          <p:nvPr/>
        </p:nvPicPr>
        <p:blipFill>
          <a:blip r:embed="rId1"/>
          <a:stretch/>
        </p:blipFill>
        <p:spPr>
          <a:xfrm>
            <a:off x="4697280" y="404640"/>
            <a:ext cx="2413080" cy="360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_14e9f_916cfb8a_orig"/>
          <p:cNvPicPr/>
          <p:nvPr/>
        </p:nvPicPr>
        <p:blipFill>
          <a:blip r:embed="rId2"/>
          <a:stretch/>
        </p:blipFill>
        <p:spPr>
          <a:xfrm>
            <a:off x="6443640" y="2033640"/>
            <a:ext cx="241308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0_14eaa_345f20f3_orig"/>
          <p:cNvPicPr/>
          <p:nvPr/>
        </p:nvPicPr>
        <p:blipFill>
          <a:blip r:embed="rId3"/>
          <a:stretch/>
        </p:blipFill>
        <p:spPr>
          <a:xfrm>
            <a:off x="2411280" y="2033640"/>
            <a:ext cx="241164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_14ea9_59168320_orig"/>
          <p:cNvPicPr/>
          <p:nvPr/>
        </p:nvPicPr>
        <p:blipFill>
          <a:blip r:embed="rId4"/>
          <a:stretch/>
        </p:blipFill>
        <p:spPr>
          <a:xfrm>
            <a:off x="395280" y="476280"/>
            <a:ext cx="240660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25280" y="5950080"/>
            <a:ext cx="873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азднике «Сабантуй» проводятся различные состяз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_14eaf_59d474e7_orig"/>
          <p:cNvPicPr/>
          <p:nvPr/>
        </p:nvPicPr>
        <p:blipFill>
          <a:blip r:embed="rId1"/>
          <a:stretch/>
        </p:blipFill>
        <p:spPr>
          <a:xfrm>
            <a:off x="539640" y="404640"/>
            <a:ext cx="381960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539640" y="6093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лые пытаются определить, кто из них сильнее и перетянет канат с соперник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8163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_14eab_4dc4c080_orig"/>
          <p:cNvPicPr/>
          <p:nvPr/>
        </p:nvPicPr>
        <p:blipFill>
          <a:blip r:embed="rId1"/>
          <a:stretch/>
        </p:blipFill>
        <p:spPr>
          <a:xfrm>
            <a:off x="539640" y="620640"/>
            <a:ext cx="4896000" cy="32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0_14eac_a886797d_orig"/>
          <p:cNvPicPr/>
          <p:nvPr/>
        </p:nvPicPr>
        <p:blipFill>
          <a:blip r:embed="rId2"/>
          <a:stretch/>
        </p:blipFill>
        <p:spPr>
          <a:xfrm>
            <a:off x="3995640" y="3284640"/>
            <a:ext cx="4683240" cy="3132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5724360" y="606600"/>
            <a:ext cx="30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на майдане, начинается главное состязание – «курэш» – татарский национальный вид борь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324000" y="4365720"/>
            <a:ext cx="33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беды в «курэш» требуется немало силы, хитрости и лов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_e097_e50b5d92_orig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04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_e09d_f2187341_orig"/>
          <p:cNvPicPr/>
          <p:nvPr/>
        </p:nvPicPr>
        <p:blipFill>
          <a:blip r:embed="rId2"/>
          <a:stretch/>
        </p:blipFill>
        <p:spPr>
          <a:xfrm>
            <a:off x="3635280" y="476280"/>
            <a:ext cx="2044800" cy="304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0_e09b_288d3516_orig"/>
          <p:cNvPicPr/>
          <p:nvPr/>
        </p:nvPicPr>
        <p:blipFill>
          <a:blip r:embed="rId3"/>
          <a:stretch/>
        </p:blipFill>
        <p:spPr>
          <a:xfrm>
            <a:off x="415800" y="1628640"/>
            <a:ext cx="3048120" cy="20336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684360" y="4105440"/>
            <a:ext cx="823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ватка происходит по строгим правилам: противники  обматывают друг друга широкими поясами, задача заключается в том, чтобы подвесить противника на своем кушаке в воздухе, а затем положить его на лопа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_14e9b_6f04fcb9_orig"/>
          <p:cNvPicPr/>
          <p:nvPr/>
        </p:nvPicPr>
        <p:blipFill>
          <a:blip r:embed="rId1"/>
          <a:stretch/>
        </p:blipFill>
        <p:spPr>
          <a:xfrm>
            <a:off x="3924360" y="3284640"/>
            <a:ext cx="4751280" cy="3178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44e68492"/>
          <p:cNvPicPr/>
          <p:nvPr/>
        </p:nvPicPr>
        <p:blipFill>
          <a:blip r:embed="rId2"/>
          <a:stretch/>
        </p:blipFill>
        <p:spPr>
          <a:xfrm>
            <a:off x="539640" y="476280"/>
            <a:ext cx="4778640" cy="3186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5457960" y="500040"/>
            <a:ext cx="32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бой с мешками с сеном. Цель – выбить противника «из седл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642960" y="3703680"/>
            <a:ext cx="313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пытаются сбить друг друга с бревна эти удалые мужчины. Кто усидит на бревне, тот и победитель! Тому и при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_46eb8_a3158d9b_orig"/>
          <p:cNvPicPr/>
          <p:nvPr/>
        </p:nvPicPr>
        <p:blipFill>
          <a:blip r:embed="rId1"/>
          <a:stretch/>
        </p:blipFill>
        <p:spPr>
          <a:xfrm>
            <a:off x="539640" y="195120"/>
            <a:ext cx="382932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_14ea4_fdb6b052_orig"/>
          <p:cNvPicPr/>
          <p:nvPr/>
        </p:nvPicPr>
        <p:blipFill>
          <a:blip r:embed="rId2"/>
          <a:stretch/>
        </p:blipFill>
        <p:spPr>
          <a:xfrm>
            <a:off x="4859280" y="189000"/>
            <a:ext cx="382896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539640" y="5910120"/>
            <a:ext cx="81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рабканье по очень высокому гладкому столбу. Наверху, естественно, ждет пр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_e094_49ed793d_orig"/>
          <p:cNvPicPr/>
          <p:nvPr/>
        </p:nvPicPr>
        <p:blipFill>
          <a:blip r:embed="rId1"/>
          <a:stretch/>
        </p:blipFill>
        <p:spPr>
          <a:xfrm>
            <a:off x="660240" y="333360"/>
            <a:ext cx="3048120" cy="204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0_e096_9853e424_orig"/>
          <p:cNvPicPr/>
          <p:nvPr/>
        </p:nvPicPr>
        <p:blipFill>
          <a:blip r:embed="rId2"/>
          <a:stretch/>
        </p:blipFill>
        <p:spPr>
          <a:xfrm>
            <a:off x="5484960" y="4508640"/>
            <a:ext cx="3047760" cy="2044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0_e095_9c334cc1_orig"/>
          <p:cNvPicPr/>
          <p:nvPr/>
        </p:nvPicPr>
        <p:blipFill>
          <a:blip r:embed="rId3"/>
          <a:stretch/>
        </p:blipFill>
        <p:spPr>
          <a:xfrm>
            <a:off x="684360" y="4498920"/>
            <a:ext cx="3047760" cy="204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0_15c31_e948cb45_orig"/>
          <p:cNvPicPr/>
          <p:nvPr/>
        </p:nvPicPr>
        <p:blipFill>
          <a:blip r:embed="rId4"/>
          <a:stretch/>
        </p:blipFill>
        <p:spPr>
          <a:xfrm>
            <a:off x="6443640" y="476280"/>
            <a:ext cx="2124000" cy="2736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701640" y="3278160"/>
            <a:ext cx="78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е зрелищное состязание – это конные скачки. Вот они, резвые, несутся изо всех сил к заветному для наездника подарку – к красивому вышитому полотенц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7:39:16Z</dcterms:created>
  <dc:creator>Irina</dc:creator>
  <dc:description/>
  <dc:language>en-US</dc:language>
  <cp:lastModifiedBy>Ирина Рыбина</cp:lastModifiedBy>
  <dcterms:modified xsi:type="dcterms:W3CDTF">2013-01-24T08:27:02Z</dcterms:modified>
  <cp:revision>44</cp:revision>
  <dc:subject/>
  <dc:title>Слайд 1</dc:title>
</cp:coreProperties>
</file>