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32.jpeg" ContentType="image/jpeg"/>
  <Override PartName="/ppt/media/image9.wmf" ContentType="image/x-wmf"/>
  <Override PartName="/ppt/media/image1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1.wmf" ContentType="image/x-wmf"/>
  <Override PartName="/ppt/media/image17.jpeg" ContentType="image/jpeg"/>
  <Override PartName="/ppt/media/image25.jpeg" ContentType="image/jpeg"/>
  <Override PartName="/ppt/media/image10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gif" ContentType="image/gif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7.gif" ContentType="image/gif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6B7-A959-4BA1-8E86-3437C5BD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080-C58B-4498-B944-BE758075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C38-60BF-415C-9671-004BD9DF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6A3-9D9D-450F-A334-B9B5F164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295-DD49-48B0-BD03-FE381EAD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391-4330-4B87-BE76-A9B154DC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F13-FB61-410A-843A-47618C52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909-2FAA-4971-8C37-CFFAA723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7BE-2A8E-4B75-9FC7-8C6C797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53F-90F8-4BA9-A828-BCD67AE4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7D0-3D3A-49ED-B896-166A6205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798-5C4C-4734-9A1F-8631B34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CF7A-F2B8-4209-9346-F13E8A7C6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1484280"/>
            <a:ext cx="546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ВЫБИРАЕМ ЖИЗН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997360"/>
            <a:ext cx="518328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ция 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ет курени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 ноября в мире отметили Международный день отказа от ку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9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ЧЕМ ВРЕДНО КУРЕНИЕ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В первую очередь страдают органы дыхания. 98% смертей от рака гортани, 96% смертей от рака легких, 75% смертей от хронического бронхита и эмфиземы легких обусловлены кур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Легкие курильщика со стажем - черная, гниющая м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Не все знают, что 25% умерших от ишемической болезни сердца погубили себя курением. Кроме легких и гортани, сильнейший удар наносится по сердцу и сосудам. После каждой выкуренной сигареты увеличивается давление крови, повышается содержание в ней холестерина. Курение усиливает риск развития атеросклеротического заболевания периферических сосудов. Особенно часто у курящих людей страдают артерии ног. Из-за нарушения регуляции происходит устойчивый спазм сосу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И ещё никотин утяжеляет течение ряда болезне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630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49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49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9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9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4508640"/>
            <a:ext cx="3529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ёгочно-дыхательная система лёгкие курильщика через 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808360" cy="1846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64360" y="349992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ёгкие курильщика через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5 и 2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2425680" cy="1924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08720" y="4508640"/>
            <a:ext cx="2717640" cy="163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54">
                                  <p:stCondLst>
                                    <p:cond delay="1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нкологические заболевания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 ротовая пол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00000" y="2147760"/>
            <a:ext cx="2592360" cy="1657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2735280" cy="1758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971640" y="4354560"/>
            <a:ext cx="2592360" cy="1701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16360" y="4343400"/>
            <a:ext cx="2908440" cy="18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Воздействие курения на организм будущей матер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376360" cy="2360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2212920"/>
            <a:ext cx="5256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Стоит беременной женщине закурить, как никотин (сквозь плаценту) через несколько минут поступает в сердце и мозг неродившегося ребенка. Врачи утверждает, что курение беременных женщин может привести к дородовым травмам, преждевременным родам, пониженному весу новорожденных и чаще всего наступает прерывание беременности, недоношенного плода. Почти у каждой курящей женщины при беременности возникал тяжелый токсиоз, угрозы выкидыша увеличивалис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"Табачные" дети имели аномалии развития-лишние пальцы на руках, неправельный разрез глаз, низко посаженные уши, врожденный порок серд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34160" y="2788560"/>
            <a:ext cx="180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Девять месяцев заключения матери, гасившей сигареты об трехлетнего сына"/>
          <p:cNvPicPr/>
          <p:nvPr/>
        </p:nvPicPr>
        <p:blipFill>
          <a:blip r:embed="rId2"/>
          <a:stretch/>
        </p:blipFill>
        <p:spPr>
          <a:xfrm>
            <a:off x="6227640" y="4581360"/>
            <a:ext cx="2160720" cy="15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49">
                                  <p:stCondLst>
                                    <p:cond delay="2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оздействие курения на грудного реб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584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848b"/>
                </a:solidFill>
                <a:latin typeface="Arial"/>
              </a:rPr>
              <a:t>В семье, где курили родители, 67% мальчиков и 78% девочек тоже начинают ку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584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848b"/>
                </a:solidFill>
                <a:latin typeface="Arial"/>
              </a:rPr>
              <a:t>Если в семье курят два родителя, дети вдыхают такое количество никотина, как если бы они сами выкуривали 80 сигарет в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584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848b"/>
                </a:solidFill>
                <a:latin typeface="Arial"/>
              </a:rPr>
              <a:t>В литературе описан случай, когда в комнату, где лежал табак в связках в порошке, положили спать девочку и она через несколько часов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871720" cy="3489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88000" y="638172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49">
                                  <p:stCondLst>
                                    <p:cond delay="2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урение и подрос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59280" y="1341360"/>
            <a:ext cx="3268440" cy="2103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3716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одражая старшим, молодые люди преобщаются к курению, а со времен и сами становятся источником подражания для друг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Курение подростков в первую очередь сказывается на нервной и сердечно-сосудистой системах. В 12-15 лет они уже жалуются на отдышку при физической нагруз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8000" y="3789360"/>
            <a:ext cx="367164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урение отрицательно влияет на успеваемость шк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урение школьников замедляет их физическое и психическое  развит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49">
                                  <p:stCondLst>
                                    <p:cond delay="2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49">
                                  <p:stCondLst>
                                    <p:cond delay="2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ак бросить курить?</a:t>
            </a:r>
            <a:br>
              <a:rPr sz="2800"/>
            </a:b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!!!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ЭТО ОЧЕНЬ ВАЖНО, ЧТО ИМЕННО ВЫ САМИ РЕШИЛИ БРОСИТЬ КУРИТЬ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Arial"/>
              </a:rPr>
              <a:t>Нельзя бросать курить постепенно, необходимо бросать раз и на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cc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Arial"/>
              </a:rPr>
              <a:t>Официально признанных способов лечения табакокурения более сотни.</a:t>
            </a:r>
            <a:r>
              <a:rPr b="0" lang="ru-RU" sz="36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Arial"/>
              </a:rPr>
              <a:t>Существуют процедуры иглоукалывания, которые помогают избавиться от зависимости от ку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33"/>
                </a:solidFill>
                <a:latin typeface="Arial"/>
              </a:rPr>
              <a:t>Если дома захочется покурить, нужно прополоскать рот крепким заваренным чёрным чаем, это отобьёт желание кур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717640" cy="185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49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Влияние курения на окружающ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Курящий наносит большой вред не только своему здоровью, но и здоровью окружающих. Установлено, что примерно 2/3 дыма от сгоревшей сигареты попадает во внешнюю среду и загрязняет ее вредными веществами. Человек, который находится в течение часа в сильно накуренном помещении, получает такую же дозу ядовитых веществ, как и выкуривший 4 сигар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27280" y="3284640"/>
            <a:ext cx="3826080" cy="31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8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49">
                                  <p:stCondLst>
                                    <p:cond delay="1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3500280"/>
            <a:ext cx="81583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авайте жить здоровыми людьми и сохраним свою планету и себя!!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1341360"/>
            <a:ext cx="67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О том, что курить вредно, что «Минздрав предупреждает», – знают все. Но этого мало. Надо, чтобы каждый проникся убеждением, что не курить – намного лучше, приятнее, а главное, полезнее для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кур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0440" y="2301840"/>
            <a:ext cx="4041720" cy="2627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рение - это привычка. Курение это очень сильная привычка. Ничто не мешает человеку закурить очередную сигарету, и это все еще остается социально приемлемым во многих местах. Очень скоро курение становится заядлой привычкой. Средний курильщик делает около 200 затяжек в день. Это составляет примерно 6000 в месяц, 72 000 в год и свыше 2 000 000 затяжек у 45-летнего курильщика, который начал курить в возрасте 15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ля многих курильщиков курение становится частью своего Я, а такое внутреннее восприятие самого себя, иногда очень трудно измен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месте с тем, курение это более чем привычка. После проникновения сигаретного дыма в легкие никотин попадает в мозг уже через семь секун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икотин  повышает частоту пульса, кровоток, концентрацию сахара в крови, способствует более легкой возбудимости коры головного и среднего мозга, а также может оказать расслабляющее воздействие на периферические мышцы и снизить периферический кровоток. Важность никотина можно продемонстрировать с помощью следующих наблюдений: у недавно закуривших людей быстро устанавливаются свойственные им глубина затяжки табачного дыма, а также активный уровень никотина в крови; у заядлых курильщиков включается механизм регулирования уровня никотина в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66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95120" y="1142640"/>
            <a:ext cx="6248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рение приводит к развитию трех основных заболеваний с летальным исходом: рак легкого; хронический бронхит и эмфизема; коронарная болезнь. Hа примере нескольких стран, в которых курение стало массовой привычкой уже давно, было доказано, что табак является причиной смертности от рака легкого в 90% всех случаев, от бронхита и эмфиземы в 75% и от болезни сердца в примерно 25% всех случа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но 25% регулярных курильщиков сигарет умрет преждевременно по причине курения. Многие из этого числа смогли бы прожить на 10, 20 или 30 лет дольше, т.е. в данном случае средняя потеря лет жизни является существенной. Умершие вследствие курения в среднем потеряют 10-15 лет своей жи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дной европейской стране (с населением примерно в 50 млн. человек ) число умерших вследствие курения эквивалентно числу погибших в результате авиакатастроф реактивных лайнеров большой вместимости. И после всего этого тратить время, силы и деньги на выращивание и переработку растения, специально предназначенного для получения и вдыхания дыма! Не безумие ли это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табак был причиной несметного множества пожаров, автомобильных катастроф и многих других несчастных случаев, когда человек на секунду отвлекался, чтобы закур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табачные плантации занимают во всем мире огромные площади, столь необходимые для выращивания продуктов пит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при курении появляется заметный запах изо рта, воспаляется горло, краснеют гла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че говоря, есть очень много доводов за то, чтобы человек не курил. И все же примерно за 350 лет, прошедших после появления табака в Старом Свете, он распространяется все больше и больш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59092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307692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урение - не безобидное занятие, которое можно бросить без усилий. Это настоящая наркомания, и тем более опасная, что многие не принимают всерье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икотин - один из самых опасных ядов растительного происхождения. Птицы (воробьи, голуби) погибают, если к их клюву всего лишь поднести стеклянную палочку, смоченную никотином. Кролик погибает от 1/4 капли никотина, собака - от 1/2 капли. Для человека смертельная доза никотина составляет от 50 до 100 мг, или 2-3 кап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Губительная Сигаре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9">
                                  <p:stCondLst>
                                    <p:cond delay="1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343400" cy="3276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257440" y="167616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ав сигар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Стат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сии курят 70,5% мужчин, а среди старшеклассников в крупных городах не обходятся без сигареты 30-47% юношей и 25-32% девушек. Ежегодно в России выкуривается 25 млрд сигар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курильщик делает около 200 затяжек в день. Это составляет примерно 6000 в месяц, 72 000 в год и свыше 2 000 000 затяжек у 45-летнего курильщика, который начал курить в возрасте 15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76360" y="3860640"/>
            <a:ext cx="554508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9">
                                  <p:stCondLst>
                                    <p:cond delay="1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58920" y="18900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Что заставляет подростков кур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1341360"/>
            <a:ext cx="34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168720" cy="4321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0" y="134100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оссия считается одной из самых курящих стран мира. По данным ВОЗ, распространенность курения считается высокой, если в стране курят более 50% населения, в России этот показатель достигает 75% среди мужчин и 40% среди женщ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ак показывает статистика, большинство россиян пробует первую сигарету будучи в третьем классе, то есть, в возрасте 9-10 лет, а к моменту окончания школы почти 30% выпускников являются курильщи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 многих странах, где ведется активная борьба с курением, число курильщиков-мужчин сокращается, поэтому табачные компании ориентируются на женщин и подростков. Их процент возрастает за счёт "тонких красивых сигарет и активной работы с подрастающим поколением".Курение    вызывает заболевания дыхательной и сердечно-сосудистой систем, нарушает обмен веществ и достаточно часто становится причиной онкологических заболева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м не менее, на данный момент не существует 100% метода лечения табачной зависимости, поэтому заядлым курильщикам следует избавляться от вредной привычки только под наблюдением вра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49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765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умывался ли ты о последствиях ку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62064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ли ты бросить курить без дополнительной помощ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3933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овал ли ты наркотические сред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93372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710160" cy="237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327996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132000" y="450864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9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Лёгкие курильщика и здорового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егкие здорового человека имеют нормальный розовый цвет с минимальной пигмент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152800" cy="2781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940360" y="3213000"/>
            <a:ext cx="2259000" cy="2806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51640" y="1557360"/>
            <a:ext cx="32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Грудная клетка умершего от эмфиземы легких. Одна из основных причин заболевания эмфиземой - кур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49">
                                  <p:stCondLst>
                                    <p:cond delay="20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1:00:44Z</dcterms:created>
  <dc:creator>Сигачева И.С.</dc:creator>
  <dc:description/>
  <dc:language>en-US</dc:language>
  <cp:lastModifiedBy>...</cp:lastModifiedBy>
  <dcterms:modified xsi:type="dcterms:W3CDTF">2011-11-10T07:52:53Z</dcterms:modified>
  <cp:revision>48</cp:revision>
  <dc:subject/>
  <dc:title>Слайд 1</dc:title>
</cp:coreProperties>
</file>