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03C-B7DE-4B31-B8E0-CD147EF9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F1A-5D7D-45D8-A318-720EBF6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D41-4A93-4499-B19A-D0F75297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E85-F188-4692-BC19-452355A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AD99-26C9-409E-808F-2D277DB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E10-C0B5-4048-BCAB-A653505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6EB5-A65B-4586-8EFE-0EE2CECB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21A-757E-4886-A797-0CFF88E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81DA-2CC3-48FE-B9BF-36FCFEC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48F-2856-4E2E-ACB9-29E697EA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6BA0-A428-4ACB-8645-09056107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0E9-AB35-490D-A2A6-F4233C9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405-AED5-43C6-AB36-FE933EF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342A-92E4-410B-B776-8113C0E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9E50-EBA2-4187-859D-66564C2A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BD7-51B3-4E05-8873-4E092520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64BF-74E9-4559-9474-52D63D8C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380-49E9-4D7D-80EA-12CFB9A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37B-72FF-4C65-AD28-5D0BC75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1E2-0CEF-4E54-B6B3-851CE87E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26F-07B5-4CEC-8DE5-26B76C8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47E-86A0-4A1D-8615-A323803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8CA-8873-408C-8458-CBF8BCC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5E1-808C-4C25-ADBD-968FD55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2A8E-2DCD-4CD6-A069-3F3F30A775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AB5-BC84-4F1A-9233-573F207D58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537080" cy="612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338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ы рады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ас видеть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4:55:10Z</dcterms:created>
  <dc:creator>Oleg</dc:creator>
  <dc:description/>
  <dc:language>en-US</dc:language>
  <cp:lastModifiedBy>User</cp:lastModifiedBy>
  <dcterms:modified xsi:type="dcterms:W3CDTF">2013-01-24T16:38:07Z</dcterms:modified>
  <cp:revision>3</cp:revision>
  <dc:subject/>
  <dc:title>Слайд 1</dc:title>
</cp:coreProperties>
</file>