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AF69-6443-492C-930F-1A1926A4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C992-99D7-4BCE-A4AD-2B96C702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D81B-527F-499C-A4BA-9BC896C4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F85-21D7-44AA-A7B7-151B372E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8540-18DF-47B6-B089-D5F20746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E7A5-714D-4C28-800E-42C6B35F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1BF9-DF93-4DF8-9B76-460B078D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FF11-559F-4A40-9E95-4E5E27A4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F527-5B55-440B-9462-532A8F93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EC7E-4B84-44EF-99B0-72DA02D4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41CA-875A-4568-BAD1-E1EAED13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64D2-FB01-4CA1-ABB8-CE0756AB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9691-FFFC-4F71-8657-566ADEA3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CB9D-ADCE-409F-82BF-709BA153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842D-B414-41B6-BA87-DF49D500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99B0-1454-4CD0-923B-318B74C7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E8AB-0DB9-45F2-B4B3-8876D102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C3FE-E4E8-4CEC-9275-D4F00841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72B3-CB43-4A9F-92A5-B947886B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3183-D1FA-4473-94FD-5A3BF0A0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F841-D020-4E11-A46E-EE61FDA5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7FA9-0C08-4533-98B2-C0122966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ED27-F46B-4643-88C3-9DC0E41D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B19-6E58-4E67-BED0-BCEFE1E8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AA85-24B6-44B7-8AE4-3DFD62BD551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9031-8523-43CB-8695-2DA555CD0B8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tat17.privet.ru/lr/092768f1fbd3419d5eac088c063cf88f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escue01.gov.by/img/305/~230_0x0_mc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0/35/122/35122022_aib114a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ptr.ru/photo/depot/g/newschool_12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popmech.ru/images/upload/article/kmax_2_1242730536_full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ech-remont.ru/wp-content/uploads/tech-19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gmpr74.ru/upload/gallery/569/l/6de47717312a679917847ebf4e42130d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ОГОН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8317080" y="-2332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MPj04094220000[1]"/>
          <p:cNvPicPr/>
          <p:nvPr/>
        </p:nvPicPr>
        <p:blipFill>
          <a:blip r:embed="rId3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96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2" name="Picture 4" descr="12"/>
          <p:cNvPicPr/>
          <p:nvPr/>
        </p:nvPicPr>
        <p:blipFill>
          <a:blip r:embed="rId1"/>
          <a:stretch/>
        </p:blipFill>
        <p:spPr>
          <a:xfrm>
            <a:off x="250920" y="1125360"/>
            <a:ext cx="3300480" cy="4751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21"/>
          <p:cNvPicPr/>
          <p:nvPr/>
        </p:nvPicPr>
        <p:blipFill>
          <a:blip r:embed="rId2"/>
          <a:stretch/>
        </p:blipFill>
        <p:spPr>
          <a:xfrm>
            <a:off x="3924360" y="428760"/>
            <a:ext cx="4392720" cy="2930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13"/>
          <p:cNvPicPr/>
          <p:nvPr/>
        </p:nvPicPr>
        <p:blipFill>
          <a:blip r:embed="rId3"/>
          <a:stretch/>
        </p:blipFill>
        <p:spPr>
          <a:xfrm>
            <a:off x="3780000" y="3500280"/>
            <a:ext cx="4375080" cy="27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гонь греет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6" name="Picture 3" descr="IMG_0919"/>
          <p:cNvPicPr/>
          <p:nvPr/>
        </p:nvPicPr>
        <p:blipFill>
          <a:blip r:embed="rId1"/>
          <a:stretch/>
        </p:blipFill>
        <p:spPr>
          <a:xfrm>
            <a:off x="179280" y="2060640"/>
            <a:ext cx="84963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гонь красив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Картинка 4 из 8751"/>
          <p:cNvPicPr/>
          <p:nvPr/>
        </p:nvPicPr>
        <p:blipFill>
          <a:blip r:embed="rId1"/>
          <a:stretch/>
        </p:blipFill>
        <p:spPr>
          <a:xfrm>
            <a:off x="179280" y="1125360"/>
            <a:ext cx="89647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гонь необходим людям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5" descr="Картинка 48 из 12548"/>
          <p:cNvPicPr/>
          <p:nvPr/>
        </p:nvPicPr>
        <p:blipFill>
          <a:blip r:embed="rId1"/>
          <a:stretch/>
        </p:blipFill>
        <p:spPr>
          <a:xfrm>
            <a:off x="179280" y="2492280"/>
            <a:ext cx="4829400" cy="4241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сталевар"/>
          <p:cNvPicPr/>
          <p:nvPr/>
        </p:nvPicPr>
        <p:blipFill>
          <a:blip r:embed="rId2"/>
          <a:stretch/>
        </p:blipFill>
        <p:spPr>
          <a:xfrm>
            <a:off x="4643280" y="1268280"/>
            <a:ext cx="41198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Будем всегда выполнять</a:t>
            </a: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равила пожарной безопасности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еревянная Рус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Картинка 22 из 81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222200"/>
            <a:ext cx="75596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жарная команд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Картинка 72 из 80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220760"/>
            <a:ext cx="777744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ожарная часть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Картинка 42 из 330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3284640"/>
            <a:ext cx="4753080" cy="3325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i?id=46920090-00"/>
          <p:cNvPicPr/>
          <p:nvPr/>
        </p:nvPicPr>
        <p:blipFill>
          <a:blip r:embed="rId3"/>
          <a:stretch/>
        </p:blipFill>
        <p:spPr>
          <a:xfrm>
            <a:off x="250920" y="1773360"/>
            <a:ext cx="37400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временные пожарные машины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Картинка 13 из 5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484280"/>
            <a:ext cx="3179520" cy="4890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Картинка 17 из 5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0360" y="2924280"/>
            <a:ext cx="4762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ревние люди и огон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4" descr="4 (2)"/>
          <p:cNvPicPr/>
          <p:nvPr/>
        </p:nvPicPr>
        <p:blipFill>
          <a:blip r:embed="rId1"/>
          <a:stretch/>
        </p:blipFill>
        <p:spPr>
          <a:xfrm>
            <a:off x="2168640" y="1600200"/>
            <a:ext cx="4805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ирное использование огня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Картинка 8 из 3041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3357720"/>
            <a:ext cx="5077080" cy="3286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Картинка 11 из 165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1413000"/>
            <a:ext cx="464328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орение жилых  здани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i?id=184218599-07"/>
          <p:cNvPicPr/>
          <p:nvPr/>
        </p:nvPicPr>
        <p:blipFill>
          <a:blip r:embed="rId1"/>
          <a:stretch/>
        </p:blipFill>
        <p:spPr>
          <a:xfrm>
            <a:off x="5508720" y="1773360"/>
            <a:ext cx="2033640" cy="1473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Картинка 28 из 9833"/>
          <p:cNvPicPr/>
          <p:nvPr/>
        </p:nvPicPr>
        <p:blipFill>
          <a:blip r:embed="rId2"/>
          <a:stretch/>
        </p:blipFill>
        <p:spPr>
          <a:xfrm>
            <a:off x="324000" y="2852640"/>
            <a:ext cx="5076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Картинка 3 из 71834"/>
          <p:cNvPicPr/>
          <p:nvPr/>
        </p:nvPicPr>
        <p:blipFill>
          <a:blip r:embed="rId1"/>
          <a:stretch/>
        </p:blipFill>
        <p:spPr>
          <a:xfrm>
            <a:off x="4427640" y="3284640"/>
            <a:ext cx="4248000" cy="3417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i?id=119313388-04"/>
          <p:cNvPicPr/>
          <p:nvPr/>
        </p:nvPicPr>
        <p:blipFill>
          <a:blip r:embed="rId2"/>
          <a:stretch/>
        </p:blipFill>
        <p:spPr>
          <a:xfrm>
            <a:off x="2340000" y="620640"/>
            <a:ext cx="3240000" cy="2441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Картинка 8 из 14277"/>
          <p:cNvPicPr/>
          <p:nvPr/>
        </p:nvPicPr>
        <p:blipFill>
          <a:blip r:embed="rId3"/>
          <a:stretch/>
        </p:blipFill>
        <p:spPr>
          <a:xfrm>
            <a:off x="179280" y="2781360"/>
            <a:ext cx="2781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7:58:48Z</dcterms:created>
  <dc:creator>Надежда</dc:creator>
  <dc:description/>
  <dc:language>en-US</dc:language>
  <cp:lastModifiedBy>Каб7</cp:lastModifiedBy>
  <dcterms:modified xsi:type="dcterms:W3CDTF">2013-01-24T19:47:04Z</dcterms:modified>
  <cp:revision>7</cp:revision>
  <dc:subject/>
  <dc:title>ОГОНЬ</dc:title>
</cp:coreProperties>
</file>