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E20C-54FB-4D3C-AC1B-66D772CF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8276-FCEB-48F1-A450-A3F1325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4625-1254-45BE-BF4E-1492469B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3778-51EF-418D-BB19-3987A173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DAE-0F61-4A5F-A1A1-13568F54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81E-0AE2-470D-9A5F-1DEE3C6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081-9673-40E0-AE01-400A79AB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06F7-01D1-4961-9D08-B220CA0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119-5275-42BE-85C5-C93F1203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CE91-E714-4225-BD3B-B68E0BA7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14E8-1673-4E9D-800B-2B32552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D2CC-1CB6-471E-9361-04F83F05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199-D91D-442B-9BFF-ED5880B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737D-7560-497C-B3B9-7C2CEA3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E30F-35DE-4143-98F7-9B64AE2C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3A0A-1FE5-43D5-BCD5-E89BF618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201-E233-48EA-951F-09C348CC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C276-8504-46D1-8D1F-3CDF1B39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46C8-BAEA-4267-AFE7-AAA1543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863F-B1BB-43A1-8554-026CD34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1CC5-575E-4630-B78C-22E91AFE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E797-B312-4C3D-9121-FD0D5D79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3BCD-76BC-42F9-9CF1-B4FA66F1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4A4C-B864-4A73-BCC0-7B27AEF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7E7-D9C1-4C1F-8A05-D22E0E3A52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F504-5964-40AA-8782-4DB0DFF1BA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5000" y="2437920"/>
            <a:ext cx="5978880" cy="29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 Black"/>
              </a:rPr>
              <a:t>                  </a:t>
            </a: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Творческая работа по теме: « Поиск современных форм сотрудничества с семьей при формировании социально – нравственных качеств у детей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611280"/>
            <a:ext cx="6172200" cy="85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цессе становления  опыта была проведена  следующ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 Анализ программы Васильевой М.А. «Воспитание и обучение детей в детском саду», методической литературы по разделу «Нравственное воспитание детей дошкольного возрас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азработан перспективный план занятий по развитию нравственных качеств у дошкольников и перспективный план деятельности с детьми и родителями на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Разработан план заседания клуба «Семейный верниса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Организована и оформлена зона «Если добрый ты…», где подобран и изготовлен практический материал по развитию  нравственных качеств у 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 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тека словесных игр, картотека проблем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борка литературных произведений, альб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нотека «Если добрый ты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тека «Ласковых и нежных с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 для 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 работе поставлены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нравственные качества у детей через активное включение дошкольников в занятия, игровую деятельность, в обсуждение проблемных ситуаций, литературных произведений, литературных произведений, в творческое выражение своих переживаний 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еплять связи «семья - детский сад» и обогащать опыт родителей по вопросам нравственного воспитания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изна опыт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1331640"/>
            <a:ext cx="61722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изна опыта заключается в использовании активных форм работы с семьей в процессе развития нравственных качеств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целью реализации поставленных задач, автор считает важным сделать процесс воспитания интересным и увлекательным для дошкольников, продуктивным и познавательным дл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дущая педагогическая идея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ущей педагогической идеей опыта является развитие нравственных  качеств у детей дошкольного возраста через использование активных форм  работы с семьей: занятия различных видов организации, разнообразную внезанятийную деятельность, эффективное взаимодействие  с семьями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емые формы работы, способствуют развитию у детей нравственных качеств, усвоению детьми нравственных норм, правил культуры поведения, улучшились взаимоотношения родителей группы, родители научились находить конструктивные выходы из конфликт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625464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я опыта.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модул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роведение занятий по развитию нравственны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е по развитию нравственных качеств автор планирует и поводит 1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ются различные формы организации занятий, например: занятие-затея «Волшебный сундучок», занятие путешествие «На помощь к Айболиту», занятие – игра «Цветочный хоровод», развлечение «Новогодние встречи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уктуру занятий включены: сюрпризные моменты для мотивации детской деятельности, введение героя (Айболит, Мальчик – хулиганчик, Волшебница) для создания ситуации свободного общения; игры и веселые задания, такие как: «Волшебный сундучок», «Чудо – часы», «Волшебный телевизор» и др, пальчиковая гимнастика, элементы самомассажа, физические упражнения для снятия напряжения  мышц, воспитание самоценности здорового образа жиз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гимнастику для расслабления, а так же занимательный материал: сказки, рассказы, ситуации, загадки, стихотворения, упражн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емый материал делает процесс нравственного воспитания детей более интересным, увлекательным, эффективным, доступным. У дошкольников наблюдается значительное повышение уровня нравственного развития, происходит усвоение нравственных норм и правил, культуры поведения, развивается любозн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Модул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ивные формы работы с детьми по воспитанию нравственны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339640"/>
            <a:ext cx="6172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занятийная деятельность разнообразна и способствует решению задач развития нравственных качеств  детей  в свободное от занятий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руппе оформлен центр «Если добрый ты…». Здесь находится специально подобранный материал для развития у дошкольников нравственных качеств.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тека словесн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тека ласковых, неж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 игры, такие как: « Ваши добрые поступки», «Хорошо – плох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тека ситуаций «Как бы ты поступил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нотека «Если добрый ты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рибуты для сюжетно-ролевых игр, таких как «Больница», «Магазин», «Едем в автобусе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бор игрушек, кукол для разыгрывания инсценир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ьбомы: «Мой день», «Нравственное воспитание», «Волшебные слова», «Моя дружная семья», «Традиции и правила нашей семь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произведения В.Сухомлинского, В.Сутеева, К.Чуковского, А.Бар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 для 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 центра ежемесячно пополняется. Деятельность в центре варьируется по желанию детей. У дошкольников в непринужденной, занимательной форме происходит развитие нравствен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61722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дул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а с семь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332000"/>
            <a:ext cx="6172200" cy="74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образие форм работы с семьями воспитанников позволяет не только вызвать интерес к процессу воспитания и развития у детей нравственных качеств, но и найти  оптимальный подход к каждому р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боте с родителями автор использует следующие формы взаимо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дение родительских собраний в групп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 мой взгляд следует начинать не с формальных собраний и информационных стендов, а со сближения души и разума людей сопричастных в жизни ребенка. Что может служить основой такого сближения? Только сам ребенок. Эта форма работы позволяет интересно и непринужденно общаться с семьями детей, устанавливать теплые, доброжелательные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нсультации, рекоменд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широко известная форма работы с семьей, позволяет педагогу грамотно и полно знакомить родителей с тонкостями детской души, с наиболее эффективными методами и приемами воспитания с особенностями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тавки литературы по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форма работы дает возможность родителям познакомиться с педагогическими трудами по проблемам воспит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4.Привлечение родителей к оформлению выставок, к изготовлению совместных произведений творчеств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 форма работы способствует поддержанию интереса родителей к жизни детского сада, участию в педагогическом процессе, установлению доверительных отношений с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Модул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ведение клуба «Семейный верниса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1979280"/>
            <a:ext cx="61722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клуба проводится 1 раз в месяц по плану. В структуру занятий клуба включены: психогимнастика, педагогические ситуации, игры  и упражнения, беседы, дискуссии, мини – рассказы родителей и др. Данная форма работы с родителями позволяет решить ряд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ется педагогическая культура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сходит приобщение родителей к участию в жизни детского с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поиск и внедрение наиболее эффективных фор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ились находить конструктивные выходы из конфликт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явилось стремление к единым требованиям в воспитании и развити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G_2426"/>
          <p:cNvPicPr/>
          <p:nvPr/>
        </p:nvPicPr>
        <p:blipFill>
          <a:blip r:embed="rId1"/>
          <a:stretch/>
        </p:blipFill>
        <p:spPr>
          <a:xfrm>
            <a:off x="1125360" y="5940360"/>
            <a:ext cx="45356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61722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дресная направ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1402920"/>
            <a:ext cx="617220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будет интересен воспитателям, методистам ДОУ, специалистам работающим с деть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оемкость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ный опыт может быть реализован в следующих услов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перспективного плана занятий и перспективного плана деятельности с детьми и родителями по данн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ьно оформленная предметно – 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материала по теме, альбомы, картотеки и виде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61722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тическая база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0280" y="1402920"/>
            <a:ext cx="6337440" cy="74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оретическая база формировалась на осно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Формирование нравственного здоровья дошкольников» / под ред.Л.В. Кузнецовой,  М.А. Панфиловой / Москва, 2002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Характер – источник силы» \ сборник учебно-методических материалов по программе «Главное – характер» из опыта работы образовательных учреждений Алтайск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еседы с детьми о нравственности и экологии»/ Л.П. Молодова /Минск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равственно-этические беседы и игры с дошкольниками» \ Е.А,Алябьева \ Москва, 200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оговорим о вежливости» \ Б.В. Бушелева \ Москва, 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Хрестоматия по этике» \ В.А. Сухомлинский \ Москва,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Как не надо себя вести» \ М.С. Ходаков \ Москва, 19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ружная семейка» \ Е.О. Севостьянова \ Москва, 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оциально – нравственное воспитание детей 3-4 года» \  Н.Г. Комратова, Л.Ф. Грибова \ Москва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чим детей общению» \ Н.В. Клюева, Ю.В. Касаткина \ Я.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ир в котором я живу» \ Н.В. Комратова, Л.Ф. Грибова \ Москва 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равственно – трудовое воспитание дошкольника» \ Л.В. Куцакова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оциально – нравственно воспитание детей 5-7 лет» \ И.Ф. Мулько /Москва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чимся договариваться» \ В.Максакова, С. Полякова, Москва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Азбука общения» \ Л.М. Шипицына, О.В.Защиринская, А.П. Воронова \ С.-Петербург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увствуем, познаем, размышляем» \ М.В. Ильина \ Москва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Развитие эмоций дошкольников» \ В.М. Минаева \ Москва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чим общаться детей 6-10 лет» \ Л.А. Максимова \ Москва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АСО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14Расцвет"/>
          <p:cNvPicPr/>
          <p:nvPr/>
        </p:nvPicPr>
        <p:blipFill>
          <a:blip r:embed="rId1"/>
          <a:stretch/>
        </p:blipFill>
        <p:spPr>
          <a:xfrm>
            <a:off x="1093680" y="2838600"/>
            <a:ext cx="467064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чень моду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95280"/>
            <a:ext cx="61722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Теоретическая интерпретация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ехнология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Модуль. Организация и проведение занятий по развитию нравственн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одуль. Активные формы работы с детьми по воспитанию нравственн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Модуль. Работа с семь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одуль. Проведение клуба «Семья – это в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ивность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Адресная направл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асштабность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2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ктуальность  перспективность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979280"/>
            <a:ext cx="6181920" cy="71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стоящее время без специального вмешательства взрослого в воспитательный процесс, трудно говорить о развитии нравственных качеств у детей. Жизнь в современном обществе сложилась так, что маленький  человек  не в состоянии самостоятельно увидеть и усвоить нравственные категории – уважение, дружбу, честность, ответственность, гражданственность и т.д.. Почему так происходит?  На улице ребенок каждый деть слышит нецензурную, порой бранную речь, видит повсеместное скопление взрослых за распитием пива и курения, телевидение показывает  фильмы и даже мультфильмы, где ребенок видит насилие, опять же слышит нецензурные выражения, и ни о какой нравственности и речи нет. Даже рекламные ролики несут в себе отрицательное  влияние на воспитание 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уальной задачей в настоящее время является воспитание у дошкольников нравственных качеств: заботливости, уважения, вежливости, дружбы, ответственности, гражданственности и т.д.. Формирование  нравственной сферы – важное условие всестороннего воспитания  личности ребенка. От того как будет воспитан дошкольник в нравственном отношении зависит формирование его жизненной позиции. Недооценка важности воспитания нравственных качеств с ранних лет приводит к установлению  неправильных взаимоотношений взрослых и детей, детей с ровесниками – в общении наблюдается отчуждение, отсутствие уважения и понимания, в обществе дети не соблюдают нормы культуры поведения  и не осознают их важности. А между тем культура человеческих отношений, общения людей между собой играют важную роль в жизни. Если у ребенка получается общаться культурно с близкими, знакомыми, соблюдать нравственные нормы, он будет так же  вести себя и совершенно с незнакомы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ыт актуален, т.к.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617220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ыт актуален, т.к. позволяет решить задач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907640"/>
            <a:ext cx="61722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азвитие нравственных качеств у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оспитание культуры поведения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Раскрытие индивидуальности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Установление крепких связей между семьей и детским садом, между семьями по вопросам нравственного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04640" y="485928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ффективно знакомить дошкольников с категориями нравств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ывать культуру поведения в обществе, культуру общения со взрослыми и деть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 общаться с семьями воспитан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96600" y="416088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нный опыт позволя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 возникновения и становления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1834920"/>
            <a:ext cx="6172200" cy="70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формировался в муниципальном дошкольном образовательном учреждении « Детский сад №162» комитета по образованию Железнодорожного района. Общие результаты проведенной диагностики на начало учебного года в старшей группе показали: уровень развития  нравственных качеств у дошкольников ниже среднего – 36,0%; средний – 58,0%; выше среднего – 6,0%. Дети недостаточно четко  понимают значение нравственной категории, не всегда вежливы друг с другом. При этом у них неплохо развиты навыки поведения за столом и умение вести себя в общественных местах. Проведенная работа в течении года по воспитанию нравственных качеств у детей, дала свои положительные результаты, и к концу учебного года результаты диагностики были таковы: уровень развития нравственных качеств у дошкольников ниже среднего – 2,0%; средний – 80,0%; выше среднего – 18%. Таким образом, наблюдается положительная динамика в развитии нравственных качеств у детей благодаря специальной работе по нравственному 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морали дошкольник усваивает, прежде всего, в форме нравственных представлений. Однако, являясь образами должного поведения, эти представления не всегда способствуют развитию произвольности поведения. Они начинают управлять – действиями и поступками, лишь неразрывно соединяясь в опыте ребенка с эмоциональным отношением к нравственным ситу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828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етском саду  с 2005 года  работала творческая         микрогруппа «Азбука нравственности». Коллективом единомышленников был разработан перспективный план  по нравственному воспитанию детей, который подразумевает включение задач нравственного развития дошкольников во все в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ходя из опыта многолетней практики, автор пришла к выводу, что наиболее эффективным в развитии нравственных качеств у детей дошкольного возраста, будет являться использование активных форм работы, как с детьми так и с родител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«Без игры нет, и не может быть полноценного умственного развития. Игра – это огромное светлое окно, через которое в духовный мир ребенка вливается  живительный поток представлений, понятий. Игра – это искра, зажигающая огонек пытливости и любознательности». В.А. Сухомли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0920"/>
            <a:ext cx="6172200" cy="75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ы морального  «Я», нравственные требования окружающих, важнейшие нормы взаимоотношений между людьми закладываются именно в дошкольном возрасте, и чем раньше начать работу по воспитанию нравственных качеств, тем лучше будет результат к моменту поступления детей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611280"/>
            <a:ext cx="6172200" cy="81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, ведущая деятельность дошкольника, в которой формируется его личность. В игре ребенка отражаются различные события, полученные им в детском саду и семье, при общении с разными людьми. В воспитании у детей социально-нравственных качеств большую помощь могут оказать игры, и прежде всего игры с правилами, в которых дети подчиняются правилам игры, учатся  сдерживать свои желания, преодолевают трудности. Игра – одно из наиболее эффективных средств нравственного воспитания до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ые произведения – кладезь нравственного воспитания. Именно в них народ за много поколений отразил весь накопленный опыт. На художественные произведения таких писателей и поэтов, как Л.Толстой, В.Сухомлинский, В.Осеева, Б.Заходер, А.Барто, К. Чуковский, можно воспитать нравственно чист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же, в воспитании нравственных качеств, эффективны такие формы работы, как: использование фонотеки, проблемных ситуаций, изготовление творческих работ самостоятельно и совместно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я – первая школа социализации ребенка. Однако семья живет в определенном обществе, в определенное время и эпоху. Общество накладывает свои отпечатки, негативные или позитивные, на формирование современной семьи. И на сколько благополучна семья, зависит то, как будет складываться и развиваться ребенок как личность. Известно, что процесс воспитания ребенка начинается в семье с первых месяцев его жизни.  Ошибки воспитания с самого раннего детства могут оказаться неправильными и позднее проявиться в поведении ребенка, в различных отклонениях развит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язанность каждой семьи – развивать ребенка нравственно. Под нравственным развитием понимается формирование у детей «нравственной шкалы отношений», с помощью которой он сможет «измерить» свои и чуж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упки с общечеловеческих позиций добра и зла и не только оценить, но и подчинить свое поведение нравственным нор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родители ошибочно считают, что, приведя ребенка  в дошкольное учреждение, они имеют право переложить на педагогов ответственность за воспитание и становление личности сво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гласит: «родители являются первыми педагогами. Они обязаны заложить основы физического, нравственного и интеллектуального развития личности ребенка в раннем детском возрасте». Ст.18,п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75528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целью улучшения качества взаимодействия семьи и детского сада по вопросам нравственного воспитания, автор составила перспективный план работы с родителями, который включает в себя  различные формы общения. Кроме этого автором разработан план заседания  клуба «Семейный вернисаж», что представляет собой систему занятий практикумов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я 015"/>
          <p:cNvPicPr/>
          <p:nvPr/>
        </p:nvPicPr>
        <p:blipFill>
          <a:blip r:embed="rId1"/>
          <a:stretch/>
        </p:blipFill>
        <p:spPr>
          <a:xfrm>
            <a:off x="260280" y="3751200"/>
            <a:ext cx="63374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38:35Z</dcterms:created>
  <dc:creator>Пользователь</dc:creator>
  <dc:description/>
  <dc:language>en-US</dc:language>
  <cp:lastModifiedBy>Светлана</cp:lastModifiedBy>
  <dcterms:modified xsi:type="dcterms:W3CDTF">2013-01-24T01:45:26Z</dcterms:modified>
  <cp:revision>11</cp:revision>
  <dc:subject/>
  <dc:title>                  Тема: « Поиск современных форм сотрудничества с семьей при формировании социально – нравственных качеств у детей дошкольного возраста»</dc:title>
</cp:coreProperties>
</file>