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wmf" ContentType="image/x-wmf"/>
  <Override PartName="/ppt/media/image15.jpeg" ContentType="image/jpeg"/>
  <Override PartName="/ppt/media/image24.wmf" ContentType="image/x-wmf"/>
  <Override PartName="/ppt/media/image28.gif" ContentType="image/gif"/>
  <Override PartName="/ppt/media/image20.jpeg" ContentType="image/jpeg"/>
  <Override PartName="/ppt/media/image7.gif" ContentType="image/gif"/>
  <Override PartName="/ppt/media/image26.jpeg" ContentType="image/jpeg"/>
  <Override PartName="/ppt/media/image5.jpeg" ContentType="image/jpeg"/>
  <Override PartName="/ppt/media/image12.jpeg" ContentType="image/jpeg"/>
  <Override PartName="/ppt/media/image10.gif" ContentType="image/gif"/>
  <Override PartName="/ppt/media/image18.gif" ContentType="image/gif"/>
  <Override PartName="/ppt/media/image13.jpeg" ContentType="image/jpeg"/>
  <Override PartName="/ppt/media/image30.png" ContentType="image/png"/>
  <Override PartName="/ppt/media/image2.gif" ContentType="image/gif"/>
  <Override PartName="/ppt/media/image9.jpeg" ContentType="image/jpeg"/>
  <Override PartName="/ppt/media/image35.gif" ContentType="image/gif"/>
  <Override PartName="/ppt/media/image31.png" ContentType="image/png"/>
  <Override PartName="/ppt/media/image34.gif" ContentType="image/gif"/>
  <Override PartName="/ppt/media/image11.gif" ContentType="image/gif"/>
  <Override PartName="/ppt/media/image8.gif" ContentType="image/gif"/>
  <Override PartName="/ppt/media/image19.wmf" ContentType="image/x-wmf"/>
  <Override PartName="/ppt/media/image21.wmf" ContentType="image/x-wmf"/>
  <Override PartName="/ppt/media/image6.jpeg" ContentType="image/jpeg"/>
  <Override PartName="/ppt/media/image4.jpeg" ContentType="image/jpeg"/>
  <Override PartName="/ppt/media/image22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23.gif" ContentType="image/gif"/>
  <Override PartName="/ppt/media/image1.jpeg" ContentType="image/jpeg"/>
  <Override PartName="/ppt/media/image27.gif" ContentType="image/gif"/>
  <Override PartName="/ppt/media/image16.gif" ContentType="image/gif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674-5EE6-4A5D-BD9B-F3484AC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F21-D11E-49E9-B6A5-7DA7870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509-B84B-48C5-B8D8-F9B979F0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D1C-9701-41E4-B98A-B005BA0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BEC45-C5B1-4153-8348-044ECA57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E69D3-2D2A-4CC4-A4F2-2136F184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45F4E-ADE8-4910-8F70-FA4FA26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06F3-F674-4DB5-B431-2690DD2F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0FD6A-E9A2-40B7-B40C-3AA3C517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F9571-EAC2-43D8-BADB-53F0DE1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9918-EC87-4657-BC2E-A33ECEE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4D9-F19C-453D-AE5E-A08E9BD2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6C568-B586-41BB-A42D-7EE35CF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347F7-DE3C-4478-BA20-4DB4DFF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EA04-F10B-48DE-9B70-80138FC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CF8EC-2B06-4974-9FC6-27DC76FD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0B21E-EA76-4527-9F81-66E5BACE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F6A-A1C1-4BA7-8070-29C84426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CFD-58D4-40FB-9331-751589C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3F5-BFDA-4387-A335-F945EEA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B18-CD3B-4BC2-B2C8-D040C89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8FF-17DF-47A8-98A6-BC7480A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3FA-8BF3-4F53-8292-D422D75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C6D-6E0B-4D1A-A555-BF78099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801D-2BA0-4E55-A635-7E75F114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entSchbook Win95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900-7789-4F2D-AA09-0446B8A94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entSchbook Win95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smiles.33b.ru/smile.52398.html" TargetMode="External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29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Schbook Win95BT"/>
              </a:rPr>
              <a:t>Урок – праздник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Schbook Win95BT"/>
              </a:rPr>
              <a:t>« По дорогам Страны           Знаний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0" descr="i?id=8736841&amp;tov=2"/>
          <p:cNvPicPr/>
          <p:nvPr/>
        </p:nvPicPr>
        <p:blipFill>
          <a:blip r:embed="rId1"/>
          <a:stretch/>
        </p:blipFill>
        <p:spPr>
          <a:xfrm>
            <a:off x="6084720" y="3860640"/>
            <a:ext cx="2632320" cy="252108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85" name="Picture 11" descr="bela"/>
          <p:cNvPicPr/>
          <p:nvPr/>
        </p:nvPicPr>
        <p:blipFill>
          <a:blip r:embed="rId2"/>
          <a:stretch/>
        </p:blipFill>
        <p:spPr>
          <a:xfrm flipH="1" rot="18216600">
            <a:off x="1256760" y="4366440"/>
            <a:ext cx="1803600" cy="2085840"/>
          </a:xfrm>
          <a:prstGeom prst="rect">
            <a:avLst/>
          </a:prstGeom>
          <a:ln w="0">
            <a:noFill/>
          </a:ln>
        </p:spPr>
      </p:pic>
      <p:pic>
        <p:nvPicPr>
          <p:cNvPr id="86" name="минус Маленькая страна.mp3" descr=""/>
          <p:cNvPicPr/>
          <p:nvPr/>
        </p:nvPicPr>
        <p:blipFill>
          <a:blip r:embed="rId3"/>
          <a:stretch/>
        </p:blipFill>
        <p:spPr>
          <a:xfrm>
            <a:off x="450072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589320" y="3168000"/>
            <a:ext cx="103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Schbook Win95BT"/>
              </a:rPr>
              <a:t>                                                                      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entSchbook Win95BT"/>
              </a:rPr>
              <a:t>Зна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Сами вещи не расту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Сделать вещи -  нужен тру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Карандаш, тетрадь, пер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Парту, доску, стол, ок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Книжку, сумку – берег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Не ломай, не мни, не р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Твой учебник – не альб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Рисовать не надо в н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Ты читай, решай задач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entSchbook Win95BT"/>
              </a:rPr>
              <a:t>Но учебник не испачка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Нужен весь учебный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За учебником ухо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Чтобы чистым, неизмят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Он пришел к другим ребя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Каждой книгой дорож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Schbook Win95BT"/>
              </a:rPr>
              <a:t>В чистоте портфель держи!</a:t>
            </a:r>
            <a:r>
              <a:rPr b="1" lang="en-US" sz="1200" spc="-1" strike="noStrike">
                <a:solidFill>
                  <a:srgbClr val="006600"/>
                </a:solidFill>
                <a:latin typeface="CentSchbook Win95B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4" descr="book25[1]"/>
          <p:cNvPicPr/>
          <p:nvPr/>
        </p:nvPicPr>
        <p:blipFill>
          <a:blip r:embed="rId1"/>
          <a:stretch/>
        </p:blipFill>
        <p:spPr>
          <a:xfrm>
            <a:off x="395280" y="476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071"/>
          <p:cNvPicPr/>
          <p:nvPr/>
        </p:nvPicPr>
        <p:blipFill>
          <a:blip r:embed="rId2"/>
          <a:stretch/>
        </p:blipFill>
        <p:spPr>
          <a:xfrm>
            <a:off x="6804000" y="4149720"/>
            <a:ext cx="21319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11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Тетра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У меня обложка синя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На любой странице ли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Чтоб помочь учени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Ровно вывести стро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057_008[1]"/>
          <p:cNvPicPr/>
          <p:nvPr/>
        </p:nvPicPr>
        <p:blipFill>
          <a:blip r:embed="rId1"/>
          <a:stretch/>
        </p:blipFill>
        <p:spPr>
          <a:xfrm>
            <a:off x="3276720" y="4149720"/>
            <a:ext cx="2735280" cy="2232000"/>
          </a:xfrm>
          <a:prstGeom prst="rect">
            <a:avLst/>
          </a:prstGeom>
          <a:ln w="25560">
            <a:solidFill>
              <a:srgbClr val="333333"/>
            </a:solidFill>
            <a:miter/>
          </a:ln>
        </p:spPr>
      </p:pic>
      <p:sp>
        <p:nvSpPr>
          <p:cNvPr id="126" name="Line 7"/>
          <p:cNvSpPr/>
          <p:nvPr/>
        </p:nvSpPr>
        <p:spPr>
          <a:xfrm flipH="1">
            <a:off x="1547640" y="549360"/>
            <a:ext cx="36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050920" y="981000"/>
            <a:ext cx="367200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1763640" y="836640"/>
            <a:ext cx="36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2195280" y="1197000"/>
            <a:ext cx="367164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2411280" y="1413000"/>
            <a:ext cx="36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27280" y="1628640"/>
            <a:ext cx="367200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2" name="Line 13"/>
          <p:cNvSpPr/>
          <p:nvPr/>
        </p:nvSpPr>
        <p:spPr>
          <a:xfrm flipH="1">
            <a:off x="2843280" y="1844640"/>
            <a:ext cx="367200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3058920" y="2060640"/>
            <a:ext cx="367164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3274920" y="2276640"/>
            <a:ext cx="36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3490920" y="2492280"/>
            <a:ext cx="367200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3706560" y="2708280"/>
            <a:ext cx="3671640" cy="302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3922560" y="2924280"/>
            <a:ext cx="36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8" name="Line 19"/>
          <p:cNvSpPr/>
          <p:nvPr/>
        </p:nvSpPr>
        <p:spPr>
          <a:xfrm flipH="1" flipV="1">
            <a:off x="2123640" y="1773360"/>
            <a:ext cx="475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39" name="Line 20"/>
          <p:cNvSpPr/>
          <p:nvPr/>
        </p:nvSpPr>
        <p:spPr>
          <a:xfrm flipH="1" flipV="1">
            <a:off x="2339640" y="198864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0" name="Line 21"/>
          <p:cNvSpPr/>
          <p:nvPr/>
        </p:nvSpPr>
        <p:spPr>
          <a:xfrm flipH="1" flipV="1">
            <a:off x="2410920" y="234900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2771280" y="256500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2" name="Line 23"/>
          <p:cNvSpPr/>
          <p:nvPr/>
        </p:nvSpPr>
        <p:spPr>
          <a:xfrm flipH="1" flipV="1">
            <a:off x="2987280" y="285228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3492000" y="386064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4" name="Line 25"/>
          <p:cNvSpPr/>
          <p:nvPr/>
        </p:nvSpPr>
        <p:spPr>
          <a:xfrm flipH="1" flipV="1">
            <a:off x="3347640" y="3068640"/>
            <a:ext cx="475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5" name="Line 26"/>
          <p:cNvSpPr/>
          <p:nvPr/>
        </p:nvSpPr>
        <p:spPr>
          <a:xfrm flipH="1" flipV="1">
            <a:off x="3563640" y="3357720"/>
            <a:ext cx="475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6" name="Line 27"/>
          <p:cNvSpPr/>
          <p:nvPr/>
        </p:nvSpPr>
        <p:spPr>
          <a:xfrm flipH="1" flipV="1">
            <a:off x="3563640" y="357300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47" name="Line 28"/>
          <p:cNvSpPr/>
          <p:nvPr/>
        </p:nvSpPr>
        <p:spPr>
          <a:xfrm flipH="1" flipV="1">
            <a:off x="3708000" y="3573000"/>
            <a:ext cx="475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026"/>
          <p:cNvPicPr/>
          <p:nvPr/>
        </p:nvPicPr>
        <p:blipFill>
          <a:blip r:embed="rId1"/>
          <a:stretch/>
        </p:blipFill>
        <p:spPr>
          <a:xfrm rot="21061200">
            <a:off x="1403280" y="2565360"/>
            <a:ext cx="6296040" cy="1989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96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Руч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Я шариковая ру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Знакомьтесь и со м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Писать умею на бег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Но жить без вас я не мо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Кто дружить со мной го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Тот не пожалеет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Сколько он хороших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Написать суме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book17"/>
          <p:cNvPicPr/>
          <p:nvPr/>
        </p:nvPicPr>
        <p:blipFill>
          <a:blip r:embed="rId2"/>
          <a:stretch/>
        </p:blipFill>
        <p:spPr>
          <a:xfrm>
            <a:off x="6227640" y="404640"/>
            <a:ext cx="2232000" cy="16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26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Каранда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Я другой приятель ваш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Проворный </a:t>
            </a:r>
            <a:r>
              <a:rPr b="1" i="1" lang="en-US" sz="2800" spc="-1" strike="noStrike">
                <a:solidFill>
                  <a:srgbClr val="1c1c1c"/>
                </a:solidFill>
                <a:latin typeface="CentSchbook Win95BT"/>
              </a:rPr>
              <a:t>черный</a:t>
            </a: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 карандаш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В тетрадях палочек ряды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Мои упорные тру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Чем вы со мной дружне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Тем палочки ров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v25ani[1]"/>
          <p:cNvPicPr/>
          <p:nvPr/>
        </p:nvPicPr>
        <p:blipFill>
          <a:blip r:embed="rId1"/>
          <a:stretch/>
        </p:blipFill>
        <p:spPr>
          <a:xfrm>
            <a:off x="5435640" y="620640"/>
            <a:ext cx="1649520" cy="129564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>
            <a:off x="1547640" y="4221000"/>
            <a:ext cx="0" cy="1368720"/>
          </a:xfrm>
          <a:prstGeom prst="line">
            <a:avLst/>
          </a:prstGeom>
          <a:ln w="7632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908000" y="4508640"/>
            <a:ext cx="0" cy="136836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268360" y="4724280"/>
            <a:ext cx="0" cy="1368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627280" y="4941720"/>
            <a:ext cx="0" cy="136872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916360" y="5084640"/>
            <a:ext cx="0" cy="136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203640" y="5300640"/>
            <a:ext cx="0" cy="1368360"/>
          </a:xfrm>
          <a:prstGeom prst="line">
            <a:avLst/>
          </a:prstGeom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940360" y="5300640"/>
            <a:ext cx="0" cy="1368360"/>
          </a:xfrm>
          <a:prstGeom prst="line">
            <a:avLst/>
          </a:prstGeom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6227640" y="5084640"/>
            <a:ext cx="0" cy="136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6516720" y="5013360"/>
            <a:ext cx="0" cy="136836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6804000" y="4797360"/>
            <a:ext cx="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7093080" y="4508640"/>
            <a:ext cx="0" cy="136836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7380360" y="4221000"/>
            <a:ext cx="0" cy="1368720"/>
          </a:xfrm>
          <a:prstGeom prst="line">
            <a:avLst/>
          </a:prstGeom>
          <a:ln w="7632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p:transition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039"/>
          <p:cNvPicPr/>
          <p:nvPr/>
        </p:nvPicPr>
        <p:blipFill>
          <a:blip r:embed="rId1"/>
          <a:stretch/>
        </p:blipFill>
        <p:spPr>
          <a:xfrm>
            <a:off x="2340000" y="189000"/>
            <a:ext cx="6553080" cy="6629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114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Линей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2480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Я – лине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Прямот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Главная моя чер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258920" y="5300640"/>
            <a:ext cx="6481800" cy="0"/>
          </a:xfrm>
          <a:prstGeom prst="line">
            <a:avLst/>
          </a:prstGeom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7740720" y="5157720"/>
            <a:ext cx="0" cy="287280"/>
          </a:xfrm>
          <a:prstGeom prst="line">
            <a:avLst/>
          </a:prstGeom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90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Рез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CentSchbook Win95BT"/>
              </a:rPr>
              <a:t>Я – ластик, я, резин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CentSchbook Win95BT"/>
              </a:rPr>
              <a:t>Чумазенькая спи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CentSchbook Win95BT"/>
              </a:rPr>
              <a:t>Но совесть у меня чист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CentSchbook Win95BT"/>
              </a:rPr>
              <a:t>Помарку стерла я с ли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7" descr="j0199343"/>
          <p:cNvPicPr/>
          <p:nvPr/>
        </p:nvPicPr>
        <p:blipFill>
          <a:blip r:embed="rId1"/>
          <a:stretch/>
        </p:blipFill>
        <p:spPr>
          <a:xfrm>
            <a:off x="3419640" y="3357720"/>
            <a:ext cx="1712880" cy="20365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8"/>
          <p:cNvSpPr/>
          <p:nvPr/>
        </p:nvSpPr>
        <p:spPr>
          <a:xfrm>
            <a:off x="1692360" y="3500280"/>
            <a:ext cx="1297080" cy="1224000"/>
          </a:xfrm>
          <a:prstGeom prst="parallelogram">
            <a:avLst>
              <a:gd name="adj" fmla="val 26493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979640" y="3500280"/>
            <a:ext cx="1297080" cy="1224000"/>
          </a:xfrm>
          <a:prstGeom prst="parallelogram">
            <a:avLst>
              <a:gd name="adj" fmla="val 26493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178" name="Freeform 14"/>
          <p:cNvSpPr/>
          <p:nvPr/>
        </p:nvSpPr>
        <p:spPr>
          <a:xfrm>
            <a:off x="2050920" y="3573360"/>
            <a:ext cx="533520" cy="351000"/>
          </a:xfrm>
          <a:prstGeom prst="pie">
            <a:avLst/>
          </a:prstGeom>
          <a:solidFill>
            <a:srgbClr val="1c1c1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043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Точи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Почему из-под точи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Вьются стружки и опил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Карандаш писать не хочет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entSchbook Win95BT"/>
              </a:rPr>
              <a:t>Вот она его и точ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41157"/>
          <p:cNvPicPr/>
          <p:nvPr/>
        </p:nvPicPr>
        <p:blipFill>
          <a:blip r:embed="rId1"/>
          <a:stretch/>
        </p:blipFill>
        <p:spPr>
          <a:xfrm>
            <a:off x="1908000" y="3213000"/>
            <a:ext cx="5185080" cy="302436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51944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DS Sofachrome"/>
              </a:rPr>
              <a:t>Закл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Я – красивая закла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Я нужна вам для 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Зря страницы не листа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99"/>
                </a:solidFill>
                <a:latin typeface="CentSchbook Win95BT"/>
              </a:rPr>
              <a:t>Где закладка, там чита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lines24[1]"/>
          <p:cNvPicPr/>
          <p:nvPr/>
        </p:nvPicPr>
        <p:blipFill>
          <a:blip r:embed="rId1"/>
          <a:stretch/>
        </p:blipFill>
        <p:spPr>
          <a:xfrm rot="20137800">
            <a:off x="1257480" y="4357800"/>
            <a:ext cx="7292880" cy="88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8dd8979ddff0244930fe80da20b60aaa">
            <a:hlinkClick r:id="rId2"/>
          </p:cNvPr>
          <p:cNvPicPr/>
          <p:nvPr/>
        </p:nvPicPr>
        <p:blipFill>
          <a:blip r:embed="rId3"/>
          <a:stretch/>
        </p:blipFill>
        <p:spPr>
          <a:xfrm rot="21206400">
            <a:off x="1763640" y="4005360"/>
            <a:ext cx="6742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</a:t>
            </a:r>
            <a:r>
              <a:rPr b="1" i="1" lang="en-US" sz="2800" spc="-1" strike="noStrike">
                <a:solidFill>
                  <a:srgbClr val="006600"/>
                </a:solidFill>
                <a:latin typeface="CentSchbook Win95BT"/>
              </a:rPr>
              <a:t>В добрый путь,</a:t>
            </a: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CentSchbook Win95BT"/>
              </a:rPr>
              <a:t>ребята!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</a:t>
            </a:r>
            <a:r>
              <a:rPr b="1" i="1" lang="en-US" sz="2800" spc="-1" strike="noStrike">
                <a:solidFill>
                  <a:srgbClr val="33cc33"/>
                </a:solidFill>
                <a:latin typeface="CentSchbook Win95BT"/>
              </a:rPr>
              <a:t>В вечный поиск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</a:t>
            </a:r>
            <a:r>
              <a:rPr b="1" i="1" lang="en-US" sz="2800" spc="-1" strike="noStrike">
                <a:solidFill>
                  <a:srgbClr val="33cc33"/>
                </a:solidFill>
                <a:latin typeface="CentSchbook Win95BT"/>
              </a:rPr>
              <a:t>Истины, добра и      </a:t>
            </a:r>
            <a:br>
              <a:rPr sz="2800"/>
            </a:br>
            <a:r>
              <a:rPr b="1" i="1" lang="en-US" sz="2800" spc="-1" strike="noStrike">
                <a:solidFill>
                  <a:srgbClr val="33cc33"/>
                </a:solidFill>
                <a:latin typeface="CentSchbook Win95BT"/>
              </a:rPr>
              <a:t>                              красоты,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 </a:t>
            </a:r>
            <a:r>
              <a:rPr b="1" i="1" lang="en-US" sz="2800" spc="-1" strike="noStrike">
                <a:solidFill>
                  <a:srgbClr val="006600"/>
                </a:solidFill>
                <a:latin typeface="CentSchbook Win95BT"/>
              </a:rPr>
              <a:t>Чтобы явью стали в 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CentSchbook Win95BT"/>
              </a:rPr>
              <a:t>                                         вашей жизни</a:t>
            </a:r>
            <a:br>
              <a:rPr sz="2800"/>
            </a:br>
            <a:r>
              <a:rPr b="1" i="1" lang="en-US" sz="2800" spc="-1" strike="noStrike">
                <a:solidFill>
                  <a:srgbClr val="a50021"/>
                </a:solidFill>
                <a:latin typeface="CentSchbook Win95BT"/>
              </a:rPr>
              <a:t>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CentSchbook Win95BT"/>
              </a:rPr>
              <a:t>Самые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CentSchbook Win95BT"/>
              </a:rPr>
              <a:t>                                    заветные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CentSchbook Win95BT"/>
              </a:rPr>
              <a:t>                                                  М Е Ч Т Ы 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3" descr="yel"/>
          <p:cNvPicPr/>
          <p:nvPr/>
        </p:nvPicPr>
        <p:blipFill>
          <a:blip r:embed="rId1"/>
          <a:stretch/>
        </p:blipFill>
        <p:spPr>
          <a:xfrm>
            <a:off x="5940360" y="981000"/>
            <a:ext cx="285840" cy="419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or"/>
          <p:cNvPicPr/>
          <p:nvPr/>
        </p:nvPicPr>
        <p:blipFill>
          <a:blip r:embed="rId2"/>
          <a:stretch/>
        </p:blipFill>
        <p:spPr>
          <a:xfrm>
            <a:off x="5219640" y="119700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gr"/>
          <p:cNvPicPr/>
          <p:nvPr/>
        </p:nvPicPr>
        <p:blipFill>
          <a:blip r:embed="rId3"/>
          <a:stretch/>
        </p:blipFill>
        <p:spPr>
          <a:xfrm>
            <a:off x="5724360" y="69228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or"/>
          <p:cNvPicPr/>
          <p:nvPr/>
        </p:nvPicPr>
        <p:blipFill>
          <a:blip r:embed="rId4"/>
          <a:stretch/>
        </p:blipFill>
        <p:spPr>
          <a:xfrm>
            <a:off x="5508720" y="90792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or"/>
          <p:cNvPicPr/>
          <p:nvPr/>
        </p:nvPicPr>
        <p:blipFill>
          <a:blip r:embed="rId5"/>
          <a:stretch/>
        </p:blipFill>
        <p:spPr>
          <a:xfrm>
            <a:off x="5940360" y="119700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or"/>
          <p:cNvPicPr/>
          <p:nvPr/>
        </p:nvPicPr>
        <p:blipFill>
          <a:blip r:embed="rId6"/>
          <a:stretch/>
        </p:blipFill>
        <p:spPr>
          <a:xfrm>
            <a:off x="5940360" y="27082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yel"/>
          <p:cNvPicPr/>
          <p:nvPr/>
        </p:nvPicPr>
        <p:blipFill>
          <a:blip r:embed="rId7"/>
          <a:stretch/>
        </p:blipFill>
        <p:spPr>
          <a:xfrm>
            <a:off x="5940360" y="1628640"/>
            <a:ext cx="285840" cy="41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gr"/>
          <p:cNvPicPr/>
          <p:nvPr/>
        </p:nvPicPr>
        <p:blipFill>
          <a:blip r:embed="rId8"/>
          <a:stretch/>
        </p:blipFill>
        <p:spPr>
          <a:xfrm>
            <a:off x="5940360" y="191628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gr"/>
          <p:cNvPicPr/>
          <p:nvPr/>
        </p:nvPicPr>
        <p:blipFill>
          <a:blip r:embed="rId9"/>
          <a:stretch/>
        </p:blipFill>
        <p:spPr>
          <a:xfrm>
            <a:off x="5940360" y="141300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gr"/>
          <p:cNvPicPr/>
          <p:nvPr/>
        </p:nvPicPr>
        <p:blipFill>
          <a:blip r:embed="rId10"/>
          <a:stretch/>
        </p:blipFill>
        <p:spPr>
          <a:xfrm>
            <a:off x="5940360" y="220500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gr"/>
          <p:cNvPicPr/>
          <p:nvPr/>
        </p:nvPicPr>
        <p:blipFill>
          <a:blip r:embed="rId11"/>
          <a:stretch/>
        </p:blipFill>
        <p:spPr>
          <a:xfrm>
            <a:off x="5364000" y="105264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0" descr="or"/>
          <p:cNvPicPr/>
          <p:nvPr/>
        </p:nvPicPr>
        <p:blipFill>
          <a:blip r:embed="rId12"/>
          <a:stretch/>
        </p:blipFill>
        <p:spPr>
          <a:xfrm>
            <a:off x="5940360" y="54936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1" descr="or"/>
          <p:cNvPicPr/>
          <p:nvPr/>
        </p:nvPicPr>
        <p:blipFill>
          <a:blip r:embed="rId13"/>
          <a:stretch/>
        </p:blipFill>
        <p:spPr>
          <a:xfrm>
            <a:off x="5940360" y="292428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4" descr="gr"/>
          <p:cNvPicPr/>
          <p:nvPr/>
        </p:nvPicPr>
        <p:blipFill>
          <a:blip r:embed="rId14"/>
          <a:stretch/>
        </p:blipFill>
        <p:spPr>
          <a:xfrm>
            <a:off x="5940360" y="83664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7" descr="yel"/>
          <p:cNvPicPr/>
          <p:nvPr/>
        </p:nvPicPr>
        <p:blipFill>
          <a:blip r:embed="rId15"/>
          <a:stretch/>
        </p:blipFill>
        <p:spPr>
          <a:xfrm>
            <a:off x="5940360" y="2492280"/>
            <a:ext cx="285840" cy="419040"/>
          </a:xfrm>
          <a:prstGeom prst="rect">
            <a:avLst/>
          </a:prstGeom>
          <a:ln w="0">
            <a:noFill/>
          </a:ln>
        </p:spPr>
      </p:pic>
      <p:pic>
        <p:nvPicPr>
          <p:cNvPr id="202" name="detskie_pesni_-_dvazhdi_dva_chetire.mp3" descr=""/>
          <p:cNvPicPr/>
          <p:nvPr/>
        </p:nvPicPr>
        <p:blipFill>
          <a:blip r:embed="rId16"/>
          <a:stretch/>
        </p:blipFill>
        <p:spPr>
          <a:xfrm>
            <a:off x="802800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60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DS Sofachrome"/>
              </a:rPr>
              <a:t>Наша шк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92360" y="476280"/>
            <a:ext cx="54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Посмотр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 </a:t>
            </a: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какая  школа  наш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Простор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                    </a:t>
            </a: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свет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                                  </a:t>
            </a: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вели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Шага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 </a:t>
            </a: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по  ступенькам  знаний смел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Помн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 </a:t>
            </a:r>
            <a:r>
              <a:rPr b="1" i="1" lang="en-US" sz="2400" spc="-1" strike="noStrike">
                <a:solidFill>
                  <a:srgbClr val="993366"/>
                </a:solidFill>
                <a:latin typeface="CentSchbook Win95BT"/>
              </a:rPr>
              <a:t>ученье – это серьезное     дел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1" descr="Наша школа"/>
          <p:cNvPicPr/>
          <p:nvPr/>
        </p:nvPicPr>
        <p:blipFill>
          <a:blip r:embed="rId1"/>
          <a:stretch/>
        </p:blipFill>
        <p:spPr>
          <a:xfrm>
            <a:off x="179280" y="1268280"/>
            <a:ext cx="3313080" cy="248292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 rot="21409800">
            <a:off x="538200" y="4334040"/>
            <a:ext cx="83516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обрый путь!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7" name="detskie_pesenki=nasha_shkolynaja_strana.mid" descr=""/>
          <p:cNvPicPr/>
          <p:nvPr/>
        </p:nvPicPr>
        <p:blipFill>
          <a:blip r:embed="rId4"/>
          <a:stretch/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5958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2060280"/>
            <a:ext cx="720108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entSchbook Win95BT"/>
              </a:rPr>
              <a:t>Мы теперь не просто дети – </a:t>
            </a: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CentSchbook Win95BT"/>
              </a:rPr>
              <a:t>мы </a:t>
            </a:r>
            <a:r>
              <a:rPr b="1" lang="en-US" sz="3200" spc="-1" strike="noStrike">
                <a:solidFill>
                  <a:srgbClr val="006600"/>
                </a:solidFill>
                <a:latin typeface="CentSchbook Win95BT"/>
              </a:rPr>
              <a:t>теперь </a:t>
            </a:r>
            <a:r>
              <a:rPr b="1" lang="en-US" sz="3200" spc="-1" strike="noStrike">
                <a:solidFill>
                  <a:srgbClr val="ff33cc"/>
                </a:solidFill>
                <a:latin typeface="CentSchbook Win95BT"/>
              </a:rPr>
              <a:t>ученик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Schbook Win95BT"/>
              </a:rPr>
              <a:t>Здравствуй, школ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фото школа"/>
          <p:cNvPicPr/>
          <p:nvPr/>
        </p:nvPicPr>
        <p:blipFill>
          <a:blip r:embed="rId1"/>
          <a:stretch/>
        </p:blipFill>
        <p:spPr>
          <a:xfrm>
            <a:off x="2124000" y="333360"/>
            <a:ext cx="4608720" cy="18716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91" name="Picture 27" descr="41067"/>
          <p:cNvPicPr/>
          <p:nvPr/>
        </p:nvPicPr>
        <p:blipFill>
          <a:blip r:embed="rId2"/>
          <a:stretch/>
        </p:blipFill>
        <p:spPr>
          <a:xfrm>
            <a:off x="2411280" y="4149720"/>
            <a:ext cx="3961080" cy="23036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92" name="detskie_pesni_-_uchat_v_shkole.mp3" descr=""/>
          <p:cNvPicPr/>
          <p:nvPr/>
        </p:nvPicPr>
        <p:blipFill>
          <a:blip r:embed="rId3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618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раздничный тор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 со школой встретиться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кусный торт вам испекли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б могли им восхититься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ечи Вам зажгл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т такой ширины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от такой вышины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рекрасен этот торт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и просится он в ро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давайте не зевай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ужно свечи задувайт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j0295241"/>
          <p:cNvPicPr/>
          <p:nvPr/>
        </p:nvPicPr>
        <p:blipFill>
          <a:blip r:embed="rId1"/>
          <a:stretch/>
        </p:blipFill>
        <p:spPr>
          <a:xfrm>
            <a:off x="2484360" y="189000"/>
            <a:ext cx="5545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13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DS Sofachrome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entSchbook Win95BT"/>
              </a:rPr>
              <a:t>Векторный </a:t>
            </a:r>
            <a:r>
              <a:rPr b="0" lang="en-US" sz="1600" spc="-1" strike="noStrike">
                <a:solidFill>
                  <a:srgbClr val="800000"/>
                </a:solidFill>
                <a:latin typeface="CentSchbook Win95BT"/>
              </a:rPr>
              <a:t>Clipart</a:t>
            </a:r>
            <a:r>
              <a:rPr b="0" lang="ru-RU" sz="1600" spc="-1" strike="noStrike">
                <a:solidFill>
                  <a:srgbClr val="800000"/>
                </a:solidFill>
                <a:latin typeface="CentSchbook Win95BT"/>
              </a:rPr>
              <a:t>,(школа), компания ООО «Медиа-сервис», М., 2000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Елкина Н.В., «1000 загадок»,Ярославль, Академия развития, 2002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Каирова И. А., «Азбука нравственного воспитания», М., «Просвещение», 1975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Кудыкина Н.В., «Дидактические игры и занимательные задания для первого класса», Киев, «Радянська школа», 1989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Кульневич С.В., «Анализ современного урока», издательство «Учитель», 2003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Масько Л. Г. Авторское стихотворение «Наша школа». Отрыв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Соколова Т. Е., рисунки, МОИПКРО, г. Мурман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Сухаревская У.Ю., «Технология интегрированного урока»,издательство «Учитель», 2003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ШаинскийВ., «Песни на музыку Шаинского», Первое музыкальное издательство, ООО «Элитайл», 2003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Шенгелай Г. Фотоснимки, студия «Алиса»,  г. Мончегорск, 2004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Шоган В.В., «Технология личностно-ориентированного урока», издательство «Учитель»,2003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entSchbook Win95BT"/>
              </a:rPr>
              <a:t>http://www.boiko.com.ua/images/upload/logotipmy.gi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comp[1]"/>
          <p:cNvPicPr/>
          <p:nvPr/>
        </p:nvPicPr>
        <p:blipFill>
          <a:blip r:embed="rId1"/>
          <a:stretch/>
        </p:blipFill>
        <p:spPr>
          <a:xfrm>
            <a:off x="6012000" y="260280"/>
            <a:ext cx="11523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Презентацию 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учитель 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ОУ «СОШ с. Нижняя Чернавка Вольского района Саратовской област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Андреянова Татьяна Иван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61308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Первый класс.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                             Роман Се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CentSchbook Win95BT"/>
              </a:rPr>
              <a:t>Я </a:t>
            </a: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спросил </a:t>
            </a:r>
            <a:r>
              <a:rPr b="1" i="1" lang="en-US" sz="2000" spc="-1" strike="noStrike">
                <a:solidFill>
                  <a:srgbClr val="ff3300"/>
                </a:solidFill>
                <a:latin typeface="CentSchbook Win95BT"/>
              </a:rPr>
              <a:t>у Галоч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-Что трудней всег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Она сказа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entSchbook Win95BT"/>
              </a:rPr>
              <a:t>-Палоч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Писать трудней вс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Тогда </a:t>
            </a:r>
            <a:r>
              <a:rPr b="1" i="1" lang="en-US" sz="2000" spc="-1" strike="noStrike">
                <a:solidFill>
                  <a:srgbClr val="080808"/>
                </a:solidFill>
                <a:latin typeface="CentSchbook Win95BT"/>
              </a:rPr>
              <a:t>спросил</a:t>
            </a:r>
            <a:r>
              <a:rPr b="1" i="1" lang="en-US" sz="2000" spc="-1" strike="noStrike">
                <a:solidFill>
                  <a:srgbClr val="ff3300"/>
                </a:solidFill>
                <a:latin typeface="CentSchbook Win95BT"/>
              </a:rPr>
              <a:t> у Жени</a:t>
            </a: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 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- Что трудней всег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Сказал он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entSchbook Win95BT"/>
              </a:rPr>
              <a:t>-Умно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На икс трудней вс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- Что на Земле трудней всего?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1c1c"/>
                </a:solidFill>
                <a:latin typeface="CentSchbook Win95BT"/>
              </a:rPr>
              <a:t>Я обратился </a:t>
            </a:r>
            <a:r>
              <a:rPr b="1" i="1" lang="en-US" sz="2000" spc="-1" strike="noStrike">
                <a:solidFill>
                  <a:srgbClr val="ff3300"/>
                </a:solidFill>
                <a:latin typeface="CentSchbook Win95BT"/>
              </a:rPr>
              <a:t>к Васе</a:t>
            </a:r>
            <a:r>
              <a:rPr b="1" i="1" lang="en-US" sz="1800" spc="-1" strike="noStrike">
                <a:solidFill>
                  <a:srgbClr val="ff3300"/>
                </a:solidFill>
                <a:latin typeface="CentSchbook Win95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 flipV="1" rot="10800000">
            <a:off x="394920" y="5228280"/>
            <a:ext cx="770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26920" y="544500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-</a:t>
            </a: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Трудней всего</a:t>
            </a: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Учиться в первом классе!</a:t>
            </a: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  <p:pic>
        <p:nvPicPr>
          <p:cNvPr id="97" name="Picture 6" descr="057_047[1]"/>
          <p:cNvPicPr/>
          <p:nvPr/>
        </p:nvPicPr>
        <p:blipFill>
          <a:blip r:embed="rId1"/>
          <a:stretch/>
        </p:blipFill>
        <p:spPr>
          <a:xfrm>
            <a:off x="6156360" y="5516640"/>
            <a:ext cx="1511280" cy="115236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Вот пришел желанный час.</a:t>
            </a:r>
            <a:br>
              <a:rPr sz="2800"/>
            </a:b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Ты зачислен в </a:t>
            </a: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первый класс</a:t>
            </a: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.</a:t>
            </a:r>
            <a:br>
              <a:rPr sz="2800"/>
            </a:b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А чтобы не было проблем</a:t>
            </a:r>
            <a:br>
              <a:rPr sz="2800"/>
            </a:b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Запомнить это нужно всем,</a:t>
            </a:r>
            <a:br>
              <a:rPr sz="2800"/>
            </a:b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Как учиться, как играть, </a:t>
            </a:r>
            <a:br>
              <a:rPr sz="2800"/>
            </a:b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У доски как отвеч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4797000"/>
            <a:ext cx="70675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Ты, дружок, послушай нас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entSchbook Win95BT"/>
              </a:rPr>
              <a:t>Мы даем тебе нак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bouquet01[1]"/>
          <p:cNvPicPr/>
          <p:nvPr/>
        </p:nvPicPr>
        <p:blipFill>
          <a:blip r:embed="rId3"/>
          <a:stretch/>
        </p:blipFill>
        <p:spPr>
          <a:xfrm>
            <a:off x="3635280" y="299736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20021005_143652"/>
          <p:cNvPicPr/>
          <p:nvPr/>
        </p:nvPicPr>
        <p:blipFill>
          <a:blip r:embed="rId5"/>
          <a:stretch/>
        </p:blipFill>
        <p:spPr>
          <a:xfrm>
            <a:off x="250920" y="2852640"/>
            <a:ext cx="2881080" cy="230508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103" name="Picture 6" descr="j0336775"/>
          <p:cNvPicPr/>
          <p:nvPr/>
        </p:nvPicPr>
        <p:blipFill>
          <a:blip r:embed="rId6"/>
          <a:stretch/>
        </p:blipFill>
        <p:spPr>
          <a:xfrm>
            <a:off x="6372360" y="76500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283653"/>
          <p:cNvPicPr/>
          <p:nvPr/>
        </p:nvPicPr>
        <p:blipFill>
          <a:blip r:embed="rId7"/>
          <a:stretch/>
        </p:blipFill>
        <p:spPr>
          <a:xfrm>
            <a:off x="5364000" y="3860640"/>
            <a:ext cx="2232360" cy="2160720"/>
          </a:xfrm>
          <a:prstGeom prst="rect">
            <a:avLst/>
          </a:prstGeom>
          <a:ln w="0">
            <a:noFill/>
          </a:ln>
        </p:spPr>
      </p:pic>
      <p:pic>
        <p:nvPicPr>
          <p:cNvPr id="105" name="detskie_pesni_-_prekrasnoe_daleko.mp3" descr=""/>
          <p:cNvPicPr/>
          <p:nvPr/>
        </p:nvPicPr>
        <p:blipFill>
          <a:blip r:embed="rId8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9556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872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Учитель спросит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адо вст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057_014[1]"/>
          <p:cNvPicPr/>
          <p:nvPr/>
        </p:nvPicPr>
        <p:blipFill>
          <a:blip r:embed="rId1"/>
          <a:stretch/>
        </p:blipFill>
        <p:spPr>
          <a:xfrm>
            <a:off x="5940360" y="3284640"/>
            <a:ext cx="2570400" cy="26654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109" name="Picture 6" descr="057_023.jpg"/>
          <p:cNvPicPr/>
          <p:nvPr/>
        </p:nvPicPr>
        <p:blipFill>
          <a:blip r:embed="rId2"/>
          <a:stretch/>
        </p:blipFill>
        <p:spPr>
          <a:xfrm>
            <a:off x="468360" y="260280"/>
            <a:ext cx="1727280" cy="158436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688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0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i?id=32239733&amp;tov=3"/>
          <p:cNvPicPr/>
          <p:nvPr/>
        </p:nvPicPr>
        <p:blipFill>
          <a:blip r:embed="rId1"/>
          <a:stretch/>
        </p:blipFill>
        <p:spPr>
          <a:xfrm>
            <a:off x="3059280" y="3213000"/>
            <a:ext cx="3744720" cy="30956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057_019[1]"/>
          <p:cNvPicPr/>
          <p:nvPr/>
        </p:nvPicPr>
        <p:blipFill>
          <a:blip r:embed="rId1"/>
          <a:stretch/>
        </p:blipFill>
        <p:spPr>
          <a:xfrm>
            <a:off x="3348000" y="3500280"/>
            <a:ext cx="2592360" cy="20894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116" name="Picture 5" descr="5_clr"/>
          <p:cNvPicPr/>
          <p:nvPr/>
        </p:nvPicPr>
        <p:blipFill>
          <a:blip r:embed="rId2"/>
          <a:stretch/>
        </p:blipFill>
        <p:spPr>
          <a:xfrm>
            <a:off x="4284720" y="4365720"/>
            <a:ext cx="323640" cy="647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CentSchbook Win95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RAV30"/>
          <p:cNvPicPr/>
          <p:nvPr/>
        </p:nvPicPr>
        <p:blipFill>
          <a:blip r:embed="rId1"/>
          <a:stretch/>
        </p:blipFill>
        <p:spPr>
          <a:xfrm>
            <a:off x="3708360" y="692280"/>
            <a:ext cx="1008000" cy="10094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Ребята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  </a:t>
            </a: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каким советам будете следо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чтобы убедить Васю в т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CentSchbook Win95BT"/>
              </a:rPr>
              <a:t>что в первом классе учиться не труд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entSchbook Win95BT"/>
              </a:rPr>
              <a:t>Что же  надо для этого 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45:21Z</dcterms:created>
  <dc:creator>Масько Л.Г.</dc:creator>
  <dc:description/>
  <dc:language>en-US</dc:language>
  <cp:lastModifiedBy>Customer</cp:lastModifiedBy>
  <dcterms:modified xsi:type="dcterms:W3CDTF">2013-01-24T16:33:04Z</dcterms:modified>
  <cp:revision>65</cp:revision>
  <dc:subject/>
  <dc:title>Мы теперь не просто дети –  мы теперь ученики!</dc:title>
</cp:coreProperties>
</file>