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40B-B6C0-4601-AC9E-EE625384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EF5-5F84-4A20-8A7F-5959806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D85-1263-4F7A-96A4-E68AA637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494-5B28-4384-8CFD-0C6D54A0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D70-05A9-40F4-BC2A-771D3DF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973-4C30-4554-B7A3-5D6EFA3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B0-0292-4E9C-B14A-2E1FEF2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DD4-A0B9-4F95-9243-DDA5B465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835-A5AF-4AAE-BBB5-C1709E1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410-0456-4998-8624-03CE970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557-17F9-4139-9EFC-E12BEC9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33E-AB98-4C8A-8A1F-EFD0D59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EEB9-DD86-441A-A408-81D2938B34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slide" Target="slide5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slide" Target="slide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48720" y="0"/>
            <a:ext cx="712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8360" y="0"/>
            <a:ext cx="2872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05840" y="875160"/>
            <a:ext cx="9364320" cy="6310440"/>
            <a:chOff x="1005840" y="875160"/>
            <a:chExt cx="9364320" cy="6310440"/>
          </a:xfrm>
        </p:grpSpPr>
        <p:sp>
          <p:nvSpPr>
            <p:cNvPr id="44" name=""/>
            <p:cNvSpPr/>
            <p:nvPr/>
          </p:nvSpPr>
          <p:spPr>
            <a:xfrm rot="795600">
              <a:off x="1403280" y="1798200"/>
              <a:ext cx="8569080" cy="4464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95600">
              <a:off x="1664640" y="877680"/>
              <a:ext cx="231120" cy="4465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2268360" y="32115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Показательные неравенства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68360" y="3716280"/>
            <a:ext cx="648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х типы и методы решения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437000"/>
            <a:ext cx="561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ddddd"/>
                </a:solidFill>
                <a:latin typeface="Arial"/>
              </a:rPr>
              <a:t>МОУ Пильнинская СОШ  № 2 имени Пушк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ddddd"/>
                </a:solidFill>
                <a:latin typeface="Arial"/>
              </a:rPr>
              <a:t>Учитель: Грачёва Е. 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108000" y="981000"/>
            <a:ext cx="8496360" cy="597708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14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417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422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423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ОПРЕДЕЛЕНИЕ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простейших показательных неравенств: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-36360" y="1484280"/>
            <a:ext cx="7848360" cy="5400720"/>
          </a:xfrm>
          <a:custGeom>
            <a:avLst/>
            <a:gdLst/>
            <a:ahLst/>
            <a:rect l="l" t="t" r="r" b="b"/>
            <a:pathLst>
              <a:path w="4944" h="3402">
                <a:moveTo>
                  <a:pt x="0" y="46"/>
                </a:moveTo>
                <a:lnTo>
                  <a:pt x="4627" y="862"/>
                </a:lnTo>
                <a:lnTo>
                  <a:pt x="4944" y="2178"/>
                </a:lnTo>
                <a:lnTo>
                  <a:pt x="3311" y="3402"/>
                </a:lnTo>
                <a:lnTo>
                  <a:pt x="0" y="3402"/>
                </a:lnTo>
                <a:lnTo>
                  <a:pt x="4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2276640"/>
            <a:ext cx="68421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1" lang="ru-RU" sz="2600" spc="-1" strike="noStrike">
                <a:solidFill>
                  <a:srgbClr val="ffffcc"/>
                </a:solidFill>
                <a:latin typeface="Arial Black"/>
              </a:rPr>
              <a:t>а</a:t>
            </a:r>
            <a:r>
              <a:rPr b="0" lang="ru-RU" sz="26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данное положительное, не равное единице число и </a:t>
            </a:r>
            <a:r>
              <a:rPr b="1" lang="en-US" sz="26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данное действительное число. Тогда неравенства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6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600" spc="-1" strike="noStrike" baseline="30000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b (a</a:t>
            </a:r>
            <a:r>
              <a:rPr b="0" lang="en-US" sz="26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600" spc="-1" strike="noStrike" baseline="30000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≥</a:t>
            </a:r>
            <a:r>
              <a:rPr b="0" lang="ru-RU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и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6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600" spc="-1" strike="noStrike" baseline="30000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b (a</a:t>
            </a:r>
            <a:r>
              <a:rPr b="0" lang="en-US" sz="26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600" spc="-1" strike="noStrike" baseline="30000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≤</a:t>
            </a:r>
            <a:r>
              <a:rPr b="0" lang="ru-RU" sz="2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cc"/>
                </a:solidFill>
                <a:latin typeface="Arial Black"/>
              </a:rPr>
              <a:t>b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зываются </a:t>
            </a:r>
            <a:r>
              <a:rPr b="0" lang="ru-RU" sz="2600" spc="-1" strike="noStrike">
                <a:solidFill>
                  <a:srgbClr val="ffffcc"/>
                </a:solidFill>
                <a:latin typeface="Arial Black"/>
              </a:rPr>
              <a:t>простейшими показательными неравенств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-108000" y="981000"/>
            <a:ext cx="8496360" cy="597708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30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433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438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439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ЧТО НАЗЫВАЕТС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решением неравенства?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11280" y="2565360"/>
            <a:ext cx="684216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ешением неравен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неизвестным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 число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х</a:t>
            </a:r>
            <a:r>
              <a:rPr b="0" lang="ru-RU" sz="28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ри подстановке которого в неравенство получается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-108000" y="981000"/>
            <a:ext cx="8496360" cy="5977080"/>
          </a:xfrm>
          <a:custGeom>
            <a:avLst/>
            <a:gdLst/>
            <a:ahLst/>
            <a:rect l="l" t="t" r="r" b="b"/>
            <a:pathLst>
              <a:path w="5352" h="3493">
                <a:moveTo>
                  <a:pt x="45" y="0"/>
                </a:moveTo>
                <a:lnTo>
                  <a:pt x="4899" y="998"/>
                </a:lnTo>
                <a:lnTo>
                  <a:pt x="5352" y="2404"/>
                </a:lnTo>
                <a:lnTo>
                  <a:pt x="4944" y="3447"/>
                </a:lnTo>
                <a:lnTo>
                  <a:pt x="0" y="3493"/>
                </a:lnTo>
                <a:lnTo>
                  <a:pt x="45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45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448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453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ЧТО ЗНАЧИТ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решить неравенство?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755640" y="2792520"/>
            <a:ext cx="68421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ешить неравен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, найти все его решения или показать, что их 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2340000" y="-27000"/>
            <a:ext cx="6840360" cy="1571400"/>
            <a:chOff x="2340000" y="-27000"/>
            <a:chExt cx="6840360" cy="1571400"/>
          </a:xfrm>
        </p:grpSpPr>
        <p:grpSp>
          <p:nvGrpSpPr>
            <p:cNvPr id="459" name=""/>
            <p:cNvGrpSpPr/>
            <p:nvPr/>
          </p:nvGrpSpPr>
          <p:grpSpPr>
            <a:xfrm>
              <a:off x="2340000" y="-27000"/>
              <a:ext cx="6839640" cy="936360"/>
              <a:chOff x="2340000" y="-27000"/>
              <a:chExt cx="6839640" cy="9363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2340000" y="-27000"/>
                <a:ext cx="6839640" cy="936360"/>
                <a:chOff x="2340000" y="-27000"/>
                <a:chExt cx="6839640" cy="936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340000" y="-27000"/>
                  <a:ext cx="6839640" cy="936360"/>
                </a:xfrm>
                <a:prstGeom prst="rect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40000" y="-27000"/>
                  <a:ext cx="156600" cy="228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2724480" y="44280"/>
                <a:ext cx="630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eaeaea"/>
                    </a:solidFill>
                    <a:latin typeface="Arial Black"/>
                  </a:rPr>
                  <a:t>Рассмотрим</a:t>
                </a:r>
                <a:r>
                  <a:rPr b="0" lang="ru-RU" sz="22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взаимное расположение графи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функции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y</a:t>
                </a:r>
                <a:r>
                  <a:rPr b="0" lang="ru-RU" sz="1800" spc="-1" strike="noStrike">
                    <a:solidFill>
                      <a:srgbClr val="ffffcc"/>
                    </a:solidFill>
                    <a:latin typeface="Arial Black"/>
                  </a:rPr>
                  <a:t>=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a</a:t>
                </a:r>
                <a:r>
                  <a:rPr b="0" lang="en-US" sz="1800" spc="-1" strike="noStrike" baseline="30000">
                    <a:solidFill>
                      <a:srgbClr val="ffffcc"/>
                    </a:solidFill>
                    <a:latin typeface="Arial Black"/>
                  </a:rPr>
                  <a:t>x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a&gt;0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a≠1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и прямой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Arial Black"/>
                  </a:rPr>
                  <a:t>y=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340000" y="823680"/>
              <a:ext cx="6840360" cy="72072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1268280"/>
            <a:ext cx="4356000" cy="4824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2360" y="1268280"/>
            <a:ext cx="2663640" cy="378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-108000" y="5734080"/>
            <a:ext cx="9252000" cy="1152360"/>
            <a:chOff x="-108000" y="5734080"/>
            <a:chExt cx="9252000" cy="1152360"/>
          </a:xfrm>
        </p:grpSpPr>
        <p:sp>
          <p:nvSpPr>
            <p:cNvPr id="468" name=""/>
            <p:cNvSpPr/>
            <p:nvPr/>
          </p:nvSpPr>
          <p:spPr>
            <a:xfrm>
              <a:off x="0" y="667044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4428360" y="188172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-108000" y="5734080"/>
              <a:ext cx="3313080" cy="1152360"/>
              <a:chOff x="-108000" y="5734080"/>
              <a:chExt cx="3313080" cy="1152360"/>
            </a:xfrm>
          </p:grpSpPr>
          <p:sp>
            <p:nvSpPr>
              <p:cNvPr id="471" name=""/>
              <p:cNvSpPr/>
              <p:nvPr/>
            </p:nvSpPr>
            <p:spPr>
              <a:xfrm>
                <a:off x="-36360" y="573408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-108000" y="580644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 txBox="1"/>
            <p:nvPr/>
          </p:nvSpPr>
          <p:spPr>
            <a:xfrm>
              <a:off x="395280" y="645624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395280" y="659916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908000" y="1243080"/>
                <a:ext cx="2303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58920" y="1563840"/>
            <a:ext cx="3090600" cy="4386240"/>
            <a:chOff x="1258920" y="1563840"/>
            <a:chExt cx="3090600" cy="4386240"/>
          </a:xfrm>
        </p:grpSpPr>
        <p:grpSp>
          <p:nvGrpSpPr>
            <p:cNvPr id="479" name=""/>
            <p:cNvGrpSpPr/>
            <p:nvPr/>
          </p:nvGrpSpPr>
          <p:grpSpPr>
            <a:xfrm>
              <a:off x="1258920" y="1563840"/>
              <a:ext cx="2808000" cy="4386240"/>
              <a:chOff x="1258920" y="1563840"/>
              <a:chExt cx="2808000" cy="43862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258920" y="1773360"/>
                <a:ext cx="2808000" cy="4176720"/>
                <a:chOff x="1258920" y="1773360"/>
                <a:chExt cx="2808000" cy="41767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258920" y="551808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2627280" y="1773360"/>
                  <a:ext cx="0" cy="417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590560" y="5472000"/>
                  <a:ext cx="71280" cy="71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589120" y="15638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989160" y="5243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258920" y="5807160"/>
            <a:ext cx="27367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8000" y="1268280"/>
            <a:ext cx="4356000" cy="482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8000" y="1268280"/>
            <a:ext cx="3097080" cy="378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91040" y="1235160"/>
                <a:ext cx="2754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5003640" y="1565280"/>
            <a:ext cx="3090600" cy="4386240"/>
            <a:chOff x="5003640" y="1565280"/>
            <a:chExt cx="3090600" cy="4386240"/>
          </a:xfrm>
        </p:grpSpPr>
        <p:grpSp>
          <p:nvGrpSpPr>
            <p:cNvPr id="491" name=""/>
            <p:cNvGrpSpPr/>
            <p:nvPr/>
          </p:nvGrpSpPr>
          <p:grpSpPr>
            <a:xfrm>
              <a:off x="5003640" y="1565280"/>
              <a:ext cx="2808000" cy="4386240"/>
              <a:chOff x="5003640" y="1565280"/>
              <a:chExt cx="2808000" cy="43862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003640" y="1774800"/>
                <a:ext cx="2808000" cy="4176720"/>
                <a:chOff x="5003640" y="1774800"/>
                <a:chExt cx="2808000" cy="41767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003640" y="551952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6372000" y="1774800"/>
                  <a:ext cx="0" cy="417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335280" y="5473440"/>
                  <a:ext cx="71280" cy="71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6333840" y="156528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7733880" y="5245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003640" y="5808600"/>
            <a:ext cx="27370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5600" y="57722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34200" y="577836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58920" y="4221000"/>
            <a:ext cx="1225440" cy="1079640"/>
          </a:xfrm>
          <a:custGeom>
            <a:avLst/>
            <a:gdLst/>
            <a:ahLst/>
            <a:rect l="l" t="t" r="r" b="b"/>
            <a:pathLst>
              <a:path w="772" h="680">
                <a:moveTo>
                  <a:pt x="0" y="680"/>
                </a:moveTo>
                <a:lnTo>
                  <a:pt x="681" y="635"/>
                </a:lnTo>
                <a:lnTo>
                  <a:pt x="772" y="0"/>
                </a:lnTo>
                <a:lnTo>
                  <a:pt x="454" y="4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7960" y="5373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4880" y="53006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rot="5400000">
            <a:off x="790560" y="2311920"/>
            <a:ext cx="3456000" cy="2521080"/>
          </a:xfrm>
          <a:custGeom>
            <a:avLst/>
            <a:gdLst/>
            <a:ahLst/>
            <a:rect l="l" t="t" r="r" b="b"/>
            <a:pathLst>
              <a:path w="1270" h="998">
                <a:moveTo>
                  <a:pt x="0" y="998"/>
                </a:moveTo>
                <a:cubicBezTo>
                  <a:pt x="11" y="832"/>
                  <a:pt x="23" y="666"/>
                  <a:pt x="91" y="545"/>
                </a:cubicBezTo>
                <a:cubicBezTo>
                  <a:pt x="159" y="424"/>
                  <a:pt x="211" y="364"/>
                  <a:pt x="408" y="273"/>
                </a:cubicBezTo>
                <a:cubicBezTo>
                  <a:pt x="605" y="182"/>
                  <a:pt x="1119" y="53"/>
                  <a:pt x="1270" y="0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87188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4789440" y="2347920"/>
            <a:ext cx="3456000" cy="2449440"/>
          </a:xfrm>
          <a:custGeom>
            <a:avLst/>
            <a:gdLst/>
            <a:ahLst/>
            <a:rect l="l" t="t" r="r" b="b"/>
            <a:pathLst>
              <a:path w="1270" h="998">
                <a:moveTo>
                  <a:pt x="0" y="998"/>
                </a:moveTo>
                <a:cubicBezTo>
                  <a:pt x="11" y="832"/>
                  <a:pt x="23" y="666"/>
                  <a:pt x="91" y="545"/>
                </a:cubicBezTo>
                <a:cubicBezTo>
                  <a:pt x="159" y="424"/>
                  <a:pt x="211" y="364"/>
                  <a:pt x="408" y="273"/>
                </a:cubicBezTo>
                <a:cubicBezTo>
                  <a:pt x="605" y="182"/>
                  <a:pt x="1119" y="53"/>
                  <a:pt x="1270" y="0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5640" y="48308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76160" y="54910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1640" y="548316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33360" y="5516640"/>
            <a:ext cx="27370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5640" y="51958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78440" y="5516640"/>
            <a:ext cx="27367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1640" y="522144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58920" y="2708280"/>
            <a:ext cx="27367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9120" y="2349360"/>
            <a:ext cx="16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49720" y="2708280"/>
            <a:ext cx="27370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51640" y="23464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34200" y="26654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93800" y="26654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0920" y="547380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37440" y="547380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20920" y="5483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06520" y="467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000" y="5491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67480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41840" y="2708280"/>
            <a:ext cx="0" cy="280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08720" y="5484960"/>
            <a:ext cx="7128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9000" y="267012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2320" y="2741760"/>
            <a:ext cx="0" cy="280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98840" y="548316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00560" y="544500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16560" y="544500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rot="20878200">
            <a:off x="3965400" y="2747520"/>
            <a:ext cx="3170520" cy="381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53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53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25520" y="12574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545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546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 №1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-3240" y="189000"/>
            <a:ext cx="6193080" cy="3168720"/>
            <a:chOff x="-3240" y="189000"/>
            <a:chExt cx="6193080" cy="3168720"/>
          </a:xfrm>
        </p:grpSpPr>
        <p:sp>
          <p:nvSpPr>
            <p:cNvPr id="550" name=""/>
            <p:cNvSpPr/>
            <p:nvPr/>
          </p:nvSpPr>
          <p:spPr>
            <a:xfrm>
              <a:off x="-3240" y="189000"/>
              <a:ext cx="6193080" cy="3168720"/>
            </a:xfrm>
            <a:custGeom>
              <a:avLst/>
              <a:gdLst/>
              <a:ahLst/>
              <a:rect l="l" t="t" r="r" b="b"/>
              <a:pathLst>
                <a:path w="3901" h="1407">
                  <a:moveTo>
                    <a:pt x="0" y="0"/>
                  </a:moveTo>
                  <a:lnTo>
                    <a:pt x="3901" y="273"/>
                  </a:lnTo>
                  <a:lnTo>
                    <a:pt x="3674" y="1225"/>
                  </a:lnTo>
                  <a:lnTo>
                    <a:pt x="0" y="14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765000"/>
              <a:ext cx="5796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</a:rPr>
                <a:t>b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≤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ямая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не пересекает график функции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.к. расположена ниже кривой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y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поэтому неравенства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&gt;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(a</a:t>
              </a:r>
              <a:r>
                <a:rPr b="0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0" lang="ru-RU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≥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b)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олняются при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R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а неравенства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a</a:t>
              </a:r>
              <a:r>
                <a:rPr b="1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&lt;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b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(a</a:t>
              </a:r>
              <a:r>
                <a:rPr b="1" lang="en-US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x</a:t>
              </a:r>
              <a:r>
                <a:rPr b="1" lang="ru-RU" sz="2400" spc="-1" strike="noStrike" baseline="30000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≤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 Black"/>
                  <a:ea typeface="Times New Roman"/>
                </a:rPr>
                <a:t>b)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не имеют решения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4819680" y="1914480"/>
                  <a:ext cx="3618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069240" y="3135600"/>
            <a:ext cx="2401920" cy="768600"/>
            <a:chOff x="6069240" y="3135600"/>
            <a:chExt cx="2401920" cy="768600"/>
          </a:xfrm>
        </p:grpSpPr>
        <p:sp>
          <p:nvSpPr>
            <p:cNvPr id="554" name=""/>
            <p:cNvSpPr/>
            <p:nvPr/>
          </p:nvSpPr>
          <p:spPr>
            <a:xfrm rot="21448800">
              <a:off x="6082560" y="3187440"/>
              <a:ext cx="2374920" cy="664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1448800">
              <a:off x="8397720" y="3147840"/>
              <a:ext cx="55800" cy="6663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059880" y="3976200"/>
            <a:ext cx="2342520" cy="830160"/>
            <a:chOff x="6059880" y="3976200"/>
            <a:chExt cx="2342520" cy="830160"/>
          </a:xfrm>
        </p:grpSpPr>
        <p:sp>
          <p:nvSpPr>
            <p:cNvPr id="557" name=""/>
            <p:cNvSpPr/>
            <p:nvPr/>
          </p:nvSpPr>
          <p:spPr>
            <a:xfrm rot="226800">
              <a:off x="6079320" y="4051080"/>
              <a:ext cx="2303280" cy="671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26800">
              <a:off x="8322840" y="4131720"/>
              <a:ext cx="54000" cy="6732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55200" y="4707720"/>
            <a:ext cx="2507400" cy="938160"/>
            <a:chOff x="6055200" y="4707720"/>
            <a:chExt cx="2507400" cy="938160"/>
          </a:xfrm>
        </p:grpSpPr>
        <p:sp>
          <p:nvSpPr>
            <p:cNvPr id="560" name=""/>
            <p:cNvSpPr/>
            <p:nvPr/>
          </p:nvSpPr>
          <p:spPr>
            <a:xfrm rot="21215400">
              <a:off x="6084720" y="4842000"/>
              <a:ext cx="2448000" cy="669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1215400">
              <a:off x="8465760" y="4724280"/>
              <a:ext cx="57600" cy="6706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127560" y="5767560"/>
            <a:ext cx="2421000" cy="864000"/>
            <a:chOff x="6127560" y="5767560"/>
            <a:chExt cx="2421000" cy="864000"/>
          </a:xfrm>
        </p:grpSpPr>
        <p:sp>
          <p:nvSpPr>
            <p:cNvPr id="563" name=""/>
            <p:cNvSpPr/>
            <p:nvPr/>
          </p:nvSpPr>
          <p:spPr>
            <a:xfrm rot="264000">
              <a:off x="6149520" y="5857560"/>
              <a:ext cx="2376360" cy="671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64000">
              <a:off x="8463240" y="5957280"/>
              <a:ext cx="55800" cy="6732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619280" y="4869000"/>
            <a:ext cx="4247640" cy="792000"/>
            <a:chOff x="1619280" y="4869000"/>
            <a:chExt cx="4247640" cy="792000"/>
          </a:xfrm>
        </p:grpSpPr>
        <p:sp>
          <p:nvSpPr>
            <p:cNvPr id="566" name=""/>
            <p:cNvSpPr/>
            <p:nvPr/>
          </p:nvSpPr>
          <p:spPr>
            <a:xfrm>
              <a:off x="1619280" y="4869000"/>
              <a:ext cx="424764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19280" y="4869000"/>
              <a:ext cx="4247640" cy="71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619280" y="3286080"/>
            <a:ext cx="4247640" cy="719280"/>
            <a:chOff x="1619280" y="3286080"/>
            <a:chExt cx="4247640" cy="719280"/>
          </a:xfrm>
        </p:grpSpPr>
        <p:sp>
          <p:nvSpPr>
            <p:cNvPr id="569" name=""/>
            <p:cNvSpPr/>
            <p:nvPr/>
          </p:nvSpPr>
          <p:spPr>
            <a:xfrm>
              <a:off x="1619280" y="3286080"/>
              <a:ext cx="4247640" cy="719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19280" y="3940560"/>
              <a:ext cx="4247640" cy="644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619280" y="4076640"/>
            <a:ext cx="4247640" cy="720720"/>
            <a:chOff x="1619280" y="4076640"/>
            <a:chExt cx="4247640" cy="720720"/>
          </a:xfrm>
        </p:grpSpPr>
        <p:sp>
          <p:nvSpPr>
            <p:cNvPr id="572" name=""/>
            <p:cNvSpPr/>
            <p:nvPr/>
          </p:nvSpPr>
          <p:spPr>
            <a:xfrm>
              <a:off x="1619280" y="4076640"/>
              <a:ext cx="4247640" cy="720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5400000">
              <a:off x="5438880" y="4369680"/>
              <a:ext cx="720720" cy="1346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619280" y="5734080"/>
            <a:ext cx="4249440" cy="719280"/>
            <a:chOff x="1619280" y="5734080"/>
            <a:chExt cx="4249440" cy="719280"/>
          </a:xfrm>
        </p:grpSpPr>
        <p:sp>
          <p:nvSpPr>
            <p:cNvPr id="575" name=""/>
            <p:cNvSpPr/>
            <p:nvPr/>
          </p:nvSpPr>
          <p:spPr>
            <a:xfrm>
              <a:off x="1619280" y="5734080"/>
              <a:ext cx="4249440" cy="719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rot="5400000">
              <a:off x="1326960" y="6026400"/>
              <a:ext cx="719280" cy="134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989000" y="3425760"/>
                <a:ext cx="3602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праведлив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юбых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844640" y="4005360"/>
                <a:ext cx="3843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праведлив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юбых</m:t>
                    </m:r>
                    <m:r>
                      <m:t xml:space="preserve"> 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556000" y="5084640"/>
                <a:ext cx="23349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е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484360" y="5661000"/>
                <a:ext cx="2659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ени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е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443640" y="3398760"/>
                <a:ext cx="1604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372360" y="3973680"/>
                <a:ext cx="189072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6443640" y="5041800"/>
                <a:ext cx="1720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405480" y="5773680"/>
                <a:ext cx="19828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468360" y="-27000"/>
            <a:ext cx="8686440" cy="1838160"/>
            <a:chOff x="468360" y="-27000"/>
            <a:chExt cx="8686440" cy="1838160"/>
          </a:xfrm>
        </p:grpSpPr>
        <p:grpSp>
          <p:nvGrpSpPr>
            <p:cNvPr id="593" name=""/>
            <p:cNvGrpSpPr/>
            <p:nvPr/>
          </p:nvGrpSpPr>
          <p:grpSpPr>
            <a:xfrm>
              <a:off x="502560" y="-27000"/>
              <a:ext cx="8636760" cy="1152000"/>
              <a:chOff x="502560" y="-27000"/>
              <a:chExt cx="8636760" cy="1152000"/>
            </a:xfrm>
          </p:grpSpPr>
          <p:sp>
            <p:nvSpPr>
              <p:cNvPr id="594" name=""/>
              <p:cNvSpPr/>
              <p:nvPr/>
            </p:nvSpPr>
            <p:spPr>
              <a:xfrm>
                <a:off x="502560" y="-27000"/>
                <a:ext cx="863676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 №2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0256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4683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68360" y="1557360"/>
            <a:ext cx="6912000" cy="5327640"/>
          </a:xfrm>
          <a:custGeom>
            <a:avLst/>
            <a:gdLst/>
            <a:ahLst/>
            <a:rect l="l" t="t" r="r" b="b"/>
            <a:pathLst>
              <a:path w="3674" h="771">
                <a:moveTo>
                  <a:pt x="0" y="771"/>
                </a:moveTo>
                <a:lnTo>
                  <a:pt x="317" y="272"/>
                </a:lnTo>
                <a:lnTo>
                  <a:pt x="3674" y="0"/>
                </a:lnTo>
                <a:lnTo>
                  <a:pt x="3674" y="771"/>
                </a:lnTo>
                <a:lnTo>
                  <a:pt x="0" y="77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0" y="1316160"/>
            <a:ext cx="4356000" cy="4849200"/>
            <a:chOff x="0" y="1316160"/>
            <a:chExt cx="4356000" cy="4849200"/>
          </a:xfrm>
        </p:grpSpPr>
        <p:grpSp>
          <p:nvGrpSpPr>
            <p:cNvPr id="599" name=""/>
            <p:cNvGrpSpPr/>
            <p:nvPr/>
          </p:nvGrpSpPr>
          <p:grpSpPr>
            <a:xfrm>
              <a:off x="0" y="1316160"/>
              <a:ext cx="4356000" cy="4849200"/>
              <a:chOff x="0" y="1316160"/>
              <a:chExt cx="4356000" cy="48492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1341360"/>
                <a:ext cx="4356000" cy="482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692360" y="1341360"/>
                <a:ext cx="2663640" cy="377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2" name=""/>
                  <p:cNvSpPr txBox="1"/>
                  <p:nvPr/>
                </p:nvSpPr>
                <p:spPr>
                  <a:xfrm>
                    <a:off x="1941480" y="1316160"/>
                    <a:ext cx="2235240" cy="40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03" name=""/>
            <p:cNvGrpSpPr/>
            <p:nvPr/>
          </p:nvGrpSpPr>
          <p:grpSpPr>
            <a:xfrm>
              <a:off x="1258920" y="1636560"/>
              <a:ext cx="3090600" cy="4385160"/>
              <a:chOff x="1258920" y="1636560"/>
              <a:chExt cx="3090600" cy="438516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1258920" y="1636560"/>
                <a:ext cx="3090600" cy="4385160"/>
                <a:chOff x="1258920" y="1636560"/>
                <a:chExt cx="3090600" cy="438516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1258920" y="1636560"/>
                  <a:ext cx="2808000" cy="4385160"/>
                  <a:chOff x="1258920" y="1636560"/>
                  <a:chExt cx="2808000" cy="4385160"/>
                </a:xfrm>
              </p:grpSpPr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1258920" y="1845360"/>
                    <a:ext cx="2808000" cy="4176360"/>
                    <a:chOff x="1258920" y="1845360"/>
                    <a:chExt cx="2808000" cy="417636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258920" y="5590080"/>
                      <a:ext cx="2808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V="1">
                      <a:off x="2627280" y="1845360"/>
                      <a:ext cx="0" cy="4176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2590560" y="5544000"/>
                      <a:ext cx="71280" cy="71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2589120" y="1636560"/>
                    <a:ext cx="431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"/>
                <p:cNvSpPr/>
                <p:nvPr/>
              </p:nvSpPr>
              <p:spPr>
                <a:xfrm>
                  <a:off x="3989160" y="53161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2340000" y="5536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1258920" y="3389400"/>
            <a:ext cx="27367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7040" y="3357720"/>
            <a:ext cx="7164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rot="5400000">
            <a:off x="790560" y="2385000"/>
            <a:ext cx="3456000" cy="2521080"/>
          </a:xfrm>
          <a:custGeom>
            <a:avLst/>
            <a:gdLst/>
            <a:ahLst/>
            <a:rect l="l" t="t" r="r" b="b"/>
            <a:pathLst>
              <a:path w="1270" h="998">
                <a:moveTo>
                  <a:pt x="0" y="998"/>
                </a:moveTo>
                <a:cubicBezTo>
                  <a:pt x="11" y="832"/>
                  <a:pt x="23" y="666"/>
                  <a:pt x="91" y="545"/>
                </a:cubicBezTo>
                <a:cubicBezTo>
                  <a:pt x="159" y="424"/>
                  <a:pt x="211" y="364"/>
                  <a:pt x="408" y="273"/>
                </a:cubicBezTo>
                <a:cubicBezTo>
                  <a:pt x="605" y="182"/>
                  <a:pt x="1119" y="53"/>
                  <a:pt x="1270" y="0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93236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48000" y="335592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1476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86160" y="343044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64000" y="55562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48000" y="55562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32000" y="551808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92360" y="551808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6920" y="30211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95640" y="5256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55680" y="554976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33520" y="46990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629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632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341964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11640" y="2781360"/>
            <a:ext cx="4788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для каждого 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 Black"/>
              </a:rPr>
              <a:t>1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а графика фун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находится выше прямой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для каждого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 Black"/>
              </a:rPr>
              <a:t>2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иже прямо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60360" y="38880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&gt; 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прямая 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у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пересекает график функции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3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      в единственной точке, абсцисса которой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300" spc="-1" strike="noStrike" baseline="-25000">
                <a:solidFill>
                  <a:srgbClr val="ffffcc"/>
                </a:solidFill>
                <a:latin typeface="Arial Black"/>
              </a:rPr>
              <a:t>0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log</a:t>
            </a:r>
            <a:r>
              <a:rPr b="0" lang="en-US" sz="2300" spc="-1" strike="noStrike" baseline="-25000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14480" y="55101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158920" y="519732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76600" y="250668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493560" y="-27000"/>
            <a:ext cx="8686440" cy="1838160"/>
            <a:chOff x="493560" y="-27000"/>
            <a:chExt cx="8686440" cy="1838160"/>
          </a:xfrm>
        </p:grpSpPr>
        <p:grpSp>
          <p:nvGrpSpPr>
            <p:cNvPr id="643" name=""/>
            <p:cNvGrpSpPr/>
            <p:nvPr/>
          </p:nvGrpSpPr>
          <p:grpSpPr>
            <a:xfrm>
              <a:off x="527760" y="-27000"/>
              <a:ext cx="8636760" cy="1152000"/>
              <a:chOff x="527760" y="-27000"/>
              <a:chExt cx="8636760" cy="1152000"/>
            </a:xfrm>
          </p:grpSpPr>
          <p:sp>
            <p:nvSpPr>
              <p:cNvPr id="644" name=""/>
              <p:cNvSpPr/>
              <p:nvPr/>
            </p:nvSpPr>
            <p:spPr>
              <a:xfrm>
                <a:off x="527760" y="-27000"/>
                <a:ext cx="863676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ВЫВОД №2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7760" y="743040"/>
                <a:ext cx="1980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493560" y="1019160"/>
              <a:ext cx="868644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268360" y="1557360"/>
            <a:ext cx="6912000" cy="5327640"/>
          </a:xfrm>
          <a:custGeom>
            <a:avLst/>
            <a:gdLst/>
            <a:ahLst/>
            <a:rect l="l" t="t" r="r" b="b"/>
            <a:pathLst>
              <a:path w="3674" h="771">
                <a:moveTo>
                  <a:pt x="0" y="771"/>
                </a:moveTo>
                <a:lnTo>
                  <a:pt x="317" y="272"/>
                </a:lnTo>
                <a:lnTo>
                  <a:pt x="3674" y="0"/>
                </a:lnTo>
                <a:lnTo>
                  <a:pt x="3674" y="771"/>
                </a:lnTo>
                <a:lnTo>
                  <a:pt x="0" y="77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1222200"/>
            <a:ext cx="4356000" cy="4870800"/>
            <a:chOff x="0" y="1222200"/>
            <a:chExt cx="4356000" cy="4870800"/>
          </a:xfrm>
        </p:grpSpPr>
        <p:grpSp>
          <p:nvGrpSpPr>
            <p:cNvPr id="649" name=""/>
            <p:cNvGrpSpPr/>
            <p:nvPr/>
          </p:nvGrpSpPr>
          <p:grpSpPr>
            <a:xfrm>
              <a:off x="0" y="1222200"/>
              <a:ext cx="4356000" cy="4870800"/>
              <a:chOff x="0" y="1222200"/>
              <a:chExt cx="4356000" cy="487080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1268280"/>
                <a:ext cx="4356000" cy="482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03280" y="1268280"/>
                <a:ext cx="2952720" cy="378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2" name=""/>
                  <p:cNvSpPr txBox="1"/>
                  <p:nvPr/>
                </p:nvSpPr>
                <p:spPr>
                  <a:xfrm>
                    <a:off x="1547640" y="1222200"/>
                    <a:ext cx="268776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3" name=""/>
            <p:cNvGrpSpPr/>
            <p:nvPr/>
          </p:nvGrpSpPr>
          <p:grpSpPr>
            <a:xfrm>
              <a:off x="1258920" y="1563840"/>
              <a:ext cx="3090600" cy="4386240"/>
              <a:chOff x="1258920" y="1563840"/>
              <a:chExt cx="3090600" cy="438624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258920" y="1563840"/>
                <a:ext cx="2808000" cy="4386240"/>
                <a:chOff x="1258920" y="1563840"/>
                <a:chExt cx="2808000" cy="438624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1258920" y="1773360"/>
                  <a:ext cx="2808000" cy="4176720"/>
                  <a:chOff x="1258920" y="1773360"/>
                  <a:chExt cx="2808000" cy="417672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1258920" y="5518080"/>
                    <a:ext cx="2808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V="1">
                    <a:off x="2627280" y="1773360"/>
                    <a:ext cx="0" cy="4176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590560" y="5472000"/>
                    <a:ext cx="71280" cy="71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9" name=""/>
                <p:cNvSpPr/>
                <p:nvPr/>
              </p:nvSpPr>
              <p:spPr>
                <a:xfrm>
                  <a:off x="2589120" y="15638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3989160" y="52437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2365200" y="547524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258920" y="3316320"/>
            <a:ext cx="273672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97040" y="32846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16200" y="5445000"/>
            <a:ext cx="5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82760" y="5438880"/>
            <a:ext cx="47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08360" y="294804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y=b, b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86280" y="548316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87640" y="5445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671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674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 rot="16200000">
            <a:off x="1044360" y="2347560"/>
            <a:ext cx="3456000" cy="2449800"/>
          </a:xfrm>
          <a:custGeom>
            <a:avLst/>
            <a:gdLst/>
            <a:ahLst/>
            <a:rect l="l" t="t" r="r" b="b"/>
            <a:pathLst>
              <a:path w="1270" h="998">
                <a:moveTo>
                  <a:pt x="0" y="998"/>
                </a:moveTo>
                <a:cubicBezTo>
                  <a:pt x="11" y="832"/>
                  <a:pt x="23" y="666"/>
                  <a:pt x="91" y="545"/>
                </a:cubicBezTo>
                <a:cubicBezTo>
                  <a:pt x="159" y="424"/>
                  <a:pt x="211" y="364"/>
                  <a:pt x="408" y="273"/>
                </a:cubicBezTo>
                <a:cubicBezTo>
                  <a:pt x="605" y="182"/>
                  <a:pt x="1119" y="53"/>
                  <a:pt x="1270" y="0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84344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0080" y="32828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00320" y="5132520"/>
            <a:ext cx="71640" cy="7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56000" y="2852640"/>
            <a:ext cx="4788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для каждого 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 Black"/>
              </a:rPr>
              <a:t>1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у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а графика фун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находится выше прямой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для каждого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Black"/>
              </a:rPr>
              <a:t>2</a:t>
            </a:r>
            <a:r>
              <a:rPr b="1" lang="ru-RU" sz="2400" spc="-1" strike="noStrike" baseline="-25000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 Black"/>
              </a:rPr>
              <a:t>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иже прямо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46480" y="47671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41480" y="3357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08000" y="548316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717560" y="2492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79400" y="548316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9400" y="243360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85920" y="38880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&gt; 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0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прямая 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у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пересекает график функции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y</a:t>
            </a:r>
            <a:r>
              <a:rPr b="0" lang="ru-RU" sz="23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300" spc="-1" strike="noStrike" baseline="30000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               в единственной точке, абсцисса которой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x</a:t>
            </a:r>
            <a:r>
              <a:rPr b="0" lang="ru-RU" sz="2300" spc="-1" strike="noStrike" baseline="-25000">
                <a:solidFill>
                  <a:srgbClr val="ffffcc"/>
                </a:solidFill>
                <a:latin typeface="Arial Black"/>
              </a:rPr>
              <a:t>0 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log</a:t>
            </a:r>
            <a:r>
              <a:rPr b="0" lang="en-US" sz="2300" spc="-1" strike="noStrike" baseline="-25000">
                <a:solidFill>
                  <a:srgbClr val="ffffcc"/>
                </a:solidFill>
                <a:latin typeface="Arial Black"/>
              </a:rPr>
              <a:t>a</a:t>
            </a:r>
            <a:r>
              <a:rPr b="0" lang="en-US" sz="2300" spc="-1" strike="noStrike">
                <a:solidFill>
                  <a:srgbClr val="ffffcc"/>
                </a:solidFill>
                <a:latin typeface="Arial Black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0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691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692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Простейшие показательные неравенства</a:t>
                </a: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 rot="20485800">
            <a:off x="5289120" y="1915920"/>
            <a:ext cx="2738520" cy="345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867360" y="2446560"/>
            <a:ext cx="1877040" cy="768960"/>
            <a:chOff x="6867360" y="2446560"/>
            <a:chExt cx="1877040" cy="768960"/>
          </a:xfrm>
        </p:grpSpPr>
        <p:sp>
          <p:nvSpPr>
            <p:cNvPr id="697" name=""/>
            <p:cNvSpPr/>
            <p:nvPr/>
          </p:nvSpPr>
          <p:spPr>
            <a:xfrm rot="21588000">
              <a:off x="6868440" y="2476800"/>
              <a:ext cx="1873080" cy="735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1588000">
              <a:off x="8699040" y="2446200"/>
              <a:ext cx="43920" cy="73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867360" y="3454560"/>
            <a:ext cx="1877040" cy="768960"/>
            <a:chOff x="6867360" y="3454560"/>
            <a:chExt cx="1877040" cy="768960"/>
          </a:xfrm>
        </p:grpSpPr>
        <p:sp>
          <p:nvSpPr>
            <p:cNvPr id="700" name=""/>
            <p:cNvSpPr/>
            <p:nvPr/>
          </p:nvSpPr>
          <p:spPr>
            <a:xfrm rot="21588000">
              <a:off x="6868440" y="3484800"/>
              <a:ext cx="1873080" cy="735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1588000">
              <a:off x="8699040" y="3454200"/>
              <a:ext cx="43920" cy="73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867360" y="4462560"/>
            <a:ext cx="1877040" cy="769680"/>
            <a:chOff x="6867360" y="4462560"/>
            <a:chExt cx="1877040" cy="769680"/>
          </a:xfrm>
        </p:grpSpPr>
        <p:sp>
          <p:nvSpPr>
            <p:cNvPr id="703" name=""/>
            <p:cNvSpPr/>
            <p:nvPr/>
          </p:nvSpPr>
          <p:spPr>
            <a:xfrm rot="21588000">
              <a:off x="6868440" y="4493160"/>
              <a:ext cx="1873080" cy="73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1588000">
              <a:off x="8699040" y="4462200"/>
              <a:ext cx="43920" cy="736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714920" y="4508640"/>
            <a:ext cx="1873080" cy="720720"/>
            <a:chOff x="4714920" y="4508640"/>
            <a:chExt cx="1873080" cy="720720"/>
          </a:xfrm>
        </p:grpSpPr>
        <p:sp>
          <p:nvSpPr>
            <p:cNvPr id="706" name=""/>
            <p:cNvSpPr/>
            <p:nvPr/>
          </p:nvSpPr>
          <p:spPr>
            <a:xfrm>
              <a:off x="4714920" y="450864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14920" y="450864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13120" y="3500280"/>
            <a:ext cx="1873080" cy="720720"/>
            <a:chOff x="4713120" y="3500280"/>
            <a:chExt cx="1873080" cy="720720"/>
          </a:xfrm>
        </p:grpSpPr>
        <p:sp>
          <p:nvSpPr>
            <p:cNvPr id="709" name=""/>
            <p:cNvSpPr/>
            <p:nvPr/>
          </p:nvSpPr>
          <p:spPr>
            <a:xfrm>
              <a:off x="4713120" y="350028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13120" y="350028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14920" y="2492280"/>
            <a:ext cx="1873080" cy="720720"/>
            <a:chOff x="4714920" y="2492280"/>
            <a:chExt cx="1873080" cy="720720"/>
          </a:xfrm>
        </p:grpSpPr>
        <p:sp>
          <p:nvSpPr>
            <p:cNvPr id="712" name=""/>
            <p:cNvSpPr/>
            <p:nvPr/>
          </p:nvSpPr>
          <p:spPr>
            <a:xfrm>
              <a:off x="4714920" y="249228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14920" y="249228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 rot="982200">
            <a:off x="969480" y="2060640"/>
            <a:ext cx="2738520" cy="345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542680" y="4462560"/>
            <a:ext cx="1877400" cy="769680"/>
            <a:chOff x="2542680" y="4462560"/>
            <a:chExt cx="1877400" cy="769680"/>
          </a:xfrm>
        </p:grpSpPr>
        <p:sp>
          <p:nvSpPr>
            <p:cNvPr id="716" name=""/>
            <p:cNvSpPr/>
            <p:nvPr/>
          </p:nvSpPr>
          <p:spPr>
            <a:xfrm rot="21588000">
              <a:off x="2543760" y="4493160"/>
              <a:ext cx="1873440" cy="73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1588000">
              <a:off x="4374720" y="4462200"/>
              <a:ext cx="43920" cy="736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2545920" y="3454560"/>
            <a:ext cx="1877400" cy="768960"/>
            <a:chOff x="2545920" y="3454560"/>
            <a:chExt cx="1877400" cy="768960"/>
          </a:xfrm>
        </p:grpSpPr>
        <p:sp>
          <p:nvSpPr>
            <p:cNvPr id="719" name=""/>
            <p:cNvSpPr/>
            <p:nvPr/>
          </p:nvSpPr>
          <p:spPr>
            <a:xfrm rot="21588000">
              <a:off x="2547000" y="3484800"/>
              <a:ext cx="1873440" cy="735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1588000">
              <a:off x="4377960" y="3454200"/>
              <a:ext cx="43920" cy="73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545920" y="2446560"/>
            <a:ext cx="1877400" cy="768960"/>
            <a:chOff x="2545920" y="2446560"/>
            <a:chExt cx="1877400" cy="768960"/>
          </a:xfrm>
        </p:grpSpPr>
        <p:sp>
          <p:nvSpPr>
            <p:cNvPr id="722" name=""/>
            <p:cNvSpPr/>
            <p:nvPr/>
          </p:nvSpPr>
          <p:spPr>
            <a:xfrm rot="21588000">
              <a:off x="2547000" y="2476800"/>
              <a:ext cx="1873440" cy="735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1588000">
              <a:off x="4377960" y="2446200"/>
              <a:ext cx="43920" cy="736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22200" y="4508640"/>
            <a:ext cx="1873080" cy="720720"/>
            <a:chOff x="322200" y="4508640"/>
            <a:chExt cx="1873080" cy="720720"/>
          </a:xfrm>
        </p:grpSpPr>
        <p:sp>
          <p:nvSpPr>
            <p:cNvPr id="725" name=""/>
            <p:cNvSpPr/>
            <p:nvPr/>
          </p:nvSpPr>
          <p:spPr>
            <a:xfrm>
              <a:off x="322200" y="450864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2200" y="450864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22200" y="3500280"/>
            <a:ext cx="1873080" cy="720720"/>
            <a:chOff x="322200" y="3500280"/>
            <a:chExt cx="1873080" cy="720720"/>
          </a:xfrm>
        </p:grpSpPr>
        <p:sp>
          <p:nvSpPr>
            <p:cNvPr id="728" name=""/>
            <p:cNvSpPr/>
            <p:nvPr/>
          </p:nvSpPr>
          <p:spPr>
            <a:xfrm>
              <a:off x="322200" y="350028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2200" y="350028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22200" y="2492280"/>
            <a:ext cx="1873080" cy="720720"/>
            <a:chOff x="322200" y="2492280"/>
            <a:chExt cx="1873080" cy="720720"/>
          </a:xfrm>
        </p:grpSpPr>
        <p:sp>
          <p:nvSpPr>
            <p:cNvPr id="731" name=""/>
            <p:cNvSpPr/>
            <p:nvPr/>
          </p:nvSpPr>
          <p:spPr>
            <a:xfrm>
              <a:off x="322200" y="2492280"/>
              <a:ext cx="1873080" cy="720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2200" y="2492280"/>
              <a:ext cx="73080" cy="720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734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737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896760" y="1668600"/>
            <a:ext cx="2232360" cy="649080"/>
            <a:chOff x="896760" y="1668600"/>
            <a:chExt cx="2232360" cy="649080"/>
          </a:xfrm>
        </p:grpSpPr>
        <p:sp>
          <p:nvSpPr>
            <p:cNvPr id="742" name=""/>
            <p:cNvSpPr/>
            <p:nvPr/>
          </p:nvSpPr>
          <p:spPr>
            <a:xfrm>
              <a:off x="896760" y="1668600"/>
              <a:ext cx="2232360" cy="649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96760" y="2259000"/>
              <a:ext cx="2232360" cy="58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811080" y="2612880"/>
                <a:ext cx="879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68640" y="2592360"/>
                <a:ext cx="853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20640" y="3600360"/>
                <a:ext cx="128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878200" y="3645000"/>
                <a:ext cx="1260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11280" y="4624560"/>
                <a:ext cx="124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843280" y="4624560"/>
                <a:ext cx="12272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89040" y="1766880"/>
                <a:ext cx="6634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1" name=""/>
          <p:cNvGrpSpPr/>
          <p:nvPr/>
        </p:nvGrpSpPr>
        <p:grpSpPr>
          <a:xfrm>
            <a:off x="5365800" y="1700280"/>
            <a:ext cx="2232000" cy="649080"/>
            <a:chOff x="5365800" y="1700280"/>
            <a:chExt cx="2232000" cy="649080"/>
          </a:xfrm>
        </p:grpSpPr>
        <p:sp>
          <p:nvSpPr>
            <p:cNvPr id="752" name=""/>
            <p:cNvSpPr/>
            <p:nvPr/>
          </p:nvSpPr>
          <p:spPr>
            <a:xfrm>
              <a:off x="5365800" y="1700280"/>
              <a:ext cx="2232000" cy="649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65800" y="2290680"/>
              <a:ext cx="2232000" cy="58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5938920" y="1766880"/>
                <a:ext cx="11271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5219640" y="2592360"/>
                <a:ext cx="878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075280" y="3600360"/>
                <a:ext cx="128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5075280" y="4624560"/>
                <a:ext cx="12272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7378560" y="2563920"/>
                <a:ext cx="852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7162920" y="3600360"/>
                <a:ext cx="1260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0" y="38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211880" y="4624560"/>
                <a:ext cx="124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763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766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9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940360" y="-27000"/>
            <a:ext cx="3206880" cy="1223640"/>
            <a:chOff x="5940360" y="-27000"/>
            <a:chExt cx="3206880" cy="1223640"/>
          </a:xfrm>
        </p:grpSpPr>
        <p:sp>
          <p:nvSpPr>
            <p:cNvPr id="771" name=""/>
            <p:cNvSpPr/>
            <p:nvPr/>
          </p:nvSpPr>
          <p:spPr>
            <a:xfrm>
              <a:off x="5940360" y="-27000"/>
              <a:ext cx="3203640" cy="883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имер №1.1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40360" y="-27000"/>
              <a:ext cx="144360" cy="4705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78520" y="841320"/>
              <a:ext cx="3168720" cy="355320"/>
            </a:xfrm>
            <a:custGeom>
              <a:avLst/>
              <a:gdLst/>
              <a:ahLst/>
              <a:rect l="l" t="t" r="r" b="b"/>
              <a:pathLst>
                <a:path w="1996" h="182">
                  <a:moveTo>
                    <a:pt x="0" y="0"/>
                  </a:moveTo>
                  <a:lnTo>
                    <a:pt x="1996" y="0"/>
                  </a:lnTo>
                  <a:lnTo>
                    <a:pt x="1996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775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0" y="141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-11160" y="1197000"/>
            <a:ext cx="2808360" cy="1584360"/>
          </a:xfrm>
          <a:custGeom>
            <a:avLst/>
            <a:gdLst/>
            <a:ahLst/>
            <a:rect l="l" t="t" r="r" b="b"/>
            <a:pathLst>
              <a:path w="1769" h="998">
                <a:moveTo>
                  <a:pt x="0" y="136"/>
                </a:moveTo>
                <a:lnTo>
                  <a:pt x="1633" y="0"/>
                </a:lnTo>
                <a:lnTo>
                  <a:pt x="1769" y="499"/>
                </a:lnTo>
                <a:lnTo>
                  <a:pt x="0" y="998"/>
                </a:lnTo>
                <a:lnTo>
                  <a:pt x="0" y="13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7954920" y="6191280"/>
                <a:ext cx="1081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916360" y="2476440"/>
                <a:ext cx="1052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916360" y="3213000"/>
                <a:ext cx="1201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284720" y="3213000"/>
                <a:ext cx="1841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6156360" y="3384720"/>
            <a:ext cx="2276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2951280" y="3959280"/>
                <a:ext cx="900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250920" y="1628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494480" y="404640"/>
                <a:ext cx="9651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794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797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40360" y="-27000"/>
            <a:ext cx="3206880" cy="1583640"/>
            <a:chOff x="5940360" y="-27000"/>
            <a:chExt cx="3206880" cy="1583640"/>
          </a:xfrm>
        </p:grpSpPr>
        <p:sp>
          <p:nvSpPr>
            <p:cNvPr id="802" name=""/>
            <p:cNvSpPr/>
            <p:nvPr/>
          </p:nvSpPr>
          <p:spPr>
            <a:xfrm>
              <a:off x="5940360" y="-27000"/>
              <a:ext cx="3203640" cy="11440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имер №1.2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40360" y="-27000"/>
              <a:ext cx="144360" cy="608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78520" y="1096920"/>
              <a:ext cx="3168720" cy="459720"/>
            </a:xfrm>
            <a:custGeom>
              <a:avLst/>
              <a:gdLst/>
              <a:ahLst/>
              <a:rect l="l" t="t" r="r" b="b"/>
              <a:pathLst>
                <a:path w="1996" h="182">
                  <a:moveTo>
                    <a:pt x="0" y="0"/>
                  </a:moveTo>
                  <a:lnTo>
                    <a:pt x="1996" y="0"/>
                  </a:lnTo>
                  <a:lnTo>
                    <a:pt x="1996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-11160" y="1197000"/>
            <a:ext cx="2808360" cy="1584360"/>
          </a:xfrm>
          <a:custGeom>
            <a:avLst/>
            <a:gdLst/>
            <a:ahLst/>
            <a:rect l="l" t="t" r="r" b="b"/>
            <a:pathLst>
              <a:path w="1769" h="998">
                <a:moveTo>
                  <a:pt x="0" y="136"/>
                </a:moveTo>
                <a:lnTo>
                  <a:pt x="1633" y="0"/>
                </a:lnTo>
                <a:lnTo>
                  <a:pt x="1769" y="499"/>
                </a:lnTo>
                <a:lnTo>
                  <a:pt x="0" y="998"/>
                </a:lnTo>
                <a:lnTo>
                  <a:pt x="0" y="13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920" y="1628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808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27280" y="2197080"/>
                <a:ext cx="142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3494160"/>
                <a:ext cx="183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643280" y="3500280"/>
                <a:ext cx="2538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700360" y="4941720"/>
                <a:ext cx="95724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7885080" y="6157800"/>
                <a:ext cx="11365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7164360" y="3840120"/>
            <a:ext cx="172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бывает на всей области определения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08720" y="260280"/>
                <a:ext cx="13431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50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53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1628640"/>
            <a:ext cx="5148000" cy="5256360"/>
            <a:chOff x="3995640" y="1628640"/>
            <a:chExt cx="5148000" cy="5256360"/>
          </a:xfrm>
        </p:grpSpPr>
        <p:sp>
          <p:nvSpPr>
            <p:cNvPr id="58" name=""/>
            <p:cNvSpPr/>
            <p:nvPr/>
          </p:nvSpPr>
          <p:spPr>
            <a:xfrm>
              <a:off x="5498640" y="1628640"/>
              <a:ext cx="3645000" cy="522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628640"/>
              <a:ext cx="1578960" cy="5256360"/>
            </a:xfrm>
            <a:custGeom>
              <a:avLst/>
              <a:gdLst/>
              <a:ahLst/>
              <a:rect l="l" t="t" r="r" b="b"/>
              <a:pathLst>
                <a:path w="953" h="3311">
                  <a:moveTo>
                    <a:pt x="953" y="3311"/>
                  </a:moveTo>
                  <a:lnTo>
                    <a:pt x="0" y="3311"/>
                  </a:lnTo>
                  <a:lnTo>
                    <a:pt x="907" y="0"/>
                  </a:lnTo>
                  <a:lnTo>
                    <a:pt x="953" y="33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0" y="1197000"/>
            <a:ext cx="5364000" cy="4032360"/>
            <a:chOff x="0" y="1197000"/>
            <a:chExt cx="5364000" cy="4032360"/>
          </a:xfrm>
        </p:grpSpPr>
        <p:sp>
          <p:nvSpPr>
            <p:cNvPr id="61" name=""/>
            <p:cNvSpPr/>
            <p:nvPr/>
          </p:nvSpPr>
          <p:spPr>
            <a:xfrm>
              <a:off x="0" y="1197000"/>
              <a:ext cx="5364000" cy="4032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36560" y="1197000"/>
              <a:ext cx="127080" cy="360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252360" y="1341360"/>
          <a:ext cx="2454480" cy="3697200"/>
        </p:xfrm>
        <a:graphic>
          <a:graphicData uri="http://schemas.openxmlformats.org/drawingml/2006/table">
            <a:tbl>
              <a:tblPr/>
              <a:tblGrid>
                <a:gridCol w="614520"/>
                <a:gridCol w="612720"/>
                <a:gridCol w="614160"/>
                <a:gridCol w="613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292720" y="5445000"/>
            <a:ext cx="3851280" cy="141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089080"/>
            <a:ext cx="381636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ычеркни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в каждом ряду лишнее (по смыслу составления ряда) чис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нтрация внимания рав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число верно выпис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исе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125 х 10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916360" y="-27000"/>
            <a:ext cx="6238800" cy="1562040"/>
            <a:chOff x="2916360" y="-27000"/>
            <a:chExt cx="6238800" cy="1562040"/>
          </a:xfrm>
        </p:grpSpPr>
        <p:grpSp>
          <p:nvGrpSpPr>
            <p:cNvPr id="67" name=""/>
            <p:cNvGrpSpPr/>
            <p:nvPr/>
          </p:nvGrpSpPr>
          <p:grpSpPr>
            <a:xfrm>
              <a:off x="2916360" y="-27000"/>
              <a:ext cx="6227640" cy="863640"/>
              <a:chOff x="2916360" y="-27000"/>
              <a:chExt cx="6227640" cy="863640"/>
            </a:xfrm>
          </p:grpSpPr>
          <p:sp>
            <p:nvSpPr>
              <p:cNvPr id="68" name=""/>
              <p:cNvSpPr/>
              <p:nvPr/>
            </p:nvSpPr>
            <p:spPr>
              <a:xfrm>
                <a:off x="2916360" y="-27000"/>
                <a:ext cx="6227640" cy="86364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Arial Black"/>
                  </a:rPr>
                  <a:t>Концентрация внимания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16360" y="550080"/>
                <a:ext cx="142920" cy="286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916360" y="742680"/>
              <a:ext cx="6238800" cy="79236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64000" y="5589720"/>
            <a:ext cx="370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ым должен быть следующий ряд чисел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Black"/>
              </a:rPr>
              <a:t>13; 3; 9; 35; 24; 17; 45;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74880" y="1341360"/>
          <a:ext cx="2373480" cy="3743280"/>
        </p:xfrm>
        <a:graphic>
          <a:graphicData uri="http://schemas.openxmlformats.org/drawingml/2006/table">
            <a:tbl>
              <a:tblPr/>
              <a:tblGrid>
                <a:gridCol w="2373480"/>
              </a:tblGrid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кратные 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степени 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кратные 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чёт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прост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состав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кратные 1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cc"/>
                          </a:solidFill>
                          <a:latin typeface="Arial Black"/>
                        </a:rPr>
                        <a:t>однознач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82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82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940360" y="-27000"/>
            <a:ext cx="3206880" cy="1223640"/>
            <a:chOff x="5940360" y="-27000"/>
            <a:chExt cx="3206880" cy="1223640"/>
          </a:xfrm>
        </p:grpSpPr>
        <p:sp>
          <p:nvSpPr>
            <p:cNvPr id="830" name=""/>
            <p:cNvSpPr/>
            <p:nvPr/>
          </p:nvSpPr>
          <p:spPr>
            <a:xfrm>
              <a:off x="5940360" y="-27000"/>
              <a:ext cx="3203640" cy="8838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имер №1.3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0360" y="-27000"/>
              <a:ext cx="144360" cy="4705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78520" y="841320"/>
              <a:ext cx="3168720" cy="355320"/>
            </a:xfrm>
            <a:custGeom>
              <a:avLst/>
              <a:gdLst/>
              <a:ahLst/>
              <a:rect l="l" t="t" r="r" b="b"/>
              <a:pathLst>
                <a:path w="1996" h="182">
                  <a:moveTo>
                    <a:pt x="0" y="0"/>
                  </a:moveTo>
                  <a:lnTo>
                    <a:pt x="1996" y="0"/>
                  </a:lnTo>
                  <a:lnTo>
                    <a:pt x="1996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-11160" y="1197000"/>
            <a:ext cx="2808360" cy="1584360"/>
          </a:xfrm>
          <a:custGeom>
            <a:avLst/>
            <a:gdLst/>
            <a:ahLst/>
            <a:rect l="l" t="t" r="r" b="b"/>
            <a:pathLst>
              <a:path w="1769" h="998">
                <a:moveTo>
                  <a:pt x="0" y="136"/>
                </a:moveTo>
                <a:lnTo>
                  <a:pt x="1633" y="0"/>
                </a:lnTo>
                <a:lnTo>
                  <a:pt x="1769" y="499"/>
                </a:lnTo>
                <a:lnTo>
                  <a:pt x="0" y="998"/>
                </a:lnTo>
                <a:lnTo>
                  <a:pt x="0" y="13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920" y="1628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836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2949480" y="2852640"/>
                <a:ext cx="917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481640" y="203364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936880" y="3579840"/>
                <a:ext cx="1376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5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4500720" y="3546360"/>
                <a:ext cx="1611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6143760" y="363384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на всей области определе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936880" y="4365720"/>
                <a:ext cx="1300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7812000" y="6210360"/>
                <a:ext cx="1293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5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7618320" y="434880"/>
                <a:ext cx="8413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848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851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940360" y="-27000"/>
            <a:ext cx="3206880" cy="1510920"/>
            <a:chOff x="5940360" y="-27000"/>
            <a:chExt cx="3206880" cy="1510920"/>
          </a:xfrm>
        </p:grpSpPr>
        <p:sp>
          <p:nvSpPr>
            <p:cNvPr id="856" name=""/>
            <p:cNvSpPr/>
            <p:nvPr/>
          </p:nvSpPr>
          <p:spPr>
            <a:xfrm>
              <a:off x="5940360" y="-27000"/>
              <a:ext cx="3203640" cy="10911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имер №1.4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40360" y="-27000"/>
              <a:ext cx="144360" cy="5806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78520" y="1045080"/>
              <a:ext cx="3168720" cy="438840"/>
            </a:xfrm>
            <a:custGeom>
              <a:avLst/>
              <a:gdLst/>
              <a:ahLst/>
              <a:rect l="l" t="t" r="r" b="b"/>
              <a:pathLst>
                <a:path w="1996" h="182">
                  <a:moveTo>
                    <a:pt x="0" y="0"/>
                  </a:moveTo>
                  <a:lnTo>
                    <a:pt x="1996" y="0"/>
                  </a:lnTo>
                  <a:lnTo>
                    <a:pt x="1996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-11160" y="1197000"/>
            <a:ext cx="2808360" cy="1584360"/>
            <a:chOff x="-11160" y="1197000"/>
            <a:chExt cx="2808360" cy="1584360"/>
          </a:xfrm>
        </p:grpSpPr>
        <p:sp>
          <p:nvSpPr>
            <p:cNvPr id="860" name=""/>
            <p:cNvSpPr/>
            <p:nvPr/>
          </p:nvSpPr>
          <p:spPr>
            <a:xfrm>
              <a:off x="-11160" y="1197000"/>
              <a:ext cx="2808360" cy="158436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0920" y="1628640"/>
              <a:ext cx="2233440" cy="45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687760" y="2205000"/>
                <a:ext cx="1249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720880" y="3441600"/>
                <a:ext cx="147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7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500720" y="3429000"/>
                <a:ext cx="1574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6156360" y="356076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на всей области определе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2627280" y="4221000"/>
                <a:ext cx="1531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2806560" y="5005440"/>
                <a:ext cx="1478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9" name=""/>
          <p:cNvGrpSpPr/>
          <p:nvPr/>
        </p:nvGrpSpPr>
        <p:grpSpPr>
          <a:xfrm>
            <a:off x="6372360" y="5805360"/>
            <a:ext cx="2772720" cy="1067040"/>
            <a:chOff x="6372360" y="5805360"/>
            <a:chExt cx="2772720" cy="1067040"/>
          </a:xfrm>
        </p:grpSpPr>
        <p:sp>
          <p:nvSpPr>
            <p:cNvPr id="870" name=""/>
            <p:cNvSpPr/>
            <p:nvPr/>
          </p:nvSpPr>
          <p:spPr>
            <a:xfrm>
              <a:off x="6414120" y="5805360"/>
              <a:ext cx="2729160" cy="720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72360" y="6512040"/>
              <a:ext cx="2772720" cy="36036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477200" y="6165720"/>
                <a:ext cx="1535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7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7431120" y="260280"/>
                <a:ext cx="1173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0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875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878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298440" y="-1440"/>
            <a:ext cx="8881920" cy="1465200"/>
            <a:chOff x="298440" y="-1440"/>
            <a:chExt cx="8881920" cy="1465200"/>
          </a:xfrm>
        </p:grpSpPr>
        <p:sp>
          <p:nvSpPr>
            <p:cNvPr id="883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24000" y="-1440"/>
              <a:ext cx="8855640" cy="988200"/>
              <a:chOff x="324000" y="-1440"/>
              <a:chExt cx="8855640" cy="98820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324000" y="-1440"/>
                <a:ext cx="8855640" cy="988200"/>
                <a:chOff x="324000" y="-1440"/>
                <a:chExt cx="8855640" cy="988200"/>
              </a:xfrm>
            </p:grpSpPr>
            <p:grpSp>
              <p:nvGrpSpPr>
                <p:cNvPr id="886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9" name=""/>
                <p:cNvSpPr/>
                <p:nvPr/>
              </p:nvSpPr>
              <p:spPr>
                <a:xfrm>
                  <a:off x="821880" y="69840"/>
                  <a:ext cx="81586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1) Показательные неравенства, сводящиеся к простейши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" name=""/>
          <p:cNvSpPr/>
          <p:nvPr/>
        </p:nvSpPr>
        <p:spPr>
          <a:xfrm>
            <a:off x="464292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82360" y="11253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941200" y="1338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-54360" y="614988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900520" y="1355760"/>
                <a:ext cx="1226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4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914560" y="2060640"/>
                <a:ext cx="3198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2887560" y="2852640"/>
                <a:ext cx="1325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873520" y="3716280"/>
                <a:ext cx="1790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2873520" y="4581360"/>
                <a:ext cx="1325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2901960" y="55897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084720" y="2349360"/>
            <a:ext cx="25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-36360" y="2205000"/>
            <a:ext cx="2160360" cy="432000"/>
          </a:xfrm>
          <a:custGeom>
            <a:avLst/>
            <a:gdLst/>
            <a:ahLst/>
            <a:rect l="l" t="t" r="r" b="b"/>
            <a:pathLst>
              <a:path w="1361" h="272">
                <a:moveTo>
                  <a:pt x="0" y="272"/>
                </a:moveTo>
                <a:lnTo>
                  <a:pt x="1361" y="0"/>
                </a:lnTo>
                <a:lnTo>
                  <a:pt x="45" y="0"/>
                </a:lnTo>
                <a:lnTo>
                  <a:pt x="318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535800" y="765000"/>
            <a:ext cx="2644200" cy="1282680"/>
            <a:chOff x="6535800" y="765000"/>
            <a:chExt cx="2644200" cy="1282680"/>
          </a:xfrm>
        </p:grpSpPr>
        <p:sp>
          <p:nvSpPr>
            <p:cNvPr id="904" name=""/>
            <p:cNvSpPr/>
            <p:nvPr/>
          </p:nvSpPr>
          <p:spPr>
            <a:xfrm>
              <a:off x="6535800" y="765000"/>
              <a:ext cx="262368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35800" y="1760400"/>
              <a:ext cx="26442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535800" y="76500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7615080" y="1125360"/>
                <a:ext cx="1148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659640" y="5818320"/>
            <a:ext cx="2485440" cy="1066320"/>
            <a:chOff x="6659640" y="5818320"/>
            <a:chExt cx="2485440" cy="1066320"/>
          </a:xfrm>
        </p:grpSpPr>
        <p:sp>
          <p:nvSpPr>
            <p:cNvPr id="910" name=""/>
            <p:cNvSpPr/>
            <p:nvPr/>
          </p:nvSpPr>
          <p:spPr>
            <a:xfrm>
              <a:off x="6697080" y="5818320"/>
              <a:ext cx="244620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59640" y="6524640"/>
              <a:ext cx="248544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8283600" y="6213600"/>
                <a:ext cx="6811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;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3" name=""/>
          <p:cNvGrpSpPr/>
          <p:nvPr/>
        </p:nvGrpSpPr>
        <p:grpSpPr>
          <a:xfrm>
            <a:off x="-181080" y="692280"/>
            <a:ext cx="2449440" cy="1008000"/>
            <a:chOff x="-181080" y="692280"/>
            <a:chExt cx="2449440" cy="1008000"/>
          </a:xfrm>
        </p:grpSpPr>
        <p:sp>
          <p:nvSpPr>
            <p:cNvPr id="914" name=""/>
            <p:cNvSpPr/>
            <p:nvPr/>
          </p:nvSpPr>
          <p:spPr>
            <a:xfrm>
              <a:off x="-11160" y="69228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181080" y="83664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0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91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92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298440" y="-1440"/>
            <a:ext cx="8881920" cy="1628280"/>
            <a:chOff x="298440" y="-1440"/>
            <a:chExt cx="8881920" cy="1628280"/>
          </a:xfrm>
        </p:grpSpPr>
        <p:sp>
          <p:nvSpPr>
            <p:cNvPr id="925" name=""/>
            <p:cNvSpPr/>
            <p:nvPr/>
          </p:nvSpPr>
          <p:spPr>
            <a:xfrm>
              <a:off x="29844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324000" y="-1440"/>
              <a:ext cx="8855640" cy="1628280"/>
              <a:chOff x="324000" y="-1440"/>
              <a:chExt cx="8855640" cy="16282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324000" y="-1440"/>
                <a:ext cx="8855640" cy="1628280"/>
                <a:chOff x="324000" y="-1440"/>
                <a:chExt cx="8855640" cy="162828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324000" y="-1440"/>
                  <a:ext cx="8855640" cy="936360"/>
                  <a:chOff x="324000" y="-1440"/>
                  <a:chExt cx="8855640" cy="9363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32400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2400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1" name=""/>
                <p:cNvSpPr/>
                <p:nvPr/>
              </p:nvSpPr>
              <p:spPr>
                <a:xfrm>
                  <a:off x="821880" y="69840"/>
                  <a:ext cx="815868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buClr>
                      <a:srgbClr val="ffffff"/>
                    </a:buClr>
                    <a:buFont typeface="Arial"/>
                    <a:buAutoNum type="arabicParenR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Показательные неравенства,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сводящиеся к простейши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32400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-36360" y="2205000"/>
            <a:ext cx="2128680" cy="414360"/>
          </a:xfrm>
          <a:custGeom>
            <a:avLst/>
            <a:gdLst/>
            <a:ahLst/>
            <a:rect l="l" t="t" r="r" b="b"/>
            <a:pathLst>
              <a:path w="1361" h="272">
                <a:moveTo>
                  <a:pt x="0" y="272"/>
                </a:moveTo>
                <a:lnTo>
                  <a:pt x="1361" y="0"/>
                </a:lnTo>
                <a:lnTo>
                  <a:pt x="45" y="0"/>
                </a:lnTo>
                <a:lnTo>
                  <a:pt x="318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541920" y="1066680"/>
            <a:ext cx="2627280" cy="1282680"/>
            <a:chOff x="6541920" y="1066680"/>
            <a:chExt cx="2627280" cy="1282680"/>
          </a:xfrm>
        </p:grpSpPr>
        <p:sp>
          <p:nvSpPr>
            <p:cNvPr id="935" name=""/>
            <p:cNvSpPr/>
            <p:nvPr/>
          </p:nvSpPr>
          <p:spPr>
            <a:xfrm>
              <a:off x="6541920" y="1066680"/>
              <a:ext cx="260676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41920" y="2062080"/>
              <a:ext cx="262728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541920" y="1066680"/>
            <a:ext cx="14472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6659640" y="1569960"/>
                <a:ext cx="245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31920" y="1244520"/>
                <a:ext cx="2528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82600" y="1819440"/>
                <a:ext cx="1886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24000" y="2565360"/>
                <a:ext cx="1631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388800" y="4245120"/>
                <a:ext cx="2022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2124000" y="2565360"/>
                <a:ext cx="174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8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495520" y="3957480"/>
                <a:ext cx="164484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140360" y="2852640"/>
                <a:ext cx="1584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356000" y="3645000"/>
                <a:ext cx="167184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6227640" y="4102200"/>
                <a:ext cx="216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796000" y="2910240"/>
            <a:ext cx="223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ает на всей  области опре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77080" y="6165720"/>
            <a:ext cx="2232000" cy="287640"/>
          </a:xfrm>
          <a:custGeom>
            <a:avLst/>
            <a:gdLst/>
            <a:ahLst/>
            <a:rect l="l" t="t" r="r" b="b"/>
            <a:pathLst>
              <a:path w="1406" h="181">
                <a:moveTo>
                  <a:pt x="0" y="0"/>
                </a:moveTo>
                <a:lnTo>
                  <a:pt x="1406" y="181"/>
                </a:lnTo>
                <a:lnTo>
                  <a:pt x="1406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956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6576840" y="6165720"/>
                <a:ext cx="2543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;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-181080" y="333360"/>
            <a:ext cx="2449440" cy="1008000"/>
            <a:chOff x="-181080" y="333360"/>
            <a:chExt cx="2449440" cy="1008000"/>
          </a:xfrm>
        </p:grpSpPr>
        <p:sp>
          <p:nvSpPr>
            <p:cNvPr id="961" name=""/>
            <p:cNvSpPr/>
            <p:nvPr/>
          </p:nvSpPr>
          <p:spPr>
            <a:xfrm>
              <a:off x="-11160" y="33336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-181080" y="4777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964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967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972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98440" y="-1440"/>
              <a:ext cx="8855640" cy="1293120"/>
              <a:chOff x="298440" y="-1440"/>
              <a:chExt cx="8855640" cy="12931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298440" y="-1440"/>
                <a:ext cx="8855640" cy="1293120"/>
                <a:chOff x="298440" y="-1440"/>
                <a:chExt cx="8855640" cy="129312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8" name=""/>
                <p:cNvSpPr/>
                <p:nvPr/>
              </p:nvSpPr>
              <p:spPr>
                <a:xfrm>
                  <a:off x="796320" y="69840"/>
                  <a:ext cx="815868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2) Показательные неравенства,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сводящиеся к квадратным неравенства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6541920" y="1209600"/>
            <a:ext cx="2627280" cy="1282680"/>
            <a:chOff x="6541920" y="1209600"/>
            <a:chExt cx="2627280" cy="1282680"/>
          </a:xfrm>
        </p:grpSpPr>
        <p:sp>
          <p:nvSpPr>
            <p:cNvPr id="981" name=""/>
            <p:cNvSpPr/>
            <p:nvPr/>
          </p:nvSpPr>
          <p:spPr>
            <a:xfrm>
              <a:off x="6541920" y="1209600"/>
              <a:ext cx="260676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41920" y="2205000"/>
              <a:ext cx="262728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6541920" y="1209600"/>
            <a:ext cx="14472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948360" y="1700280"/>
                <a:ext cx="17510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39640" y="1206360"/>
                <a:ext cx="1728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39640" y="1685880"/>
                <a:ext cx="2109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539640" y="2133720"/>
                <a:ext cx="2583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39640" y="2781360"/>
                <a:ext cx="18525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2627280" y="2637000"/>
                <a:ext cx="9446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eqArr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</m:e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</m:e>
                            </m:eqArr>
                            <m:r>
                              <m:t xml:space="preserve">[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3952800" y="2349360"/>
                <a:ext cx="96840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5219640" y="2781360"/>
                <a:ext cx="1219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525240" y="385956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нёмся к переменной 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11280" y="4365720"/>
                <a:ext cx="13730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2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124000" y="4653000"/>
                <a:ext cx="779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206880" y="4653000"/>
                <a:ext cx="1137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86400" y="4365720"/>
                <a:ext cx="9936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2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5711760" y="4365720"/>
                <a:ext cx="1092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2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187280" y="5229360"/>
                <a:ext cx="2302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2199240" y="5589720"/>
            <a:ext cx="236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зрастает при всех 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 области о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4859280" y="5445000"/>
                <a:ext cx="857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1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002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7218360" y="6194520"/>
                <a:ext cx="174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05" name=""/>
          <p:cNvGrpSpPr/>
          <p:nvPr/>
        </p:nvGrpSpPr>
        <p:grpSpPr>
          <a:xfrm>
            <a:off x="-181080" y="260280"/>
            <a:ext cx="2449440" cy="1008000"/>
            <a:chOff x="-181080" y="260280"/>
            <a:chExt cx="2449440" cy="1008000"/>
          </a:xfrm>
        </p:grpSpPr>
        <p:sp>
          <p:nvSpPr>
            <p:cNvPr id="1006" name=""/>
            <p:cNvSpPr/>
            <p:nvPr/>
          </p:nvSpPr>
          <p:spPr>
            <a:xfrm>
              <a:off x="-11160" y="26028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-181080" y="40464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009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012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5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1017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298440" y="-1440"/>
              <a:ext cx="8855640" cy="988200"/>
              <a:chOff x="298440" y="-1440"/>
              <a:chExt cx="8855640" cy="98820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298440" y="-1440"/>
                <a:ext cx="8855640" cy="988200"/>
                <a:chOff x="298440" y="-1440"/>
                <a:chExt cx="8855640" cy="988200"/>
              </a:xfrm>
            </p:grpSpPr>
            <p:grpSp>
              <p:nvGrpSpPr>
                <p:cNvPr id="1020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796320" y="69840"/>
                  <a:ext cx="81586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3) Однородные показательные неравенства первой и второй степени. 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Arial"/>
                    </a:rPr>
                    <a:t>Однородные показательные неравенства первой степени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6553080" y="1353960"/>
            <a:ext cx="2626920" cy="1282680"/>
            <a:chOff x="6553080" y="1353960"/>
            <a:chExt cx="2626920" cy="1282680"/>
          </a:xfrm>
        </p:grpSpPr>
        <p:sp>
          <p:nvSpPr>
            <p:cNvPr id="1026" name=""/>
            <p:cNvSpPr/>
            <p:nvPr/>
          </p:nvSpPr>
          <p:spPr>
            <a:xfrm>
              <a:off x="6553080" y="1353960"/>
              <a:ext cx="260640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53080" y="2349360"/>
              <a:ext cx="262692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562800" y="134136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6732720" y="1690560"/>
                <a:ext cx="1949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41760" y="1246320"/>
                <a:ext cx="2012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2755800" y="2109960"/>
                <a:ext cx="236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2784600" y="3075120"/>
                <a:ext cx="1446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2755800" y="3983040"/>
                <a:ext cx="12528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770200" y="4884840"/>
                <a:ext cx="1243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4219560" y="4917960"/>
                <a:ext cx="137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5672160" y="4940640"/>
            <a:ext cx="20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2792520" y="5403960"/>
                <a:ext cx="10206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2798640" y="5854680"/>
                <a:ext cx="649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8" name=""/>
          <p:cNvGrpSpPr/>
          <p:nvPr/>
        </p:nvGrpSpPr>
        <p:grpSpPr>
          <a:xfrm>
            <a:off x="6372360" y="5818320"/>
            <a:ext cx="2772720" cy="1066320"/>
            <a:chOff x="6372360" y="5818320"/>
            <a:chExt cx="2772720" cy="1066320"/>
          </a:xfrm>
        </p:grpSpPr>
        <p:sp>
          <p:nvSpPr>
            <p:cNvPr id="1049" name=""/>
            <p:cNvSpPr/>
            <p:nvPr/>
          </p:nvSpPr>
          <p:spPr>
            <a:xfrm>
              <a:off x="6414120" y="5818320"/>
              <a:ext cx="2729160" cy="720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2360" y="6524640"/>
              <a:ext cx="2772720" cy="36000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958160" y="6230880"/>
                <a:ext cx="934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-181080" y="1052640"/>
            <a:ext cx="2449440" cy="1008000"/>
            <a:chOff x="-181080" y="1052640"/>
            <a:chExt cx="2449440" cy="1008000"/>
          </a:xfrm>
        </p:grpSpPr>
        <p:sp>
          <p:nvSpPr>
            <p:cNvPr id="1054" name=""/>
            <p:cNvSpPr/>
            <p:nvPr/>
          </p:nvSpPr>
          <p:spPr>
            <a:xfrm>
              <a:off x="-11160" y="105264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-181080" y="119700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trips dir="ru"/>
  </p:transition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0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057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72880" y="-1440"/>
            <a:ext cx="8881920" cy="1701360"/>
            <a:chOff x="272880" y="-1440"/>
            <a:chExt cx="8881920" cy="1701360"/>
          </a:xfrm>
        </p:grpSpPr>
        <p:sp>
          <p:nvSpPr>
            <p:cNvPr id="1066" name=""/>
            <p:cNvSpPr/>
            <p:nvPr/>
          </p:nvSpPr>
          <p:spPr>
            <a:xfrm>
              <a:off x="272880" y="1015920"/>
              <a:ext cx="8881920" cy="68400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298440" y="-1440"/>
              <a:ext cx="8855640" cy="1304280"/>
              <a:chOff x="298440" y="-1440"/>
              <a:chExt cx="8855640" cy="130428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298440" y="-1440"/>
                <a:ext cx="8855640" cy="1304280"/>
                <a:chOff x="298440" y="-1440"/>
                <a:chExt cx="8855640" cy="1304280"/>
              </a:xfrm>
            </p:grpSpPr>
            <p:grpSp>
              <p:nvGrpSpPr>
                <p:cNvPr id="1069" name=""/>
                <p:cNvGrpSpPr/>
                <p:nvPr/>
              </p:nvGrpSpPr>
              <p:grpSpPr>
                <a:xfrm>
                  <a:off x="298440" y="-1440"/>
                  <a:ext cx="8855640" cy="1086480"/>
                  <a:chOff x="298440" y="-1440"/>
                  <a:chExt cx="8855640" cy="10864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298440" y="-1440"/>
                    <a:ext cx="8855640" cy="108648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98440" y="-1440"/>
                    <a:ext cx="202680" cy="26460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2" name=""/>
                <p:cNvSpPr/>
                <p:nvPr/>
              </p:nvSpPr>
              <p:spPr>
                <a:xfrm>
                  <a:off x="796320" y="81000"/>
                  <a:ext cx="815868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3) Однородные показательны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неравенства первой и второй степени. 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Arial"/>
                    </a:rPr>
                    <a:t>Однородные показательные неравенства первой степени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298440" y="-1440"/>
                <a:ext cx="144360" cy="3333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5580000" y="1341360"/>
            <a:ext cx="3600000" cy="1282680"/>
            <a:chOff x="5580000" y="1341360"/>
            <a:chExt cx="3600000" cy="1282680"/>
          </a:xfrm>
        </p:grpSpPr>
        <p:sp>
          <p:nvSpPr>
            <p:cNvPr id="1075" name=""/>
            <p:cNvSpPr/>
            <p:nvPr/>
          </p:nvSpPr>
          <p:spPr>
            <a:xfrm>
              <a:off x="5580000" y="1341360"/>
              <a:ext cx="3571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80000" y="2336760"/>
              <a:ext cx="36000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5580000" y="134136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686560" y="1755720"/>
                <a:ext cx="3398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200160" y="1317600"/>
                <a:ext cx="3506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0160" y="1892160"/>
                <a:ext cx="3506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200160" y="2565360"/>
                <a:ext cx="3186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12760" y="3213000"/>
                <a:ext cx="2529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212760" y="3789360"/>
                <a:ext cx="3610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351320" y="2708280"/>
                <a:ext cx="14176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357800" y="3645000"/>
                <a:ext cx="19335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6308640" y="3645000"/>
                <a:ext cx="2584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3" name=""/>
          <p:cNvSpPr/>
          <p:nvPr/>
        </p:nvSpPr>
        <p:spPr>
          <a:xfrm>
            <a:off x="6941520" y="4507200"/>
            <a:ext cx="192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бывает на все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ласти опреде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4421160" y="4653000"/>
                <a:ext cx="1158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6372360" y="5805360"/>
            <a:ext cx="2772720" cy="1067040"/>
            <a:chOff x="6372360" y="5805360"/>
            <a:chExt cx="2772720" cy="1067040"/>
          </a:xfrm>
        </p:grpSpPr>
        <p:sp>
          <p:nvSpPr>
            <p:cNvPr id="1097" name=""/>
            <p:cNvSpPr/>
            <p:nvPr/>
          </p:nvSpPr>
          <p:spPr>
            <a:xfrm>
              <a:off x="6414120" y="5805360"/>
              <a:ext cx="2729160" cy="720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72360" y="6512040"/>
              <a:ext cx="2772720" cy="36036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956720" y="6237360"/>
                <a:ext cx="863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-181080" y="333360"/>
            <a:ext cx="2449440" cy="1008000"/>
            <a:chOff x="-181080" y="333360"/>
            <a:chExt cx="2449440" cy="1008000"/>
          </a:xfrm>
        </p:grpSpPr>
        <p:sp>
          <p:nvSpPr>
            <p:cNvPr id="1101" name=""/>
            <p:cNvSpPr/>
            <p:nvPr/>
          </p:nvSpPr>
          <p:spPr>
            <a:xfrm>
              <a:off x="-11160" y="33336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-181080" y="4777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4394160" y="5157720"/>
                <a:ext cx="754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0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10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10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1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1114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298440" y="-1440"/>
              <a:ext cx="8855640" cy="1293120"/>
              <a:chOff x="298440" y="-1440"/>
              <a:chExt cx="8855640" cy="1293120"/>
            </a:xfrm>
          </p:grpSpPr>
          <p:grpSp>
            <p:nvGrpSpPr>
              <p:cNvPr id="1116" name=""/>
              <p:cNvGrpSpPr/>
              <p:nvPr/>
            </p:nvGrpSpPr>
            <p:grpSpPr>
              <a:xfrm>
                <a:off x="298440" y="-1440"/>
                <a:ext cx="8855640" cy="1293120"/>
                <a:chOff x="298440" y="-1440"/>
                <a:chExt cx="8855640" cy="1293120"/>
              </a:xfrm>
            </p:grpSpPr>
            <p:grpSp>
              <p:nvGrpSpPr>
                <p:cNvPr id="1117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0" name=""/>
                <p:cNvSpPr/>
                <p:nvPr/>
              </p:nvSpPr>
              <p:spPr>
                <a:xfrm>
                  <a:off x="796320" y="69840"/>
                  <a:ext cx="8158680" cy="12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3) Однородные показательные неравен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первой и второй степени. 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Arial"/>
                    </a:rPr>
                    <a:t>Однородные показательны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ru-RU" sz="1600" spc="-1" strike="noStrike">
                      <a:solidFill>
                        <a:srgbClr val="ffffff"/>
                      </a:solidFill>
                      <a:latin typeface="Arial"/>
                    </a:rPr>
                    <a:t>неравенства второй степени</a:t>
                  </a: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2" name=""/>
          <p:cNvGrpSpPr/>
          <p:nvPr/>
        </p:nvGrpSpPr>
        <p:grpSpPr>
          <a:xfrm>
            <a:off x="5580000" y="1341360"/>
            <a:ext cx="3600000" cy="1282680"/>
            <a:chOff x="5580000" y="1341360"/>
            <a:chExt cx="3600000" cy="1282680"/>
          </a:xfrm>
        </p:grpSpPr>
        <p:sp>
          <p:nvSpPr>
            <p:cNvPr id="1123" name=""/>
            <p:cNvSpPr/>
            <p:nvPr/>
          </p:nvSpPr>
          <p:spPr>
            <a:xfrm>
              <a:off x="5580000" y="1341360"/>
              <a:ext cx="3571920" cy="10080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Black"/>
                </a:rPr>
                <a:t>Пример №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80000" y="2336760"/>
              <a:ext cx="3600000" cy="287280"/>
            </a:xfrm>
            <a:custGeom>
              <a:avLst/>
              <a:gdLst/>
              <a:ahLst/>
              <a:rect l="l" t="t" r="r" b="b"/>
              <a:pathLst>
                <a:path w="1361" h="181">
                  <a:moveTo>
                    <a:pt x="1361" y="0"/>
                  </a:moveTo>
                  <a:lnTo>
                    <a:pt x="0" y="181"/>
                  </a:lnTo>
                  <a:lnTo>
                    <a:pt x="0" y="0"/>
                  </a:lnTo>
                  <a:lnTo>
                    <a:pt x="1361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5580000" y="1341360"/>
            <a:ext cx="144360" cy="358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138720" y="1844640"/>
                <a:ext cx="2481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179280" y="1197000"/>
                <a:ext cx="249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179280" y="1682640"/>
                <a:ext cx="3121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9280" y="2236680"/>
                <a:ext cx="5175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9280" y="2674800"/>
                <a:ext cx="28339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179280" y="3478320"/>
                <a:ext cx="2590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857760" y="2928960"/>
                <a:ext cx="3046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803760" y="3772080"/>
                <a:ext cx="18558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5800680" y="3649680"/>
                <a:ext cx="1203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236000" y="3830760"/>
                <a:ext cx="10648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163800" y="4436640"/>
            <a:ext cx="22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рнёмся к переменной 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12760" y="4869000"/>
                <a:ext cx="1506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1898640" y="4919760"/>
                <a:ext cx="1927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981600" y="4919760"/>
                <a:ext cx="2243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>
            <a:off x="6156360" y="5215320"/>
            <a:ext cx="270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бывает на всей области определени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6372360" y="5805360"/>
            <a:ext cx="2772720" cy="1067040"/>
            <a:chOff x="6372360" y="5805360"/>
            <a:chExt cx="2772720" cy="1067040"/>
          </a:xfrm>
        </p:grpSpPr>
        <p:sp>
          <p:nvSpPr>
            <p:cNvPr id="1151" name=""/>
            <p:cNvSpPr/>
            <p:nvPr/>
          </p:nvSpPr>
          <p:spPr>
            <a:xfrm>
              <a:off x="6414120" y="5805360"/>
              <a:ext cx="2729160" cy="720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72360" y="6512040"/>
              <a:ext cx="2772720" cy="36036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8244000" y="6148440"/>
                <a:ext cx="689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55" name=""/>
          <p:cNvGrpSpPr/>
          <p:nvPr/>
        </p:nvGrpSpPr>
        <p:grpSpPr>
          <a:xfrm>
            <a:off x="-181080" y="260280"/>
            <a:ext cx="2449440" cy="1008000"/>
            <a:chOff x="-181080" y="260280"/>
            <a:chExt cx="2449440" cy="1008000"/>
          </a:xfrm>
        </p:grpSpPr>
        <p:sp>
          <p:nvSpPr>
            <p:cNvPr id="1156" name=""/>
            <p:cNvSpPr/>
            <p:nvPr/>
          </p:nvSpPr>
          <p:spPr>
            <a:xfrm>
              <a:off x="-11160" y="26028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-181080" y="40464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3419640" y="5805360"/>
                <a:ext cx="1164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161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164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1169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298440" y="-1440"/>
              <a:ext cx="8855640" cy="988200"/>
              <a:chOff x="298440" y="-1440"/>
              <a:chExt cx="8855640" cy="988200"/>
            </a:xfrm>
          </p:grpSpPr>
          <p:grpSp>
            <p:nvGrpSpPr>
              <p:cNvPr id="1171" name=""/>
              <p:cNvGrpSpPr/>
              <p:nvPr/>
            </p:nvGrpSpPr>
            <p:grpSpPr>
              <a:xfrm>
                <a:off x="298440" y="-1440"/>
                <a:ext cx="8855640" cy="988200"/>
                <a:chOff x="298440" y="-1440"/>
                <a:chExt cx="8855640" cy="988200"/>
              </a:xfrm>
            </p:grpSpPr>
            <p:grpSp>
              <p:nvGrpSpPr>
                <p:cNvPr id="1172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796320" y="69840"/>
                  <a:ext cx="81586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4) Показательные неравенства,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сводящиеся к рациональным неравенства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5580000" y="1052640"/>
            <a:ext cx="3600000" cy="1282680"/>
            <a:chOff x="5580000" y="1052640"/>
            <a:chExt cx="3600000" cy="1282680"/>
          </a:xfrm>
        </p:grpSpPr>
        <p:grpSp>
          <p:nvGrpSpPr>
            <p:cNvPr id="1178" name=""/>
            <p:cNvGrpSpPr/>
            <p:nvPr/>
          </p:nvGrpSpPr>
          <p:grpSpPr>
            <a:xfrm>
              <a:off x="5580000" y="1052640"/>
              <a:ext cx="3600000" cy="1282680"/>
              <a:chOff x="5580000" y="1052640"/>
              <a:chExt cx="3600000" cy="1282680"/>
            </a:xfrm>
          </p:grpSpPr>
          <p:sp>
            <p:nvSpPr>
              <p:cNvPr id="1179" name=""/>
              <p:cNvSpPr/>
              <p:nvPr/>
            </p:nvSpPr>
            <p:spPr>
              <a:xfrm>
                <a:off x="5580000" y="1052640"/>
                <a:ext cx="357192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580000" y="2048040"/>
                <a:ext cx="360000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580000" y="1052640"/>
              <a:ext cx="144360" cy="358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6227640" y="1515960"/>
                <a:ext cx="2341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654120" y="1268280"/>
                <a:ext cx="2425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646200" y="1700280"/>
                <a:ext cx="2133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654120" y="2565360"/>
                <a:ext cx="3108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665280" y="2997360"/>
                <a:ext cx="19731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681280" y="3068640"/>
                <a:ext cx="22478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057640" y="3213000"/>
                <a:ext cx="21844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7291440" y="3213000"/>
                <a:ext cx="1457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723960" y="4581360"/>
                <a:ext cx="1268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7" name=""/>
          <p:cNvSpPr/>
          <p:nvPr/>
        </p:nvSpPr>
        <p:spPr>
          <a:xfrm>
            <a:off x="2183040" y="450756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рнёмся к переменной 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3840" y="4941720"/>
                <a:ext cx="14637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2214720" y="5373720"/>
                <a:ext cx="17809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0" name=""/>
          <p:cNvSpPr/>
          <p:nvPr/>
        </p:nvSpPr>
        <p:spPr>
          <a:xfrm>
            <a:off x="2195640" y="5832000"/>
            <a:ext cx="2089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372360" y="5805360"/>
            <a:ext cx="2772720" cy="1067040"/>
            <a:chOff x="6372360" y="5805360"/>
            <a:chExt cx="2772720" cy="1067040"/>
          </a:xfrm>
        </p:grpSpPr>
        <p:sp>
          <p:nvSpPr>
            <p:cNvPr id="1202" name=""/>
            <p:cNvSpPr/>
            <p:nvPr/>
          </p:nvSpPr>
          <p:spPr>
            <a:xfrm>
              <a:off x="6414120" y="5805360"/>
              <a:ext cx="2729160" cy="720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72360" y="6512040"/>
              <a:ext cx="2772720" cy="36036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8205840" y="6167520"/>
                <a:ext cx="660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06" name=""/>
          <p:cNvGrpSpPr/>
          <p:nvPr/>
        </p:nvGrpSpPr>
        <p:grpSpPr>
          <a:xfrm>
            <a:off x="-181080" y="333360"/>
            <a:ext cx="2449440" cy="1008000"/>
            <a:chOff x="-181080" y="333360"/>
            <a:chExt cx="2449440" cy="1008000"/>
          </a:xfrm>
        </p:grpSpPr>
        <p:sp>
          <p:nvSpPr>
            <p:cNvPr id="1207" name=""/>
            <p:cNvSpPr/>
            <p:nvPr/>
          </p:nvSpPr>
          <p:spPr>
            <a:xfrm>
              <a:off x="-11160" y="33336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-181080" y="4777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716360" y="5373720"/>
                <a:ext cx="12225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0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21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1220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98440" y="-1440"/>
              <a:ext cx="8855640" cy="936360"/>
              <a:chOff x="298440" y="-1440"/>
              <a:chExt cx="8855640" cy="9363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298440" y="-1440"/>
                <a:ext cx="8855640" cy="936360"/>
                <a:chOff x="298440" y="-1440"/>
                <a:chExt cx="8855640" cy="936360"/>
              </a:xfrm>
            </p:grpSpPr>
            <p:grpSp>
              <p:nvGrpSpPr>
                <p:cNvPr id="1223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6" name=""/>
                <p:cNvSpPr/>
                <p:nvPr/>
              </p:nvSpPr>
              <p:spPr>
                <a:xfrm>
                  <a:off x="796320" y="69840"/>
                  <a:ext cx="81586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5) Показательные нестандартные неравен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5580000" y="907920"/>
            <a:ext cx="3600000" cy="1282680"/>
            <a:chOff x="5580000" y="907920"/>
            <a:chExt cx="3600000" cy="1282680"/>
          </a:xfrm>
        </p:grpSpPr>
        <p:grpSp>
          <p:nvGrpSpPr>
            <p:cNvPr id="1229" name=""/>
            <p:cNvGrpSpPr/>
            <p:nvPr/>
          </p:nvGrpSpPr>
          <p:grpSpPr>
            <a:xfrm>
              <a:off x="5580000" y="907920"/>
              <a:ext cx="3600000" cy="1282680"/>
              <a:chOff x="5580000" y="907920"/>
              <a:chExt cx="3600000" cy="1282680"/>
            </a:xfrm>
          </p:grpSpPr>
          <p:sp>
            <p:nvSpPr>
              <p:cNvPr id="1230" name=""/>
              <p:cNvSpPr/>
              <p:nvPr/>
            </p:nvSpPr>
            <p:spPr>
              <a:xfrm>
                <a:off x="5580000" y="907920"/>
                <a:ext cx="357192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80000" y="1903320"/>
                <a:ext cx="360000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5580000" y="907920"/>
              <a:ext cx="144360" cy="358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6372360" y="1380960"/>
                <a:ext cx="1989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-181080" y="333360"/>
            <a:ext cx="2449440" cy="1008000"/>
            <a:chOff x="-181080" y="333360"/>
            <a:chExt cx="2449440" cy="1008000"/>
          </a:xfrm>
        </p:grpSpPr>
        <p:sp>
          <p:nvSpPr>
            <p:cNvPr id="1246" name=""/>
            <p:cNvSpPr/>
            <p:nvPr/>
          </p:nvSpPr>
          <p:spPr>
            <a:xfrm>
              <a:off x="-11160" y="33336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-181080" y="4777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468360" y="1341360"/>
                <a:ext cx="1563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0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324000" y="326880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шим каждое утверждение совокупности отдель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179280" y="3573360"/>
                <a:ext cx="16560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4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0" y="2403360"/>
            <a:ext cx="9144000" cy="920880"/>
            <a:chOff x="0" y="2403360"/>
            <a:chExt cx="9144000" cy="920880"/>
          </a:xfrm>
        </p:grpSpPr>
        <p:sp>
          <p:nvSpPr>
            <p:cNvPr id="1257" name=""/>
            <p:cNvSpPr/>
            <p:nvPr/>
          </p:nvSpPr>
          <p:spPr>
            <a:xfrm>
              <a:off x="36360" y="2403360"/>
              <a:ext cx="41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еравенство равносильно совокупност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8" name=""/>
                <p:cNvSpPr txBox="1"/>
                <p:nvPr/>
              </p:nvSpPr>
              <p:spPr>
                <a:xfrm>
                  <a:off x="3965400" y="2492280"/>
                  <a:ext cx="14702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2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2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9" name=""/>
            <p:cNvSpPr/>
            <p:nvPr/>
          </p:nvSpPr>
          <p:spPr>
            <a:xfrm>
              <a:off x="0" y="2671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0" y="2585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9280" y="4437000"/>
                <a:ext cx="1395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065320" y="4437000"/>
                <a:ext cx="11653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851280" y="4437000"/>
                <a:ext cx="14875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5724360" y="4437000"/>
                <a:ext cx="102564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380360" y="5086440"/>
                <a:ext cx="1060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,5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44600" y="1665360"/>
                <a:ext cx="13111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76280" y="2060640"/>
                <a:ext cx="105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642" dur="indefinite" restart="never" nodeType="tmRoot">
          <p:childTnLst>
            <p:seq>
              <p:cTn id="2643" dur="indefinite" nodeType="mainSeq">
                <p:childTnLst>
                  <p:par>
                    <p:cTn id="2644" fill="hold">
                      <p:stCondLst>
                        <p:cond delay="0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5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5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793960"/>
            <a:ext cx="1976400" cy="608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онотонно убывает на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22600"/>
            <a:ext cx="1976400" cy="40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314360"/>
            <a:ext cx="1976400" cy="40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905040"/>
            <a:ext cx="1976400" cy="40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1280" y="1722600"/>
            <a:ext cx="2071800" cy="40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1280" y="1314360"/>
            <a:ext cx="2071800" cy="40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1280" y="4672080"/>
            <a:ext cx="4048200" cy="2098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1280" y="4064040"/>
            <a:ext cx="4048200" cy="608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ь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является горизонтальной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симптото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1280" y="3402000"/>
            <a:ext cx="4048200" cy="662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1280" y="2793960"/>
            <a:ext cx="2071800" cy="608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онотонно возрастает на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1280" y="2131920"/>
            <a:ext cx="4048200" cy="662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1280" y="905040"/>
            <a:ext cx="2071800" cy="40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1280" y="496800"/>
            <a:ext cx="4048200" cy="40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1280" y="87480"/>
            <a:ext cx="4048200" cy="40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672080"/>
            <a:ext cx="4626000" cy="2098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8. При любых действительных значениях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у;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&gt;0, a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≠1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;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b&gt;0, b≠1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064040"/>
            <a:ext cx="4626000" cy="608040"/>
          </a:xfrm>
          <a:prstGeom prst="rect">
            <a:avLst/>
          </a:prstGeom>
          <a:solidFill>
            <a:srgbClr val="0099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7. Асимптот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402000"/>
            <a:ext cx="4626000" cy="6620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6. Экстремум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793960"/>
            <a:ext cx="4626000" cy="6080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8f8f8"/>
                </a:solidFill>
                <a:uFillTx/>
                <a:latin typeface="Arial"/>
                <a:hlinkClick r:id="rId2" action="ppaction://hlinksldjump"/>
              </a:rPr>
              <a:t>5. </a:t>
            </a:r>
            <a:r>
              <a:rPr b="0" lang="ru-RU" sz="1700" spc="-1" strike="noStrike" u="sng">
                <a:solidFill>
                  <a:srgbClr val="f8f8f8"/>
                </a:solidFill>
                <a:uFillTx/>
                <a:latin typeface="Arial"/>
                <a:hlinkClick r:id="rId3" action="ppaction://hlinksldjump"/>
              </a:rPr>
              <a:t>Монотонность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131920"/>
            <a:ext cx="4626000" cy="6620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4. Четность, нечетность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5040"/>
            <a:ext cx="4626000" cy="1226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3. Промежутки сравнения значений функции с единицей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96800"/>
            <a:ext cx="4626000" cy="4082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2. Область значений функции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87480"/>
            <a:ext cx="4626000" cy="409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f8f8f8"/>
                </a:solidFill>
                <a:uFillTx/>
                <a:latin typeface="Arial"/>
                <a:hlinkClick r:id="rId4" action="ppaction://hlinksldjump"/>
              </a:rPr>
              <a:t>1. </a:t>
            </a:r>
            <a:r>
              <a:rPr b="0" lang="ru-RU" sz="1700" spc="-1" strike="noStrike" u="sng">
                <a:solidFill>
                  <a:srgbClr val="f8f8f8"/>
                </a:solidFill>
                <a:uFillTx/>
                <a:latin typeface="Arial"/>
                <a:hlinkClick r:id="rId5" action="ppaction://hlinksldjump"/>
              </a:rPr>
              <a:t>Область определения функции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7480"/>
            <a:ext cx="46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6770520"/>
            <a:ext cx="46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7480"/>
            <a:ext cx="0" cy="40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69480" y="87480"/>
            <a:ext cx="0" cy="40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9680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504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13192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79396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40200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6404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672080"/>
            <a:ext cx="8674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1280" y="87480"/>
            <a:ext cx="0" cy="668304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1280" y="1314360"/>
            <a:ext cx="4048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1280" y="1722600"/>
            <a:ext cx="4048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905040"/>
            <a:ext cx="0" cy="122688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2793960"/>
            <a:ext cx="0" cy="60804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1280" y="87480"/>
            <a:ext cx="4048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96800"/>
            <a:ext cx="0" cy="40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69480" y="496800"/>
            <a:ext cx="0" cy="40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905040"/>
            <a:ext cx="0" cy="122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69480" y="905040"/>
            <a:ext cx="0" cy="40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131920"/>
            <a:ext cx="0" cy="66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69480" y="1314360"/>
            <a:ext cx="0" cy="40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69480" y="1722600"/>
            <a:ext cx="0" cy="40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69480" y="2131920"/>
            <a:ext cx="0" cy="66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793960"/>
            <a:ext cx="0" cy="60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69480" y="2793960"/>
            <a:ext cx="0" cy="60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402000"/>
            <a:ext cx="0" cy="66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69480" y="3402000"/>
            <a:ext cx="0" cy="66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64040"/>
            <a:ext cx="0" cy="60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69480" y="4064040"/>
            <a:ext cx="0" cy="60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672080"/>
            <a:ext cx="0" cy="20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69480" y="4672080"/>
            <a:ext cx="0" cy="20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1280" y="6770520"/>
            <a:ext cx="4048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200" y="77760"/>
            <a:ext cx="289080" cy="65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214720" y="306108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 в о й с т в а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ьной фун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-108000" y="5732640"/>
            <a:ext cx="3313080" cy="1152360"/>
            <a:chOff x="-108000" y="5732640"/>
            <a:chExt cx="3313080" cy="1152360"/>
          </a:xfrm>
        </p:grpSpPr>
        <p:sp>
          <p:nvSpPr>
            <p:cNvPr id="132" name=""/>
            <p:cNvSpPr/>
            <p:nvPr/>
          </p:nvSpPr>
          <p:spPr>
            <a:xfrm>
              <a:off x="-36360" y="5732640"/>
              <a:ext cx="3241440" cy="1152360"/>
            </a:xfrm>
            <a:custGeom>
              <a:avLst/>
              <a:gdLst/>
              <a:ahLst/>
              <a:rect l="l" t="t" r="r" b="b"/>
              <a:pathLst>
                <a:path w="2042" h="726">
                  <a:moveTo>
                    <a:pt x="0" y="499"/>
                  </a:moveTo>
                  <a:lnTo>
                    <a:pt x="499" y="0"/>
                  </a:lnTo>
                  <a:lnTo>
                    <a:pt x="2042" y="726"/>
                  </a:lnTo>
                  <a:lnTo>
                    <a:pt x="0" y="726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-108000" y="5805000"/>
              <a:ext cx="1008000" cy="10083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95280" y="6454800"/>
            <a:ext cx="16574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Показательные неравенства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6597720"/>
            <a:ext cx="1655640" cy="84240"/>
          </a:xfrm>
          <a:prstGeom prst="rect">
            <a:avLst/>
          </a:prstGeom>
        </p:spPr>
        <p:txBody>
          <a:bodyPr wrap="none" lIns="90000" rIns="90000" tIns="37800" bIns="37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х типы и методы решения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88000" y="127080"/>
                <a:ext cx="720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659640" y="558720"/>
                <a:ext cx="5238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89720" y="941400"/>
                <a:ext cx="10699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а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313760" y="941400"/>
                <a:ext cx="1361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286240" y="1353960"/>
                <a:ext cx="160668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40600" y="1341360"/>
                <a:ext cx="1903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070600" y="1758960"/>
                <a:ext cx="18856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292880" y="1746360"/>
                <a:ext cx="16066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19640" y="4780080"/>
                <a:ext cx="1255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29360" y="5067360"/>
                <a:ext cx="13190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94440" y="5372280"/>
                <a:ext cx="13795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b</m:t>
                            </m:r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184720" y="5661000"/>
                <a:ext cx="127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а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84720" y="6302520"/>
                <a:ext cx="1239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907320" y="4724280"/>
                <a:ext cx="1657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b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176960" y="5013360"/>
                <a:ext cx="14893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186680" y="5313240"/>
                <a:ext cx="15382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912000" y="5734080"/>
                <a:ext cx="18144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s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55000" y="6021360"/>
                <a:ext cx="1455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170840" y="6357960"/>
                <a:ext cx="18223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а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0800000">
            <a:off x="8459280" y="189000"/>
            <a:ext cx="444600" cy="444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199120" y="3429000"/>
            <a:ext cx="3693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казательная функция экстремумов не имее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2065320"/>
            <a:ext cx="379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Функция не является ни чётной, ни нечётной (функция общего вида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9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270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273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72880" y="-1440"/>
            <a:ext cx="8881920" cy="1465200"/>
            <a:chOff x="272880" y="-1440"/>
            <a:chExt cx="8881920" cy="1465200"/>
          </a:xfrm>
        </p:grpSpPr>
        <p:sp>
          <p:nvSpPr>
            <p:cNvPr id="1278" name=""/>
            <p:cNvSpPr/>
            <p:nvPr/>
          </p:nvSpPr>
          <p:spPr>
            <a:xfrm>
              <a:off x="272880" y="874800"/>
              <a:ext cx="8881920" cy="588960"/>
            </a:xfrm>
            <a:custGeom>
              <a:avLst/>
              <a:gdLst/>
              <a:ahLst/>
              <a:rect l="l" t="t" r="r" b="b"/>
              <a:pathLst>
                <a:path w="5579" h="635">
                  <a:moveTo>
                    <a:pt x="0" y="46"/>
                  </a:moveTo>
                  <a:lnTo>
                    <a:pt x="5579" y="635"/>
                  </a:lnTo>
                  <a:lnTo>
                    <a:pt x="557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98440" y="-1440"/>
              <a:ext cx="8855640" cy="936360"/>
              <a:chOff x="298440" y="-1440"/>
              <a:chExt cx="8855640" cy="93636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298440" y="-1440"/>
                <a:ext cx="8855640" cy="936360"/>
                <a:chOff x="298440" y="-1440"/>
                <a:chExt cx="8855640" cy="9363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8440" y="-1440"/>
                  <a:ext cx="8855640" cy="936360"/>
                  <a:chOff x="298440" y="-1440"/>
                  <a:chExt cx="8855640" cy="9363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8440" y="-1440"/>
                    <a:ext cx="8855640" cy="93636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8440" y="-1440"/>
                    <a:ext cx="202680" cy="228240"/>
                  </a:xfrm>
                  <a:prstGeom prst="rect">
                    <a:avLst/>
                  </a:prstGeom>
                  <a:solidFill>
                    <a:srgbClr val="33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796320" y="69840"/>
                  <a:ext cx="81586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fff"/>
                      </a:solidFill>
                      <a:latin typeface="Arial"/>
                    </a:rPr>
                    <a:t>Типы показательных неравенств и методы их реш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5) Показательные нестандартные неравен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" name=""/>
              <p:cNvSpPr/>
              <p:nvPr/>
            </p:nvSpPr>
            <p:spPr>
              <a:xfrm>
                <a:off x="298440" y="-1440"/>
                <a:ext cx="144360" cy="2872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5580000" y="907920"/>
            <a:ext cx="3600000" cy="1282680"/>
            <a:chOff x="5580000" y="907920"/>
            <a:chExt cx="3600000" cy="1282680"/>
          </a:xfrm>
        </p:grpSpPr>
        <p:grpSp>
          <p:nvGrpSpPr>
            <p:cNvPr id="1287" name=""/>
            <p:cNvGrpSpPr/>
            <p:nvPr/>
          </p:nvGrpSpPr>
          <p:grpSpPr>
            <a:xfrm>
              <a:off x="5580000" y="907920"/>
              <a:ext cx="3600000" cy="1282680"/>
              <a:chOff x="5580000" y="907920"/>
              <a:chExt cx="3600000" cy="1282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5580000" y="907920"/>
                <a:ext cx="3571920" cy="1008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Приме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80000" y="1903320"/>
                <a:ext cx="3600000" cy="287280"/>
              </a:xfrm>
              <a:custGeom>
                <a:avLst/>
                <a:gdLst/>
                <a:ahLst/>
                <a:rect l="l" t="t" r="r" b="b"/>
                <a:pathLst>
                  <a:path w="1361" h="181">
                    <a:moveTo>
                      <a:pt x="1361" y="0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5580000" y="907920"/>
              <a:ext cx="144360" cy="358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6372360" y="1380960"/>
                <a:ext cx="1989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372360" y="5805360"/>
            <a:ext cx="2772720" cy="1067040"/>
            <a:chOff x="6372360" y="5805360"/>
            <a:chExt cx="2772720" cy="1067040"/>
          </a:xfrm>
        </p:grpSpPr>
        <p:sp>
          <p:nvSpPr>
            <p:cNvPr id="1303" name=""/>
            <p:cNvSpPr/>
            <p:nvPr/>
          </p:nvSpPr>
          <p:spPr>
            <a:xfrm>
              <a:off x="6414120" y="5805360"/>
              <a:ext cx="2729160" cy="720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72360" y="6512040"/>
              <a:ext cx="2772720" cy="360360"/>
            </a:xfrm>
            <a:custGeom>
              <a:avLst/>
              <a:gdLst/>
              <a:ahLst/>
              <a:rect l="l" t="t" r="r" b="b"/>
              <a:pathLst>
                <a:path w="1406" h="227">
                  <a:moveTo>
                    <a:pt x="1406" y="227"/>
                  </a:moveTo>
                  <a:lnTo>
                    <a:pt x="1406" y="0"/>
                  </a:lnTo>
                  <a:lnTo>
                    <a:pt x="0" y="0"/>
                  </a:lnTo>
                  <a:lnTo>
                    <a:pt x="1406" y="22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7451640" y="6237360"/>
                <a:ext cx="146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1,5</m:t>
                        </m:r>
                      </m:e>
                    </m:d>
                    <m:r>
                      <m:t xml:space="preserve">∪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3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7" name=""/>
          <p:cNvGrpSpPr/>
          <p:nvPr/>
        </p:nvGrpSpPr>
        <p:grpSpPr>
          <a:xfrm>
            <a:off x="-181080" y="333360"/>
            <a:ext cx="2449440" cy="1008000"/>
            <a:chOff x="-181080" y="333360"/>
            <a:chExt cx="2449440" cy="1008000"/>
          </a:xfrm>
        </p:grpSpPr>
        <p:sp>
          <p:nvSpPr>
            <p:cNvPr id="1308" name=""/>
            <p:cNvSpPr/>
            <p:nvPr/>
          </p:nvSpPr>
          <p:spPr>
            <a:xfrm>
              <a:off x="-11160" y="333360"/>
              <a:ext cx="2279520" cy="1008000"/>
            </a:xfrm>
            <a:custGeom>
              <a:avLst/>
              <a:gdLst/>
              <a:ahLst/>
              <a:rect l="l" t="t" r="r" b="b"/>
              <a:pathLst>
                <a:path w="1769" h="998">
                  <a:moveTo>
                    <a:pt x="0" y="136"/>
                  </a:moveTo>
                  <a:lnTo>
                    <a:pt x="1633" y="0"/>
                  </a:lnTo>
                  <a:lnTo>
                    <a:pt x="1769" y="499"/>
                  </a:lnTo>
                  <a:lnTo>
                    <a:pt x="0" y="99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-181080" y="477720"/>
              <a:ext cx="22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ешение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888840" y="1197000"/>
                <a:ext cx="1425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401760" y="1504800"/>
                <a:ext cx="100152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;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1596960" y="1477800"/>
                <a:ext cx="59868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3740040" y="1517760"/>
                <a:ext cx="9032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8" name=""/>
          <p:cNvSpPr/>
          <p:nvPr/>
        </p:nvSpPr>
        <p:spPr>
          <a:xfrm>
            <a:off x="36360" y="2781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85840" y="3184560"/>
                <a:ext cx="1071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ерно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2127240" y="3179880"/>
                <a:ext cx="12794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неверно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4132440" y="3187800"/>
                <a:ext cx="11476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ерно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5978520" y="3192480"/>
                <a:ext cx="132732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5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,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ерно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71280" y="4508640"/>
            <a:ext cx="90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рка показала, что х=1, х=3, х=1,5 являются решениями уравнения, а х=2 не является решением уравн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826920" y="5157720"/>
            <a:ext cx="2754360" cy="943200"/>
            <a:chOff x="826920" y="5157720"/>
            <a:chExt cx="2754360" cy="943200"/>
          </a:xfrm>
        </p:grpSpPr>
        <p:sp>
          <p:nvSpPr>
            <p:cNvPr id="1331" name=""/>
            <p:cNvSpPr/>
            <p:nvPr/>
          </p:nvSpPr>
          <p:spPr>
            <a:xfrm>
              <a:off x="826920" y="515772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так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2" name=""/>
                <p:cNvSpPr txBox="1"/>
                <p:nvPr/>
              </p:nvSpPr>
              <p:spPr>
                <a:xfrm>
                  <a:off x="1908000" y="5157720"/>
                  <a:ext cx="167328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5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3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,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,5;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3865680" y="5473800"/>
                <a:ext cx="993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,5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trips dir="ru"/>
  </p:transition>
  <p:timing>
    <p:tnLst>
      <p:par>
        <p:cTn id="2706" dur="indefinite" restart="never" nodeType="tmRoot">
          <p:childTnLst>
            <p:seq>
              <p:cTn id="2707" dur="indefinite" nodeType="mainSeq">
                <p:childTnLst>
                  <p:par>
                    <p:cTn id="2708" fill="hold">
                      <p:stCondLst>
                        <p:cond delay="0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9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4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8748720" y="0"/>
            <a:ext cx="712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388360" y="0"/>
            <a:ext cx="2872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005840" y="875160"/>
            <a:ext cx="9364320" cy="6310440"/>
            <a:chOff x="1005840" y="875160"/>
            <a:chExt cx="9364320" cy="6310440"/>
          </a:xfrm>
        </p:grpSpPr>
        <p:sp>
          <p:nvSpPr>
            <p:cNvPr id="1337" name=""/>
            <p:cNvSpPr/>
            <p:nvPr/>
          </p:nvSpPr>
          <p:spPr>
            <a:xfrm rot="795600">
              <a:off x="1403280" y="1798200"/>
              <a:ext cx="8569080" cy="44640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795600">
              <a:off x="1664640" y="877680"/>
              <a:ext cx="231120" cy="4465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 txBox="1"/>
          <p:nvPr/>
        </p:nvSpPr>
        <p:spPr>
          <a:xfrm>
            <a:off x="2268360" y="3211560"/>
            <a:ext cx="64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Показательные неравенства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2268360" y="3716280"/>
            <a:ext cx="648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их типы и методы решения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411280" y="4437000"/>
            <a:ext cx="5616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Лицей-интернат естественных наук при СГАУ им.Н.И.Вавил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Выполнил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Бобров Р.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Руководитель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Калугина Е.Е</a:t>
            </a:r>
            <a:r>
              <a:rPr b="0" lang="ru-RU" sz="1600" spc="-1" strike="noStrike">
                <a:solidFill>
                  <a:srgbClr val="ddddd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rot="982200">
            <a:off x="2556000" y="1341000"/>
            <a:ext cx="3889080" cy="468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174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177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338640" y="239400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8640" y="23940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38640" y="239400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38640" y="23940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38640" y="239400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8640" y="23940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8640" y="239400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38640" y="23940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190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191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Задание № 1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Найдите область определения функции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673520" y="1317960"/>
            <a:ext cx="3109680" cy="1267200"/>
            <a:chOff x="4673520" y="1317960"/>
            <a:chExt cx="3109680" cy="1267200"/>
          </a:xfrm>
        </p:grpSpPr>
        <p:sp>
          <p:nvSpPr>
            <p:cNvPr id="195" name=""/>
            <p:cNvSpPr/>
            <p:nvPr/>
          </p:nvSpPr>
          <p:spPr>
            <a:xfrm rot="21215400">
              <a:off x="4716000" y="1483920"/>
              <a:ext cx="3024360" cy="934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215400">
              <a:off x="7657920" y="1318680"/>
              <a:ext cx="71280" cy="936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662720" y="2555640"/>
            <a:ext cx="3131280" cy="1383120"/>
            <a:chOff x="4662720" y="2555640"/>
            <a:chExt cx="3131280" cy="1383120"/>
          </a:xfrm>
        </p:grpSpPr>
        <p:sp>
          <p:nvSpPr>
            <p:cNvPr id="198" name=""/>
            <p:cNvSpPr/>
            <p:nvPr/>
          </p:nvSpPr>
          <p:spPr>
            <a:xfrm rot="523200">
              <a:off x="4716000" y="2779200"/>
              <a:ext cx="3024360" cy="935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23200">
              <a:off x="7649640" y="3002040"/>
              <a:ext cx="71640" cy="936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83240" y="3810240"/>
            <a:ext cx="3090240" cy="1178280"/>
            <a:chOff x="4683240" y="3810240"/>
            <a:chExt cx="3090240" cy="1178280"/>
          </a:xfrm>
        </p:grpSpPr>
        <p:sp>
          <p:nvSpPr>
            <p:cNvPr id="201" name=""/>
            <p:cNvSpPr/>
            <p:nvPr/>
          </p:nvSpPr>
          <p:spPr>
            <a:xfrm rot="21320400">
              <a:off x="4716000" y="3932280"/>
              <a:ext cx="3024360" cy="934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1320400">
              <a:off x="7661160" y="3811320"/>
              <a:ext cx="71640" cy="9363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78200" y="4941360"/>
            <a:ext cx="3100320" cy="1222920"/>
            <a:chOff x="4678200" y="4941360"/>
            <a:chExt cx="3100320" cy="1222920"/>
          </a:xfrm>
        </p:grpSpPr>
        <p:sp>
          <p:nvSpPr>
            <p:cNvPr id="204" name=""/>
            <p:cNvSpPr/>
            <p:nvPr/>
          </p:nvSpPr>
          <p:spPr>
            <a:xfrm rot="331200">
              <a:off x="4716000" y="5084640"/>
              <a:ext cx="3024360" cy="935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331200">
              <a:off x="7659720" y="5226120"/>
              <a:ext cx="71280" cy="936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15600" y="4985280"/>
            <a:ext cx="2727360" cy="1134360"/>
            <a:chOff x="1515600" y="4985280"/>
            <a:chExt cx="2727360" cy="1134360"/>
          </a:xfrm>
        </p:grpSpPr>
        <p:sp>
          <p:nvSpPr>
            <p:cNvPr id="207" name=""/>
            <p:cNvSpPr/>
            <p:nvPr/>
          </p:nvSpPr>
          <p:spPr>
            <a:xfrm rot="21339600">
              <a:off x="1547280" y="5084640"/>
              <a:ext cx="2664000" cy="935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339600">
              <a:off x="1550880" y="5181120"/>
              <a:ext cx="71640" cy="93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47640" y="3860640"/>
            <a:ext cx="2664000" cy="936720"/>
            <a:chOff x="1547640" y="3860640"/>
            <a:chExt cx="2664000" cy="936720"/>
          </a:xfrm>
        </p:grpSpPr>
        <p:sp>
          <p:nvSpPr>
            <p:cNvPr id="210" name=""/>
            <p:cNvSpPr/>
            <p:nvPr/>
          </p:nvSpPr>
          <p:spPr>
            <a:xfrm>
              <a:off x="1547640" y="3860640"/>
              <a:ext cx="2664000" cy="935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47640" y="3860640"/>
              <a:ext cx="71640" cy="93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94720" y="2523960"/>
            <a:ext cx="2779200" cy="1373760"/>
            <a:chOff x="1494720" y="2523960"/>
            <a:chExt cx="2779200" cy="1373760"/>
          </a:xfrm>
        </p:grpSpPr>
        <p:sp>
          <p:nvSpPr>
            <p:cNvPr id="213" name=""/>
            <p:cNvSpPr/>
            <p:nvPr/>
          </p:nvSpPr>
          <p:spPr>
            <a:xfrm rot="21113400">
              <a:off x="1552320" y="2706840"/>
              <a:ext cx="2663640" cy="1008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1113400">
              <a:off x="1560240" y="2890800"/>
              <a:ext cx="71280" cy="93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497600" y="1316880"/>
            <a:ext cx="2763000" cy="1269360"/>
            <a:chOff x="1497600" y="1316880"/>
            <a:chExt cx="2763000" cy="1269360"/>
          </a:xfrm>
        </p:grpSpPr>
        <p:sp>
          <p:nvSpPr>
            <p:cNvPr id="216" name=""/>
            <p:cNvSpPr/>
            <p:nvPr/>
          </p:nvSpPr>
          <p:spPr>
            <a:xfrm rot="442800">
              <a:off x="1547280" y="1483920"/>
              <a:ext cx="2664000" cy="934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442800">
              <a:off x="1557360" y="1317240"/>
              <a:ext cx="71280" cy="93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195640" y="1555920"/>
                <a:ext cx="1299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124000" y="2563920"/>
                <a:ext cx="14954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050920" y="4076640"/>
                <a:ext cx="1374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24000" y="5216400"/>
                <a:ext cx="1676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932360" y="1709640"/>
                <a:ext cx="2664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1,5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5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797440" y="2924280"/>
                <a:ext cx="862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748480" y="4086360"/>
                <a:ext cx="1055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;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70680" y="5294160"/>
                <a:ext cx="372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23736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59880" y="6230880"/>
            <a:ext cx="442800" cy="501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2200" y="189000"/>
            <a:ext cx="8858160" cy="6696000"/>
          </a:xfrm>
          <a:custGeom>
            <a:avLst/>
            <a:gdLst/>
            <a:ahLst/>
            <a:rect l="l" t="t" r="r" b="b"/>
            <a:pathLst>
              <a:path w="3947" h="4218">
                <a:moveTo>
                  <a:pt x="998" y="4218"/>
                </a:moveTo>
                <a:lnTo>
                  <a:pt x="0" y="1769"/>
                </a:lnTo>
                <a:lnTo>
                  <a:pt x="2132" y="0"/>
                </a:lnTo>
                <a:lnTo>
                  <a:pt x="3947" y="635"/>
                </a:lnTo>
                <a:lnTo>
                  <a:pt x="3947" y="4218"/>
                </a:lnTo>
                <a:lnTo>
                  <a:pt x="998" y="42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230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233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37" name=""/>
          <p:cNvSpPr txBox="1"/>
          <p:nvPr/>
        </p:nvSpPr>
        <p:spPr>
          <a:xfrm rot="456000">
            <a:off x="2555640" y="188640"/>
            <a:ext cx="4103640" cy="573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23736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66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20822400">
            <a:off x="2771640" y="1557000"/>
            <a:ext cx="3961080" cy="461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241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244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261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262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Задание № 2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Определите значение</a:t>
                </a:r>
                <a:r>
                  <a:rPr b="0" lang="ru-RU" sz="21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0" lang="ru-RU" sz="2100" spc="-1" strike="noStrike">
                    <a:solidFill>
                      <a:srgbClr val="ffffcc"/>
                    </a:solidFill>
                    <a:latin typeface="Arial Black"/>
                  </a:rPr>
                  <a:t>а</a:t>
                </a:r>
                <a:r>
                  <a:rPr b="1" lang="ru-RU" sz="21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149120" y="1954800"/>
            <a:ext cx="2382120" cy="1042560"/>
            <a:chOff x="1149120" y="1954800"/>
            <a:chExt cx="2382120" cy="1042560"/>
          </a:xfrm>
        </p:grpSpPr>
        <p:sp>
          <p:nvSpPr>
            <p:cNvPr id="266" name=""/>
            <p:cNvSpPr/>
            <p:nvPr/>
          </p:nvSpPr>
          <p:spPr>
            <a:xfrm rot="442800">
              <a:off x="1189080" y="2099520"/>
              <a:ext cx="230328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442800">
              <a:off x="1197000" y="196524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67080" y="2197080"/>
            <a:ext cx="2475360" cy="780120"/>
            <a:chOff x="6067080" y="2197080"/>
            <a:chExt cx="2475360" cy="780120"/>
          </a:xfrm>
        </p:grpSpPr>
        <p:sp>
          <p:nvSpPr>
            <p:cNvPr id="269" name=""/>
            <p:cNvSpPr/>
            <p:nvPr/>
          </p:nvSpPr>
          <p:spPr>
            <a:xfrm rot="21448800">
              <a:off x="6080400" y="2250360"/>
              <a:ext cx="2448000" cy="673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1448800">
              <a:off x="8466840" y="2212200"/>
              <a:ext cx="57600" cy="674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35280" y="4005360"/>
            <a:ext cx="2303280" cy="792000"/>
            <a:chOff x="3635280" y="4005360"/>
            <a:chExt cx="2303280" cy="792000"/>
          </a:xfrm>
        </p:grpSpPr>
        <p:sp>
          <p:nvSpPr>
            <p:cNvPr id="272" name=""/>
            <p:cNvSpPr/>
            <p:nvPr/>
          </p:nvSpPr>
          <p:spPr>
            <a:xfrm>
              <a:off x="3635280" y="400536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5280" y="4005360"/>
              <a:ext cx="2303280" cy="71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35280" y="2133720"/>
            <a:ext cx="2303280" cy="792000"/>
            <a:chOff x="3635280" y="2133720"/>
            <a:chExt cx="2303280" cy="792000"/>
          </a:xfrm>
        </p:grpSpPr>
        <p:sp>
          <p:nvSpPr>
            <p:cNvPr id="275" name=""/>
            <p:cNvSpPr/>
            <p:nvPr/>
          </p:nvSpPr>
          <p:spPr>
            <a:xfrm>
              <a:off x="3635280" y="213372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5280" y="2854440"/>
              <a:ext cx="2303280" cy="71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35280" y="3068640"/>
            <a:ext cx="2303280" cy="792000"/>
            <a:chOff x="3635280" y="3068640"/>
            <a:chExt cx="2303280" cy="792000"/>
          </a:xfrm>
        </p:grpSpPr>
        <p:sp>
          <p:nvSpPr>
            <p:cNvPr id="278" name=""/>
            <p:cNvSpPr/>
            <p:nvPr/>
          </p:nvSpPr>
          <p:spPr>
            <a:xfrm>
              <a:off x="3635280" y="306864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5400000">
              <a:off x="5505120" y="3427920"/>
              <a:ext cx="79200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36720" y="4941360"/>
            <a:ext cx="2303640" cy="792720"/>
            <a:chOff x="3636720" y="4941360"/>
            <a:chExt cx="2303640" cy="792720"/>
          </a:xfrm>
        </p:grpSpPr>
        <p:sp>
          <p:nvSpPr>
            <p:cNvPr id="281" name=""/>
            <p:cNvSpPr/>
            <p:nvPr/>
          </p:nvSpPr>
          <p:spPr>
            <a:xfrm>
              <a:off x="3637080" y="4941720"/>
              <a:ext cx="2303280" cy="792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5400000">
              <a:off x="3276720" y="5301000"/>
              <a:ext cx="79236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126480" y="3035160"/>
            <a:ext cx="2486880" cy="848160"/>
            <a:chOff x="6126480" y="3035160"/>
            <a:chExt cx="2486880" cy="848160"/>
          </a:xfrm>
        </p:grpSpPr>
        <p:sp>
          <p:nvSpPr>
            <p:cNvPr id="284" name=""/>
            <p:cNvSpPr/>
            <p:nvPr/>
          </p:nvSpPr>
          <p:spPr>
            <a:xfrm rot="226800">
              <a:off x="6145560" y="3115080"/>
              <a:ext cx="2448000" cy="672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26800">
              <a:off x="8529120" y="3207960"/>
              <a:ext cx="57600" cy="674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126480" y="3844800"/>
            <a:ext cx="2507760" cy="942120"/>
            <a:chOff x="6126480" y="3844800"/>
            <a:chExt cx="2507760" cy="942120"/>
          </a:xfrm>
        </p:grpSpPr>
        <p:sp>
          <p:nvSpPr>
            <p:cNvPr id="287" name=""/>
            <p:cNvSpPr/>
            <p:nvPr/>
          </p:nvSpPr>
          <p:spPr>
            <a:xfrm rot="21215400">
              <a:off x="6156360" y="3979080"/>
              <a:ext cx="2448000" cy="673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215400">
              <a:off x="8537400" y="3860640"/>
              <a:ext cx="57600" cy="674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23240" y="4893840"/>
            <a:ext cx="2492280" cy="874440"/>
            <a:chOff x="6123240" y="4893840"/>
            <a:chExt cx="2492280" cy="874440"/>
          </a:xfrm>
        </p:grpSpPr>
        <p:sp>
          <p:nvSpPr>
            <p:cNvPr id="290" name=""/>
            <p:cNvSpPr/>
            <p:nvPr/>
          </p:nvSpPr>
          <p:spPr>
            <a:xfrm rot="264000">
              <a:off x="6145200" y="4986720"/>
              <a:ext cx="2448000" cy="672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64000">
              <a:off x="8526960" y="5092560"/>
              <a:ext cx="57600" cy="674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115640" y="3070800"/>
            <a:ext cx="2325960" cy="835920"/>
            <a:chOff x="1115640" y="3070800"/>
            <a:chExt cx="2325960" cy="835920"/>
          </a:xfrm>
        </p:grpSpPr>
        <p:sp>
          <p:nvSpPr>
            <p:cNvPr id="293" name=""/>
            <p:cNvSpPr/>
            <p:nvPr/>
          </p:nvSpPr>
          <p:spPr>
            <a:xfrm rot="21492600">
              <a:off x="1126800" y="310644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1492600">
              <a:off x="1127520" y="315108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076040" y="3850200"/>
            <a:ext cx="2382480" cy="1042920"/>
            <a:chOff x="1076040" y="3850200"/>
            <a:chExt cx="2382480" cy="1042920"/>
          </a:xfrm>
        </p:grpSpPr>
        <p:sp>
          <p:nvSpPr>
            <p:cNvPr id="296" name=""/>
            <p:cNvSpPr/>
            <p:nvPr/>
          </p:nvSpPr>
          <p:spPr>
            <a:xfrm rot="442800">
              <a:off x="1116000" y="399492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42800">
              <a:off x="1123920" y="386064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103400" y="4887720"/>
            <a:ext cx="2356920" cy="947880"/>
            <a:chOff x="1103400" y="4887720"/>
            <a:chExt cx="2356920" cy="947880"/>
          </a:xfrm>
        </p:grpSpPr>
        <p:sp>
          <p:nvSpPr>
            <p:cNvPr id="299" name=""/>
            <p:cNvSpPr/>
            <p:nvPr/>
          </p:nvSpPr>
          <p:spPr>
            <a:xfrm rot="21322800">
              <a:off x="1129680" y="497952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1322800">
              <a:off x="1134720" y="507960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563840" y="2084400"/>
                <a:ext cx="1454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83040" y="2249640"/>
                <a:ext cx="1557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15240" y="2335320"/>
                <a:ext cx="882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89160" y="3164040"/>
                <a:ext cx="19396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0,8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,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92120" y="3998880"/>
                <a:ext cx="1836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279440" y="5006880"/>
                <a:ext cx="1967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,5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,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24240" y="3198960"/>
                <a:ext cx="9144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052880" y="415620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973680" y="5106960"/>
                <a:ext cx="1555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23120" y="3198960"/>
                <a:ext cx="1509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485040" y="4062240"/>
                <a:ext cx="1450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643800" y="5070600"/>
                <a:ext cx="1547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,5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77200" y="6230880"/>
            <a:ext cx="442800" cy="501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rot="982200">
            <a:off x="2842920" y="1844280"/>
            <a:ext cx="3879720" cy="438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16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19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0040" y="2394000"/>
            <a:ext cx="868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0040" y="239400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674800" y="-27000"/>
            <a:ext cx="6480360" cy="1838160"/>
            <a:chOff x="2674800" y="-27000"/>
            <a:chExt cx="6480360" cy="1838160"/>
          </a:xfrm>
        </p:grpSpPr>
        <p:grpSp>
          <p:nvGrpSpPr>
            <p:cNvPr id="336" name=""/>
            <p:cNvGrpSpPr/>
            <p:nvPr/>
          </p:nvGrpSpPr>
          <p:grpSpPr>
            <a:xfrm>
              <a:off x="2700360" y="-27000"/>
              <a:ext cx="6443280" cy="1152000"/>
              <a:chOff x="2700360" y="-27000"/>
              <a:chExt cx="6443280" cy="1152000"/>
            </a:xfrm>
          </p:grpSpPr>
          <p:sp>
            <p:nvSpPr>
              <p:cNvPr id="337" name=""/>
              <p:cNvSpPr/>
              <p:nvPr/>
            </p:nvSpPr>
            <p:spPr>
              <a:xfrm>
                <a:off x="2700360" y="-27000"/>
                <a:ext cx="6443280" cy="11520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eaeaea"/>
                    </a:solidFill>
                    <a:latin typeface="Arial Black"/>
                  </a:rPr>
                  <a:t>Задание № 2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Arial Black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ffffff"/>
                    </a:solidFill>
                    <a:latin typeface="Arial"/>
                  </a:rPr>
                  <a:t>Определите тип функции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00360" y="743040"/>
                <a:ext cx="147600" cy="381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674800" y="1019160"/>
              <a:ext cx="6480360" cy="792000"/>
            </a:xfrm>
            <a:custGeom>
              <a:avLst/>
              <a:gdLst/>
              <a:ahLst/>
              <a:rect l="l" t="t" r="r" b="b"/>
              <a:pathLst>
                <a:path w="4264" h="454">
                  <a:moveTo>
                    <a:pt x="0" y="46"/>
                  </a:moveTo>
                  <a:lnTo>
                    <a:pt x="4264" y="454"/>
                  </a:lnTo>
                  <a:lnTo>
                    <a:pt x="426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49120" y="1954800"/>
            <a:ext cx="2382120" cy="1042560"/>
            <a:chOff x="1149120" y="1954800"/>
            <a:chExt cx="2382120" cy="1042560"/>
          </a:xfrm>
        </p:grpSpPr>
        <p:sp>
          <p:nvSpPr>
            <p:cNvPr id="341" name=""/>
            <p:cNvSpPr/>
            <p:nvPr/>
          </p:nvSpPr>
          <p:spPr>
            <a:xfrm rot="442800">
              <a:off x="1189080" y="2099520"/>
              <a:ext cx="230328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42800">
              <a:off x="1197000" y="196524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67080" y="2197080"/>
            <a:ext cx="2475360" cy="780120"/>
            <a:chOff x="6067080" y="2197080"/>
            <a:chExt cx="2475360" cy="780120"/>
          </a:xfrm>
        </p:grpSpPr>
        <p:sp>
          <p:nvSpPr>
            <p:cNvPr id="344" name=""/>
            <p:cNvSpPr/>
            <p:nvPr/>
          </p:nvSpPr>
          <p:spPr>
            <a:xfrm rot="21448800">
              <a:off x="6080400" y="2250360"/>
              <a:ext cx="2448000" cy="673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1448800">
              <a:off x="8466840" y="2212200"/>
              <a:ext cx="57600" cy="674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635280" y="4005360"/>
            <a:ext cx="2303280" cy="792000"/>
            <a:chOff x="3635280" y="4005360"/>
            <a:chExt cx="2303280" cy="792000"/>
          </a:xfrm>
        </p:grpSpPr>
        <p:sp>
          <p:nvSpPr>
            <p:cNvPr id="347" name=""/>
            <p:cNvSpPr/>
            <p:nvPr/>
          </p:nvSpPr>
          <p:spPr>
            <a:xfrm>
              <a:off x="3635280" y="400536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35280" y="4005360"/>
              <a:ext cx="2303280" cy="712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635280" y="2133720"/>
            <a:ext cx="2303280" cy="792000"/>
            <a:chOff x="3635280" y="2133720"/>
            <a:chExt cx="2303280" cy="792000"/>
          </a:xfrm>
        </p:grpSpPr>
        <p:sp>
          <p:nvSpPr>
            <p:cNvPr id="350" name=""/>
            <p:cNvSpPr/>
            <p:nvPr/>
          </p:nvSpPr>
          <p:spPr>
            <a:xfrm>
              <a:off x="3635280" y="213372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35280" y="2854440"/>
              <a:ext cx="2303280" cy="71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635280" y="3068640"/>
            <a:ext cx="2303280" cy="792000"/>
            <a:chOff x="3635280" y="3068640"/>
            <a:chExt cx="2303280" cy="792000"/>
          </a:xfrm>
        </p:grpSpPr>
        <p:sp>
          <p:nvSpPr>
            <p:cNvPr id="353" name=""/>
            <p:cNvSpPr/>
            <p:nvPr/>
          </p:nvSpPr>
          <p:spPr>
            <a:xfrm>
              <a:off x="3635280" y="3068640"/>
              <a:ext cx="2303280" cy="792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5400000">
              <a:off x="5505120" y="3427920"/>
              <a:ext cx="79200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636720" y="4941360"/>
            <a:ext cx="2303640" cy="792720"/>
            <a:chOff x="3636720" y="4941360"/>
            <a:chExt cx="2303640" cy="792720"/>
          </a:xfrm>
        </p:grpSpPr>
        <p:sp>
          <p:nvSpPr>
            <p:cNvPr id="356" name=""/>
            <p:cNvSpPr/>
            <p:nvPr/>
          </p:nvSpPr>
          <p:spPr>
            <a:xfrm>
              <a:off x="3637080" y="4941720"/>
              <a:ext cx="2303280" cy="792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5400000">
              <a:off x="3276720" y="5301000"/>
              <a:ext cx="79236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126480" y="3035160"/>
            <a:ext cx="2486880" cy="848160"/>
            <a:chOff x="6126480" y="3035160"/>
            <a:chExt cx="2486880" cy="848160"/>
          </a:xfrm>
        </p:grpSpPr>
        <p:sp>
          <p:nvSpPr>
            <p:cNvPr id="359" name=""/>
            <p:cNvSpPr/>
            <p:nvPr/>
          </p:nvSpPr>
          <p:spPr>
            <a:xfrm rot="226800">
              <a:off x="6145560" y="3115080"/>
              <a:ext cx="2448000" cy="672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26800">
              <a:off x="8529120" y="3207960"/>
              <a:ext cx="57600" cy="674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6480" y="3844800"/>
            <a:ext cx="2507760" cy="942120"/>
            <a:chOff x="6126480" y="3844800"/>
            <a:chExt cx="2507760" cy="942120"/>
          </a:xfrm>
        </p:grpSpPr>
        <p:sp>
          <p:nvSpPr>
            <p:cNvPr id="362" name=""/>
            <p:cNvSpPr/>
            <p:nvPr/>
          </p:nvSpPr>
          <p:spPr>
            <a:xfrm rot="21215400">
              <a:off x="6156360" y="3979080"/>
              <a:ext cx="2448000" cy="673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1215400">
              <a:off x="8537400" y="3860640"/>
              <a:ext cx="57600" cy="674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129000" y="4770720"/>
            <a:ext cx="2502000" cy="981360"/>
            <a:chOff x="6129000" y="4770720"/>
            <a:chExt cx="2502000" cy="981360"/>
          </a:xfrm>
        </p:grpSpPr>
        <p:sp>
          <p:nvSpPr>
            <p:cNvPr id="365" name=""/>
            <p:cNvSpPr/>
            <p:nvPr/>
          </p:nvSpPr>
          <p:spPr>
            <a:xfrm rot="264000">
              <a:off x="6156000" y="4863240"/>
              <a:ext cx="2448000" cy="795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64000">
              <a:off x="8541720" y="4947840"/>
              <a:ext cx="57600" cy="7974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115640" y="3070800"/>
            <a:ext cx="2325960" cy="835920"/>
            <a:chOff x="1115640" y="3070800"/>
            <a:chExt cx="2325960" cy="835920"/>
          </a:xfrm>
        </p:grpSpPr>
        <p:sp>
          <p:nvSpPr>
            <p:cNvPr id="368" name=""/>
            <p:cNvSpPr/>
            <p:nvPr/>
          </p:nvSpPr>
          <p:spPr>
            <a:xfrm rot="21492600">
              <a:off x="1126800" y="310644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492600">
              <a:off x="1127520" y="315108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076040" y="3850200"/>
            <a:ext cx="2382480" cy="1042920"/>
            <a:chOff x="1076040" y="3850200"/>
            <a:chExt cx="2382480" cy="1042920"/>
          </a:xfrm>
        </p:grpSpPr>
        <p:sp>
          <p:nvSpPr>
            <p:cNvPr id="371" name=""/>
            <p:cNvSpPr/>
            <p:nvPr/>
          </p:nvSpPr>
          <p:spPr>
            <a:xfrm rot="442800">
              <a:off x="1116000" y="399492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442800">
              <a:off x="1123920" y="386064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103400" y="4887720"/>
            <a:ext cx="2356920" cy="947880"/>
            <a:chOff x="1103400" y="4887720"/>
            <a:chExt cx="2356920" cy="947880"/>
          </a:xfrm>
        </p:grpSpPr>
        <p:sp>
          <p:nvSpPr>
            <p:cNvPr id="374" name=""/>
            <p:cNvSpPr/>
            <p:nvPr/>
          </p:nvSpPr>
          <p:spPr>
            <a:xfrm rot="21322800">
              <a:off x="1129680" y="4979520"/>
              <a:ext cx="2303640" cy="753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1322800">
              <a:off x="1134720" y="5079600"/>
              <a:ext cx="61560" cy="754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835280" y="2276640"/>
                <a:ext cx="1143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3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835280" y="3284640"/>
                <a:ext cx="1125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8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050920" y="4149720"/>
                <a:ext cx="752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835280" y="4869000"/>
                <a:ext cx="1301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804000" y="2421000"/>
                <a:ext cx="835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32720" y="3213000"/>
                <a:ext cx="12492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093080" y="4149720"/>
                <a:ext cx="6080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659640" y="4869000"/>
                <a:ext cx="1293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3637440" y="2250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зрастающая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7360" y="31867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убывающая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0520" y="41360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зрастающа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75760" y="507096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убывающая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23736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59880" y="6230880"/>
            <a:ext cx="442800" cy="501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2200" y="189000"/>
            <a:ext cx="8858160" cy="6696000"/>
          </a:xfrm>
          <a:custGeom>
            <a:avLst/>
            <a:gdLst/>
            <a:ahLst/>
            <a:rect l="l" t="t" r="r" b="b"/>
            <a:pathLst>
              <a:path w="3947" h="4218">
                <a:moveTo>
                  <a:pt x="998" y="4218"/>
                </a:moveTo>
                <a:lnTo>
                  <a:pt x="0" y="1769"/>
                </a:lnTo>
                <a:lnTo>
                  <a:pt x="2132" y="0"/>
                </a:lnTo>
                <a:lnTo>
                  <a:pt x="3947" y="635"/>
                </a:lnTo>
                <a:lnTo>
                  <a:pt x="3947" y="4218"/>
                </a:lnTo>
                <a:lnTo>
                  <a:pt x="998" y="42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392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395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99" name=""/>
          <p:cNvSpPr txBox="1"/>
          <p:nvPr/>
        </p:nvSpPr>
        <p:spPr>
          <a:xfrm rot="456000">
            <a:off x="2555640" y="188640"/>
            <a:ext cx="4103640" cy="573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23736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autoRev="1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6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66"/>
                                      </p:to>
                                    </p:animClr>
                                    <p:set>
                                      <p:cBhvr>
                                        <p:cTn id="76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2200" y="189000"/>
            <a:ext cx="8858160" cy="6696000"/>
          </a:xfrm>
          <a:custGeom>
            <a:avLst/>
            <a:gdLst/>
            <a:ahLst/>
            <a:rect l="l" t="t" r="r" b="b"/>
            <a:pathLst>
              <a:path w="3947" h="4218">
                <a:moveTo>
                  <a:pt x="998" y="4218"/>
                </a:moveTo>
                <a:lnTo>
                  <a:pt x="0" y="1769"/>
                </a:lnTo>
                <a:lnTo>
                  <a:pt x="2132" y="0"/>
                </a:lnTo>
                <a:lnTo>
                  <a:pt x="3947" y="635"/>
                </a:lnTo>
                <a:lnTo>
                  <a:pt x="3947" y="4218"/>
                </a:lnTo>
                <a:lnTo>
                  <a:pt x="998" y="42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-108000" y="5732640"/>
            <a:ext cx="9252000" cy="1152360"/>
            <a:chOff x="-108000" y="5732640"/>
            <a:chExt cx="9252000" cy="1152360"/>
          </a:xfrm>
        </p:grpSpPr>
        <p:sp>
          <p:nvSpPr>
            <p:cNvPr id="403" name=""/>
            <p:cNvSpPr/>
            <p:nvPr/>
          </p:nvSpPr>
          <p:spPr>
            <a:xfrm>
              <a:off x="0" y="6669000"/>
              <a:ext cx="9144000" cy="6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4428360" y="1880280"/>
              <a:ext cx="287280" cy="9144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-108000" y="5732640"/>
              <a:ext cx="3313080" cy="1152360"/>
              <a:chOff x="-108000" y="5732640"/>
              <a:chExt cx="3313080" cy="1152360"/>
            </a:xfrm>
          </p:grpSpPr>
          <p:sp>
            <p:nvSpPr>
              <p:cNvPr id="406" name=""/>
              <p:cNvSpPr/>
              <p:nvPr/>
            </p:nvSpPr>
            <p:spPr>
              <a:xfrm>
                <a:off x="-36360" y="5732640"/>
                <a:ext cx="3241440" cy="1152360"/>
              </a:xfrm>
              <a:custGeom>
                <a:avLst/>
                <a:gdLst/>
                <a:ahLst/>
                <a:rect l="l" t="t" r="r" b="b"/>
                <a:pathLst>
                  <a:path w="2042" h="726">
                    <a:moveTo>
                      <a:pt x="0" y="499"/>
                    </a:moveTo>
                    <a:lnTo>
                      <a:pt x="499" y="0"/>
                    </a:lnTo>
                    <a:lnTo>
                      <a:pt x="2042" y="726"/>
                    </a:lnTo>
                    <a:lnTo>
                      <a:pt x="0" y="726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-108000" y="5805000"/>
                <a:ext cx="1008000" cy="10083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 txBox="1"/>
            <p:nvPr/>
          </p:nvSpPr>
          <p:spPr>
            <a:xfrm>
              <a:off x="395280" y="6454800"/>
              <a:ext cx="1657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Показательные неравенства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95280" y="6597720"/>
              <a:ext cx="165564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их типы и методы решения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10" name=""/>
          <p:cNvSpPr txBox="1"/>
          <p:nvPr/>
        </p:nvSpPr>
        <p:spPr>
          <a:xfrm rot="456000">
            <a:off x="2555640" y="188640"/>
            <a:ext cx="4103640" cy="573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23736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autoRev="1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6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66"/>
                                      </p:to>
                                    </p:animClr>
                                    <p:set>
                                      <p:cBhvr>
                                        <p:cTn id="76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бров Р.С.</dc:creator>
  <dc:description/>
  <dc:language>en-US</dc:language>
  <cp:lastModifiedBy>user</cp:lastModifiedBy>
  <dcterms:modified xsi:type="dcterms:W3CDTF">2013-01-24T09:47:22Z</dcterms:modified>
  <cp:revision>123</cp:revision>
  <dc:subject/>
  <dc:title>Показательные неравенства их типы и методы решения</dc:title>
</cp:coreProperties>
</file>