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757-36AD-4763-8170-C8F3D85E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C49-A96F-4B8D-A53A-DBCFDB1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1FA-0E0A-4F22-AC29-BE87E69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176-2CD8-4FFF-BADD-30AD3738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18-8271-417E-9680-646EEBC1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A42-2276-4DC8-98A2-F86FF686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0A1-5178-448F-802D-B09BA4C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19C-34AE-4BD2-9CA7-5F29CC3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C87-6363-47DB-8BD9-0725A09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696-DCF5-474E-BE0F-B541029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BF5-E14B-4EB2-8C51-86F53CB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132-A438-4A55-9511-64D8FE0A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B4D-C0DC-4C83-89E8-FEB76BE5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называется программа для создания презентац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 какому виду программ относится программ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чего нужны презент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0"/>
            <a:ext cx="8640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основные элементы окна редактор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 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ое мен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ели инстр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че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ь зада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79280" y="1916280"/>
            <a:ext cx="505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755640" y="2060640"/>
            <a:ext cx="287964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042920" y="189000"/>
            <a:ext cx="6494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716360" y="260280"/>
            <a:ext cx="194328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724360" y="476280"/>
            <a:ext cx="93528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284720" y="764640"/>
            <a:ext cx="230328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67280" y="1916280"/>
            <a:ext cx="252072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164360" y="2852640"/>
            <a:ext cx="1511280" cy="17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0"/>
            <a:ext cx="864072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24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открыть програм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 чего состоит программ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создать пустой слай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создать новый слай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ка – Создать сла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ка – Дублировать сла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ка – Слайды из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анели инструментов – Создать слай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0"/>
            <a:ext cx="86407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342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отформатировать тек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ить мышью текст – формат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Выделить метку - форматиров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создать 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ат –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ая кнопка мыши –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сть задач – Дизайн слай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вка – Ф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06:25Z</dcterms:created>
  <dc:creator>Фёдор</dc:creator>
  <dc:description/>
  <dc:language>en-US</dc:language>
  <cp:lastModifiedBy>админ</cp:lastModifiedBy>
  <dcterms:modified xsi:type="dcterms:W3CDTF">2010-04-08T13:26:22Z</dcterms:modified>
  <cp:revision>53</cp:revision>
  <dc:subject/>
  <dc:title>Слайд 1</dc:title>
</cp:coreProperties>
</file>