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143A-6767-40C3-8CA6-DA2CDBCD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4894-8BEF-4467-8EB0-CB190042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099D-9856-435A-BBF0-5167A060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259-F801-4F86-9760-757A9CE9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0E8-CDBE-4116-AD95-381F02F7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945B-2F79-41E9-AD8E-E14209CF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A13-2F88-410F-A79E-717E1D4D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6EF3-EDC8-495C-9378-FD7C5415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214-1AFE-4CE1-A069-0DD6786E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C9E2-9CFA-44AF-A0B8-3634C4EB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D6A-24F8-41B6-A4F2-A2EA3FDF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576-AF64-426B-B76C-3A594E2F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1574-88BB-498F-BFC5-89D97BB760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640720" cy="43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Проверка зна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444600">
              <a:lnSpc>
                <a:spcPct val="75000"/>
              </a:lnSpc>
              <a:spcBef>
                <a:spcPts val="24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ак называется программа для создания текстовых документ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44600">
              <a:lnSpc>
                <a:spcPct val="75000"/>
              </a:lnSpc>
              <a:spcBef>
                <a:spcPts val="4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 какому виду программ относится эта программ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367080"/>
            <a:ext cx="914400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864072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87320" indent="-342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Проверка зна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787320" indent="-34272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ак отформатировать текс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67652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ыделить мышью текст – формат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7320" indent="-3427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Выделить метку - форматирова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7320" indent="-34272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ак создать фо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67652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ат – 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7652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ая кнопка мыши – 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7652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ставка – Фо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43280" y="1557360"/>
            <a:ext cx="54738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ока заголов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ое мен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нели инструмен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чее пол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ока состоя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не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95640" y="1773360"/>
            <a:ext cx="647640" cy="576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eeeeee"/>
            </a:solidFill>
            <a:miter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95640" y="2492280"/>
            <a:ext cx="647640" cy="505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eeeeee"/>
            </a:solidFill>
            <a:miter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3141720"/>
            <a:ext cx="57600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eeeeee"/>
            </a:solidFill>
            <a:miter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8360" y="386064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eeeeee"/>
            </a:solidFill>
            <a:miter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4508640"/>
            <a:ext cx="57492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eeeeee"/>
            </a:solidFill>
            <a:miter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5229360"/>
            <a:ext cx="574920" cy="576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eeeeee"/>
            </a:solidFill>
            <a:miter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1280" y="333360"/>
            <a:ext cx="78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зовите основные элементы 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кна редактора MS WORD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848720" cy="5865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468360" y="6092640"/>
            <a:ext cx="2087640" cy="360360"/>
          </a:xfrm>
          <a:prstGeom prst="line">
            <a:avLst/>
          </a:prstGeom>
          <a:ln w="28440">
            <a:solidFill>
              <a:srgbClr val="ff19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24000" y="4292280"/>
            <a:ext cx="1944360" cy="576360"/>
          </a:xfrm>
          <a:prstGeom prst="line">
            <a:avLst/>
          </a:prstGeom>
          <a:ln w="28440">
            <a:solidFill>
              <a:srgbClr val="ff19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0920" y="2637000"/>
            <a:ext cx="433440" cy="28728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79280" y="1699920"/>
            <a:ext cx="3600720" cy="129708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5292360" y="981000"/>
            <a:ext cx="3095640" cy="1224000"/>
          </a:xfrm>
          <a:prstGeom prst="line">
            <a:avLst/>
          </a:prstGeom>
          <a:ln w="28440">
            <a:solidFill>
              <a:srgbClr val="ff19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716360" y="1341360"/>
            <a:ext cx="3672000" cy="935280"/>
          </a:xfrm>
          <a:prstGeom prst="line">
            <a:avLst/>
          </a:prstGeom>
          <a:ln w="28440">
            <a:solidFill>
              <a:srgbClr val="ff19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355640" y="2276640"/>
            <a:ext cx="4032360" cy="3457440"/>
          </a:xfrm>
          <a:prstGeom prst="line">
            <a:avLst/>
          </a:prstGeom>
          <a:ln w="28440">
            <a:solidFill>
              <a:srgbClr val="ff19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19280" y="115920"/>
            <a:ext cx="936360" cy="288720"/>
          </a:xfrm>
          <a:prstGeom prst="line">
            <a:avLst/>
          </a:prstGeom>
          <a:ln w="28440">
            <a:solidFill>
              <a:srgbClr val="ff19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355640" y="260280"/>
            <a:ext cx="2016360" cy="432000"/>
          </a:xfrm>
          <a:prstGeom prst="line">
            <a:avLst/>
          </a:prstGeom>
          <a:ln w="28440">
            <a:solidFill>
              <a:srgbClr val="ff19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8:49:51Z</dcterms:created>
  <dc:creator>админ</dc:creator>
  <dc:description/>
  <dc:language>en-US</dc:language>
  <cp:lastModifiedBy>school</cp:lastModifiedBy>
  <dcterms:modified xsi:type="dcterms:W3CDTF">2010-11-24T13:50:35Z</dcterms:modified>
  <cp:revision>12</cp:revision>
  <dc:subject/>
  <dc:title>Слайд 1</dc:title>
</cp:coreProperties>
</file>