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D764-3D01-49DD-9982-00A61FB09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CD49-9F66-49EA-B6D7-3CB164FD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1BF9-CB93-40E3-9239-9867CBCE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464D-DCC8-49A4-9DDC-7114AD25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5601-01A5-4DB1-8B31-0C707CC1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A45A-EBDD-46E8-BE1B-E5B8B431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30B0-D9AC-431E-A6C5-CEE4492E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5981-3742-45D7-94FD-80D1E3EB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8D64-D23F-4FBA-852C-575C563C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30B6-9AC9-4D35-8930-5A5EE4EC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F8DD-A70C-4A68-989D-24A95A70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1B73-A78F-425B-96F1-2730A2AA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9554-9121-442B-8CC2-93E27629D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14200"/>
            <a:ext cx="8964720" cy="70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Выполнение практической работы №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6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ь собственную подготовленную презент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6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слайд: Панель Рисование – Добавить объек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Art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«В мире животны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6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-5 слайд: Вставка – Рисунок - из файла  – Рабо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л – папка Программы – практ.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. раб №5 – материалы – вст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6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-5 слайд:  Вставка – Фильм и звук – из файла –Рабоч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л – папка Программы – практ.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. раб №5 – материалы – вст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6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ить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60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0920" y="1036440"/>
            <a:ext cx="864216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6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абочий  сто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апка Програм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ракт. работы 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wer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ракт. раб №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19:06:25Z</dcterms:created>
  <dc:creator>Фёдор</dc:creator>
  <dc:description/>
  <dc:language>en-US</dc:language>
  <cp:lastModifiedBy>админ</cp:lastModifiedBy>
  <dcterms:modified xsi:type="dcterms:W3CDTF">2010-04-08T08:26:47Z</dcterms:modified>
  <cp:revision>52</cp:revision>
  <dc:subject/>
  <dc:title>Слайд 1</dc:title>
</cp:coreProperties>
</file>