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6.gif" ContentType="image/gif"/>
  <Override PartName="/ppt/media/image20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19.jpeg" ContentType="image/jpeg"/>
  <Override PartName="/ppt/media/image2.gif" ContentType="image/gif"/>
  <Override PartName="/ppt/media/image32.gif" ContentType="image/gif"/>
  <Override PartName="/ppt/media/image17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2.jpeg" ContentType="image/jpeg"/>
  <Override PartName="/ppt/media/image10.gif" ContentType="image/gif"/>
  <Override PartName="/ppt/media/image18.gif" ContentType="image/gif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4.jpeg" ContentType="image/jpeg"/>
  <Override PartName="/ppt/media/image28.jpeg" ContentType="image/jpeg"/>
  <Override PartName="/ppt/media/image35.jpeg" ContentType="image/jpeg"/>
  <Override PartName="/ppt/media/image29.jpeg" ContentType="image/jpeg"/>
  <Override PartName="/ppt/media/image36.jpeg" ContentType="image/jpeg"/>
  <Override PartName="/ppt/media/image39.jpeg" ContentType="image/jpeg"/>
  <Override PartName="/ppt/media/image11.gif" ContentType="image/gif"/>
  <Override PartName="/ppt/media/image5.jpeg" ContentType="image/jpeg"/>
  <Override PartName="/ppt/media/image8.gif" ContentType="image/gif"/>
  <Override PartName="/ppt/media/image7.jpeg" ContentType="image/jpeg"/>
  <Override PartName="/ppt/media/image38.jpeg" ContentType="image/jpeg"/>
  <Override PartName="/ppt/media/image1.gif" ContentType="image/gif"/>
  <Override PartName="/ppt/media/image14.jpeg" ContentType="image/jpeg"/>
  <Override PartName="/ppt/media/image15.jpeg" ContentType="image/jpeg"/>
  <Override PartName="/ppt/media/image16.jpeg" ContentType="image/jpeg"/>
  <Override PartName="/ppt/media/image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658A-ECFE-429D-8AF3-BA0D632ED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E3CA-2EEF-4E8D-89E0-F16E5025F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952C-155F-466A-A774-46EAC3769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9268-1FD6-4918-8976-C9D9A9909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F1E56-D98D-478F-84D6-5DA8A6B84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3C63D-B78E-4BFC-8CE5-3CC3743BC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F44A7-C890-4774-AF5A-413A387F5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304CC-B8AA-457A-91DA-A10D6EB6C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CDA80-5DA2-4067-BFF3-77055A287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3BE7F-AC07-43B5-850A-2B68D697F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70614-6173-40CD-ACD3-43DDB12C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0296-F2BE-4DD7-8BB6-F3AC2B81A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C893C-E24D-498A-B962-AD694029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060AF-3730-4B63-A729-8A4E69CC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91138-6531-4A52-8549-D683230AD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BFC9B-A470-4DAF-B9A4-A99B53B06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0F48A-F0C5-4FDF-880D-694BFC591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17A453-F303-4135-B563-168DED026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5D8DAE-5229-4529-B9A6-5DF82E53C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383A45-94ED-4AEA-8D16-F03F78DED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314D28-0D47-4C36-A1E3-5CF4560DF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494C8F-24C1-48A2-B6A0-22085B503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F55B-F8EC-4703-9839-B6D63A20E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736380-42FE-44A9-90F2-FA2E8C514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A03ADA-602A-413B-A446-2BCDD3D3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D1A5C7-783A-49AE-9FD6-5222869A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AA69D6-A008-4D94-B342-54ED8F11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3D212F-1C41-4307-803B-3D9B4AEAC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B22837-F94B-44B4-826C-612A09FC1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3A71DA-399F-4985-ACD5-B063E45ED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7B639-03E9-4EC1-BB8A-57DA012EC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241F2-1AD8-4092-BA8C-40233DB3C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CFC9D-A986-4B36-B680-559140E87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4012-3051-4D13-BC69-B11C331F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555CD-00C0-4C4D-B157-84C5187B3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6F225-2C74-433C-AA68-0BD08E2E7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B2AAE-522E-444C-9625-D2BF6F09C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C3F3D-A16C-4F5C-956A-5AF845CA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995F0-CFF9-4317-B4E1-2DAAF492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5578D-E8F8-47DB-A010-DDA2910F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BC0D6-D320-4C85-889A-FA08224DB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741A9-4A2A-4DC6-B14B-480825F16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B74CA-94DE-411A-8C7B-16C612955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C9DCC2-DE3B-487D-935E-FEFD780D9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9DF6-06A9-4B6D-9458-F78AA6365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5E33A8-5F3C-4141-8ABA-50E698746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A205C3-26A3-47F8-9D8E-08E4BCB2F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E40AE4-D0B3-41FB-8D31-1203891F0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AC4587-4F5D-47AC-AC0B-6AEDF649F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EDF55C-E673-4406-BD5D-B75DCBC26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C3EBE1-A92C-473C-85DA-FDA9A48F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E58086-F20B-424A-84B3-ED6B672F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329DFB-6862-44A1-A636-18DF80CC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E918FB-B020-4ABC-907A-8B9CCF757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763389-F53A-44ED-9D84-860FFD148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1298-1788-4407-A999-5CAB34CCA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8E4D82-826B-4F8E-B95C-83AE0083A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140E49-5BA8-4F00-BE02-F4A321A76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AD7487-BA2D-4B10-8F59-430550951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D512FB-7D51-4363-9DFF-183F0E8C2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382C68-F6D7-4E9B-BF5F-8C4D50903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22191C-A5B5-4ECD-B8F4-2BFAB5E54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4F700B-FFE0-41C2-B518-358B013EA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D27986-1085-45BD-B9A4-3480AE0C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D5FDE9-2856-4296-B549-B748199C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5FA42E-B03C-41A3-B231-BE04DB94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B73C-4BB3-4E78-AA91-3685D283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41DECA-7DF1-48B7-BADD-6CB231DD9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9B267F-611C-4DDD-8160-CF3C5052B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5CBDF0-A1C5-4B8F-838C-5942A697E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E8342E-6F6B-4488-B3AE-6AB9294A7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EBF1D8-7816-416B-AF2F-4CED31067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EB780B-A16B-426C-AE8F-F14C28537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6D47F0-2B7D-497F-BEFB-E3C722EBE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5DD705-8BB9-4507-B557-1D7E7C8A2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955172-443C-4A4F-8A7C-4A9A6587F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245A98-F5E4-43B4-B7AC-8F3253F0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4FF6-6E1F-4581-B30D-905F6AE2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146452-FC62-4184-8A57-B88A9FDF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3C21F4-4717-47CC-A54A-C7027A43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8BC547-C2F4-40A8-90AE-7D86E89A4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F22B21-3CC1-4C94-A8FF-DC914ACBC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00CC0E-13EC-4DEA-A744-326843D83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3925-8CA7-457C-9480-1647D5D8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44E52-82B3-414E-8A80-FF901872E2C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B76C2-61C3-4D18-98CC-DDC009D901E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DA903-11F1-4043-A2BF-8B6150F4931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5B30D-84DF-4BE2-B8BC-7EA2CFE2037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3230C-C920-450C-9F31-1918AEBAE84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1D128-F3BD-4866-98F9-C8CF00BB0CF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860EA-0F9E-490B-B28E-20FFC98D759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go.mail.ru/search_images?q=%F1%EA%E0%ED%E5%F0" TargetMode="External"/><Relationship Id="rId2" Type="http://schemas.openxmlformats.org/officeDocument/2006/relationships/hyperlink" Target="http://gifanimation.ru/anipti_new.ht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2.gif"/><Relationship Id="rId3" Type="http://schemas.openxmlformats.org/officeDocument/2006/relationships/image" Target="../media/image11.gif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8.gif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Заголовок 1"/>
          <p:cNvSpPr/>
          <p:nvPr/>
        </p:nvSpPr>
        <p:spPr>
          <a:xfrm>
            <a:off x="1295280" y="1219320"/>
            <a:ext cx="746784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Century Schoolbook"/>
              </a:rPr>
              <a:t>ПРАВИЛА ПОЖАРНОЙ БЕЗОПАСНОСТ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Рисунок 4" descr="жжж.gif"/>
          <p:cNvPicPr/>
          <p:nvPr/>
        </p:nvPicPr>
        <p:blipFill>
          <a:blip r:embed="rId1"/>
          <a:stretch/>
        </p:blipFill>
        <p:spPr>
          <a:xfrm>
            <a:off x="304920" y="380880"/>
            <a:ext cx="31240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Рисунок 1" descr="ол.jpg"/>
          <p:cNvPicPr/>
          <p:nvPr/>
        </p:nvPicPr>
        <p:blipFill>
          <a:blip r:embed="rId1"/>
          <a:stretch/>
        </p:blipFill>
        <p:spPr>
          <a:xfrm>
            <a:off x="6019920" y="2362320"/>
            <a:ext cx="2671560" cy="4024080"/>
          </a:xfrm>
          <a:prstGeom prst="rect">
            <a:avLst/>
          </a:prstGeom>
          <a:ln w="0">
            <a:noFill/>
          </a:ln>
        </p:spPr>
      </p:pic>
      <p:pic>
        <p:nvPicPr>
          <p:cNvPr id="396" name="Рисунок 2" descr="тт.jpg"/>
          <p:cNvPicPr/>
          <p:nvPr/>
        </p:nvPicPr>
        <p:blipFill>
          <a:blip r:embed="rId2"/>
          <a:stretch/>
        </p:blipFill>
        <p:spPr>
          <a:xfrm>
            <a:off x="685800" y="914400"/>
            <a:ext cx="455940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7617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entury Schoolbook"/>
              </a:rPr>
              <a:t>КАКОЕ ПРАВИЛО УСВОИЛИ ИЗ СТИХОТВОРЕНИЯ?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8" name="Rectangle 1"/>
          <p:cNvSpPr/>
          <p:nvPr/>
        </p:nvSpPr>
        <p:spPr>
          <a:xfrm>
            <a:off x="3886200" y="2227320"/>
            <a:ext cx="4419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ички – это не игрушк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Знать бы надо всем, друзья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Что с огнём играть нельзя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Рисунок 3" descr="сс.jpg"/>
          <p:cNvPicPr/>
          <p:nvPr/>
        </p:nvPicPr>
        <p:blipFill>
          <a:blip r:embed="rId1"/>
          <a:stretch/>
        </p:blipFill>
        <p:spPr>
          <a:xfrm>
            <a:off x="533520" y="2590920"/>
            <a:ext cx="30416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entury Schoolbook"/>
              </a:rPr>
              <a:t>СОВЕТ ЗАЙЧИШКИ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1" name="Заголовок 1"/>
          <p:cNvSpPr/>
          <p:nvPr/>
        </p:nvSpPr>
        <p:spPr>
          <a:xfrm>
            <a:off x="2819520" y="2286000"/>
            <a:ext cx="5562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«ЭЛЕКТРИЧЕСТВО НЕ ТЕРПИТ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РОТОЗЕЕВ И ЗЕВАК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БУДЬТЕ, ДЕТИ, ОСТОРОЖНЫ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ЧТОБЫ НЕ ПОПАСТЬ ВПРОСАК!»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Рисунок 3" descr="11111.gif"/>
          <p:cNvPicPr/>
          <p:nvPr/>
        </p:nvPicPr>
        <p:blipFill>
          <a:blip r:embed="rId1"/>
          <a:stretch/>
        </p:blipFill>
        <p:spPr>
          <a:xfrm>
            <a:off x="685800" y="1981080"/>
            <a:ext cx="251460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Рисунок 4" descr="ии.jpg"/>
          <p:cNvPicPr/>
          <p:nvPr/>
        </p:nvPicPr>
        <p:blipFill>
          <a:blip r:embed="rId1"/>
          <a:stretch/>
        </p:blipFill>
        <p:spPr>
          <a:xfrm>
            <a:off x="6400800" y="228600"/>
            <a:ext cx="2411280" cy="167652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entury Schoolbook"/>
              </a:rPr>
              <a:t>ПРАВИЛА ПОЖАРНОЙ БЕЗОПАСНОСТИ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5" name="Rectangle 1"/>
          <p:cNvSpPr/>
          <p:nvPr/>
        </p:nvSpPr>
        <p:spPr>
          <a:xfrm>
            <a:off x="457200" y="1470600"/>
            <a:ext cx="6553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c00000"/>
              </a:buClr>
              <a:buSzPct val="152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льзя играть со спич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0000"/>
              </a:buClr>
              <a:buSzPct val="152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  <a:ea typeface="Times New Roman"/>
              </a:rPr>
              <a:t>Не оставляйте электроприборы без присмотра. Уходя из дома, проверьте, отключили ли вы электроприборы из се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0000"/>
              </a:buClr>
              <a:buSzPct val="152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 оставляйте не затушенных костров – это может привести к гибели всего ле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0000"/>
              </a:buClr>
              <a:buSzPct val="152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  <a:ea typeface="Times New Roman"/>
              </a:rPr>
              <a:t>Не поджигайте сами и не позволяйте поджигать малышам сухую траву  и тополиный пу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Рисунок 6" descr="ь.jpg"/>
          <p:cNvPicPr/>
          <p:nvPr/>
        </p:nvPicPr>
        <p:blipFill>
          <a:blip r:embed="rId2"/>
          <a:stretch/>
        </p:blipFill>
        <p:spPr>
          <a:xfrm>
            <a:off x="7086600" y="5105520"/>
            <a:ext cx="1727280" cy="1295280"/>
          </a:xfrm>
          <a:prstGeom prst="rect">
            <a:avLst/>
          </a:prstGeom>
          <a:ln w="0">
            <a:noFill/>
          </a:ln>
        </p:spPr>
      </p:pic>
      <p:pic>
        <p:nvPicPr>
          <p:cNvPr id="407" name="Рисунок 7" descr="сск.jpg"/>
          <p:cNvPicPr/>
          <p:nvPr/>
        </p:nvPicPr>
        <p:blipFill>
          <a:blip r:embed="rId3"/>
          <a:stretch/>
        </p:blipFill>
        <p:spPr>
          <a:xfrm>
            <a:off x="7391520" y="2895480"/>
            <a:ext cx="1218960" cy="13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entury Schoolbook"/>
              </a:rPr>
              <a:t>ПРОТИВОПОЖАРНЫЕ МЕРЫ</a:t>
            </a:r>
            <a:br>
              <a:rPr sz="4400"/>
            </a:b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9" name="Rectangle 1"/>
          <p:cNvSpPr/>
          <p:nvPr/>
        </p:nvSpPr>
        <p:spPr>
          <a:xfrm>
            <a:off x="304920" y="1166040"/>
            <a:ext cx="800100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c00000"/>
              </a:buClr>
              <a:buSzPct val="151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льзя открывать окна, так как приток кислорода поддерживает гор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0000"/>
              </a:buClr>
              <a:buSzPct val="151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льзя тушить водой электроприборы, включенные в сеть. Электроприбор прежде надо отключить из сети, т.е. выдернуть вилку из розетки, затем накрыть его плотным одеялом, засыпать песком или землё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0000"/>
              </a:buClr>
              <a:buSzPct val="151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и задымлении лечь на пол, и закрыть нос мокрым носовым плат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0000"/>
              </a:buClr>
              <a:buSzPct val="151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вигаться вдоль стены к вых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0000"/>
              </a:buClr>
              <a:buSzPct val="151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Вызвать пожарную охран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Рисунок 4" descr="го.jpg"/>
          <p:cNvPicPr/>
          <p:nvPr/>
        </p:nvPicPr>
        <p:blipFill>
          <a:blip r:embed="rId1"/>
          <a:stretch/>
        </p:blipFill>
        <p:spPr>
          <a:xfrm>
            <a:off x="7162920" y="4572000"/>
            <a:ext cx="152388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209320"/>
            <a:ext cx="60958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САМ НЕ СПРАВИШЬСЯ С ПОЖАРОМ,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ЭТОТ ТРУД НЕ ДЛЯ ДЕТЕЙ.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НЕ ТЕРЯЯ ВРЕМЯ ДАРОМ,</a:t>
            </a:r>
            <a:br>
              <a:rPr sz="3000"/>
            </a:br>
            <a:r>
              <a:rPr b="1" lang="ru-RU" sz="6600" spc="-1" strike="noStrike">
                <a:solidFill>
                  <a:srgbClr val="c00000"/>
                </a:solidFill>
                <a:latin typeface="Century Schoolbook"/>
              </a:rPr>
              <a:t>«01» </a:t>
            </a: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ЗВОНИ СКОРЕЙ.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НАБИРАЙ УМЕЛО,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ЧТОБ НЕ ВСЁ СГОРЕЛО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12" name="Рисунок 4" descr="тт.jpg"/>
          <p:cNvPicPr/>
          <p:nvPr/>
        </p:nvPicPr>
        <p:blipFill>
          <a:blip r:embed="rId1"/>
          <a:stretch/>
        </p:blipFill>
        <p:spPr>
          <a:xfrm>
            <a:off x="5257800" y="3886200"/>
            <a:ext cx="3338640" cy="2514600"/>
          </a:xfrm>
          <a:prstGeom prst="rect">
            <a:avLst/>
          </a:prstGeom>
          <a:ln w="0">
            <a:noFill/>
          </a:ln>
        </p:spPr>
      </p:pic>
      <p:pic>
        <p:nvPicPr>
          <p:cNvPr id="413" name="Рисунок 5" descr="п.jpg"/>
          <p:cNvPicPr/>
          <p:nvPr/>
        </p:nvPicPr>
        <p:blipFill>
          <a:blip r:embed="rId2"/>
          <a:stretch/>
        </p:blipFill>
        <p:spPr>
          <a:xfrm>
            <a:off x="5791320" y="914400"/>
            <a:ext cx="21430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5" descr="телефон"/>
          <p:cNvPicPr/>
          <p:nvPr/>
        </p:nvPicPr>
        <p:blipFill>
          <a:blip r:embed="rId1"/>
          <a:stretch/>
        </p:blipFill>
        <p:spPr>
          <a:xfrm>
            <a:off x="5100480" y="4491000"/>
            <a:ext cx="3662640" cy="236700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entury Schoolbook"/>
              </a:rPr>
              <a:t>КАК НУЖНО ПРАВИЛЬНО ВЫЗЫВАТЬ  СПАСАТЕЛЬНУЮ СЛУЖБУ?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6" name="TextBox 2"/>
          <p:cNvSpPr/>
          <p:nvPr/>
        </p:nvSpPr>
        <p:spPr>
          <a:xfrm>
            <a:off x="457200" y="2286000"/>
            <a:ext cx="83059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Четко назвать с воё имя и фамили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Указать что именно гор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Сообщить адрес горящего объекта (если проезд затруднён сообщить наилучший маршрут или по возможности встретить машину и показать дорог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entury Schoolbook"/>
              </a:rPr>
              <a:t>ИЗ КАКОГО ПРОИЗВЕДЕНИЯ ОТРЫВОК?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8" name="TextBox 2"/>
          <p:cNvSpPr/>
          <p:nvPr/>
        </p:nvSpPr>
        <p:spPr>
          <a:xfrm>
            <a:off x="838080" y="1981080"/>
            <a:ext cx="66294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3"/>
          <p:cNvSpPr/>
          <p:nvPr/>
        </p:nvSpPr>
        <p:spPr>
          <a:xfrm>
            <a:off x="380880" y="1752480"/>
            <a:ext cx="5410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за дым над голов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за гром над мостов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м пылает за угл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о зевак стоит круг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авит лестницы команд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 огня спасает д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сь чердак уже в огн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ьются голуби в ок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дворе полно ребя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яде Стёпе говоря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Неужели вместе с дом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ши голуби сгоря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4"/>
          <p:cNvSpPr/>
          <p:nvPr/>
        </p:nvSpPr>
        <p:spPr>
          <a:xfrm>
            <a:off x="4800600" y="548640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Дядя Стёпа» С.В. Михал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Рисунок 5" descr="ра.jpg"/>
          <p:cNvPicPr/>
          <p:nvPr/>
        </p:nvPicPr>
        <p:blipFill>
          <a:blip r:embed="rId1"/>
          <a:stretch/>
        </p:blipFill>
        <p:spPr>
          <a:xfrm>
            <a:off x="5181480" y="1905120"/>
            <a:ext cx="2424240" cy="33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Box 1"/>
          <p:cNvSpPr/>
          <p:nvPr/>
        </p:nvSpPr>
        <p:spPr>
          <a:xfrm>
            <a:off x="609480" y="990720"/>
            <a:ext cx="5257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лисички взяли спич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 морю синему пошл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ре синее зажгл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ре пламенем гор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бежал из моря ки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Эй, пожарные, бегит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могите, Помогите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лго, долго крокод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ре синее туш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рогами и блин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сушёными гриб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2"/>
          <p:cNvSpPr/>
          <p:nvPr/>
        </p:nvSpPr>
        <p:spPr>
          <a:xfrm>
            <a:off x="4267080" y="51814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утаница» К.И. Чук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Рисунок 3" descr="CA2RW5EB.jpg"/>
          <p:cNvPicPr/>
          <p:nvPr/>
        </p:nvPicPr>
        <p:blipFill>
          <a:blip r:embed="rId1"/>
          <a:stretch/>
        </p:blipFill>
        <p:spPr>
          <a:xfrm>
            <a:off x="5181480" y="1295280"/>
            <a:ext cx="235296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8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Box 1"/>
          <p:cNvSpPr/>
          <p:nvPr/>
        </p:nvSpPr>
        <p:spPr>
          <a:xfrm>
            <a:off x="533520" y="762120"/>
            <a:ext cx="5257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етий этаж, и четвёртый, и пят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т и последн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жаром объят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ёрного дыма весит пеле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вётся наружу огонь из ок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до ещё подтянуться немножк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рень слабе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полз до окош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тал, задыхаясь в дыму, на карн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вочку взял и спускается вн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2"/>
          <p:cNvSpPr/>
          <p:nvPr/>
        </p:nvSpPr>
        <p:spPr>
          <a:xfrm>
            <a:off x="5334120" y="43434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ассказ о неизвестном герое» С. Я. Марш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Рисунок 3" descr="CA6S8KLK.jpg"/>
          <p:cNvPicPr/>
          <p:nvPr/>
        </p:nvPicPr>
        <p:blipFill>
          <a:blip r:embed="rId1"/>
          <a:stretch/>
        </p:blipFill>
        <p:spPr>
          <a:xfrm>
            <a:off x="5562720" y="1371600"/>
            <a:ext cx="2228760" cy="27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entury Schoolbook"/>
              </a:rPr>
              <a:t>ОТГАДАЙТЕ ЗАГАДКИ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TextBox 5"/>
          <p:cNvSpPr/>
          <p:nvPr/>
        </p:nvSpPr>
        <p:spPr>
          <a:xfrm>
            <a:off x="838080" y="1752480"/>
            <a:ext cx="4191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деревянном дом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живают гном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ж такие добряки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дают всем огонь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6"/>
          <p:cNvSpPr/>
          <p:nvPr/>
        </p:nvSpPr>
        <p:spPr>
          <a:xfrm>
            <a:off x="5257800" y="21337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СПИ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7"/>
          <p:cNvSpPr/>
          <p:nvPr/>
        </p:nvSpPr>
        <p:spPr>
          <a:xfrm>
            <a:off x="4191120" y="3505320"/>
            <a:ext cx="4190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 не сам по себ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 сильнее всег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 страшнее всег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все любят мен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все губят ме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8"/>
          <p:cNvSpPr/>
          <p:nvPr/>
        </p:nvSpPr>
        <p:spPr>
          <a:xfrm>
            <a:off x="5943600" y="571500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ОГО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Рисунок 9" descr="жж.gif"/>
          <p:cNvPicPr/>
          <p:nvPr/>
        </p:nvPicPr>
        <p:blipFill>
          <a:blip r:embed="rId1"/>
          <a:stretch/>
        </p:blipFill>
        <p:spPr>
          <a:xfrm>
            <a:off x="1371600" y="3657600"/>
            <a:ext cx="1676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xtBox 1"/>
          <p:cNvSpPr/>
          <p:nvPr/>
        </p:nvSpPr>
        <p:spPr>
          <a:xfrm>
            <a:off x="609480" y="1447920"/>
            <a:ext cx="5257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 недавно две газе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звонили и запе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Неужели в самом де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е сгор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русе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Ах, в уме ли вы, газе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сгорели карусел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качели уцелел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2"/>
          <p:cNvSpPr/>
          <p:nvPr/>
        </p:nvSpPr>
        <p:spPr>
          <a:xfrm>
            <a:off x="4724280" y="510552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Телефон» К. И. Чук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Рисунок 3" descr="CALLBR2K.jpg"/>
          <p:cNvPicPr/>
          <p:nvPr/>
        </p:nvPicPr>
        <p:blipFill>
          <a:blip r:embed="rId1"/>
          <a:stretch/>
        </p:blipFill>
        <p:spPr>
          <a:xfrm>
            <a:off x="5715000" y="1523880"/>
            <a:ext cx="220032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Box 1"/>
          <p:cNvSpPr/>
          <p:nvPr/>
        </p:nvSpPr>
        <p:spPr>
          <a:xfrm>
            <a:off x="609480" y="1447920"/>
            <a:ext cx="5257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или-тили-тили-бо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горелся кошки д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шка выскочила, глаза выпучи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ежит курица с ведр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ливает кошки д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2"/>
          <p:cNvSpPr/>
          <p:nvPr/>
        </p:nvSpPr>
        <p:spPr>
          <a:xfrm>
            <a:off x="4191120" y="480060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сское народное творч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Рисунок 3" descr="CAM7S36P.jpg"/>
          <p:cNvPicPr/>
          <p:nvPr/>
        </p:nvPicPr>
        <p:blipFill>
          <a:blip r:embed="rId1"/>
          <a:srcRect l="7231" t="0" r="0" b="0"/>
          <a:stretch/>
        </p:blipFill>
        <p:spPr>
          <a:xfrm>
            <a:off x="5257800" y="1219320"/>
            <a:ext cx="29685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entury Schoolbook"/>
              </a:rPr>
              <a:t>ЭКСТРЕМАЛЬНЫЕ СИТУАЦИИ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5" name="TextBox 2"/>
          <p:cNvSpPr/>
          <p:nvPr/>
        </p:nvSpPr>
        <p:spPr>
          <a:xfrm>
            <a:off x="990720" y="1905120"/>
            <a:ext cx="739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ты смотришь телевизор и вдруг видишь: он задымил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3"/>
          <p:cNvSpPr/>
          <p:nvPr/>
        </p:nvSpPr>
        <p:spPr>
          <a:xfrm>
            <a:off x="990720" y="2743200"/>
            <a:ext cx="69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ты оказался в горящем доме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4"/>
          <p:cNvSpPr/>
          <p:nvPr/>
        </p:nvSpPr>
        <p:spPr>
          <a:xfrm>
            <a:off x="990720" y="3505320"/>
            <a:ext cx="69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ты нашёл спичк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5"/>
          <p:cNvSpPr/>
          <p:nvPr/>
        </p:nvSpPr>
        <p:spPr>
          <a:xfrm>
            <a:off x="1066680" y="4343400"/>
            <a:ext cx="693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ты увидел, как маленькие дети играют со спичкам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6"/>
          <p:cNvSpPr/>
          <p:nvPr/>
        </p:nvSpPr>
        <p:spPr>
          <a:xfrm>
            <a:off x="990720" y="5105520"/>
            <a:ext cx="693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ты остался дома один, а тебе надо подогреть пищу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Box 7"/>
          <p:cNvSpPr/>
          <p:nvPr/>
        </p:nvSpPr>
        <p:spPr>
          <a:xfrm>
            <a:off x="990720" y="5791320"/>
            <a:ext cx="69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бы у нас в школе возник пожар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1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6" dur="5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entury Schoolbook"/>
              </a:rPr>
              <a:t>ПОЖАР В ШКОЛЕ</a:t>
            </a:r>
            <a:br>
              <a:rPr sz="4400"/>
            </a:b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42" name="Рисунок 9" descr="тм.jpg"/>
          <p:cNvPicPr/>
          <p:nvPr/>
        </p:nvPicPr>
        <p:blipFill>
          <a:blip r:embed="rId1"/>
          <a:stretch/>
        </p:blipFill>
        <p:spPr>
          <a:xfrm>
            <a:off x="2286000" y="1828800"/>
            <a:ext cx="5070600" cy="35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467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СПИЧКАМИ НЕ ИГРАЙ,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И КОСТЁР НЕ РАЗЖИГАЙ!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ЭЛЕКТРОПРИБОРЫ ВО ВРЕМЯ ВЫКЛЮЧАЙ!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ПРАВИЛА ПОЖАРНЫЕ СОБЛЮДАЙ!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ЕСЛИ ВДРУГ ПОЖАР СЛУЧИЛСЯ –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ПАНИКЕ НЕ ПОДДАВАЙСЯ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 ТЕЛЕФОН ВОЗЬМИ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«01» ТЫ НАБЕРИ!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44" name="Рисунок 4" descr="ся.jpg"/>
          <p:cNvPicPr/>
          <p:nvPr/>
        </p:nvPicPr>
        <p:blipFill>
          <a:blip r:embed="rId1"/>
          <a:stretch/>
        </p:blipFill>
        <p:spPr>
          <a:xfrm>
            <a:off x="6248520" y="4851360"/>
            <a:ext cx="245412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Box 2"/>
          <p:cNvSpPr/>
          <p:nvPr/>
        </p:nvSpPr>
        <p:spPr>
          <a:xfrm>
            <a:off x="1828800" y="3808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чники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3"/>
          <p:cNvSpPr/>
          <p:nvPr/>
        </p:nvSpPr>
        <p:spPr>
          <a:xfrm>
            <a:off x="304920" y="16002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люстрации с сайтов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1"/>
          <p:cNvSpPr/>
          <p:nvPr/>
        </p:nvSpPr>
        <p:spPr>
          <a:xfrm>
            <a:off x="3048120" y="1602000"/>
            <a:ext cx="5486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d2611c"/>
                </a:solidFill>
                <a:uFillTx/>
                <a:latin typeface="Arial"/>
                <a:ea typeface="Times New Roman"/>
                <a:hlinkClick r:id="rId1"/>
              </a:rPr>
              <a:t>http://go.mail.ru/search_images?q=%F1%EA%E0%ED%E5%F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d2611c"/>
                </a:solidFill>
                <a:uFillTx/>
                <a:latin typeface="Arial"/>
                <a:ea typeface="Times New Roman"/>
                <a:hlinkClick r:id="rId2"/>
              </a:rPr>
              <a:t>http://gifanimation.ru/anipti_new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5"/>
          <p:cNvSpPr/>
          <p:nvPr/>
        </p:nvSpPr>
        <p:spPr>
          <a:xfrm>
            <a:off x="380880" y="274320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уемая литератур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валько В.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жарная безопасность в начальной школе: 1-4 класс.-М:ВАКО,2004.-192с. – (Мастерская учител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entury Schoolbook"/>
              </a:rPr>
              <a:t>ОТГАДАЙТЕ ЗАГАДКИ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TextBox 5"/>
          <p:cNvSpPr/>
          <p:nvPr/>
        </p:nvSpPr>
        <p:spPr>
          <a:xfrm>
            <a:off x="838080" y="1752480"/>
            <a:ext cx="4191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деревянном дом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живают гном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ж такие добряки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дают всем огонь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6"/>
          <p:cNvSpPr/>
          <p:nvPr/>
        </p:nvSpPr>
        <p:spPr>
          <a:xfrm>
            <a:off x="5257800" y="21337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СПИ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7"/>
          <p:cNvSpPr/>
          <p:nvPr/>
        </p:nvSpPr>
        <p:spPr>
          <a:xfrm>
            <a:off x="4191120" y="3505320"/>
            <a:ext cx="4190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 не сам по себ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 сильнее всег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 страшнее всег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все любят мен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все губят ме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8"/>
          <p:cNvSpPr/>
          <p:nvPr/>
        </p:nvSpPr>
        <p:spPr>
          <a:xfrm>
            <a:off x="5943600" y="571500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ОГО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Рисунок 9" descr="жж.gif"/>
          <p:cNvPicPr/>
          <p:nvPr/>
        </p:nvPicPr>
        <p:blipFill>
          <a:blip r:embed="rId1"/>
          <a:stretch/>
        </p:blipFill>
        <p:spPr>
          <a:xfrm>
            <a:off x="1371600" y="3657600"/>
            <a:ext cx="1676520" cy="2286000"/>
          </a:xfrm>
          <a:prstGeom prst="rect">
            <a:avLst/>
          </a:prstGeom>
          <a:ln w="0">
            <a:noFill/>
          </a:ln>
        </p:spPr>
      </p:pic>
      <p:pic>
        <p:nvPicPr>
          <p:cNvPr id="365" name="Рисунок 10" descr="ссссссссс.jpg"/>
          <p:cNvPicPr/>
          <p:nvPr/>
        </p:nvPicPr>
        <p:blipFill>
          <a:blip r:embed="rId2"/>
          <a:stretch/>
        </p:blipFill>
        <p:spPr>
          <a:xfrm>
            <a:off x="6858000" y="1752480"/>
            <a:ext cx="160020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Box 1"/>
          <p:cNvSpPr/>
          <p:nvPr/>
        </p:nvSpPr>
        <p:spPr>
          <a:xfrm>
            <a:off x="762120" y="38088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 мала, да зл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уть-чуть свеч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огда так упад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много горя прине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2"/>
          <p:cNvSpPr/>
          <p:nvPr/>
        </p:nvSpPr>
        <p:spPr>
          <a:xfrm>
            <a:off x="5181480" y="7621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ИСК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3"/>
          <p:cNvSpPr/>
          <p:nvPr/>
        </p:nvSpPr>
        <p:spPr>
          <a:xfrm>
            <a:off x="2362320" y="251460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привале нам помог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п варил, картошку пё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похода он хорош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 с собой не понесёшь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4"/>
          <p:cNvSpPr/>
          <p:nvPr/>
        </p:nvSpPr>
        <p:spPr>
          <a:xfrm>
            <a:off x="6781680" y="28954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КОСТЁ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6"/>
          <p:cNvSpPr/>
          <p:nvPr/>
        </p:nvSpPr>
        <p:spPr>
          <a:xfrm>
            <a:off x="685800" y="44197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ьётся, взвивает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небо устремл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7"/>
          <p:cNvSpPr/>
          <p:nvPr/>
        </p:nvSpPr>
        <p:spPr>
          <a:xfrm>
            <a:off x="5105520" y="48006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Д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Рисунок 7" descr="дд.jpg"/>
          <p:cNvPicPr/>
          <p:nvPr/>
        </p:nvPicPr>
        <p:blipFill>
          <a:blip r:embed="rId1"/>
          <a:stretch/>
        </p:blipFill>
        <p:spPr>
          <a:xfrm>
            <a:off x="5562720" y="5334120"/>
            <a:ext cx="1828800" cy="1228680"/>
          </a:xfrm>
          <a:prstGeom prst="rect">
            <a:avLst/>
          </a:prstGeom>
          <a:ln w="0">
            <a:noFill/>
          </a:ln>
        </p:spPr>
      </p:pic>
      <p:pic>
        <p:nvPicPr>
          <p:cNvPr id="373" name="Рисунок 8" descr="images.jpg"/>
          <p:cNvPicPr/>
          <p:nvPr/>
        </p:nvPicPr>
        <p:blipFill>
          <a:blip r:embed="rId2"/>
          <a:stretch/>
        </p:blipFill>
        <p:spPr>
          <a:xfrm>
            <a:off x="457200" y="2438280"/>
            <a:ext cx="1852560" cy="1219320"/>
          </a:xfrm>
          <a:prstGeom prst="rect">
            <a:avLst/>
          </a:prstGeom>
          <a:ln w="0">
            <a:noFill/>
          </a:ln>
        </p:spPr>
      </p:pic>
      <p:pic>
        <p:nvPicPr>
          <p:cNvPr id="374" name="Рисунок 9" descr="ггг.jpg"/>
          <p:cNvPicPr/>
          <p:nvPr/>
        </p:nvPicPr>
        <p:blipFill>
          <a:blip r:embed="rId3"/>
          <a:stretch/>
        </p:blipFill>
        <p:spPr>
          <a:xfrm>
            <a:off x="6400800" y="457200"/>
            <a:ext cx="1943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entury Schoolbook"/>
              </a:rPr>
              <a:t>ОГОНЬ – ДРУГ?</a:t>
            </a:r>
            <a:br>
              <a:rPr sz="4800"/>
            </a:br>
            <a:r>
              <a:rPr b="1" lang="ru-RU" sz="4800" spc="-1" strike="noStrike">
                <a:solidFill>
                  <a:srgbClr val="c00000"/>
                </a:solidFill>
                <a:latin typeface="Century Schoolbook"/>
              </a:rPr>
              <a:t>ОГОНЬ – ВРАГ?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Rectangle 1"/>
          <p:cNvSpPr/>
          <p:nvPr/>
        </p:nvSpPr>
        <p:spPr>
          <a:xfrm>
            <a:off x="990720" y="1468440"/>
            <a:ext cx="5562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Мне бабуля говорил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Что огонь нам друг и вра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Без него темно бы был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Жили б мы совсем не та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Мы б от холода дрожал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евратились бы в пингви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Или мамонтами б стал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бросли бы шерстью длин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Телевизора б не знал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и поесть и ни пожи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 компьютером бы не дружил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 общем, плохо бы мы жил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Рисунок 4" descr="с.jpg"/>
          <p:cNvPicPr/>
          <p:nvPr/>
        </p:nvPicPr>
        <p:blipFill>
          <a:blip r:embed="rId1"/>
          <a:stretch/>
        </p:blipFill>
        <p:spPr>
          <a:xfrm>
            <a:off x="369720" y="2438280"/>
            <a:ext cx="1640160" cy="1409760"/>
          </a:xfrm>
          <a:prstGeom prst="rect">
            <a:avLst/>
          </a:prstGeom>
          <a:ln w="0">
            <a:noFill/>
          </a:ln>
        </p:spPr>
      </p:pic>
      <p:pic>
        <p:nvPicPr>
          <p:cNvPr id="378" name="Рисунок 11" descr="05.gif"/>
          <p:cNvPicPr/>
          <p:nvPr/>
        </p:nvPicPr>
        <p:blipFill>
          <a:blip r:embed="rId2"/>
          <a:stretch/>
        </p:blipFill>
        <p:spPr>
          <a:xfrm>
            <a:off x="6629400" y="1905120"/>
            <a:ext cx="1962000" cy="1523880"/>
          </a:xfrm>
          <a:prstGeom prst="rect">
            <a:avLst/>
          </a:prstGeom>
          <a:ln w="0">
            <a:noFill/>
          </a:ln>
        </p:spPr>
      </p:pic>
      <p:pic>
        <p:nvPicPr>
          <p:cNvPr id="379" name="Рисунок 15" descr="4к.gif"/>
          <p:cNvPicPr/>
          <p:nvPr/>
        </p:nvPicPr>
        <p:blipFill>
          <a:blip r:embed="rId3"/>
          <a:stretch/>
        </p:blipFill>
        <p:spPr>
          <a:xfrm>
            <a:off x="6934320" y="4114800"/>
            <a:ext cx="190476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Рисунок 3" descr="39.gif"/>
          <p:cNvPicPr/>
          <p:nvPr/>
        </p:nvPicPr>
        <p:blipFill>
          <a:blip r:embed="rId1"/>
          <a:stretch/>
        </p:blipFill>
        <p:spPr>
          <a:xfrm>
            <a:off x="2819520" y="1447920"/>
            <a:ext cx="3581280" cy="4216320"/>
          </a:xfrm>
          <a:prstGeom prst="rect">
            <a:avLst/>
          </a:prstGeom>
          <a:ln w="0">
            <a:noFill/>
          </a:ln>
        </p:spPr>
      </p:pic>
      <p:pic>
        <p:nvPicPr>
          <p:cNvPr id="381" name="Рисунок 4" descr="жж.gif"/>
          <p:cNvPicPr/>
          <p:nvPr/>
        </p:nvPicPr>
        <p:blipFill>
          <a:blip r:embed="rId2"/>
          <a:stretch/>
        </p:blipFill>
        <p:spPr>
          <a:xfrm>
            <a:off x="3505320" y="3375000"/>
            <a:ext cx="1981080" cy="2136960"/>
          </a:xfrm>
          <a:prstGeom prst="rect">
            <a:avLst/>
          </a:prstGeom>
          <a:ln w="0">
            <a:noFill/>
          </a:ln>
        </p:spPr>
      </p:pic>
      <p:pic>
        <p:nvPicPr>
          <p:cNvPr id="382" name="Рисунок 18" descr="Копия n7.gif"/>
          <p:cNvPicPr/>
          <p:nvPr/>
        </p:nvPicPr>
        <p:blipFill>
          <a:blip r:embed="rId3"/>
          <a:stretch/>
        </p:blipFill>
        <p:spPr>
          <a:xfrm>
            <a:off x="2743200" y="1219320"/>
            <a:ext cx="3886200" cy="3886200"/>
          </a:xfrm>
          <a:prstGeom prst="rect">
            <a:avLst/>
          </a:prstGeom>
          <a:ln w="0">
            <a:noFill/>
          </a:ln>
        </p:spPr>
      </p:pic>
      <p:pic>
        <p:nvPicPr>
          <p:cNvPr id="383" name="Рисунок 19" descr="в школе.jpg"/>
          <p:cNvPicPr/>
          <p:nvPr/>
        </p:nvPicPr>
        <p:blipFill>
          <a:blip r:embed="rId4"/>
          <a:stretch/>
        </p:blipFill>
        <p:spPr>
          <a:xfrm>
            <a:off x="2362320" y="1523880"/>
            <a:ext cx="4740120" cy="35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Рисунок 1" descr="ее.jpg"/>
          <p:cNvPicPr/>
          <p:nvPr/>
        </p:nvPicPr>
        <p:blipFill>
          <a:blip r:embed="rId1"/>
          <a:stretch/>
        </p:blipFill>
        <p:spPr>
          <a:xfrm>
            <a:off x="2133720" y="1295280"/>
            <a:ext cx="3838320" cy="2895840"/>
          </a:xfrm>
          <a:prstGeom prst="rect">
            <a:avLst/>
          </a:prstGeom>
          <a:ln w="0">
            <a:noFill/>
          </a:ln>
        </p:spPr>
      </p:pic>
      <p:pic>
        <p:nvPicPr>
          <p:cNvPr id="385" name="Рисунок 2" descr="бь.jpg"/>
          <p:cNvPicPr/>
          <p:nvPr/>
        </p:nvPicPr>
        <p:blipFill>
          <a:blip r:embed="rId2"/>
          <a:stretch/>
        </p:blipFill>
        <p:spPr>
          <a:xfrm>
            <a:off x="2666880" y="914400"/>
            <a:ext cx="3292560" cy="4648320"/>
          </a:xfrm>
          <a:prstGeom prst="rect">
            <a:avLst/>
          </a:prstGeom>
          <a:ln w="0">
            <a:noFill/>
          </a:ln>
        </p:spPr>
      </p:pic>
      <p:pic>
        <p:nvPicPr>
          <p:cNvPr id="386" name="Рисунок 3" descr="CAM707SN.jpg"/>
          <p:cNvPicPr/>
          <p:nvPr/>
        </p:nvPicPr>
        <p:blipFill>
          <a:blip r:embed="rId3"/>
          <a:stretch/>
        </p:blipFill>
        <p:spPr>
          <a:xfrm>
            <a:off x="2514600" y="2286000"/>
            <a:ext cx="369396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Рисунок 1" descr="ллл.jpg"/>
          <p:cNvPicPr/>
          <p:nvPr/>
        </p:nvPicPr>
        <p:blipFill>
          <a:blip r:embed="rId1"/>
          <a:stretch/>
        </p:blipFill>
        <p:spPr>
          <a:xfrm>
            <a:off x="2209680" y="1120680"/>
            <a:ext cx="5334120" cy="4289400"/>
          </a:xfrm>
          <a:prstGeom prst="rect">
            <a:avLst/>
          </a:prstGeom>
          <a:ln w="0">
            <a:noFill/>
          </a:ln>
        </p:spPr>
      </p:pic>
      <p:pic>
        <p:nvPicPr>
          <p:cNvPr id="388" name="Рисунок 2" descr="01.gif"/>
          <p:cNvPicPr/>
          <p:nvPr/>
        </p:nvPicPr>
        <p:blipFill>
          <a:blip r:embed="rId2"/>
          <a:stretch/>
        </p:blipFill>
        <p:spPr>
          <a:xfrm>
            <a:off x="1828800" y="882720"/>
            <a:ext cx="4572000" cy="3552840"/>
          </a:xfrm>
          <a:prstGeom prst="rect">
            <a:avLst/>
          </a:prstGeom>
          <a:ln w="0">
            <a:noFill/>
          </a:ln>
        </p:spPr>
      </p:pic>
      <p:pic>
        <p:nvPicPr>
          <p:cNvPr id="389" name="Рисунок 3" descr="оь.jpg"/>
          <p:cNvPicPr/>
          <p:nvPr/>
        </p:nvPicPr>
        <p:blipFill>
          <a:blip r:embed="rId3"/>
          <a:stretch/>
        </p:blipFill>
        <p:spPr>
          <a:xfrm>
            <a:off x="2286000" y="1295280"/>
            <a:ext cx="516096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Рисунок 1" descr="Копия (3) elka.gif"/>
          <p:cNvPicPr/>
          <p:nvPr/>
        </p:nvPicPr>
        <p:blipFill>
          <a:blip r:embed="rId1"/>
          <a:stretch/>
        </p:blipFill>
        <p:spPr>
          <a:xfrm>
            <a:off x="2286000" y="1143000"/>
            <a:ext cx="4267080" cy="4267080"/>
          </a:xfrm>
          <a:prstGeom prst="rect">
            <a:avLst/>
          </a:prstGeom>
          <a:ln w="0">
            <a:noFill/>
          </a:ln>
        </p:spPr>
      </p:pic>
      <p:pic>
        <p:nvPicPr>
          <p:cNvPr id="391" name="Рисунок 4" descr="еим.jpg"/>
          <p:cNvPicPr/>
          <p:nvPr/>
        </p:nvPicPr>
        <p:blipFill>
          <a:blip r:embed="rId2"/>
          <a:stretch/>
        </p:blipFill>
        <p:spPr>
          <a:xfrm>
            <a:off x="2590920" y="609480"/>
            <a:ext cx="4140000" cy="3602160"/>
          </a:xfrm>
          <a:prstGeom prst="rect">
            <a:avLst/>
          </a:prstGeom>
          <a:ln w="0">
            <a:noFill/>
          </a:ln>
        </p:spPr>
      </p:pic>
      <p:pic>
        <p:nvPicPr>
          <p:cNvPr id="392" name="Рисунок 5" descr="ккк.jpg"/>
          <p:cNvPicPr/>
          <p:nvPr/>
        </p:nvPicPr>
        <p:blipFill>
          <a:blip r:embed="rId3"/>
          <a:stretch/>
        </p:blipFill>
        <p:spPr>
          <a:xfrm>
            <a:off x="3200400" y="533520"/>
            <a:ext cx="2819520" cy="4886280"/>
          </a:xfrm>
          <a:prstGeom prst="rect">
            <a:avLst/>
          </a:prstGeom>
          <a:ln w="0">
            <a:noFill/>
          </a:ln>
        </p:spPr>
      </p:pic>
      <p:pic>
        <p:nvPicPr>
          <p:cNvPr id="393" name="Рисунок 6" descr="ннн.jpg"/>
          <p:cNvPicPr/>
          <p:nvPr/>
        </p:nvPicPr>
        <p:blipFill>
          <a:blip r:embed="rId4"/>
          <a:stretch/>
        </p:blipFill>
        <p:spPr>
          <a:xfrm>
            <a:off x="2209680" y="1676520"/>
            <a:ext cx="4419720" cy="33066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" descr="D:\Documents and Settings\Tonya\Рабочий стол\мероприятия\ППБ\картинки\ггт.jpg"/>
          <p:cNvPicPr/>
          <p:nvPr/>
        </p:nvPicPr>
        <p:blipFill>
          <a:blip r:embed="rId5"/>
          <a:stretch/>
        </p:blipFill>
        <p:spPr>
          <a:xfrm>
            <a:off x="2514600" y="1981080"/>
            <a:ext cx="415296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олик</cp:lastModifiedBy>
  <dcterms:modified xsi:type="dcterms:W3CDTF">2013-01-24T09:34:12Z</dcterms:modified>
  <cp:revision>30</cp:revision>
  <dc:subject/>
  <dc:title>Слайд 1</dc:title>
</cp:coreProperties>
</file>