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002-E8AF-4669-AA44-031670A9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CE5-65DE-4ECF-8CE0-760B8190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09A-DDFD-4154-A9C5-32852B93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6FB-0BA6-4B44-8FC2-C75EB551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0A08-877C-499F-ADD3-5440E377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66DE-4537-4D50-8ABD-B4EC0D99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8E1B-991B-4A9E-BDF2-1F7DD23C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83FC-61B4-4200-AEB1-5A2ED06B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69AE-358A-4138-A5D3-8CE890C9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EA2A-B11E-4137-8C07-2FAC1B15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B1F3-7486-4847-8CBA-3AB15F8E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A47-9FC0-4070-9E0D-AAD18F33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C462-5C28-46F4-ABA8-A451A293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D66F-89BE-4B05-9DD1-79392083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35A8-6658-469F-919E-75DACD41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60C6-4627-4B02-9E6A-94026CC0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17F1-E89C-4285-8E61-E5A26C19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01B0-78DE-4C44-8E4E-D16EE1B1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F54-2581-48D4-B73E-2F50C60E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6591-A95E-447B-8F63-D08D4A77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051-A281-4540-9534-B0198834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CB1-DC6B-43C1-B8E9-E1C92F3D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FA9-1385-4AF9-9D0D-99D8E1F7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321-7D5D-4B34-B78D-87EBBC04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5804-6763-4442-8DB4-0242743E6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1295-EC33-4C1C-AF91-6F0DFD1CA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Закон суров, но это закон»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ra le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d le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 л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берите из перечисленного наказания, предусмотренные Уголовным кодексом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лишение своб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ссыл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высы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предание публичному поз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исправительны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лишение права занимать определённые должност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 штра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 увольнение от дол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) четверт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)общественное пориц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) лишение воинского или специального з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58680" y="1457280"/>
            <a:ext cx="72280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941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Расположите в правильной последовательности этапы принятия федерального закон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А. утверждение закона в Совете Федерации РФ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Б. внесение законопроект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. опубликование закон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Г. подписание закона Президентом РФ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Д. обсуждение закона в Государственной Дум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олжите следующие фраз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Россия есть … … … государство с … формой 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ысшей ценностью является …, …. …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ысшим органом исполнительной власти является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Высшим органом законодательной власти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сударственную власть в России разделяют на …, …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колько Субъектов Федерации в РФ? Каков их состав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делите признаки, характеризующие гражданские правоотнош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 имущественная самостоятельность стор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отсутствие равноправия стор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.  отношения возникают по инициативе одной из стор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 равенство субъектов правоотно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. один из субъектов правоотношения всегда – государственный орг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07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ие из перечисленных прав, установленных Трудовым кодексом, принадлежат работнику, какие - работодателю, а какие в равной степени относятся и к тому, и к друго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право заключать, изменять и расторгать трудовой догов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право на рабочее мес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право вести коллективные переговоры и заключать коллективные догово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раво на своевременную выплату заработной пл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 право принимать локальные нормативные ак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 право поощрять за добросоветстный тру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. профессиональную подготовку, переподготовку и повышение квалиф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. право требовать бережного отношения к имущест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право привлекать к дисциплинарной ответств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 право на достоверную информацию об условиях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 право на отд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 право участия в управлении организ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а работника: Б,Г,Е,Ж,К,Л,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а работодателя: Д,Е,З 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а А и В относятся в равной степени и к работнику, и к работодате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, нижеподписавшиеся, Егорейченко Анатолий Давидович с одной стороны и фирма "УГУ" с другой, составили настоящий договор о том, что Егорейченко А.Д. обязуется произвести ремонт офиса фирмы в течение 20 дней с момента заключения договора, а фирма "УГУ" - оплатить работу в размере 7000 рублей по завершении раб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 сентября 200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6:45:21Z</dcterms:created>
  <dc:creator>Михаил</dc:creator>
  <dc:description/>
  <dc:language>en-US</dc:language>
  <cp:lastModifiedBy>Михаил</cp:lastModifiedBy>
  <dcterms:modified xsi:type="dcterms:W3CDTF">2007-04-23T20:27:20Z</dcterms:modified>
  <cp:revision>2</cp:revision>
  <dc:subject/>
  <dc:title>Слайд 1</dc:title>
</cp:coreProperties>
</file>