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4741-688C-433E-AC1F-21ED327A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1EC-85DF-4D07-82CA-292D460A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DC7-29FD-468C-9BA3-28158032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489-7532-4F9A-8D42-6DDFDD04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DED-9FF1-42E4-91CC-DBAF6EE4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458-C8E2-40B6-8C9C-2FEFA171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E49-62A5-40BF-BDC4-EC50FB7D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20BE-4360-45D6-8894-6DC9D836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109-75BB-4AE5-9479-AD0C4DED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05E4-3107-4FD1-A646-A29CEB5B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105-4A53-4023-8B88-72912633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43B3-19E9-4DDB-A60F-6E187189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1D6B-F026-44A2-B9A1-775F3529CA1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692280"/>
            <a:ext cx="78516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гры на развитие предложно-падежных конструкций у дошкольников с ОН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4941360"/>
            <a:ext cx="8713800" cy="19162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БДОУ д/с № 196 Кировского района СПб учитель-логопед: Чегодаева Елена Юрьев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гра: «Теремо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IMG_0016.JPG"/>
          <p:cNvPicPr/>
          <p:nvPr/>
        </p:nvPicPr>
        <p:blipFill>
          <a:blip r:embed="rId1"/>
          <a:stretch/>
        </p:blipFill>
        <p:spPr>
          <a:xfrm>
            <a:off x="3303720" y="2036880"/>
            <a:ext cx="2536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гра: «Ромаш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5" descr="IMG_0002.JPG"/>
          <p:cNvPicPr/>
          <p:nvPr/>
        </p:nvPicPr>
        <p:blipFill>
          <a:blip r:embed="rId1"/>
          <a:stretch/>
        </p:blipFill>
        <p:spPr>
          <a:xfrm>
            <a:off x="3517920" y="2182680"/>
            <a:ext cx="2170080" cy="246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номерная и систематическая работа по формированию ППК помогае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корректировать грамматический строй реч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азвить монологическую реч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формировать предпосылки успешного обучения детей в школ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62100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ложно-падежные конструкции (ППК) являются сложными для дошкольников с ОНР, дети испытывают трудн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1773360"/>
            <a:ext cx="8208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Трудности, связанные с ориентацией в окружающем пространств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Несформированность пространственных поняти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Трудности формирования навыков правильного употребления предлогов из-за не понимания значения предлогов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рушение ППК проявляется в виде ошибо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55736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пропуск или заме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замена одной ППК друго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еправильное употребление падежных    окончаний существительны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еправильное употребление как предлога, так и падежного оконч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рекционная работа по формированию ППК осуществляется в процесс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637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развития понимания реч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асширения уточнения словарного запа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формирования грамматического строя реч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азвития произнош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азвития связной реч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бучения грамо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реплению умения правильно употреблять ППК способствую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хемы предл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6" descr="IMG_0007.JPG"/>
          <p:cNvPicPr/>
          <p:nvPr/>
        </p:nvPicPr>
        <p:blipFill>
          <a:blip r:embed="rId1"/>
          <a:stretch/>
        </p:blipFill>
        <p:spPr>
          <a:xfrm>
            <a:off x="1646280" y="2901960"/>
            <a:ext cx="1743120" cy="1889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557000"/>
            <a:ext cx="4041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ные и сюжетные картин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7" descr="IMG_0008.JPG"/>
          <p:cNvPicPr/>
          <p:nvPr/>
        </p:nvPicPr>
        <p:blipFill>
          <a:blip r:embed="rId2"/>
          <a:stretch/>
        </p:blipFill>
        <p:spPr>
          <a:xfrm>
            <a:off x="5754600" y="2828880"/>
            <a:ext cx="18464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также : игры и игровые упраж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4" descr="IMG_0013.JPG"/>
          <p:cNvPicPr/>
          <p:nvPr/>
        </p:nvPicPr>
        <p:blipFill>
          <a:blip r:embed="rId1"/>
          <a:stretch/>
        </p:blipFill>
        <p:spPr>
          <a:xfrm>
            <a:off x="712800" y="4267080"/>
            <a:ext cx="1854360" cy="207324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5" descr="IMG_0006.JPG"/>
          <p:cNvPicPr/>
          <p:nvPr/>
        </p:nvPicPr>
        <p:blipFill>
          <a:blip r:embed="rId2"/>
          <a:stretch/>
        </p:blipFill>
        <p:spPr>
          <a:xfrm>
            <a:off x="6040440" y="1749600"/>
            <a:ext cx="17082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59022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гра «Бабочка и цвето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27432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абочка-красав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д цветком порхает, пляш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ерком узорным маш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дохнула на цвет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идела на лист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цветочком скрыла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ова появилась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4" descr="IMG_0004.JPG"/>
          <p:cNvPicPr/>
          <p:nvPr/>
        </p:nvPicPr>
        <p:blipFill>
          <a:blip r:embed="rId1"/>
          <a:stretch/>
        </p:blipFill>
        <p:spPr>
          <a:xfrm>
            <a:off x="5029200" y="1889280"/>
            <a:ext cx="1962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гра: «Поезд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IMG_0010.JPG"/>
          <p:cNvPicPr/>
          <p:nvPr/>
        </p:nvPicPr>
        <p:blipFill>
          <a:blip r:embed="rId1"/>
          <a:stretch/>
        </p:blipFill>
        <p:spPr>
          <a:xfrm>
            <a:off x="3230640" y="1749600"/>
            <a:ext cx="275580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гра: «Божья коров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IMG_0005.JPG"/>
          <p:cNvPicPr/>
          <p:nvPr/>
        </p:nvPicPr>
        <p:blipFill>
          <a:blip r:embed="rId1"/>
          <a:stretch/>
        </p:blipFill>
        <p:spPr>
          <a:xfrm>
            <a:off x="3303720" y="1962000"/>
            <a:ext cx="2536560" cy="25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6:18:10Z</dcterms:created>
  <dc:creator>GoD</dc:creator>
  <dc:description/>
  <dc:language>en-US</dc:language>
  <cp:lastModifiedBy>Пользователь Windows</cp:lastModifiedBy>
  <dcterms:modified xsi:type="dcterms:W3CDTF">2013-01-23T20:52:29Z</dcterms:modified>
  <cp:revision>29</cp:revision>
  <dc:subject/>
  <dc:title>Тема:Игры на развитие предложно-падежных конструкций у дошкольников с ОНР</dc:title>
</cp:coreProperties>
</file>