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90E-52EF-49DC-BF89-B837986A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200-1C17-4F45-A343-DA2456A8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0EB-EBCF-4760-A8BB-053EF447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E4B-9DFE-418F-8607-F60CB1C4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BAA-1BF5-4BB9-B903-CD85B472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B99-F5BF-4503-B8B8-7FC14BEE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D2A-59AA-4A3E-8C55-53C49870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CAA-151C-4E33-90E2-52BE4E9A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A63-6CA0-48BD-90BE-CE66EA1D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F63-D419-4550-B4AC-27FFD3E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EBA-57BA-4569-AFC5-AC50FD9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B82-C3B0-4E72-B03B-404FD4B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4E42-D970-4045-B498-128FB202D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1439200">
            <a:off x="-835200" y="-247320"/>
            <a:ext cx="13465440" cy="955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81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4760" y="0"/>
            <a:ext cx="876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9:27:59Z</dcterms:created>
  <dc:creator>Вера</dc:creator>
  <dc:description/>
  <dc:language>en-US</dc:language>
  <cp:lastModifiedBy>Вера</cp:lastModifiedBy>
  <dcterms:modified xsi:type="dcterms:W3CDTF">2013-01-20T19:41:10Z</dcterms:modified>
  <cp:revision>2</cp:revision>
  <dc:subject/>
  <dc:title>Слайд 1</dc:title>
</cp:coreProperties>
</file>