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8C70-259E-4DC0-9319-091EED66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040A-C2A2-4D32-BCF9-67032DF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3B77-1E8C-4CBC-AE64-12D70B5E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C6BC-23E2-45F3-A0E0-027B55FF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CED3-BDFD-4755-9509-EB298128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6C69-CF88-499C-9E89-E953048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144-F01B-4085-ABE9-8069F519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5A17-4982-4A83-9187-FB63389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2ED-CDD9-4698-A90E-0858D39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F3F-5B96-40D8-94BC-DF073A98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8A22-45D2-4ACC-9D77-69C9CB6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D286-3993-47F2-9882-426F14A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4A0A-56DD-4E98-A4FC-43CF4E7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F8F6-1508-422D-A6D9-20C41C4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34D-285B-416B-9423-90195CED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055-AEA5-440D-982C-0A936755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79A9-74C3-4B94-B1E1-C8964A59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A312-7459-4D08-93F0-872FA11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ABB6-69DC-4EE1-96CA-25FA066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2823-1D86-48CE-9656-FF2BF2C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04CF-8DD9-4B1C-B5D5-29A66195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8860-0844-488F-8013-E0EE6E7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4124-628C-4892-A589-B330E85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C2E8-E280-474F-B29F-86EE6E0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92A-5670-4019-8916-7054743B2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F07D-D1F9-454A-806B-114B3F3607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32000" y="928800"/>
            <a:ext cx="64008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ма : Организация условий для социально-педагогической поддержки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ый педаг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БОУ школа №3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кунина Е.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Социально-педагогическое моделирование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ef6"/>
                </a:solidFill>
                <a:latin typeface="Arial"/>
              </a:rPr>
              <a:t>подсистем управления рисками детства в муниципальных территориях.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ы муниципальных образовательных отделов и управлений по образованию могут быть представлены в следующих основных направлениях теоретических исследований и моделирова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учение социу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работка концепции объединения ресурсов и координации действий всех ведом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ирование специальной инфраструктуры муниципальных учреждений социально-педагогической поддерж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й деятельност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института сем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условий для деятельности по интереса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кадров для работы по данному направл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Профилактическая и реабилитационная служба организации условий социально-педагогической поддержки  во Фрунзенском районе Санкт-Петербурга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заимодействие с образовательными структурами района и горо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ПМСС Фрунзенского райо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печительский со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    ДДЮТ Фрунзенского райо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    Центр эстетического воспитания Фрунзенского райо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МЦ Фрунзенского райо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тр помощи семье и дет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тр Конта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    Дом Молодёж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def6"/>
                </a:solidFill>
                <a:latin typeface="Times New Roman"/>
              </a:rPr>
              <a:t>Этапы реализации проекта по созданию условий социально-педагогической поддержки</a:t>
            </a:r>
            <a:endParaRPr b="0" lang="en-US" sz="1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116000" y="1628640"/>
          <a:ext cx="6778800" cy="4667400"/>
        </p:xfrm>
        <a:graphic>
          <a:graphicData uri="http://schemas.openxmlformats.org/drawingml/2006/table">
            <a:tbl>
              <a:tblPr/>
              <a:tblGrid>
                <a:gridCol w="3467160"/>
                <a:gridCol w="3311640"/>
              </a:tblGrid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л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Подготовительный, организационно-аналит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учение исходного состояния и тенденций развития школы. Создание творческой группы, разработка исходного варианта проекта. Согласование текста проекта в педколлективе, с учащимися и родительской общественностью. Утверждение текста проект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Основной, внедрен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лизация основных проектов. Изучение промежуточной результативности реализации проекта. Презентация промежуточного опыта реализации проекта в форме ежегодных публичных отчетов, публикаций, выступлен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Обобщающий, коррекционно-аналит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учение итоговой результативности реализации проекта. Осмысление и предъявление результатов реализации проекта в форме публичного отчета, публикаций. Постановка новых стратегических  задач развития школ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ef6"/>
                </a:solidFill>
                <a:latin typeface="Times New Roman"/>
              </a:rPr>
              <a:t>Ожидаемые результаты, средства контроля их достоверности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результатам  можно отнест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качественное обновление содержания общего обра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расширение перечня дополнительных услуг и удовлетворение потребностей детей в занятиях по интерес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совершенствование профессиональной компетентности и общекультурного уровня педагогических работ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повышение ИКТ-компетентности педагогов и учащих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создание условий, обеспечивающих формирование здорового образа жизни всех субъектов образовательного процесс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обеспечение информационно-коммуникационной техникой с выходом в Инернет и современным учебным оборудованием каждого учебного кабине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подключение каждого рабочего места учителя к локальной школьной се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обеспечение дистанционного обуч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повышение эффективности общественных форм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ценка результатов реализации  может осуществляться с помощью различных метод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экспертная оценка результатов деятельности (внутренними и внешними экспертам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социологические опросы учащихся, педагогов и родител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методы психодиагности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анализ результатов единого государственного экзамена, олимпиад, конкурс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к строить пространство свободы? Как в нем действовать? Сразу же ответить на эти вопросы невозможно. Работа в системе поддержки начинает кардинально менять позицию взрослого – он становится человеком, который задает культурные образцы. Главное, чтобы ребенка окружали именно такие люди. Если это будет взрослое сообщество, то это будет только лучше. Необходимо вырваться из замкнутого педагогического простран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номен Фрунзенской коммуны: люди их мира искусства, науки – удивительные люди, которые могли задавать культурные образ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Задачи данной работы, цель, гипотеза   и краткий  анализа объекта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 исследования: обоснование модели регионального управления социально-педагогической поддерж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кт исследования: социально-педагогическая поддержка в образовательных учрежд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мет исследования: процесс формирования теории и практики регионального управления социально-педагогической системы поддерж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: 1. обновить содержание образования на основе методов,технологий обучения, расширение информационно-коммуникативных технологий, способствующих навыков у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рассмотреть социально-педагогическую поддержку как одну из стратегий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смоделировать норативно-правовые основы управления социально-педагогической поддерж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спроектировать вариативную личностно-мотивационную систему учреждений социально-педагогической поддер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     Гипотеза исследования: социально-педагогический процесс будет проход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спешно, если функционирует целостная система социально-педагогической поддержки, в основе которой лежит функционально-структурная мод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ef6"/>
                </a:solidFill>
                <a:latin typeface="Times New Roman"/>
              </a:rPr>
              <a:t>Часть  1. Теория и методологические основы социально-педагогической поддержки ребёнка в современной практике образования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лава 1. Социально-педагогическая поддержка как стратегия восп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оследние годы проблема социально-педагогической поддержки детей остается достаточно актуальной в различных областях научного познания. Проблемы психолого-педагогической поддержки в процессе воспитания и формирования личности ребенка наиболее полно раскрыты в исследованиях О.С. Газмана, которые берут свое начало с конца 80-х годов ХХ века. Он проводил анализ ситуаций, выдвигал ряд идей относительно базовой культуры личности, доказывал наличие оснований, которые остаются неизменными и независимыми от социальной и политической конъект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гда стираются границы между нравственным и безнравственным, взрослое общество, сознающее свою ответственность перед подрастающим поколением не может оставить его без поддержки в трудный момент самоопределения. Анализ литературы подтверждает, что проблема еще н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достаточно изуче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ef6"/>
                </a:solidFill>
                <a:latin typeface="Times New Roman"/>
              </a:rPr>
              <a:t>1.1 Социальная политика государства о необходимости социально-педагогической поддержки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5564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временном обществе утвердились следующие тенден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ановление социального образования и восп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ширение круга социальных институтов восп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ышение роли социальной среды как фактора влияния на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средового подхода к построению образовательных пространств и воспитательных сист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величение штата специалистов в образовательных учреждени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и и другие обстоятельства являются отражением социально-педагогической парадигмы воспитания, которая начинает учитываться при выработке политики государства и общества в области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def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Основные задачи и принципы государственной социальной политики в области воспитания и образования детей</a:t>
            </a:r>
            <a:br>
              <a:rPr sz="1800"/>
            </a:b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блюдение прав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прочнение основных гарантий, прав и интересов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еспечение благоприятных нормативных экономических услов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условий для духовно-нравственного, физического и психологического разви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спитание патриотизма и гражданствен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вития самореализации личности в социу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нцип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истемности и планомер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рес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ой справедлив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динства экономической, научной и правовой баз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авовой регламентированности практических м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Законодательная база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ституции РФ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кон РФ об образова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цепция 2020 ( 3й раздел «Образование»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деральная целевая программа развития образования, Национальная образовательная инициатива «Наша новая школа» и Стратегия развития системы образования Санкт-Петербурга «Петербургская школа 2020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лизуемые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Я гражданин Росси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йонная программ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 правопоря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ef6"/>
                </a:solidFill>
                <a:latin typeface="Times New Roman"/>
              </a:rPr>
              <a:t>Проектирование воспитательной работы в контексте социальной педагогической парадигмы</a:t>
            </a: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нципы проектир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ост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крыт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уманистической направлен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ного обесп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убъекты проектиро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ч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ые груп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ые институ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шения проектирования предполаг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тимальные механизмы построения воспитательной работы на уровне личности, социально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группы, общности, общества, создание условий для развития субъектов воспитательной сре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Этапы организации социально-педагогической поддержки</a:t>
            </a:r>
            <a:r>
              <a:rPr b="0" lang="ru-RU" sz="1400" spc="-1" strike="noStrike">
                <a:solidFill>
                  <a:srgbClr val="dfdef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агностический –выявление проблемного круга и потенциала реб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ализационный- включение ребенка в различные виды деятельности, работа по преодолению пробл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тоговый этап- анализ и оценка результатов практической дея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Часть 2. Проблемы формирования региональной системы управления социально-педагогической поддержкой.</a:t>
            </a:r>
            <a:br>
              <a:rPr sz="1800"/>
            </a:br>
            <a:r>
              <a:rPr b="0" lang="ru-RU" sz="1800" spc="-1" strike="noStrike">
                <a:solidFill>
                  <a:srgbClr val="dfdef6"/>
                </a:solidFill>
                <a:latin typeface="Times New Roman"/>
              </a:rPr>
              <a:t>Глава 1. Моделирование нормативно-правовых основ управления социально-педагогической поддержкой.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оритетные принципы социально-педагогической поддерж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уманное воспитание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онное построение образовательной системы с учётом специфических образовательных потребно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уществление социальной миссии учреждений разных типов, видов и организаионно-правовых нор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9:32:22Z</dcterms:created>
  <dc:creator>Valerian</dc:creator>
  <dc:description/>
  <dc:language>en-US</dc:language>
  <cp:lastModifiedBy>Вера</cp:lastModifiedBy>
  <dcterms:modified xsi:type="dcterms:W3CDTF">2013-01-17T10:17:29Z</dcterms:modified>
  <cp:revision>5</cp:revision>
  <dc:subject/>
  <dc:title>Государственное Образовательное Учреждение Высшего Профессионального Образования «Российский Государственный Педагогический Университет им. А.И. Герцена  » Факультет Управления  Кафедра Управления образованием</dc:title>
</cp:coreProperties>
</file>