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2A1-2740-47AB-A3EA-C9A63F05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03A1-4F1A-4D04-86F6-1F32A485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A05-22C7-42EB-9784-B0031CC8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3A4-FF09-457B-B5C4-EC46ACCB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6685-24E1-44B7-90A2-8179E2DA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D576-96B6-4446-B5F6-4B1F29E7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FD6F-2127-4B49-8CA9-A05F791E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62C9-05AB-4EB2-B804-8F740FD0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895A-227D-4EE2-94D5-435A8388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90A0-07D9-4F2D-8D85-701F7E1E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D5F9-0F5E-4C4F-8D01-46A71A8F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CF9D-9E7F-436F-9559-85BE93A8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AD23-F867-42A1-A685-2F30A9CC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F540-4491-47AC-AD73-70F01E84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251A-FBC3-453A-894C-396D12AD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C928-A046-4462-9B6D-69DF2D3B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F12A-4BD3-4269-8860-6AB4F4B5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B15-5032-45E7-9812-BCE2459C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C414-8EE0-400B-AC54-1D4A439B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794-2FF5-49E7-B665-1F040C1C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E2D4-9F0F-442F-9316-187337B4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10E4-2107-4187-83AE-D162F076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D456-1BA7-40EC-B174-2C942018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A99-4C1B-417C-91DE-0E7B34FB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CAAC-7B36-4E97-B5BB-FBFA84455D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3B8F-5FA3-43C6-B594-7797E71825F1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fo.metod.ru/data/territories/kirov/towns/malmyzh/texts/kpr2000/photos/viewphotos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6"/>
          <p:cNvSpPr txBox="1"/>
          <p:nvPr/>
        </p:nvSpPr>
        <p:spPr>
          <a:xfrm>
            <a:off x="1828800" y="3276720"/>
            <a:ext cx="69343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«Национальный состав населения»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0" y="-442800"/>
            <a:ext cx="32148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Rectangle 465"/>
          <p:cNvSpPr/>
          <p:nvPr/>
        </p:nvSpPr>
        <p:spPr>
          <a:xfrm>
            <a:off x="0" y="705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438280" y="6172200"/>
          <a:ext cx="6477120" cy="38088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 результатам переписи населения, 2002 г.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166" name="WordArt 488"/>
          <p:cNvSpPr txBox="1"/>
          <p:nvPr/>
        </p:nvSpPr>
        <p:spPr>
          <a:xfrm>
            <a:off x="1371600" y="228600"/>
            <a:ext cx="720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циональный состав населения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ировской области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81080" y="1219320"/>
          <a:ext cx="6934320" cy="4889520"/>
        </p:xfrm>
        <a:graphic>
          <a:graphicData uri="http://schemas.openxmlformats.org/drawingml/2006/table">
            <a:tbl>
              <a:tblPr/>
              <a:tblGrid>
                <a:gridCol w="2971800"/>
                <a:gridCol w="2297160"/>
                <a:gridCol w="1665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ациональность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Численность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% от общего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Русски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 365 438 чел.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90,82%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Татары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43 415 чел.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,89%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Марийцы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8 930 чел.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,59%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Удмурты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7 952 чел.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,19%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Украинцы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1 399 чел.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0,76%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Другой национальности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3 389 чел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,75%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5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Всего численность населения составляет примерно 1,5 млн. чел.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Малмыжский район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Picture 4" descr="Малмыжский район"/>
          <p:cNvPicPr/>
          <p:nvPr/>
        </p:nvPicPr>
        <p:blipFill>
          <a:blip r:embed="rId1"/>
          <a:stretch/>
        </p:blipFill>
        <p:spPr>
          <a:xfrm>
            <a:off x="1752480" y="2300400"/>
            <a:ext cx="7010640" cy="3743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0" y="503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WordArt 7"/>
          <p:cNvSpPr txBox="1"/>
          <p:nvPr/>
        </p:nvSpPr>
        <p:spPr>
          <a:xfrm>
            <a:off x="2133720" y="60948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циональный состав 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2" name="Picture 9" descr="Герб"/>
          <p:cNvPicPr/>
          <p:nvPr/>
        </p:nvPicPr>
        <p:blipFill>
          <a:blip r:embed="rId2"/>
          <a:stretch/>
        </p:blipFill>
        <p:spPr>
          <a:xfrm>
            <a:off x="7696080" y="1676520"/>
            <a:ext cx="952560" cy="1162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Фотографии город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4800600"/>
            <a:ext cx="2057400" cy="1414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WordArt 4"/>
          <p:cNvSpPr txBox="1"/>
          <p:nvPr/>
        </p:nvSpPr>
        <p:spPr>
          <a:xfrm rot="187800">
            <a:off x="1523520" y="291960"/>
            <a:ext cx="72201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sq"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Narrow"/>
              </a:rPr>
              <a:t> </a:t>
            </a:r>
            <a:r>
              <a:rPr b="1" lang="en-US" sz="2000" spc="1" strike="noStrike">
                <a:ln cap="sq"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Narrow"/>
              </a:rPr>
              <a:t>Национальный состав  Новосмаильского сельского поселения</a:t>
            </a:r>
            <a:endParaRPr b="1" lang="en-US" sz="2000" spc="1" strike="noStrike">
              <a:ln cap="sq"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219320" y="1600200"/>
          <a:ext cx="7772400" cy="4721400"/>
        </p:xfrm>
        <a:graphic>
          <a:graphicData uri="http://schemas.openxmlformats.org/drawingml/2006/table">
            <a:tbl>
              <a:tblPr/>
              <a:tblGrid>
                <a:gridCol w="1752480"/>
                <a:gridCol w="1219320"/>
                <a:gridCol w="1143000"/>
                <a:gridCol w="1371600"/>
                <a:gridCol w="990360"/>
                <a:gridCol w="1295640"/>
              </a:tblGrid>
              <a:tr h="87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Населенные пункты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Кол-во жителей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Русские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Татары 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Мари 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Удмурты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С. Новая Смаиль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650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572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Д. Алдарово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Д.Пор-Китяк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95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89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Д. Кам – Ключ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15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14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Д. С-Чишма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21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21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Д. УДМ –Китяк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05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80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Итого 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506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59 (4%)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795 (53%)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40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(16%)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412 (27%)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1219320" y="609480"/>
            <a:ext cx="7715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циональный состав учащихся школы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78" name="Object 6"/>
          <p:cNvGraphicFramePr/>
          <p:nvPr/>
        </p:nvGraphicFramePr>
        <p:xfrm>
          <a:off x="2209680" y="1219320"/>
          <a:ext cx="6608880" cy="53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660888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Женский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национальный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костюм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народов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мар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1" descr="DSC00848"/>
          <p:cNvPicPr/>
          <p:nvPr/>
        </p:nvPicPr>
        <p:blipFill>
          <a:blip r:embed="rId1"/>
          <a:stretch/>
        </p:blipFill>
        <p:spPr>
          <a:xfrm>
            <a:off x="2743200" y="1371600"/>
            <a:ext cx="434340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Удмуртский национальный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костюм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DSC00851"/>
          <p:cNvPicPr/>
          <p:nvPr/>
        </p:nvPicPr>
        <p:blipFill>
          <a:blip r:embed="rId1"/>
          <a:stretch/>
        </p:blipFill>
        <p:spPr>
          <a:xfrm>
            <a:off x="1752480" y="1523880"/>
            <a:ext cx="701064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Татарский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национальный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костюм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6" descr="DSC00847"/>
          <p:cNvPicPr/>
          <p:nvPr/>
        </p:nvPicPr>
        <p:blipFill>
          <a:blip r:embed="rId1"/>
          <a:stretch/>
        </p:blipFill>
        <p:spPr>
          <a:xfrm>
            <a:off x="1828800" y="1523880"/>
            <a:ext cx="6934320" cy="4953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ильмутдинов Ильяс</cp:lastModifiedBy>
  <dcterms:modified xsi:type="dcterms:W3CDTF">2013-01-24T06:50:3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