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анина Е. Н. МОУ: СОШ д. Шап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E6B2-73AD-485B-B745-ADA587581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анина Е. Н. МОУ: СОШ д. Шапш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C266-B2F8-49FF-8239-84A23B511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125-9860-4269-B9CF-CB100750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7D3-FF7D-4B65-952E-BC34B845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1F0-4B09-45AC-9817-E1206310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CEF-5252-4746-943C-8FA490BE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EC18-AA39-46CD-B7C4-15D885CE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AEEE-2661-46D9-B610-4543142E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8A1F-7C9D-4252-874E-0814B1CE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C8C9-5BA2-4D27-A925-55C357F3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7B89-B045-41B3-9D9C-F1AA2622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3639-43F3-4CAA-A34E-04FDC50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C2D2-EB18-4169-A3A9-25C597D2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C0B-8B04-4D0A-9A49-4BB015A6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3F0B-BFFE-4D0B-90E0-CDD3032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9464-DA52-4E67-86F2-C1AD134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C1C-B5FA-4DF3-AFFA-D9E5C8E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010C-FF56-4443-92DA-A9A2361D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A99-37AA-4455-BAED-E8A86D2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F12-B039-4243-BDD7-80128AE7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0D6-CC6F-4A40-881C-82F7AC3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463-218A-41F0-A799-08B7BAF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0A8-FF75-46E4-B10E-CA9D29E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8D7-01CB-455B-ADC3-10B4F4D3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472-384D-4949-90AF-71D31EA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DC3-BA5B-4F91-AC75-4EE72D4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A9A-329C-49A1-A349-FE007F1C01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52D6-1E16-4323-A6A1-CC0D28A3F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136000" cy="936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00"/>
                </a:solidFill>
                <a:latin typeface="Verdan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50560" y="2276640"/>
            <a:ext cx="8553240" cy="2977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«Незаменимые помощники – словари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468360" y="1125360"/>
            <a:ext cx="8280360" cy="374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307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99000"/>
                  </a:srgbClr>
                </a:solidFill>
                <a:latin typeface="Bookman Old Style"/>
              </a:rPr>
              <a:t>Устный журнал</a:t>
            </a:r>
            <a:endParaRPr b="1" i="1" lang="en-US" sz="9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>
                  <a:alpha val="99000"/>
                </a:srgbClr>
              </a:solidFill>
              <a:latin typeface="Bookman Old Style"/>
              <a:ea typeface="Bookman Old Style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Comic Sans MS"/>
              </a:rPr>
              <a:t>«Следуйте хорошему примеру 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Comic Sans MS"/>
              </a:rPr>
              <a:t>продляйте</a:t>
            </a:r>
            <a:r>
              <a:rPr b="1" i="1" lang="ru-RU" sz="4400" spc="-1" strike="noStrike">
                <a:solidFill>
                  <a:srgbClr val="0000cc"/>
                </a:solidFill>
                <a:latin typeface="Comic Sans MS"/>
              </a:rPr>
              <a:t> добрым словом </a:t>
            </a: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Comic Sans MS"/>
              </a:rPr>
              <a:t>жизнь людей</a:t>
            </a:r>
            <a:r>
              <a:rPr b="1" i="1" lang="ru-RU" sz="4400" spc="-1" strike="noStrike">
                <a:solidFill>
                  <a:srgbClr val="0000cc"/>
                </a:solidFill>
                <a:latin typeface="Comic Sans MS"/>
              </a:rPr>
              <a:t>»</a:t>
            </a:r>
            <a:r>
              <a:rPr b="1" i="1" lang="ru-RU" sz="2800" spc="-1" strike="noStrike">
                <a:solidFill>
                  <a:srgbClr val="0000cc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omic Sans MS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omic Sans MS"/>
              </a:rPr>
              <a:t>                                  </a:t>
            </a:r>
            <a:r>
              <a:rPr b="1" i="1" lang="ru-RU" sz="2800" spc="-1" strike="noStrike">
                <a:solidFill>
                  <a:srgbClr val="0000cc"/>
                </a:solidFill>
                <a:latin typeface="Comic Sans MS"/>
              </a:rPr>
              <a:t>В. Бо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Comic Sans MS"/>
              </a:rPr>
              <a:t>«</a:t>
            </a:r>
            <a:r>
              <a:rPr b="1" i="1" lang="ru-RU" sz="7200" spc="-1" strike="noStrike">
                <a:solidFill>
                  <a:srgbClr val="ff0000"/>
                </a:solidFill>
                <a:latin typeface="Comic Sans MS"/>
              </a:rPr>
              <a:t>К словам разнообразным, близким, но чуточку разным</a:t>
            </a: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8000" spc="-1" strike="noStrike">
                <a:solidFill>
                  <a:srgbClr val="ff3300"/>
                </a:solidFill>
                <a:latin typeface="Comic Sans MS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66"/>
                </a:solidFill>
                <a:uFillTx/>
                <a:latin typeface="Comic Sans MS"/>
              </a:rPr>
              <a:t>Словарь синоним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сканирование0017"/>
          <p:cNvPicPr/>
          <p:nvPr/>
        </p:nvPicPr>
        <p:blipFill>
          <a:blip r:embed="rId1"/>
          <a:stretch/>
        </p:blipFill>
        <p:spPr>
          <a:xfrm rot="21012600">
            <a:off x="1331640" y="1844280"/>
            <a:ext cx="2719440" cy="41655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4932360" y="2205000"/>
            <a:ext cx="374328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. Н. Клюева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од издания:    1956го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чти 1500 сл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Comic Sans MS"/>
              </a:rPr>
              <a:t>Словарь синоним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332000" y="1125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Словарная стать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5" descr="сканирование0026"/>
          <p:cNvPicPr/>
          <p:nvPr/>
        </p:nvPicPr>
        <p:blipFill>
          <a:blip r:embed="rId1"/>
          <a:stretch/>
        </p:blipFill>
        <p:spPr>
          <a:xfrm>
            <a:off x="1928880" y="2000160"/>
            <a:ext cx="5746680" cy="3557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200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66"/>
                </a:solidFill>
                <a:uFillTx/>
                <a:latin typeface="Comic Sans MS"/>
              </a:rPr>
              <a:t>Словарь синонимов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. Е. Александр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9 тысяч сло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696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Здравствуй, Вася! Куда ты идёшь? – сказал Саш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В кино, - сказал Ва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А билеты ты ещё не купил? – сказал Саш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Вот они. Есть и на твою долю, - сказал Ва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Ура! – сказал Саш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Ура-а-а! – сказали об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69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Здравствуй, Вася! Куда ты идёшь? – спросил Саш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В кино, - ответил Ва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А билеты ты ещё не купил? – поинтересовался Саш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Вот они. Есть и на твою долю, - предложил Ва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Ура! – обрадовался Саш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- Ура-а-а! – воскликнули об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78" dur="1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99" dur="1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00" dur="1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10" dur="1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11" dur="1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22" dur="1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353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«Минус – плюс, огонь – вод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Дерзкий – осторожный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          </a:t>
            </a: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Все антонимы всег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          </a:t>
            </a: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Противоположны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5694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7200" spc="-1" strike="noStrike">
                <a:solidFill>
                  <a:srgbClr val="cc0000"/>
                </a:solidFill>
                <a:latin typeface="Comic Sans MS"/>
              </a:rPr>
              <a:t>«Минус – плюс,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7200" spc="-1" strike="noStrike">
                <a:solidFill>
                  <a:srgbClr val="cc0000"/>
                </a:solidFill>
                <a:latin typeface="Comic Sans MS"/>
              </a:rPr>
              <a:t>огонь – вода ...»</a:t>
            </a:r>
            <a:r>
              <a:rPr b="0" i="1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5" descr="сканирование0024"/>
          <p:cNvPicPr/>
          <p:nvPr/>
        </p:nvPicPr>
        <p:blipFill>
          <a:blip r:embed="rId1"/>
          <a:stretch/>
        </p:blipFill>
        <p:spPr>
          <a:xfrm rot="1182000">
            <a:off x="4565160" y="1371600"/>
            <a:ext cx="3816360" cy="4838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00cc"/>
                </a:solidFill>
                <a:uFillTx/>
                <a:latin typeface="Comic Sans MS"/>
              </a:rPr>
              <a:t>Словарь антоним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4" descr="сканирование0020"/>
          <p:cNvPicPr/>
          <p:nvPr/>
        </p:nvPicPr>
        <p:blipFill>
          <a:blip r:embed="rId2"/>
          <a:stretch/>
        </p:blipFill>
        <p:spPr>
          <a:xfrm>
            <a:off x="611280" y="1773360"/>
            <a:ext cx="366552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Comic Sans MS"/>
              </a:rPr>
              <a:t>«К несметным сокровищам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Comic Sans MS"/>
              </a:rPr>
              <a:t>Страны слов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сканирование0025"/>
          <p:cNvPicPr/>
          <p:nvPr/>
        </p:nvPicPr>
        <p:blipFill>
          <a:blip r:embed="rId1"/>
          <a:stretch/>
        </p:blipFill>
        <p:spPr>
          <a:xfrm>
            <a:off x="1619280" y="2421000"/>
            <a:ext cx="6696000" cy="315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00cc"/>
                </a:solidFill>
                <a:uFillTx/>
                <a:latin typeface="Comic Sans MS"/>
              </a:rPr>
              <a:t>Словарь антоним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4280" y="1828440"/>
            <a:ext cx="7167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ловарная стат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405" dur="1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406" dur="1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634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9900cc"/>
                </a:solidFill>
                <a:uFillTx/>
                <a:latin typeface="Comic Sans MS"/>
              </a:rPr>
              <a:t>Словарь антоним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050920" y="2492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11280" y="2492280"/>
            <a:ext cx="853272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М. Р. Льво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2000 пар антоним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Словарь омоним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5" descr="сканирование0022"/>
          <p:cNvPicPr/>
          <p:nvPr/>
        </p:nvPicPr>
        <p:blipFill>
          <a:blip r:embed="rId1"/>
          <a:stretch/>
        </p:blipFill>
        <p:spPr>
          <a:xfrm>
            <a:off x="1143000" y="1197000"/>
            <a:ext cx="3209760" cy="4189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7"/>
          <p:cNvSpPr/>
          <p:nvPr/>
        </p:nvSpPr>
        <p:spPr>
          <a:xfrm>
            <a:off x="4572000" y="2637000"/>
            <a:ext cx="38876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всянка, ж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всяная крупа, а также каш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овсянка, ж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ленькая перелётная птичка отряда воробьи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284720" y="170028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Comic Sans MS"/>
              </a:rPr>
              <a:t>Словарная стать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11" descr="сканирование0019"/>
          <p:cNvPicPr/>
          <p:nvPr/>
        </p:nvPicPr>
        <p:blipFill>
          <a:blip r:embed="rId1"/>
          <a:stretch/>
        </p:blipFill>
        <p:spPr>
          <a:xfrm>
            <a:off x="2484360" y="1628640"/>
            <a:ext cx="1586160" cy="2305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орфографический"/>
          <p:cNvPicPr/>
          <p:nvPr/>
        </p:nvPicPr>
        <p:blipFill>
          <a:blip r:embed="rId2"/>
          <a:stretch/>
        </p:blipFill>
        <p:spPr>
          <a:xfrm>
            <a:off x="4500720" y="1125360"/>
            <a:ext cx="1890720" cy="267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сканирование0006"/>
          <p:cNvPicPr/>
          <p:nvPr/>
        </p:nvPicPr>
        <p:blipFill>
          <a:blip r:embed="rId3"/>
          <a:stretch/>
        </p:blipFill>
        <p:spPr>
          <a:xfrm rot="20403600">
            <a:off x="394920" y="549000"/>
            <a:ext cx="1673280" cy="2168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ЛОВАРИ РУССКОГО ЯЗЫ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5" descr="сканирование0001"/>
          <p:cNvPicPr/>
          <p:nvPr/>
        </p:nvPicPr>
        <p:blipFill>
          <a:blip r:embed="rId4"/>
          <a:stretch/>
        </p:blipFill>
        <p:spPr>
          <a:xfrm rot="469200">
            <a:off x="6732360" y="836280"/>
            <a:ext cx="1819080" cy="2560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сканирование0004"/>
          <p:cNvPicPr/>
          <p:nvPr/>
        </p:nvPicPr>
        <p:blipFill>
          <a:blip r:embed="rId5"/>
          <a:stretch/>
        </p:blipFill>
        <p:spPr>
          <a:xfrm rot="21006600">
            <a:off x="5435640" y="3789000"/>
            <a:ext cx="1709640" cy="2344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сканирование0010"/>
          <p:cNvPicPr/>
          <p:nvPr/>
        </p:nvPicPr>
        <p:blipFill>
          <a:blip r:embed="rId6"/>
          <a:stretch/>
        </p:blipFill>
        <p:spPr>
          <a:xfrm rot="408600">
            <a:off x="7164000" y="3789360"/>
            <a:ext cx="1827360" cy="251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сканирование0007"/>
          <p:cNvPicPr/>
          <p:nvPr/>
        </p:nvPicPr>
        <p:blipFill>
          <a:blip r:embed="rId7"/>
          <a:stretch/>
        </p:blipFill>
        <p:spPr>
          <a:xfrm rot="20906400">
            <a:off x="324000" y="2491920"/>
            <a:ext cx="1508040" cy="2327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сканирование0008"/>
          <p:cNvPicPr/>
          <p:nvPr/>
        </p:nvPicPr>
        <p:blipFill>
          <a:blip r:embed="rId8"/>
          <a:stretch/>
        </p:blipFill>
        <p:spPr>
          <a:xfrm>
            <a:off x="3132000" y="3645000"/>
            <a:ext cx="2124360" cy="248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сканирование0002"/>
          <p:cNvPicPr/>
          <p:nvPr/>
        </p:nvPicPr>
        <p:blipFill>
          <a:blip r:embed="rId9"/>
          <a:stretch/>
        </p:blipFill>
        <p:spPr>
          <a:xfrm rot="21126000">
            <a:off x="1115640" y="3573000"/>
            <a:ext cx="1819440" cy="2560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200"/>
                </a:solidFill>
                <a:latin typeface="Comic Sans MS"/>
              </a:rPr>
              <a:t>«</a:t>
            </a:r>
            <a:r>
              <a:rPr b="1" i="1" lang="ru-RU" sz="5400" spc="-1" strike="noStrike" u="sng">
                <a:solidFill>
                  <a:srgbClr val="00b200"/>
                </a:solidFill>
                <a:uFillTx/>
                <a:latin typeface="Comic Sans MS"/>
              </a:rPr>
              <a:t>Словарь</a:t>
            </a:r>
            <a:r>
              <a:rPr b="1" i="1" lang="ru-RU" sz="4400" spc="-1" strike="noStrike">
                <a:solidFill>
                  <a:srgbClr val="00b200"/>
                </a:solidFill>
                <a:latin typeface="Comic Sans MS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200"/>
                </a:solidFill>
                <a:latin typeface="Comic Sans MS"/>
              </a:rPr>
              <a:t>это вся вселенная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200"/>
                </a:solidFill>
                <a:latin typeface="Comic Sans MS"/>
              </a:rPr>
              <a:t>       </a:t>
            </a:r>
            <a:r>
              <a:rPr b="1" i="1" lang="ru-RU" sz="5400" spc="-1" strike="noStrike">
                <a:solidFill>
                  <a:srgbClr val="00b200"/>
                </a:solidFill>
                <a:latin typeface="Comic Sans MS"/>
              </a:rPr>
              <a:t>в алфавитном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200"/>
                </a:solidFill>
                <a:latin typeface="Comic Sans MS"/>
              </a:rPr>
              <a:t>               </a:t>
            </a:r>
            <a:r>
              <a:rPr b="1" i="1" lang="ru-RU" sz="5400" spc="-1" strike="noStrike">
                <a:solidFill>
                  <a:srgbClr val="00b200"/>
                </a:solidFill>
                <a:latin typeface="Comic Sans MS"/>
              </a:rPr>
              <a:t>порядке»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2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b200"/>
                </a:solidFill>
                <a:latin typeface="Comic Sans MS"/>
              </a:rPr>
              <a:t>Анатоль Фран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cc00"/>
                </a:solidFill>
                <a:uFillTx/>
                <a:latin typeface="Comic Sans MS"/>
              </a:rPr>
              <a:t>Толковый слов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толковый словарь"/>
          <p:cNvPicPr/>
          <p:nvPr/>
        </p:nvPicPr>
        <p:blipFill>
          <a:blip r:embed="rId1"/>
          <a:stretch/>
        </p:blipFill>
        <p:spPr>
          <a:xfrm rot="20191800">
            <a:off x="1190520" y="1747440"/>
            <a:ext cx="2826000" cy="396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сканирование0003"/>
          <p:cNvPicPr/>
          <p:nvPr/>
        </p:nvPicPr>
        <p:blipFill>
          <a:blip r:embed="rId2"/>
          <a:stretch/>
        </p:blipFill>
        <p:spPr>
          <a:xfrm rot="733800">
            <a:off x="5154480" y="1844280"/>
            <a:ext cx="3173400" cy="4532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cc00"/>
                </a:solidFill>
                <a:uFillTx/>
                <a:latin typeface="Comic Sans MS"/>
              </a:rPr>
              <a:t>Толковый словар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амом большом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олковом словар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7 том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20 тысяч сл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cc00"/>
                </a:solidFill>
                <a:uFillTx/>
                <a:latin typeface="Comic Sans MS"/>
              </a:rPr>
              <a:t>Толковый словар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авторитет"/>
          <p:cNvPicPr/>
          <p:nvPr/>
        </p:nvPicPr>
        <p:blipFill>
          <a:blip r:embed="rId1"/>
          <a:stretch/>
        </p:blipFill>
        <p:spPr>
          <a:xfrm>
            <a:off x="1042920" y="1844640"/>
            <a:ext cx="662472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187280" y="42210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835280" y="4653000"/>
            <a:ext cx="792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ГЛАВНОЕ СЛОВ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ГРАММАТИЧЕСКИЕ ХАРАКТЕРИСТИКИ СЛОВА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ОБЪЯСНЕНИЕ ЗНАЧЕНИЯ СЛО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РИМЕР УПОТРЕБЛЕНИЯ В РЕ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042920" y="400536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Части словарной стать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908000" y="111456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Словарная стать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3" dur="1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Comic Sans MS"/>
              </a:rPr>
              <a:t>«Какого роду – племени?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сканирование0005"/>
          <p:cNvPicPr/>
          <p:nvPr/>
        </p:nvPicPr>
        <p:blipFill>
          <a:blip r:embed="rId1"/>
          <a:stretch/>
        </p:blipFill>
        <p:spPr>
          <a:xfrm rot="20866800">
            <a:off x="576000" y="1976040"/>
            <a:ext cx="3133800" cy="410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сканирование0018"/>
          <p:cNvPicPr/>
          <p:nvPr/>
        </p:nvPicPr>
        <p:blipFill>
          <a:blip r:embed="rId2"/>
          <a:stretch/>
        </p:blipFill>
        <p:spPr>
          <a:xfrm rot="927600">
            <a:off x="5508360" y="2060280"/>
            <a:ext cx="3049560" cy="3887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17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800000"/>
                </a:solidFill>
                <a:uFillTx/>
                <a:latin typeface="Comic Sans MS"/>
              </a:rPr>
              <a:t>Словарь иностранных сло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сканирование0023"/>
          <p:cNvPicPr/>
          <p:nvPr/>
        </p:nvPicPr>
        <p:blipFill>
          <a:blip r:embed="rId3"/>
          <a:stretch/>
        </p:blipFill>
        <p:spPr>
          <a:xfrm>
            <a:off x="3132000" y="2349360"/>
            <a:ext cx="2881440" cy="3672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00"/>
                </a:solidFill>
                <a:uFillTx/>
                <a:latin typeface="Comic Sans MS"/>
              </a:rPr>
              <a:t>Словарь иностранных сл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050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1500 с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Автор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. В. Одинц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. В. Иван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. П. Смолицка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Е. И. Голанов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. А. Василевск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анина Е.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Нижний колонтитул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У: СОШ д. Шапш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00"/>
                </a:solidFill>
                <a:uFillTx/>
                <a:latin typeface="Comic Sans MS"/>
              </a:rPr>
              <a:t>Словарь иностранных сло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ловарная стать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комплемент"/>
          <p:cNvPicPr/>
          <p:nvPr/>
        </p:nvPicPr>
        <p:blipFill>
          <a:blip r:embed="rId1"/>
          <a:stretch/>
        </p:blipFill>
        <p:spPr>
          <a:xfrm rot="21460800">
            <a:off x="248760" y="2479320"/>
            <a:ext cx="8498160" cy="1942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202" dur="1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5:08:53Z</dcterms:created>
  <dc:creator>ира</dc:creator>
  <dc:description/>
  <dc:language>en-US</dc:language>
  <cp:lastModifiedBy>Елена </cp:lastModifiedBy>
  <dcterms:modified xsi:type="dcterms:W3CDTF">2013-01-24T18:03:37Z</dcterms:modified>
  <cp:revision>10</cp:revision>
  <dc:subject/>
  <dc:title>Слайд 1</dc:title>
</cp:coreProperties>
</file>