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EBE-44A1-4F86-BBCE-25F64296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95D-C536-47A9-82D3-F9962D79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F0D-8E79-48A3-976C-8988B803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351-923A-40D7-B99B-5742E24B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770-5BFC-4B44-9171-521D4F8D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4A4-4C2C-4B17-8BC4-9E2C7190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7E9-53ED-4E5D-BDA6-295D449E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8C4-D522-49B7-B40D-25DFACE3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3D2-F28E-44E3-965B-BA0EAAE9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3E9-63FA-4FEE-9A54-8B9D4C40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300-7A78-4D17-B003-43BB0C2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AAD-5633-4C9B-9BDE-11788C4C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78C0-F5C2-4129-9E45-89D59F6E7A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259520" cy="43927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5" descr=""/>
          <p:cNvPicPr/>
          <p:nvPr/>
        </p:nvPicPr>
        <p:blipFill>
          <a:blip r:embed="rId2"/>
          <a:stretch/>
        </p:blipFill>
        <p:spPr>
          <a:xfrm>
            <a:off x="1042920" y="-384120"/>
            <a:ext cx="6656400" cy="3335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1116000" y="3860640"/>
            <a:ext cx="21607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Татар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празд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пл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ервый день праздника дети отправлялись по дворам, собирали крупу, молоко, масло. Затем выходили в поле или к воде, где из этих продуктов готовили ка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781440" cy="244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3816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478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ик «Каравон» у христиан был приурочен к престольному празднику села – дню Святителя Николая Чудотвор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662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000"/>
          <p:cNvPicPr/>
          <p:nvPr/>
        </p:nvPicPr>
        <p:blipFill>
          <a:blip r:embed="rId1"/>
          <a:stretch/>
        </p:blipFill>
        <p:spPr>
          <a:xfrm>
            <a:off x="5237280" y="692280"/>
            <a:ext cx="343836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539640" y="476280"/>
            <a:ext cx="441180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лгими осенними и зимними вечерами молодые девушки и женщины шили себе и своим близким красивые платья, обязательно приталенные, с широкими юбками с оборками, белые фартуки, платки, вышивали на них цветными нитками различные растительные орнаменты: цветы, листочки, завит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0"/>
          <p:cNvPicPr/>
          <p:nvPr/>
        </p:nvPicPr>
        <p:blipFill>
          <a:blip r:embed="rId1"/>
          <a:stretch/>
        </p:blipFill>
        <p:spPr>
          <a:xfrm>
            <a:off x="755640" y="317520"/>
            <a:ext cx="7632720" cy="5398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900000" y="558972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бархата и парчи женщины шили безрукавки – камзолы, украшали их аппликацией из кожи, цветной тка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0_01"/>
          <p:cNvPicPr/>
          <p:nvPr/>
        </p:nvPicPr>
        <p:blipFill>
          <a:blip r:embed="rId1"/>
          <a:stretch/>
        </p:blipFill>
        <p:spPr>
          <a:xfrm>
            <a:off x="611280" y="620640"/>
            <a:ext cx="381960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4552920" y="901800"/>
            <a:ext cx="426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мужчин тоже готовили красивые национальные костюмы: прямые рубахи и длинные или короткие джиляны. Так называются татарские кафтаны из атласа, бархата и парчи, богато украшенные апплика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971640" y="692280"/>
            <a:ext cx="741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.Актуальность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ах окружающего мира мы познакомились с темой: </a:t>
            </a: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“Трудные времена на русской земле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читель рассказал нам о нашествии на Русскую землю монголо-татарского войска. Меня очень заинтересовала эта тема, и я решила по-больше узнать о культуре татарского народа, его традициях и обыча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1116000" y="765000"/>
            <a:ext cx="696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.Определение предмет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учая культуру, традиции и обычаи татарского народа,  я намеревалась изучить конкретный татарский национальный праздник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абанту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619280" y="9079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Формулировка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2"/>
          <p:cNvSpPr/>
          <p:nvPr/>
        </p:nvSpPr>
        <p:spPr>
          <a:xfrm>
            <a:off x="900000" y="4869000"/>
            <a:ext cx="20163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оявился праздник Сабан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3635280" y="4869000"/>
            <a:ext cx="20163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чем он связ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6300720" y="4797360"/>
            <a:ext cx="2016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особенности этого праз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2195640" y="1986120"/>
            <a:ext cx="475272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е предстояло узн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0"/>
          <p:cNvCxnSpPr>
            <a:stCxn id="50" idx="2"/>
          </p:cNvCxnSpPr>
          <p:nvPr/>
        </p:nvCxnSpPr>
        <p:spPr>
          <a:xfrm>
            <a:off x="4571640" y="3138480"/>
            <a:ext cx="1080" cy="1659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Прямая со стрелкой 14"/>
          <p:cNvCxnSpPr>
            <a:stCxn id="50" idx="2"/>
          </p:cNvCxnSpPr>
          <p:nvPr/>
        </p:nvCxnSpPr>
        <p:spPr>
          <a:xfrm>
            <a:off x="4571640" y="3138480"/>
            <a:ext cx="2592720" cy="1443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Прямая со стрелкой 15"/>
          <p:cNvCxnSpPr>
            <a:stCxn id="50" idx="2"/>
          </p:cNvCxnSpPr>
          <p:nvPr/>
        </p:nvCxnSpPr>
        <p:spPr>
          <a:xfrm flipH="1">
            <a:off x="1979280" y="3138120"/>
            <a:ext cx="2592720" cy="15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826920" y="692280"/>
            <a:ext cx="72010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4.Выдвижение гипот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выдвинула гипотезу – изучая татарский праздник Сабантуй узнать, повлияла ли русская культура на  формирование обычаев татарского народа, или наобор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350px-794px-Plough"/>
          <p:cNvPicPr/>
          <p:nvPr/>
        </p:nvPicPr>
        <p:blipFill>
          <a:blip r:embed="rId1"/>
          <a:stretch/>
        </p:blipFill>
        <p:spPr>
          <a:xfrm>
            <a:off x="4932360" y="363600"/>
            <a:ext cx="3586320" cy="26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800px-Shire_horses_ploughing"/>
          <p:cNvPicPr/>
          <p:nvPr/>
        </p:nvPicPr>
        <p:blipFill>
          <a:blip r:embed="rId2"/>
          <a:stretch/>
        </p:blipFill>
        <p:spPr>
          <a:xfrm>
            <a:off x="4932360" y="3995640"/>
            <a:ext cx="3687840" cy="25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800px-OldPlow2006-05-21"/>
          <p:cNvPicPr/>
          <p:nvPr/>
        </p:nvPicPr>
        <p:blipFill>
          <a:blip r:embed="rId3"/>
          <a:stretch/>
        </p:blipFill>
        <p:spPr>
          <a:xfrm>
            <a:off x="395280" y="3995640"/>
            <a:ext cx="3672000" cy="25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800px-Farmer_plowing"/>
          <p:cNvPicPr/>
          <p:nvPr/>
        </p:nvPicPr>
        <p:blipFill>
          <a:blip r:embed="rId4"/>
          <a:stretch/>
        </p:blipFill>
        <p:spPr>
          <a:xfrm>
            <a:off x="250920" y="365040"/>
            <a:ext cx="3510000" cy="26323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395280" y="2955960"/>
            <a:ext cx="812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«Сабан» – в переводе с тюркского языка  означает «плуг», а «туй» – это «торжество», «праздник».  «Сабантуй» – это праздник пл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68360" y="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абантуй» - очень красивый, добрый и мудрый празд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42920" y="538020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я татарский национальный праздник Сабантуй, из источников я узнала, что у русского народа существует обрядовый сельский праздник "Каравон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390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90720" y="549360"/>
            <a:ext cx="6966000" cy="4630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826920" y="538020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праздника «Каравон», как полагают учёные, происходит от одного из старорусских вариантов слова "хоровод" и уходит своими корнями глубоко в истор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97800" cy="5021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1187280" y="530064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ик «Сабантуй» имеет тысячелетнюю историю. В старину празднование сабантуя было большим событием. К нему долго готов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7:39:16Z</dcterms:created>
  <dc:creator>Irina</dc:creator>
  <dc:description/>
  <dc:language>en-US</dc:language>
  <cp:lastModifiedBy>Ирина Рыбина</cp:lastModifiedBy>
  <dcterms:modified xsi:type="dcterms:W3CDTF">2013-01-24T08:26:05Z</dcterms:modified>
  <cp:revision>44</cp:revision>
  <dc:subject/>
  <dc:title>Слайд 1</dc:title>
</cp:coreProperties>
</file>