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303D-4F7C-45F9-999D-9F0F3C21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9549-FF52-4B3F-A663-B20E8A94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0CA3-ABF1-4ECB-AB8F-F1FC2054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72C9-6CA8-48BA-9CBA-EA91212D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C5F7-5DC8-4A35-9C69-51F55FF3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C5AD-E901-4ADE-B66F-7F54EAEF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1E4E-19C3-4A34-9DF2-ECFAFEFE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5AEB-87B0-4810-A8DD-494CE8D2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A426-21D2-4F56-90B1-57457976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3A05-664B-4658-8AE3-EEEDE83B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CD48-BB3A-4FBA-9875-75E6136A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8845-0D24-46A5-B710-C61A7581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AFF6-5329-478D-A3E7-BFCEBECC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EE5B-0B50-47AE-973F-668A4BE5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3B20-E760-4427-AAAC-C077C552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82A5-46FF-4BA2-8479-2A4CE71F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D803-9EB4-485E-A5A5-BEB883CD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8EB7-D209-4053-BA6E-BE9E3E2A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617C-2D68-4D14-A269-A15214CD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AB62-FC8D-4F05-B27C-991736F1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E44B-51C3-4F41-9A07-2BA050FA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FFDE-900E-4E24-9264-A553D826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F971-0542-4EC5-8780-1AB35E8C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7930-C4B8-4972-8399-B8E6CACF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5962-67BD-4DEA-98D1-F770DC7C56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DF80-3E93-4F4B-BE7A-A0611BA3BD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оциально- педагогическое сопровождение обучающихся, состоящих на профилактическом уч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готовила социальный педагог МБОУ СОШ № 12 Коваленко М.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484360" y="0"/>
          <a:ext cx="6335640" cy="659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0"/>
                    <a:ext cx="633564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411280" y="927000"/>
            <a:ext cx="6494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социальных вопросах то 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вляется добрым, которое сопровожд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именьшим из возможных з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. Гельман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социальной  направленности в МБОУ СОШ №12 осуществляется в рамках социально-педагогической службы, нацелена на выявление состава детей, которым необходимо предоставление специально организованных форм сопровождения и выражается в предоставлении детям разных возрастных групп помощи в организации обучения, свободного времени, досуга, творче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ние социально-педагогической помощи детям, подросткам, родителям в процессе адаптации к современным условиям, а так же в сложных жизненных ситу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484360" y="836640"/>
            <a:ext cx="6120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действовать созданию в школе обстановки психологического комфорта и безопасности личности обучающегося, а так же установлению гуманных, нравственно здоровых отношений в социальной сред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уществлять консультирование родителей, учителей, классных руководителей по вопросам социальной адаптац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ствовать предоставлению ребенку реальных возможностей самоутверждения в наиболее значимых для него сферах жизнедеятельности, где в максимальной степени раскрываются его способности и возможност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уществлять комплексную профилактическую работу среди детей и подростков по проблемам злоупотребления наркотическими и другими психоактивными веществам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зовывать и применять систему мер, направленных на социальное оздоровление детей «группы риска» и формирование их нравственно-правовой устойчивост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лаживать взаимоотношения в коллективе, препятствовать психическому насилию над личностью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рмы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дивидуальные и групповые занятия, консультация, тренинг, лекция, собрание, рейды в сем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484360" y="1042920"/>
            <a:ext cx="6313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-педагогическое сопровождение учащихся в рамках учебно-воспитательного процесса направлено на решение следующих пробл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, возникающие на пути ребенка в период реализации его интересов и потребностей, во время установления социального стату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 социальной адаптации и дезадаптации, связанные с трудностями усвоения и приспособления к существующим нормам социальной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 социальной интеграции или дезинтегр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воссоединения и разъединения потребностей, интересов и возможностей ребенка, его семьи с возможностями, потребностями и интересами других людей, трудности в расширении социальных связей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РЕКОМЕНДАЦИИ РОДИТЕЛЯМ НА КАЖДЫЙ ДЕНЬ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Когда вы браните ребенка, не употребляйте выражений: «Ты всегда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Ты вообще», «Вечно ты». Ваш ребенок всегда и вообще хорош, он ли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годня что – то сделал не так, об этом скажите 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Не расставайтесь с ребенком в ссоре, сначала помиритесь, а потом идите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им дел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Старайтесь, чтобы ребенок был привязан к дому, возвращаясь домой,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бывайте сказать: «А все – таки, как хорошо у нас до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Наши разговоры с детьми нередко бедны, поэтому каждый день чита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детьми вслух (даже с подростками) хорошую книгу, это сильно обога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ше духовное об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Роль педагогического сопровожд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Если я как педагог хочу получить какой-то результат, то я должна заниматься проектированием, организацией совместных действий педагога и ребенка» С.Л. Соловей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49e"/>
                </a:solidFill>
                <a:latin typeface="Arial"/>
              </a:rPr>
              <a:t>Стратегическая цель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005f"/>
                </a:solidFill>
                <a:latin typeface="Arial"/>
              </a:rPr>
              <a:t>Формирование целостной системы психолого – педагогического сопровождения обучаемых, в ходе которой создаются для них ситуации множественности выбора, как условия разработки индивидуальных образовательных маршрутов и раскрытия, в полной мере, способностей кажд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9" descr="PICT3966"/>
          <p:cNvPicPr/>
          <p:nvPr/>
        </p:nvPicPr>
        <p:blipFill>
          <a:blip r:embed="rId1"/>
          <a:stretch/>
        </p:blipFill>
        <p:spPr>
          <a:xfrm>
            <a:off x="5364000" y="4221000"/>
            <a:ext cx="324036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Социальный паспорт учащегося и его семь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. Ф.И.О учащегося ________________________________________________________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. Дата рождения__________________________________________________________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. Дом.адрес_______________________________________дом.телефон____________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. Мать (Ф.И.О.)___________________________________________________________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Место работы______________________________________________________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Должность______________________________________раб.телефон________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бразование_______________________________________________________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. Отец (Ф.И.О.)___________________________________________________________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Место работы_____________________________________________________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Должность______________________________________раб.телефон________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бразование_______________________________________________________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6. Бытовые условия жизни учащегося (число комнат в квартире, имеет ли ребенок отдельную комнату, место для занятий (какое), для отдыха ____________________________________________________________________ _________________________________________________________________________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7. С кем проживает учащийся   (для детей указать возраст, степень родства, место учебы (работы)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.  _________________________________________________________________________                                                                               2.___________________________________________________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.___________________________________________________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.___________________________________________________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.___________________________________________________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8. Психологические особенности учащегося________________________________________________________________________________________________________________________________________________________________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9. Прогулы уроков________________________________________________________________________________ _________________________________________________________________________________________________________________________________________________________________________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.Принятые меры 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1. Интересы и увлечения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2. Какие кружки, секции посещает (название кружка, организация) 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c0039"/>
                </a:solidFill>
                <a:latin typeface="Arial"/>
              </a:rPr>
              <a:t>ПЛАН СОВМЕСТНОЙ РАБОТЫ</a:t>
            </a:r>
            <a:br>
              <a:rPr sz="1800"/>
            </a:br>
            <a:r>
              <a:rPr b="1" i="1" lang="en-US" sz="1800" spc="-1" strike="noStrike">
                <a:solidFill>
                  <a:srgbClr val="8c0039"/>
                </a:solidFill>
                <a:latin typeface="Arial"/>
              </a:rPr>
              <a:t> ПО ПРОФИЛАКТИКЕ ПРАВОНАРУШЕНИЙ СРЕДИ УЧАЩИХСЯ МБОУ СОШ № 12 И ИНСПЕКТОРОВ ИДН НА 2012-2013 УЧЕБНЫЙ ГОД</a:t>
            </a:r>
            <a:endParaRPr b="0" lang="en-US" sz="18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84360" y="1557360"/>
          <a:ext cx="6264360" cy="499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557360"/>
                    <a:ext cx="626436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2627280" y="0"/>
          <a:ext cx="6264360" cy="666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0"/>
                    <a:ext cx="626436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301840" y="0"/>
          <a:ext cx="6302520" cy="63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1840" y="0"/>
                    <a:ext cx="630252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c0039"/>
                </a:solidFill>
                <a:latin typeface="Arial"/>
              </a:rPr>
              <a:t>АКТ ОБСЛЕДОВАНИЯ ЖИЛИЩНО-БЫТОВЫХ УСЛОВИЙ</a:t>
            </a:r>
            <a:br>
              <a:rPr sz="1600"/>
            </a:br>
            <a:r>
              <a:rPr b="1" lang="en-US" sz="1600" spc="-1" strike="noStrike">
                <a:solidFill>
                  <a:srgbClr val="8c0039"/>
                </a:solidFill>
                <a:latin typeface="Arial"/>
              </a:rPr>
              <a:t>ГРАЖДАН, ИМЕЮЩИХ НАМЕРЕНИЕ УСЫНОВИТЬ, ВЗЯТЬ ПОД ОПЕКУ (ПОПЕЧИТЕЛЬСТВО) РЕБЕНКА, СОЗДАТЬ ПРИЕМНУЮ СЕМЬЮ</a:t>
            </a:r>
            <a:endParaRPr b="0" lang="en-US" sz="1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ланк организации, подготовившей отче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та составления ____ ___________ 20___г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АК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ОБСЛЕДОВАНИЯ ЖИЛИЩНО-БЫТОВЫХ УСЛОВ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ГРАЖДАН, ИМЕЮЩИХ НАМЕРЕНИЕ УСЫНОВИТЬ, ВЗЯТЬ ПОД ОПЕКУ (ПОПЕЧИТЕЛЬСТВО) РЕБЕНКА, СОЗДАТЬ ПРИЕМНУЮ СЕМЬ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«______» _____________ 20__ г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дата  проведения обследования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бследование проводилось _______________________________________________________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ФИО, должность лиц, проводивших обследование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явитель(-и) ___________________________________________________________________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ФИО полностью, дата рождения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дрес обследования, телефон _____________________________________________________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есто работы заявителя(-ей), адрес, телефон 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пособность заявителя(-ей) обеспечивать потребности ребенка 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характеристика способности гражданина/семьи граждан обеспечить потребности ребенка на момент проверк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Жилищно-бытовые условия проживания ____________________________________________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санитарно-гигиеническое состояние помещения (хорошее, удовлетворительное, неудовлетворительное); возможность предоставления ребенку места для игр, занятий, отдельной комнаты, мебели.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став семьи 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кто проживает в доме, кто работает, режим работы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оход__________________________________________________________________________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достаточен или нет, из чего складывается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циальные связи семьи __________________________________________________________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тношения с соседями, знакомыми, контакты ребенка с родственниками, сверстниками, педагогами и воспитателям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воды и мотивированное заключение о состоянии жилищно-бытовых условий 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писи и расшифровки подписи, проводивших обследование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______________________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______________________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______________________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. П.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римерная форм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 п. 6 Правил передачи детей на усыновление (удочерение) и осуществления контроля за условиями их жизни и воспитания в семьях усыновителей на территории РФ, утвержденных,  постановлением Правительства РФ от 29.03.2000 г. № 275.</a:t>
            </a:r>
            <a:br>
              <a:rPr sz="800"/>
            </a:b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771640" y="189000"/>
          <a:ext cx="6193080" cy="633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89000"/>
                    <a:ext cx="6193080" cy="63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07:08:54Z</dcterms:created>
  <dc:creator>xxx</dc:creator>
  <dc:description/>
  <dc:language>en-US</dc:language>
  <cp:lastModifiedBy>xxx</cp:lastModifiedBy>
  <dcterms:modified xsi:type="dcterms:W3CDTF">2012-10-30T08:18:14Z</dcterms:modified>
  <cp:revision>5</cp:revision>
  <dc:subject/>
  <dc:title>Социально- педагогическое сопровождение обучающихся, состоящих на профилактическом учете</dc:title>
</cp:coreProperties>
</file>