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9.gif" ContentType="image/gif"/>
  <Override PartName="/ppt/media/image7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png" ContentType="image/png"/>
  <Override PartName="/ppt/media/image14.gif" ContentType="image/gif"/>
  <Override PartName="/ppt/media/image1.jpeg" ContentType="image/jpeg"/>
  <Override PartName="/ppt/media/image3.gif" ContentType="image/gif"/>
  <Override PartName="/ppt/media/image12.png" ContentType="image/png"/>
  <Override PartName="/ppt/media/image4.jpeg" ContentType="image/jpeg"/>
  <Override PartName="/ppt/media/image13.gif" ContentType="image/gif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17C-47EB-4F4F-9EF9-5A8773B3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54B-3EA0-4AB9-A73B-435DEC1E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16F-AF81-43BB-AD25-8E57646B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0885-D7AC-4FE9-AB4F-652A8970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11A-BE3E-4C0F-A3E2-8FA90F16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EAF-8B28-4EE0-AD32-1CAF6A4C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A61E-FFBE-4369-A03F-FB68E267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E75-1C98-4839-B1E6-5E85796F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E31A-8B3E-4F31-8046-F6B642BB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C44-F996-4293-986D-2C6D1B57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D00-143E-4032-AEC5-C2888059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F3F-17D4-48B1-92D0-BD0CC73D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35DC-71C2-4D74-AF03-F7AD16BBC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1.xml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2.xml"/><Relationship Id="rId5" Type="http://schemas.openxmlformats.org/officeDocument/2006/relationships/slide" Target="slide16.xml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3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4.xml"/><Relationship Id="rId3" Type="http://schemas.openxmlformats.org/officeDocument/2006/relationships/slide" Target="slide9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image" Target="../media/image14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6.xml"/><Relationship Id="rId5" Type="http://schemas.openxmlformats.org/officeDocument/2006/relationships/slide" Target="slide19.xml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7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20.xml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slide" Target="slide14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image" Target="../media/image14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0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1.xml"/><Relationship Id="rId3" Type="http://schemas.openxmlformats.org/officeDocument/2006/relationships/slide" Target="slide18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image" Target="../media/image14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3.xml"/><Relationship Id="rId3" Type="http://schemas.openxmlformats.org/officeDocument/2006/relationships/slide" Target="slide21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image" Target="../media/image14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6.xml"/><Relationship Id="rId5" Type="http://schemas.openxmlformats.org/officeDocument/2006/relationships/slide" Target="slide12.xml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7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" Target="slide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" Target="slide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6858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Тест по теме «ПРОЦЕНТЫ»</a:t>
            </a:r>
            <a:br>
              <a:rPr sz="6600"/>
            </a:b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5-6 клас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57146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Маликова Н.В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2008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6248520" y="38098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,04м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3200400" y="2286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м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2895480" y="3809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,4м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6477120" y="2286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м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791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2) Найдите 0,8% от 500м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457200" y="2286000"/>
            <a:ext cx="1828800" cy="2181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) Какое из утверждений неверн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533520" y="18288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урожая больше 33% этого урож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304920" y="266688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урожая составляет 25% этого урож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533520" y="35053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 урожая больше 17% этого урож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5" action="ppaction://hlinksldjump"/>
          </p:cNvPr>
          <p:cNvSpPr/>
          <p:nvPr/>
        </p:nvSpPr>
        <p:spPr>
          <a:xfrm>
            <a:off x="533520" y="43434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урожая меньше 20% этого урож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447920" y="5105520"/>
            <a:ext cx="6095880" cy="1084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) Майский тираж нового ежемесячного журнала составляет 300 экземпляров. В июне тираж увеличился на 20%, а в июле – еще на 110% от нового тиража. Каким стал тираж журнала в ию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838080" y="297180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56 эк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4648320" y="297180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0 эк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838080" y="4038480"/>
            <a:ext cx="1752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6 эк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4572000" y="411480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эк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5791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1523880" y="4038480"/>
            <a:ext cx="3662640" cy="2613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) В начале года в хоре занималось 16 ребят. К концу года их число увеличилось на 200%. Во сколько раз увеличилось число ребят, занимающихся в хо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685800" y="297180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В 2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4343400" y="297180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В 3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685800" y="449568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В 4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733920" y="4495680"/>
            <a:ext cx="434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Определить нельз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5791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2286000" y="4191120"/>
            <a:ext cx="2370240" cy="2666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7238880" y="2743200"/>
            <a:ext cx="1428840" cy="1247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19320" y="1371600"/>
            <a:ext cx="485748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 набрали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114800" y="3048120"/>
            <a:ext cx="362916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балла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800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Начать зан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48006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Закончить тест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) Какое из утверждений неверн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533520" y="1905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урожая больше 33% этого урож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304920" y="266688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урожая составляет 25% этого урож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4" action="ppaction://hlinksldjump"/>
          </p:cNvPr>
          <p:cNvSpPr/>
          <p:nvPr/>
        </p:nvSpPr>
        <p:spPr>
          <a:xfrm>
            <a:off x="533520" y="35053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 урожая больше 17% этого урож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5" action="ppaction://hlinksldjump"/>
          </p:cNvPr>
          <p:cNvSpPr/>
          <p:nvPr/>
        </p:nvSpPr>
        <p:spPr>
          <a:xfrm>
            <a:off x="533520" y="42670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урожая меньше 20% этого урож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6095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447920" y="5105520"/>
            <a:ext cx="6095880" cy="1084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) Майский тираж нового ежемесячного журнала составляет 300 экземпляров. В июне тираж увеличился на 20%, а в июле – еще на 110% от нового тиража. Каким стал тираж журнала в ию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1371600" y="289548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56 эк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4648320" y="289548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0 эк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1219320" y="403848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6 эк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5" action="ppaction://hlinksldjump"/>
          </p:cNvPr>
          <p:cNvSpPr/>
          <p:nvPr/>
        </p:nvSpPr>
        <p:spPr>
          <a:xfrm>
            <a:off x="4572000" y="411480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эк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5791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523880" y="4038480"/>
            <a:ext cx="3662640" cy="2613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) В начале года в хоре занималось 16 ребят. К концу года их число увеличилось на 200%. Во сколько раз увеличилось число ребят, занимающихся в хо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685800" y="297180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В 2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4114800" y="297180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В 3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4" action="ppaction://hlinksldjump"/>
          </p:cNvPr>
          <p:cNvSpPr/>
          <p:nvPr/>
        </p:nvSpPr>
        <p:spPr>
          <a:xfrm>
            <a:off x="762120" y="4495680"/>
            <a:ext cx="2133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В 4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5" action="ppaction://hlinksldjump"/>
          </p:cNvPr>
          <p:cNvSpPr/>
          <p:nvPr/>
        </p:nvSpPr>
        <p:spPr>
          <a:xfrm>
            <a:off x="3733920" y="4495680"/>
            <a:ext cx="434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Определить нельз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5791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2286000" y="4191120"/>
            <a:ext cx="2370240" cy="2666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7238880" y="2743200"/>
            <a:ext cx="1428840" cy="1247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219320" y="1371600"/>
            <a:ext cx="485748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 набрали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114800" y="3048120"/>
            <a:ext cx="362916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балла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800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Начать зан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48006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Закончить тест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) Майский тираж нового ежемесячного журнала составляет 300 экземпляров. В июне тираж увеличился на 20%, а в июле – еще на 110% от нового тиража. Каким стал тираж журнала в ию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1143000" y="289548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56 эк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4952880" y="2971800"/>
            <a:ext cx="1752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0 эк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4" action="ppaction://hlinksldjump"/>
          </p:cNvPr>
          <p:cNvSpPr/>
          <p:nvPr/>
        </p:nvSpPr>
        <p:spPr>
          <a:xfrm>
            <a:off x="1066680" y="4038480"/>
            <a:ext cx="1752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6 эк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5" action="ppaction://hlinksldjump"/>
          </p:cNvPr>
          <p:cNvSpPr/>
          <p:nvPr/>
        </p:nvSpPr>
        <p:spPr>
          <a:xfrm>
            <a:off x="4952880" y="4038480"/>
            <a:ext cx="1752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эк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5791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1523880" y="4038480"/>
            <a:ext cx="3662640" cy="2613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33"/>
                </a:solidFill>
                <a:latin typeface="Times New Roman"/>
              </a:rPr>
              <a:t>Пояснение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ля прохождения теста Вы не должны пользоваться клавиатурой! Переход к последующему вопросу осуществляется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только щелчком мыши по одному из предполагаемых ответо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4120" y="4805280"/>
            <a:ext cx="2895480" cy="1703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) В начале года в хоре занималось 16 ребят. К концу года их число увеличилось на 200%. Во сколько раз увеличилось число ребят, занимающихся в хо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838080" y="297180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В 2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4343400" y="297180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В 3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4" action="ppaction://hlinksldjump"/>
          </p:cNvPr>
          <p:cNvSpPr/>
          <p:nvPr/>
        </p:nvSpPr>
        <p:spPr>
          <a:xfrm>
            <a:off x="762120" y="4495680"/>
            <a:ext cx="2133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В 4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5" action="ppaction://hlinksldjump"/>
          </p:cNvPr>
          <p:cNvSpPr/>
          <p:nvPr/>
        </p:nvSpPr>
        <p:spPr>
          <a:xfrm>
            <a:off x="3657600" y="4495680"/>
            <a:ext cx="434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Определить нельз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81680" y="5791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2286000" y="4191120"/>
            <a:ext cx="2370240" cy="2666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7238880" y="2743200"/>
            <a:ext cx="1428840" cy="1247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219320" y="1371600"/>
            <a:ext cx="485748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 набрали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114800" y="3048120"/>
            <a:ext cx="362916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балл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4800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Начать зан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48006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Закончить тест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) В начале года в хоре занималось 16 ребят. К концу года их число увеличилось на 200%. Во сколько раз увеличилось число ребят, занимающихся в хо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762120" y="2971800"/>
            <a:ext cx="2133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В 2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3" action="ppaction://hlinksldjump"/>
          </p:cNvPr>
          <p:cNvSpPr/>
          <p:nvPr/>
        </p:nvSpPr>
        <p:spPr>
          <a:xfrm>
            <a:off x="4572000" y="297180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В 3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762120" y="4495680"/>
            <a:ext cx="2133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В 4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3809880" y="4495680"/>
            <a:ext cx="434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Определить нельз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5791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2286000" y="4191120"/>
            <a:ext cx="2370240" cy="2666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7238880" y="2743200"/>
            <a:ext cx="1428840" cy="1247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219320" y="1371600"/>
            <a:ext cx="485748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 набрали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86200" y="3048120"/>
            <a:ext cx="385776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 баллов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4800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Начать зан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14800" y="48006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Закончить тест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286000" y="1828800"/>
            <a:ext cx="4495680" cy="22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ЕЦ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74680"/>
            <a:ext cx="84582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) Найди число, 5% которого равны 2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5791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1600200" y="4114800"/>
            <a:ext cx="1371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1600200" y="2438280"/>
            <a:ext cx="1371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4191120" y="2362320"/>
            <a:ext cx="1371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3962520" y="4038480"/>
            <a:ext cx="1371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486400" y="2362320"/>
            <a:ext cx="2990880" cy="2114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6248520" y="38862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,04м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124080" y="2286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м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2971800" y="38862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,4м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6629400" y="22096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м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5791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2) Найдите 0,8% от 500м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57200" y="2286000"/>
            <a:ext cx="1828800" cy="2181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7239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) Какое из утверждений неверн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457200" y="17524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урожая больше 33% этого урож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228600" y="2590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урожая составляет 25% этого урож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533520" y="34290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 урожая больше 17% этого урож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533520" y="42670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урожая меньше 20% этого урож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34320" y="6095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447920" y="5105520"/>
            <a:ext cx="6095880" cy="1084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) Майский тираж нового ежемесячного журнала составляет 300 экземпляров. В июне тираж увеличился на 20%, а в июле – еще на 110% от нового тиража. Каким стал тираж журнала в ию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1219320" y="297180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56 эк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4724280" y="2971800"/>
            <a:ext cx="1752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0 эк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1219320" y="419112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6 эк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5" action="ppaction://hlinksldjump"/>
          </p:cNvPr>
          <p:cNvSpPr/>
          <p:nvPr/>
        </p:nvSpPr>
        <p:spPr>
          <a:xfrm>
            <a:off x="4648320" y="426708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0 эк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5791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523880" y="4038480"/>
            <a:ext cx="3662640" cy="2613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) В начале года в хоре занималось 16 ребят. К концу года их число увеличилось на 200%. Во сколько раз увеличилось число ребят, занимающихся в хо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914400" y="297180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В 2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4952880" y="304812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В 3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4" action="ppaction://hlinksldjump"/>
          </p:cNvPr>
          <p:cNvSpPr/>
          <p:nvPr/>
        </p:nvSpPr>
        <p:spPr>
          <a:xfrm>
            <a:off x="762120" y="4572000"/>
            <a:ext cx="2133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В 4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5" action="ppaction://hlinksldjump"/>
          </p:cNvPr>
          <p:cNvSpPr/>
          <p:nvPr/>
        </p:nvSpPr>
        <p:spPr>
          <a:xfrm>
            <a:off x="3962520" y="4495680"/>
            <a:ext cx="434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Определить нельз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81680" y="5791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7238880" y="2743200"/>
            <a:ext cx="1428840" cy="1247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2286000" y="4191120"/>
            <a:ext cx="237024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219320" y="1371600"/>
            <a:ext cx="485748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 набрали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114800" y="3048120"/>
            <a:ext cx="362916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баллов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>
            <a:hlinkClick r:id="rId6" action="ppaction://hlinksldjump"/>
          </p:cNvPr>
          <p:cNvSpPr/>
          <p:nvPr/>
        </p:nvSpPr>
        <p:spPr>
          <a:xfrm>
            <a:off x="914400" y="4800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Начать зан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7" action="ppaction://hlinksldjump"/>
          </p:cNvPr>
          <p:cNvSpPr/>
          <p:nvPr/>
        </p:nvSpPr>
        <p:spPr>
          <a:xfrm>
            <a:off x="4114800" y="48006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Закончить тест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219320" y="1371600"/>
            <a:ext cx="485748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 набрали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114800" y="3048120"/>
            <a:ext cx="362916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 балла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914400" y="4800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Начать зан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4114800" y="48006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Закончить тест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1-23T21:12:02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