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4EE-E8AE-4372-B473-9612AB43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0E5-1B3D-45FA-AED7-703B073B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CD3-5E7A-45FD-A90F-1B0E3E89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2B2-45E7-4C78-8686-6D040AAF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32C8-F890-48AF-92F6-1DE21EA9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1C5-4C34-435F-931E-3118FC79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BB25-A8A9-4245-8D7B-05F281C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0DF-8A90-4CB5-83C7-501E955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3B59-A875-4B20-A47A-1C06321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B47-8BFF-4956-919B-95783CFB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D9BC-22C9-4D22-9257-64BCBBC9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DD4-C90F-4E5A-8483-56915CE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E875-EA2D-4D1F-9EF2-8E53110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8846-DBBD-483E-8D57-59C7A2D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5BC5-620C-4579-8205-3C61CD8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691E-E1B4-48B3-A036-CE7CB00E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842-23C6-44A6-B681-1CE6F44A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E823-5B35-46C1-A512-F42D2962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8B19-14E1-46E9-B85E-DB1ECCB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541C-33A4-401C-8B1B-C6EDCEFC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A309-7727-4018-9844-22BB33B5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02D1-9397-42C7-BBC7-C571F7B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FAF-8509-45E0-B0DE-50C0D1E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2C2F-ACE0-4764-9184-8FCE89B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96D1-F534-4D79-95D5-E2C4F6F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4B65-1458-4763-8965-B9035DE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185A-680F-4870-A0F0-AE276E2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51F6-0A04-46BD-AAEB-6C998FB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A969-78CA-423E-B338-516D0E5A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C020-CF3C-45BE-850A-68233B5E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B8B4-DA98-476C-AF18-BB24B4B2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95AE-EAF0-4998-BAA8-C769D65B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1784-1B43-48B7-A90F-06414C9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E39-DF16-4D02-9DEA-4A33ECB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C28B-051B-4F8F-99EC-DC6910C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9435-A737-47CB-96D2-E526FB4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6FCC-23E8-4E64-9DA1-41EA267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4CE2-E813-4C8F-A7EA-D0EC3E7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3565-B4C6-42C7-8A69-68EC422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5EE5-0B65-480D-B741-30CDED98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AFE1-B7D6-4CD1-9857-F527897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537A-18B2-4C6A-8B65-4AF68D58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88F9-A91B-4095-B8F6-7D1BABCE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CF3-EAF6-4BE8-9D14-D6D6D6DB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9E1-6482-4B20-8F4B-9CE2774F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42F-DB44-4192-A495-F7CCB153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2B2-E3B4-40E7-82AA-B32175B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ABC-6576-413D-A074-F0077BE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073-9B95-4C1A-868E-08F4C581F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BD6D-2774-44E6-A9F6-B26267694D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6E7-A135-4222-BD10-376A665789ED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H:\графика\asadal\scool\scool\38 [Converted].png"/>
          <p:cNvPicPr/>
          <p:nvPr/>
        </p:nvPicPr>
        <p:blipFill>
          <a:blip r:embed="rId2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:\графика\asadal\scool\scool\23\10101010.png"/>
          <p:cNvPicPr/>
          <p:nvPr/>
        </p:nvPicPr>
        <p:blipFill>
          <a:blip r:embed="rId3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AA43-436D-44B4-99CF-1ABA48D20D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4510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3399"/>
                </a:solidFill>
                <a:latin typeface="Arial"/>
              </a:rPr>
              <a:t>Русский язык</a:t>
            </a:r>
            <a:br>
              <a:rPr sz="4000"/>
            </a:br>
            <a:r>
              <a:rPr b="1" lang="ru-RU" sz="4000" spc="-1" strike="noStrike">
                <a:solidFill>
                  <a:srgbClr val="cc3399"/>
                </a:solidFill>
                <a:latin typeface="Arial"/>
              </a:rPr>
              <a:t>Программа М.С.Соловейчик</a:t>
            </a:r>
            <a:br>
              <a:rPr sz="4000"/>
            </a:br>
            <a:r>
              <a:rPr b="1" lang="ru-RU" sz="4000" spc="-1" strike="noStrike">
                <a:solidFill>
                  <a:srgbClr val="cc3399"/>
                </a:solidFill>
                <a:latin typeface="Arial"/>
              </a:rPr>
              <a:t>УМК «Гармония»</a:t>
            </a:r>
            <a:br>
              <a:rPr sz="4000"/>
            </a:br>
            <a:r>
              <a:rPr b="1" lang="ru-RU" sz="4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 3 класс  </a:t>
            </a:r>
            <a:br>
              <a:rPr sz="4000"/>
            </a:b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35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 МКОУ СОШ с.Таежное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.А.Перетятько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250920" y="476280"/>
            <a:ext cx="86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и уча____, и я хочу учи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179280" y="1773360"/>
            <a:ext cx="86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и уч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и я хочу уч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250920" y="2852640"/>
            <a:ext cx="86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и уч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и я хочу уч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179280" y="4005360"/>
            <a:ext cx="874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Ученики уча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и я хочу учи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179280" y="5157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и уч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и я хочу уч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ру.юст\Documents\Клипарты\Клипарты анимированые\52ba5be115fc.gif"/>
          <p:cNvPicPr/>
          <p:nvPr/>
        </p:nvPicPr>
        <p:blipFill>
          <a:blip r:embed="rId1"/>
          <a:stretch/>
        </p:blipFill>
        <p:spPr>
          <a:xfrm>
            <a:off x="1476360" y="115920"/>
            <a:ext cx="575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5" descr=""/>
          <p:cNvPicPr/>
          <p:nvPr/>
        </p:nvPicPr>
        <p:blipFill>
          <a:blip r:embed="rId1"/>
          <a:stretch/>
        </p:blipFill>
        <p:spPr>
          <a:xfrm>
            <a:off x="73080" y="1652760"/>
            <a:ext cx="880272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5" descr=""/>
          <p:cNvPicPr/>
          <p:nvPr/>
        </p:nvPicPr>
        <p:blipFill>
          <a:blip r:embed="rId1"/>
          <a:stretch/>
        </p:blipFill>
        <p:spPr>
          <a:xfrm>
            <a:off x="73080" y="1652760"/>
            <a:ext cx="880272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179280" y="170028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толковый словарь русского языка Т.Ф.Ефрем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ЛАГОЛИТЬ» (устар.) – 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4760" cy="244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851280" y="3914640"/>
            <a:ext cx="236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0" y="52200"/>
            <a:ext cx="39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1224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755640" y="836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684360" y="765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ду  ль  бают  или  лгут,      дива  я  не  вижу  ту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250920" y="213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 молва  трезвонить  ст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ка  царская  пропа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5580000" y="2781360"/>
            <a:ext cx="3079800" cy="3478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4235400" y="623736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179280" y="221400"/>
            <a:ext cx="87854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ЬШЕ ГОВОР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И ПРЯ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ТЬ СИДИШ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ОЛЬШ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ВО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ГОВОР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А НЕ ЗНАЮЧ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У УЧИЛС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МОЛЧИ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ЮЧИ – ГОВОР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ГОВОРИ, Ч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ЗНА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6"/>
          <p:cNvCxnSpPr/>
          <p:nvPr/>
        </p:nvCxnSpPr>
        <p:spPr>
          <a:xfrm>
            <a:off x="4066920" y="1197000"/>
            <a:ext cx="86580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Прямая со стрелкой 8"/>
          <p:cNvCxnSpPr/>
          <p:nvPr/>
        </p:nvCxnSpPr>
        <p:spPr>
          <a:xfrm flipV="1">
            <a:off x="3348000" y="1483920"/>
            <a:ext cx="273708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4" name="Прямая со стрелкой 10"/>
          <p:cNvCxnSpPr/>
          <p:nvPr/>
        </p:nvCxnSpPr>
        <p:spPr>
          <a:xfrm>
            <a:off x="3059280" y="3789000"/>
            <a:ext cx="273708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5" name="Прямая со стрелкой 12"/>
          <p:cNvCxnSpPr/>
          <p:nvPr/>
        </p:nvCxnSpPr>
        <p:spPr>
          <a:xfrm flipV="1">
            <a:off x="2124000" y="3933360"/>
            <a:ext cx="2736000" cy="93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ВОР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7928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. в., ед. ч.,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4427640" y="1484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ОВО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539640" y="2708280"/>
            <a:ext cx="32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ш. в., мн. 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5508720" y="27082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ОВОР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539640" y="3933720"/>
            <a:ext cx="37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. в., ед. ч., 3 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5511240" y="3933720"/>
            <a:ext cx="26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БУД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Образец письменного анализа глаго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ешь – что сделаешь?, действ., изм. по вр. – г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пр.ф. – что сделать? – прочи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буд.в., в ед. ч., во 2- м 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620640"/>
            <a:ext cx="3827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дя, выпрямили спи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следите все за мн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чали гол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у правую подня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ю дружно помах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у левую подня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ю дружно помах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льцы в замок соедини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головою их помести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во сделать пово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раво сделать пов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во, вправ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во, вправ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чать ли все снача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714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8:56:06Z</dcterms:created>
  <dc:creator>Лебедева</dc:creator>
  <dc:description/>
  <dc:language>en-US</dc:language>
  <cp:lastModifiedBy>Администратор</cp:lastModifiedBy>
  <dcterms:modified xsi:type="dcterms:W3CDTF">2013-01-23T10:55:14Z</dcterms:modified>
  <cp:revision>50</cp:revision>
  <dc:subject/>
  <dc:title>Классный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