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gif" ContentType="image/gif"/>
  <Override PartName="/ppt/media/image20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28.gif" ContentType="image/gif"/>
  <Override PartName="/ppt/media/image9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0865-8899-4235-87DD-7230DE97B77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акшеев Голубая вес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Это особенные цветы - ???эферойды - они торопятся расцвести пока на деревьях не выросли листья и не закрыли солнышко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br>
              <a:rPr sz="1200"/>
            </a:b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br>
              <a:rPr sz="2000"/>
            </a:br>
            <a:r>
              <a:rPr b="1" lang="ru-RU" sz="400" spc="-1" strike="noStrike">
                <a:solidFill>
                  <a:srgbClr val="000000"/>
                </a:solidFill>
                <a:latin typeface="Times New Roman"/>
              </a:rPr>
              <a:t>Цветущие яблони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исов-Муссатов. Майские цв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ey Savrasov. Early Spring.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итан. Большая 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АЛЕКСЕЙ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КОНДРАТЬЕВИЧ</a:t>
            </a:r>
            <a:br>
              <a:rPr sz="1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АВРАС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рачи прилетел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FD9-B8DE-43B1-A203-E949E3CE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A35-C577-4F5F-8E22-06695931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08-AE15-4120-8529-90A1069F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E92-7178-46E6-B97B-4DB55158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B16-EE4A-4FB0-829C-94770CEF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3EF-F00E-4BBD-8BF8-C8D6B8A2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5C0-7273-479A-86CC-88019D35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7FD-B711-4C40-8279-D1FC16D1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BC2-CE9D-4F80-BD49-ED8F5A8B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F59-E73A-41D9-A55C-1EDE41F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26E-32CE-4B9C-B3B2-E1D13525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92C-0256-4365-886B-26265C90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A449-6D5D-4923-A99B-877BB8729C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454644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cc00"/>
                </a:solidFill>
                <a:latin typeface="Arial"/>
              </a:rPr>
              <a:t>ВЕ</a:t>
            </a:r>
            <a:r>
              <a:rPr b="1" lang="ru-RU" sz="8000" spc="-1" strike="noStrike">
                <a:solidFill>
                  <a:srgbClr val="66ff99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022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середина весны. Снег везде растаял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сменить теплые зимние одежды на курточки и плащи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рогулки по лужам одеваем резиновые сапог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801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800960" y="457200"/>
            <a:ext cx="3053520" cy="4681440"/>
            <a:chOff x="4800960" y="457200"/>
            <a:chExt cx="3053520" cy="4681440"/>
          </a:xfrm>
        </p:grpSpPr>
        <p:sp>
          <p:nvSpPr>
            <p:cNvPr id="74" name=""/>
            <p:cNvSpPr/>
            <p:nvPr/>
          </p:nvSpPr>
          <p:spPr>
            <a:xfrm>
              <a:off x="4800960" y="4496040"/>
              <a:ext cx="305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Р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Ц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4815000" y="457200"/>
              <a:ext cx="3033720" cy="403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1752840" y="762120"/>
            <a:ext cx="3502800" cy="4757040"/>
            <a:chOff x="1752840" y="762120"/>
            <a:chExt cx="3502800" cy="47570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136600" y="762120"/>
              <a:ext cx="2435400" cy="40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52840" y="4876560"/>
              <a:ext cx="35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ГУ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Ы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Й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У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066680" y="1905120"/>
            <a:ext cx="4343400" cy="3899880"/>
            <a:chOff x="1066680" y="1905120"/>
            <a:chExt cx="4343400" cy="3899880"/>
          </a:xfrm>
        </p:grpSpPr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066680" y="1905120"/>
              <a:ext cx="4343400" cy="32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176840" y="5162400"/>
              <a:ext cx="405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Ь И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Ч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62520" y="380880"/>
            <a:ext cx="2687040" cy="4268520"/>
            <a:chOff x="3962520" y="380880"/>
            <a:chExt cx="2687040" cy="4268520"/>
          </a:xfrm>
        </p:grpSpPr>
        <p:sp>
          <p:nvSpPr>
            <p:cNvPr id="83" name=""/>
            <p:cNvSpPr/>
            <p:nvPr/>
          </p:nvSpPr>
          <p:spPr>
            <a:xfrm>
              <a:off x="3964680" y="4006800"/>
              <a:ext cx="268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ХО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962520" y="380880"/>
              <a:ext cx="2679840" cy="372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ет появляться свежая травка и первые цветы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так и называют – первоцвет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2362320"/>
            <a:ext cx="3962520" cy="3385440"/>
            <a:chOff x="4572000" y="2362320"/>
            <a:chExt cx="3962520" cy="3385440"/>
          </a:xfrm>
        </p:grpSpPr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4572000" y="2362320"/>
              <a:ext cx="3962520" cy="27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493600" y="5105160"/>
              <a:ext cx="20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Ч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С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ТЯ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тоже оживают после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тках начинают набухать почки,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96" t="1400" r="896" b="984"/>
          <a:stretch/>
        </p:blipFill>
        <p:spPr>
          <a:xfrm>
            <a:off x="304920" y="311040"/>
            <a:ext cx="86104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из них появляться новые листоч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ые деревья вначале одеваются в цветы, а потом уже добавляют к ним листья. Посмотри как красиво цветет яблон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22860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весны уже тепло и в солнечные дни можно носить легкие кофточки и плать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ef58a600ed03.png"/>
          <p:cNvPicPr/>
          <p:nvPr/>
        </p:nvPicPr>
        <p:blipFill>
          <a:blip r:embed="rId1"/>
          <a:stretch/>
        </p:blipFill>
        <p:spPr>
          <a:xfrm>
            <a:off x="1357200" y="1071720"/>
            <a:ext cx="7156440" cy="514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 rot="20325000">
            <a:off x="2296800" y="2644920"/>
            <a:ext cx="562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Arial"/>
              </a:rPr>
              <a:t>Весенние загад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~PP2693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42920" y="2142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Я раскрываю 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В зеленые листоч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Деревья одева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посевы полив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Движения полн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Зовут меня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D:\картинки\весна\9948b7feaa7b.jpg"/>
          <p:cNvPicPr/>
          <p:nvPr/>
        </p:nvPicPr>
        <p:blipFill>
          <a:blip r:embed="rId1"/>
          <a:stretch/>
        </p:blipFill>
        <p:spPr>
          <a:xfrm>
            <a:off x="4143240" y="500040"/>
            <a:ext cx="4483080" cy="596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4"/>
          <p:cNvSpPr/>
          <p:nvPr/>
        </p:nvSpPr>
        <p:spPr>
          <a:xfrm>
            <a:off x="2214720" y="20001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вес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5" descr="ен.gif"/>
          <p:cNvPicPr/>
          <p:nvPr/>
        </p:nvPicPr>
        <p:blipFill>
          <a:blip r:embed="rId2"/>
          <a:stretch/>
        </p:blipFill>
        <p:spPr>
          <a:xfrm>
            <a:off x="1071720" y="3357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94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2280" y="5786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gens258.gif"/>
          <p:cNvPicPr/>
          <p:nvPr/>
        </p:nvPicPr>
        <p:blipFill>
          <a:blip r:embed="rId4"/>
          <a:stretch/>
        </p:blipFill>
        <p:spPr>
          <a:xfrm>
            <a:off x="2571840" y="4500720"/>
            <a:ext cx="120960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14200" y="214200"/>
            <a:ext cx="385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Появился из-под снег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Увидал кусочек не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Самый первый, самый нежны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Чистый маленький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D:\картинки\весна\DSC_8048_800x530.jpg"/>
          <p:cNvPicPr/>
          <p:nvPr/>
        </p:nvPicPr>
        <p:blipFill>
          <a:blip r:embed="rId1"/>
          <a:stretch/>
        </p:blipFill>
        <p:spPr>
          <a:xfrm>
            <a:off x="1643040" y="2286000"/>
            <a:ext cx="6575400" cy="43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Прямоугольник 3"/>
          <p:cNvSpPr/>
          <p:nvPr/>
        </p:nvSpPr>
        <p:spPr>
          <a:xfrm>
            <a:off x="3793320" y="15717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подснеж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4" descr="94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2280" y="5786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ен.gif"/>
          <p:cNvPicPr/>
          <p:nvPr/>
        </p:nvPicPr>
        <p:blipFill>
          <a:blip r:embed="rId3"/>
          <a:stretch/>
        </p:blipFill>
        <p:spPr>
          <a:xfrm>
            <a:off x="0" y="335772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597.gif"/>
          <p:cNvPicPr/>
          <p:nvPr/>
        </p:nvPicPr>
        <p:blipFill>
          <a:blip r:embed="rId4"/>
          <a:stretch/>
        </p:blipFill>
        <p:spPr>
          <a:xfrm>
            <a:off x="6929280" y="2858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 - это переход от зимы к лет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2895480" cy="4019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-700"/>
          <a:stretch/>
        </p:blipFill>
        <p:spPr>
          <a:xfrm>
            <a:off x="3048120" y="19051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19920" y="1914480"/>
            <a:ext cx="3047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4292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Растёт она вниз го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И звонко плачет лишь весн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D:\картинки\весна\����� 005��.jpg"/>
          <p:cNvPicPr/>
          <p:nvPr/>
        </p:nvPicPr>
        <p:blipFill>
          <a:blip r:embed="rId1"/>
          <a:stretch/>
        </p:blipFill>
        <p:spPr>
          <a:xfrm>
            <a:off x="3071880" y="1143000"/>
            <a:ext cx="550080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Прямоугольник 3"/>
          <p:cNvSpPr/>
          <p:nvPr/>
        </p:nvSpPr>
        <p:spPr>
          <a:xfrm>
            <a:off x="5072400" y="42876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Сосуль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4" descr="94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2280" y="5786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ен.gif"/>
          <p:cNvPicPr/>
          <p:nvPr/>
        </p:nvPicPr>
        <p:blipFill>
          <a:blip r:embed="rId3"/>
          <a:stretch/>
        </p:blipFill>
        <p:spPr>
          <a:xfrm>
            <a:off x="500040" y="26431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рол.gif"/>
          <p:cNvPicPr/>
          <p:nvPr/>
        </p:nvPicPr>
        <p:blipFill>
          <a:blip r:embed="rId4"/>
          <a:stretch/>
        </p:blipFill>
        <p:spPr>
          <a:xfrm>
            <a:off x="3643200" y="0"/>
            <a:ext cx="550080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весны еще холодно. Лежит снег. Но солнышко греет все жар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нег на солнышке начинает таять. Он превращается в в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1540" r="0" b="0"/>
          <a:stretch/>
        </p:blipFill>
        <p:spPr>
          <a:xfrm>
            <a:off x="1790640" y="0"/>
            <a:ext cx="5321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растаявшего снега получаются веселые ручейки и большие луж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00120" y="95400"/>
            <a:ext cx="55976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д на речках тоже тает. Вначале он раскалывает на льди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3962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ясь и ломаясь они плывут вниз по речк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ворят, что на реке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ЛЕ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6476"/>
          <a:stretch/>
        </p:blipFill>
        <p:spPr>
          <a:xfrm>
            <a:off x="609480" y="209520"/>
            <a:ext cx="7848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теплых краев возвращаются птицы, которые улетели туда осенью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и из первых возвращаются грач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95400"/>
            <a:ext cx="4519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езают из своих зимних домиков животные-сони, которые проспали всю зиму: большой медведь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998" t="1331" r="998" b="1331"/>
          <a:stretch/>
        </p:blipFill>
        <p:spPr>
          <a:xfrm>
            <a:off x="685800" y="3049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ёлый бурундуч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039" t="1386" r="1039" b="2780"/>
          <a:stretch/>
        </p:blipFill>
        <p:spPr>
          <a:xfrm>
            <a:off x="685800" y="304920"/>
            <a:ext cx="79246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Админ</cp:lastModifiedBy>
  <dcterms:modified xsi:type="dcterms:W3CDTF">2013-01-16T18:47:28Z</dcterms:modified>
  <cp:revision>50</cp:revision>
  <dc:subject/>
  <dc:title>ЗИМА</dc:title>
</cp:coreProperties>
</file>