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2.png" ContentType="image/png"/>
  <Override PartName="/ppt/media/image21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0.wmf" ContentType="image/x-wmf"/>
  <Override PartName="/ppt/media/image25.png" ContentType="image/png"/>
  <Override PartName="/ppt/media/image20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1.wmf" ContentType="image/x-wmf"/>
  <Override PartName="/ppt/media/image12.png" ContentType="image/png"/>
  <Override PartName="/ppt/media/image33.png" ContentType="image/png"/>
  <Override PartName="/ppt/media/image13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jpeg" ContentType="image/jpeg"/>
  <Override PartName="/ppt/media/image19.gif" ContentType="image/gif"/>
  <Override PartName="/ppt/media/image24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C00-892F-49BD-953D-B367F5AA9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4BF-2720-4294-846D-C2AC97B67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053-B1F3-4C1A-8518-2A68AB15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4FF-D3C5-4A71-AEE3-70BA99A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1B1-E7A5-44CC-A2ED-5E6021CE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A94-8097-4ECF-91C9-EA76FB5A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FF8-E2E4-4548-9A80-6866748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C09-AA38-4B02-B567-6BDBE81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1CC-E136-4691-A044-50688B8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CFB-B24B-4FD1-BF08-0AB0449C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12B-A217-468E-B686-E3B4387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92C-CA4C-4025-AEF5-9D16153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0F2-3FDC-40D0-A96C-D5D98700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6DB-12EC-4CD3-8965-8F6325E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4373-8FEE-4375-A5CF-EDA1295A0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2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11280" y="765000"/>
            <a:ext cx="7632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тавк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ектов 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0" y="765000"/>
            <a:ext cx="88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Таблиц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rcRect l="0" t="-335" r="0" b="0"/>
          <a:stretch/>
        </p:blipFill>
        <p:spPr>
          <a:xfrm>
            <a:off x="0" y="1846440"/>
            <a:ext cx="263844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868480" y="1901880"/>
          <a:ext cx="6096240" cy="4048200"/>
        </p:xfrm>
        <a:graphic>
          <a:graphicData uri="http://schemas.openxmlformats.org/drawingml/2006/table">
            <a:tbl>
              <a:tblPr/>
              <a:tblGrid>
                <a:gridCol w="1219320"/>
                <a:gridCol w="1420920"/>
                <a:gridCol w="1017360"/>
                <a:gridCol w="1219320"/>
                <a:gridCol w="1219320"/>
              </a:tblGrid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Таблиц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nim1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26" name="WordArt 44"/>
          <p:cNvSpPr txBox="1"/>
          <p:nvPr/>
        </p:nvSpPr>
        <p:spPr>
          <a:xfrm>
            <a:off x="1187280" y="0"/>
            <a:ext cx="540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блиц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98840" cy="35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27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5076720" y="3968640"/>
            <a:ext cx="4067280" cy="28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4325760"/>
            <a:ext cx="3924360" cy="25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5"/>
          <p:cNvGraphicFramePr/>
          <p:nvPr/>
        </p:nvGraphicFramePr>
        <p:xfrm>
          <a:off x="2484360" y="2205000"/>
          <a:ext cx="4859280" cy="324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205000"/>
                    <a:ext cx="48592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WordArt 10"/>
          <p:cNvSpPr txBox="1"/>
          <p:nvPr/>
        </p:nvSpPr>
        <p:spPr>
          <a:xfrm>
            <a:off x="2987640" y="0"/>
            <a:ext cx="26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рам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0" y="0"/>
            <a:ext cx="896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 Рисунок -Организационная диаграм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067280" cy="265572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7"/>
          <p:cNvGrpSpPr/>
          <p:nvPr/>
        </p:nvGrpSpPr>
        <p:grpSpPr>
          <a:xfrm>
            <a:off x="1763640" y="2938320"/>
            <a:ext cx="7345080" cy="3731400"/>
            <a:chOff x="1763640" y="2938320"/>
            <a:chExt cx="7345080" cy="3731400"/>
          </a:xfrm>
        </p:grpSpPr>
        <p:cxnSp>
          <p:nvCxnSpPr>
            <p:cNvPr id="137" name="_s3076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347520" y="3517920"/>
              <a:ext cx="747000" cy="2571480"/>
            </a:xfrm>
            <a:prstGeom prst="bentConnector3">
              <a:avLst>
                <a:gd name="adj1" fmla="val 209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77"/>
            <p:cNvCxnSpPr>
              <a:stCxn id="141" idx="0"/>
              <a:endCxn id="139" idx="2"/>
            </p:cNvCxnSpPr>
            <p:nvPr/>
          </p:nvCxnSpPr>
          <p:spPr>
            <a:xfrm flipV="1">
              <a:off x="5436000" y="4430160"/>
              <a:ext cx="288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078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777120" y="3517920"/>
              <a:ext cx="747000" cy="2571480"/>
            </a:xfrm>
            <a:prstGeom prst="bentConnector3">
              <a:avLst>
                <a:gd name="adj1" fmla="val 209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3079"/>
            <p:cNvSpPr/>
            <p:nvPr/>
          </p:nvSpPr>
          <p:spPr>
            <a:xfrm>
              <a:off x="4334400" y="293832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Monotype Corsiva"/>
                </a:rPr>
                <a:t>ДИАГРАММ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0"/>
            <p:cNvSpPr/>
            <p:nvPr/>
          </p:nvSpPr>
          <p:spPr>
            <a:xfrm>
              <a:off x="176364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8000"/>
                  </a:solidFill>
                  <a:latin typeface="Arbat-Bold"/>
                </a:rPr>
                <a:t>1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81"/>
            <p:cNvSpPr/>
            <p:nvPr/>
          </p:nvSpPr>
          <p:spPr>
            <a:xfrm>
              <a:off x="433440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Georgia"/>
                </a:rPr>
                <a:t>2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082"/>
            <p:cNvSpPr/>
            <p:nvPr/>
          </p:nvSpPr>
          <p:spPr>
            <a:xfrm>
              <a:off x="690516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Georgia"/>
                </a:rPr>
                <a:t>3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444-0F26-4FAF-8BE2-6BB33E4FFE9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4324320" cy="2533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5"/>
          <p:cNvSpPr txBox="1"/>
          <p:nvPr/>
        </p:nvSpPr>
        <p:spPr>
          <a:xfrm>
            <a:off x="360360" y="18900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Дата и Врем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4356000" y="3370320"/>
            <a:ext cx="4788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520" y="2743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3520" y="1599840"/>
            <a:ext cx="806292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Organization Chart 4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7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1"/>
            <p:cNvCxnSpPr>
              <a:stCxn id="61" idx="0"/>
              <a:endCxn id="62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2"/>
            <p:cNvCxnSpPr>
              <a:stCxn id="64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>
              <a:stCxn id="57" idx="0"/>
              <a:endCxn id="66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4"/>
            <p:cNvCxnSpPr>
              <a:stCxn id="54" idx="0"/>
              <a:endCxn id="66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5"/>
            <p:cNvCxnSpPr>
              <a:stCxn id="62" idx="0"/>
              <a:endCxn id="66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1036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8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9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1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43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44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08000" y="1052640"/>
            <a:ext cx="87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нель Рисование - Добавить объект WordAr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4572000" y="2060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 надпис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3409920"/>
            <a:ext cx="4000680" cy="3448080"/>
          </a:xfrm>
          <a:prstGeom prst="rect">
            <a:avLst/>
          </a:prstGeom>
          <a:ln w="0">
            <a:noFill/>
          </a:ln>
        </p:spPr>
      </p:pic>
      <p:sp>
        <p:nvSpPr>
          <p:cNvPr id="72" name="WordArt 8"/>
          <p:cNvSpPr txBox="1"/>
          <p:nvPr/>
        </p:nvSpPr>
        <p:spPr>
          <a:xfrm>
            <a:off x="4645080" y="2852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кст надпис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4572000" y="371628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 надпис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10"/>
          <p:cNvSpPr txBox="1"/>
          <p:nvPr/>
        </p:nvSpPr>
        <p:spPr>
          <a:xfrm>
            <a:off x="4645080" y="458136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 надпис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1"/>
          <p:cNvSpPr txBox="1"/>
          <p:nvPr/>
        </p:nvSpPr>
        <p:spPr>
          <a:xfrm>
            <a:off x="4645080" y="544500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екст надпи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6"/>
          <a:stretch/>
        </p:blipFill>
        <p:spPr>
          <a:xfrm>
            <a:off x="468360" y="1916280"/>
            <a:ext cx="1439640" cy="141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7"/>
          <a:stretch/>
        </p:blipFill>
        <p:spPr>
          <a:xfrm>
            <a:off x="4140360" y="3429000"/>
            <a:ext cx="4743360" cy="3124080"/>
          </a:xfrm>
          <a:prstGeom prst="rect">
            <a:avLst/>
          </a:prstGeom>
          <a:ln w="0">
            <a:noFill/>
          </a:ln>
        </p:spPr>
      </p:pic>
      <p:sp>
        <p:nvSpPr>
          <p:cNvPr id="78" name="WordArt 15"/>
          <p:cNvSpPr txBox="1"/>
          <p:nvPr/>
        </p:nvSpPr>
        <p:spPr>
          <a:xfrm>
            <a:off x="1187280" y="0"/>
            <a:ext cx="59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гурный текст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0" y="836640"/>
            <a:ext cx="88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-Автофигур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3444840" cy="3672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2484360" y="4292640"/>
            <a:ext cx="2017800" cy="1944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ff"/>
              </a:gs>
              <a:gs pos="100000">
                <a:srgbClr val="eed7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6804000" y="1844640"/>
            <a:ext cx="2089080" cy="20890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7020000" y="4292640"/>
            <a:ext cx="1873080" cy="201600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2016000"/>
              <a:gd name="textAreaBottom" fmla="*/ 1795320 h 2016000"/>
            </a:gdLst>
            <a:ahLst/>
            <a:rect l="textAreaLeft" t="textAreaTop" r="textAreaRight" b="textAreaBottom"/>
            <a:pathLst>
              <a:path w="21600" h="23248">
                <a:moveTo>
                  <a:pt x="3600" y="0"/>
                </a:moveTo>
                <a:arcTo wR="3600" hR="3600" stAng="0" swAng="5400000"/>
                <a:lnTo>
                  <a:pt x="0" y="19648"/>
                </a:lnTo>
                <a:arcTo wR="3600" hR="3600" stAng="16200000" swAng="5400000"/>
                <a:lnTo>
                  <a:pt x="18000" y="2324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3635280" y="1916280"/>
            <a:ext cx="2664000" cy="19443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788000" y="4437000"/>
            <a:ext cx="2089080" cy="1871640"/>
          </a:xfrm>
          <a:prstGeom prst="irregularSeal2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2"/>
          <p:cNvSpPr txBox="1"/>
          <p:nvPr/>
        </p:nvSpPr>
        <p:spPr>
          <a:xfrm>
            <a:off x="1187280" y="0"/>
            <a:ext cx="5689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фигур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0" y="9810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 -Картин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Picture 6" descr="j0195384"/>
          <p:cNvPicPr/>
          <p:nvPr/>
        </p:nvPicPr>
        <p:blipFill>
          <a:blip r:embed="rId1"/>
          <a:stretch/>
        </p:blipFill>
        <p:spPr>
          <a:xfrm>
            <a:off x="4211640" y="3068640"/>
            <a:ext cx="225576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196400"/>
          <p:cNvPicPr/>
          <p:nvPr/>
        </p:nvPicPr>
        <p:blipFill>
          <a:blip r:embed="rId2"/>
          <a:stretch/>
        </p:blipFill>
        <p:spPr>
          <a:xfrm>
            <a:off x="6804000" y="4221000"/>
            <a:ext cx="2021040" cy="216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0" y="1916280"/>
            <a:ext cx="3300480" cy="504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7093080" y="198900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690560" y="0"/>
            <a:ext cx="4897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тинк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0" y="1052640"/>
            <a:ext cx="88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 -Из фай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13"/>
          <p:cNvSpPr txBox="1"/>
          <p:nvPr/>
        </p:nvSpPr>
        <p:spPr>
          <a:xfrm>
            <a:off x="1187280" y="0"/>
            <a:ext cx="59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тографи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5" descr="christmas5"/>
          <p:cNvPicPr/>
          <p:nvPr/>
        </p:nvPicPr>
        <p:blipFill>
          <a:blip r:embed="rId2"/>
          <a:stretch/>
        </p:blipFill>
        <p:spPr>
          <a:xfrm>
            <a:off x="0" y="4757760"/>
            <a:ext cx="2627280" cy="2100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christmas1"/>
          <p:cNvPicPr/>
          <p:nvPr/>
        </p:nvPicPr>
        <p:blipFill>
          <a:blip r:embed="rId3"/>
          <a:stretch/>
        </p:blipFill>
        <p:spPr>
          <a:xfrm>
            <a:off x="5076720" y="3605040"/>
            <a:ext cx="4067280" cy="325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4"/>
          <a:stretch/>
        </p:blipFill>
        <p:spPr>
          <a:xfrm>
            <a:off x="0" y="1773360"/>
            <a:ext cx="5076720" cy="300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5M5"/>
          <p:cNvPicPr/>
          <p:nvPr/>
        </p:nvPicPr>
        <p:blipFill>
          <a:blip r:embed="rId5"/>
          <a:stretch/>
        </p:blipFill>
        <p:spPr>
          <a:xfrm>
            <a:off x="7308720" y="2205000"/>
            <a:ext cx="183528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CLAUS1"/>
          <p:cNvPicPr/>
          <p:nvPr/>
        </p:nvPicPr>
        <p:blipFill>
          <a:blip r:embed="rId6"/>
          <a:stretch/>
        </p:blipFill>
        <p:spPr>
          <a:xfrm>
            <a:off x="3132000" y="4797360"/>
            <a:ext cx="16941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7"/>
          <p:cNvSpPr txBox="1"/>
          <p:nvPr/>
        </p:nvSpPr>
        <p:spPr>
          <a:xfrm>
            <a:off x="0" y="981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Фильм и Звук -Звук из фай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03_Fr.Garsia.mp3" descr=""/>
          <p:cNvPicPr/>
          <p:nvPr/>
        </p:nvPicPr>
        <p:blipFill>
          <a:blip r:embed="rId1"/>
          <a:stretch/>
        </p:blipFill>
        <p:spPr>
          <a:xfrm>
            <a:off x="6877080" y="2205000"/>
            <a:ext cx="8398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0" y="2222640"/>
            <a:ext cx="5329080" cy="315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5076720" y="3017880"/>
            <a:ext cx="4067280" cy="384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0" y="4533840"/>
            <a:ext cx="253368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2"/>
          <p:cNvSpPr txBox="1"/>
          <p:nvPr/>
        </p:nvSpPr>
        <p:spPr>
          <a:xfrm>
            <a:off x="2195640" y="115920"/>
            <a:ext cx="3960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0" y="981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Фильм и Звук -Фильм из фай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187280" y="0"/>
            <a:ext cx="59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деофраг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1файл.WMV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5976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4734000" cy="252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0" y="3141720"/>
            <a:ext cx="5219640" cy="10699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8"/>
          <p:cNvSpPr txBox="1"/>
          <p:nvPr/>
        </p:nvSpPr>
        <p:spPr>
          <a:xfrm>
            <a:off x="0" y="260280"/>
            <a:ext cx="82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Объ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3132000" y="5560920"/>
            <a:ext cx="273708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4"/>
          <a:stretch/>
        </p:blipFill>
        <p:spPr>
          <a:xfrm>
            <a:off x="0" y="4352760"/>
            <a:ext cx="3363840" cy="2505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755640" y="5661000"/>
            <a:ext cx="23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очечный рису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348000" y="422100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Лист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8"/>
          <p:cNvGraphicFramePr/>
          <p:nvPr/>
        </p:nvGraphicFramePr>
        <p:xfrm>
          <a:off x="5435640" y="1052640"/>
          <a:ext cx="3708360" cy="2700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052640"/>
                    <a:ext cx="37083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5"/>
          <p:cNvSpPr/>
          <p:nvPr/>
        </p:nvSpPr>
        <p:spPr>
          <a:xfrm>
            <a:off x="5651640" y="6093000"/>
            <a:ext cx="381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Элемент управления календар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Calendar1"/>
          <p:cNvGraphicFramePr/>
          <p:nvPr/>
        </p:nvGraphicFramePr>
        <p:xfrm>
          <a:off x="5589720" y="3797280"/>
          <a:ext cx="3473280" cy="23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Calendar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9720" y="3797280"/>
                    <a:ext cx="347328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06:25Z</dcterms:created>
  <dc:creator>Фёдор</dc:creator>
  <dc:description/>
  <dc:language>en-US</dc:language>
  <cp:lastModifiedBy>2</cp:lastModifiedBy>
  <dcterms:modified xsi:type="dcterms:W3CDTF">2013-01-24T05:06:49Z</dcterms:modified>
  <cp:revision>55</cp:revision>
  <dc:subject/>
  <dc:title>Слайд 1</dc:title>
</cp:coreProperties>
</file>