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1FE-F660-4472-8883-CD44A281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2BD-E98D-42D0-B05B-FBD1B45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DC6-00C7-4CCA-A7A2-9008C866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CC9-B830-4427-91A3-27EAB72C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CA1-2373-4129-9B23-D3EDC6F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C49-40D6-4C07-94F8-B2A28248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49B-E854-4187-B84D-D16302A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C24-D2D9-4E98-935E-A6F045E2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25D-B3C7-461A-822E-09F115A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8A3-4222-43E5-A4B4-DC56B1A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357-E967-4459-A67F-C021719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952-9CE0-4D1B-9523-656C961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E151-5922-426B-92A9-8FF20790CB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Биотестирование </a:t>
            </a:r>
            <a:br>
              <a:rPr sz="4000"/>
            </a:b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токсичности снега в окрестностях школы по проросткам кресс - салат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Муниципальное казенное общеобразовательное учреждение - средняя общеобразовательная школа №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г. Т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Анализ пророст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Содержимое 7" descr="Рисунок5.jpg"/>
          <p:cNvPicPr/>
          <p:nvPr/>
        </p:nvPicPr>
        <p:blipFill>
          <a:blip r:embed="rId1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9" descr="Рисунок6.jpg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Сравнение корневой систе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Содержимое 7" descr="Рисунок7.jpg"/>
          <p:cNvPicPr/>
          <p:nvPr/>
        </p:nvPicPr>
        <p:blipFill>
          <a:blip r:embed="rId1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9" descr="Рисунок8.jpg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Снег в окрестностях школы загрязнен вредными веществами, выбрасываемыми автотранспортом, но степень загрязнения не столь высока, так как всхожесть семян кресс – салата в среднем составила 76 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Цель работы</a:t>
            </a: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3791"/>
                </a:solidFill>
                <a:latin typeface="Tahoma"/>
              </a:rPr>
              <a:t>Исследование общей химической токсичности снега в  городе Тула методом  биотестирования по проросткам растений - индикатор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Задачи работы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Изучить влияние химического состава талой воды на развитие проростков кресс-сал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На основании полученных результатов построить сравнительные таблицы и диаграм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Содержимое 7" descr="Рисунок1.png"/>
          <p:cNvPicPr/>
          <p:nvPr/>
        </p:nvPicPr>
        <p:blipFill>
          <a:blip r:embed="rId1"/>
          <a:stretch/>
        </p:blipFill>
        <p:spPr>
          <a:xfrm>
            <a:off x="2587680" y="4114800"/>
            <a:ext cx="396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Практическая часть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Экспериментальный этап работы  был поставлен в январе 2012 года.  Были собраны 5 проб снега в различных районах города Т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Проба № 1 - территория школы № 8 г. Т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Проба № 2 - территория двора по ул.Банди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Проба № 3 - проезжая часть около магазина «Феникс» по ул. Оборонная, 87/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Проба № 4 -  сквер  между ул.Оборонной и ул. Староникитс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3791"/>
                </a:solidFill>
                <a:latin typeface="Tahoma"/>
              </a:rPr>
              <a:t>Проба № 5 – территория двора по ул.Новомосковская,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Пробы талой 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Содержимое 8" descr="Рисунок2.jpg"/>
          <p:cNvPicPr/>
          <p:nvPr/>
        </p:nvPicPr>
        <p:blipFill>
          <a:blip r:embed="rId1"/>
          <a:stretch/>
        </p:blipFill>
        <p:spPr>
          <a:xfrm>
            <a:off x="1952640" y="2076480"/>
            <a:ext cx="523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12a1"/>
                </a:solidFill>
                <a:latin typeface="Tahoma"/>
              </a:rPr>
              <a:t>Сравнительная характеристика 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557360"/>
          <a:ext cx="8229600" cy="5084640"/>
        </p:xfrm>
        <a:graphic>
          <a:graphicData uri="http://schemas.openxmlformats.org/drawingml/2006/table">
            <a:tbl>
              <a:tblPr/>
              <a:tblGrid>
                <a:gridCol w="1954440"/>
                <a:gridCol w="1728720"/>
                <a:gridCol w="1428840"/>
                <a:gridCol w="1811160"/>
                <a:gridCol w="1306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Место взятия проб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Цв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Наличие взвешенных части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Наличие осад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лабо му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ерова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есть, мало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лабо му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ероват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лабо му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еровато - черная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есть, много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Мут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ерая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е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Мутная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серая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е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Проба № 6 контроль(водопроводная вод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идеально прозра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r>
                        <a:rPr b="0" lang="ru-RU" sz="2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b3791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12a1"/>
                </a:solidFill>
                <a:latin typeface="Tahoma"/>
              </a:rPr>
              <a:t>Характеристика биоиндикато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b3791"/>
                </a:solidFill>
                <a:uFillTx/>
                <a:latin typeface="Tahoma"/>
              </a:rPr>
              <a:t>Кресс-салат</a:t>
            </a: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 - однолетнее овощное растение, обладающее повышенной чувствительностью к загрязнению почвы тяжелыми металлами, а также к загрязнению воздуха газообразными выбросами автотранспорта. Этот биоиндикатор отличается быстрым прорастанием семян и почти стопро­центной всхожестью, которая заметно уменьшается в присутствии загрязнителе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Содержимое 7" descr="Рисунок3.jpg"/>
          <p:cNvPicPr/>
          <p:nvPr/>
        </p:nvPicPr>
        <p:blipFill>
          <a:blip r:embed="rId1"/>
          <a:stretch/>
        </p:blipFill>
        <p:spPr>
          <a:xfrm>
            <a:off x="4651200" y="1981080"/>
            <a:ext cx="403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12a1"/>
                </a:solidFill>
                <a:latin typeface="Tahoma"/>
              </a:rPr>
              <a:t>Уровни загрязн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В зависимости от результатов опыта субстратам присваивают один из</a:t>
            </a:r>
            <a:r>
              <a:rPr b="0" i="1" lang="ru-RU" sz="2000" spc="-1" strike="noStrike">
                <a:solidFill>
                  <a:srgbClr val="1b379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четырех уровней загрязн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b3791"/>
                </a:solidFill>
                <a:uFillTx/>
                <a:latin typeface="Tahoma"/>
              </a:rPr>
              <a:t>1. Загрязнение отсутству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Всхожесть семян достигает 90-100%, всходы дружные, проростки креп­кие, ровные. Эти признаки характерны для контроля, с которым следует  сравнивать опытные образ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b3791"/>
                </a:solidFill>
                <a:uFillTx/>
                <a:latin typeface="Tahoma"/>
              </a:rPr>
              <a:t>2. Слабое загряз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Всхожесть   60-90%. Проростки почти   нормальной длины, крепкие, ров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b3791"/>
                </a:solidFill>
                <a:uFillTx/>
                <a:latin typeface="Tahoma"/>
              </a:rPr>
              <a:t>3. Среднее загряз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Всхожесть 20-60%. Проростки по сравнению с контролем   короче тоньше. Некоторые проростки имеют уродств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b3791"/>
                </a:solidFill>
                <a:uFillTx/>
                <a:latin typeface="Tahoma"/>
              </a:rPr>
              <a:t>4. Сильное загряз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3791"/>
                </a:solidFill>
                <a:latin typeface="Tahoma"/>
              </a:rPr>
              <a:t>Всхожесть семян очень слабая (менее 20%), Проростки мелкие и уродлив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Рисунок4.jpg"/>
          <p:cNvPicPr/>
          <p:nvPr/>
        </p:nvPicPr>
        <p:blipFill>
          <a:blip r:embed="rId1"/>
          <a:stretch/>
        </p:blipFill>
        <p:spPr>
          <a:xfrm>
            <a:off x="285840" y="173160"/>
            <a:ext cx="85723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6:13:53Z</dcterms:created>
  <dc:creator>Ученик</dc:creator>
  <dc:description/>
  <dc:language>en-US</dc:language>
  <cp:lastModifiedBy>Учитель</cp:lastModifiedBy>
  <dcterms:modified xsi:type="dcterms:W3CDTF">2013-01-22T09:34:16Z</dcterms:modified>
  <cp:revision>14</cp:revision>
  <dc:subject/>
  <dc:title>Биотестирование  токсичности снега по проросткам растений - индикатор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