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F91-79DF-4CC5-A6CE-A078C430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80D-0C32-4EA0-B502-11A7321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61E-10F0-4DA0-BAD5-CD63412A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A96-813C-4391-A58A-31F603F6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37A-2C4B-4F7C-953E-8BF97BB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6D5-FE43-41A4-AEEF-8032F9AC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2EE-F327-42B8-B2C3-02ECD29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45F-979E-4330-BB58-6CC18AB4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61E-86D3-4241-9905-E74B156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98A-75BC-4177-89C8-89E6B84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D0B-4862-4782-B8A7-925172C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E3C-59A7-45FC-BC70-F0CF966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719-D42A-4FE0-8BFF-EDDFCE02E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362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Знакомство с чрезвычайными ситуациями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иродного характера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«Землетрясения и вулк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Arial"/>
              </a:rPr>
              <a:t>24.01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230, 144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55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годах подземную стихию почувствовали жители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ладимир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446, 180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977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годах –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скв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23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55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годах –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ижнего Новгород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99cc00"/>
                </a:solidFill>
                <a:latin typeface="Arial"/>
              </a:rPr>
              <a:t>12-бальная международная сейсмическая шк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(Шкала Рихтер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ые - 1-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ренные - 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вольно сильные –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льные – 6-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рушительные - 8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устошительные – 9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ничтожающие – 1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тастрофические – 11-12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2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480"/>
                            </p:stCondLst>
                            <p:childTnLst>
                              <p:par>
                                <p:cTn id="2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8680"/>
                            </p:stCondLst>
                            <p:childTnLst>
                              <p:par>
                                <p:cTn id="2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168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vul3"/>
          <p:cNvPicPr/>
          <p:nvPr/>
        </p:nvPicPr>
        <p:blipFill>
          <a:blip r:embed="rId1"/>
          <a:stretch/>
        </p:blipFill>
        <p:spPr>
          <a:xfrm>
            <a:off x="250920" y="328464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vul2"/>
          <p:cNvPicPr/>
          <p:nvPr/>
        </p:nvPicPr>
        <p:blipFill>
          <a:blip r:embed="rId2"/>
          <a:stretch/>
        </p:blipFill>
        <p:spPr>
          <a:xfrm>
            <a:off x="4211640" y="18900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cc00"/>
                </a:solidFill>
                <a:latin typeface="Arial"/>
              </a:rPr>
              <a:t>Сейсмогра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14_3_1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некоторые печальные циф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99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году – полностью разрушен город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фтегорск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остров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ахали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Из 3 тысяч его жителей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гибли и были ране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ыше 2 тысяч челов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амое крупное землетрясение 20 века произош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 декабря 198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11 ч. 41 мин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рмен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но охватило территорию с населением свыше 700 тысяч человек. Сила подземных толчков в эпицентре стихийного бедствия достигла более 10 баллов. Особенно пострадали города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ировокан, Степанакерт, Ленинак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пит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был практически стерт с лица зем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cc00"/>
                </a:solidFill>
                <a:latin typeface="Arial"/>
              </a:rPr>
              <a:t>Признаки близкого землетряс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кие изменения уровня воды в водоемах или ее помутн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ах газа в районах, где раньше этого не был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спокойство птиц и домашних животны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бые толчки земной поверх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ушение в работе радио, телеграфа, электромагнитных прибо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18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78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Правила безопасного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во время землетря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ервом толчке постараться немедленно покинуть здание в течение 15-2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ускаться  только по лестнице, оповещая соседей о необходимости покинуть з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остались в квартире, необходимо встать в дверной проем или в углу комнаты, подальше от окон, светильников, шкафов и зер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опускать возникновения па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землетрясение застигло вас в машине, нужно немедленно остановиться и не выходить из машины до окончания тол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12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гефест"/>
          <p:cNvPicPr/>
          <p:nvPr/>
        </p:nvPicPr>
        <p:blipFill>
          <a:blip r:embed="rId1"/>
          <a:stretch/>
        </p:blipFill>
        <p:spPr>
          <a:xfrm>
            <a:off x="684360" y="1484280"/>
            <a:ext cx="2998800" cy="506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ефест – бог огня -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вулкан"/>
          <p:cNvPicPr/>
          <p:nvPr/>
        </p:nvPicPr>
        <p:blipFill>
          <a:blip r:embed="rId2"/>
          <a:stretch/>
        </p:blipFill>
        <p:spPr>
          <a:xfrm>
            <a:off x="3995640" y="1268280"/>
            <a:ext cx="4091040" cy="4915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вулкан"/>
          <p:cNvPicPr/>
          <p:nvPr/>
        </p:nvPicPr>
        <p:blipFill>
          <a:blip r:embed="rId3"/>
          <a:stretch/>
        </p:blipFill>
        <p:spPr>
          <a:xfrm>
            <a:off x="4000680" y="1285920"/>
            <a:ext cx="40906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99cc00"/>
                </a:solidFill>
                <a:latin typeface="Arial"/>
              </a:rPr>
              <a:t>Вулкан –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возвышение, связанное каналом с магматическим очагом на глуб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Изучить строение вулк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Познакомиться с видами вул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Выявить закономерности размещения вул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Познакомиться с землетрясениями- стихийными явлениями в лит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152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403280" y="236520"/>
            <a:ext cx="6532560" cy="4289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улканические бомбы и глыб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– обломки горных пород угловатой формы, разной величины, до размеров дачного домика</a:t>
            </a:r>
            <a:br>
              <a:rPr sz="24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улканический пепе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– осколки вулканического стекла в форме мельчайших треугольников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улканические газы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орячие газы до температуры 800-1000* С, несущиеся вниз по склону со скоростью 300 км/час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2833560"/>
            <a:ext cx="6264360" cy="4024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35280" y="1700280"/>
            <a:ext cx="55087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365280" cy="374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303984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vul6"/>
          <p:cNvPicPr/>
          <p:nvPr/>
        </p:nvPicPr>
        <p:blipFill>
          <a:blip r:embed="rId3"/>
          <a:stretch/>
        </p:blipFill>
        <p:spPr>
          <a:xfrm>
            <a:off x="5003640" y="371628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cc00"/>
                </a:solidFill>
                <a:latin typeface="Arial"/>
              </a:rPr>
              <a:t>Магма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расплавленная масса, которая может подниматься с парами воды и газами из глубины наверх. Когда магма изливается из отверстий (кратер, жерло) ее называют </a:t>
            </a:r>
            <a:r>
              <a:rPr b="1" i="1" lang="ru-RU" sz="4400" spc="-1" strike="noStrike">
                <a:solidFill>
                  <a:srgbClr val="99cc00"/>
                </a:solidFill>
                <a:latin typeface="Arial"/>
              </a:rPr>
              <a:t>ла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емпература лавы достигает </a:t>
            </a: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1000  ̊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vul5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cc00"/>
                </a:solidFill>
                <a:latin typeface="Arial"/>
              </a:rPr>
              <a:t>Ключевская Сопка </a:t>
            </a:r>
            <a:br>
              <a:rPr sz="4400"/>
            </a:br>
            <a:r>
              <a:rPr b="1" i="1" lang="ru-RU" sz="4400" spc="-1" strike="noStrike">
                <a:solidFill>
                  <a:srgbClr val="99cc00"/>
                </a:solidFill>
                <a:latin typeface="Arial"/>
              </a:rPr>
              <a:t>(высотой 4750 метров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BE50012i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вулкан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208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208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Вулканы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Действующие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333399"/>
                  </a:solidFill>
                  <a:latin typeface="Arial"/>
                </a:rPr>
                <a:t>Потух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66ff"/>
                  </a:solidFill>
                  <a:latin typeface="Arial"/>
                </a:rPr>
                <a:t>Уснувшие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знаки вулканической г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конусовидная фор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на вершине горы чашеобразное углубл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на склонах застывшая ла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вулканические горы как правило оди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спространение вулканов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где"/>
          <p:cNvPicPr/>
          <p:nvPr/>
        </p:nvPicPr>
        <p:blipFill>
          <a:blip r:embed="rId1"/>
          <a:stretch/>
        </p:blipFill>
        <p:spPr>
          <a:xfrm>
            <a:off x="1042920" y="1484280"/>
            <a:ext cx="712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акие оболочки Земли вы знаете? Назовите и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Что называется литосферой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то является верхним слоем литосферы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Виды земной коры. Чем они друг от друга отличаются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Как называется совокупность всех неровностей земной поверхности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Назовите и покажите на карте полушарий крупнейшие равнины мир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Назовите и покажите на карте самые высокие и самые протяжённые горы мир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Назовите и покажите на карте самую глубочайшую впадину в мире. В каком океане она находится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Карл Брюллов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«Последний день Помпе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омпея"/>
          <p:cNvPicPr/>
          <p:nvPr/>
        </p:nvPicPr>
        <p:blipFill>
          <a:blip r:embed="rId1"/>
          <a:stretch/>
        </p:blipFill>
        <p:spPr>
          <a:xfrm>
            <a:off x="250920" y="1143000"/>
            <a:ext cx="8642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02 год – извержение Мон-Пеле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Карибское море) погибли 30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883 год – извержение Кракатау (Индонезия) погибло 36000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238400" y="1643040"/>
            <a:ext cx="66672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79 год – извержение Везувия, погибли около 2000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345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33600" y="102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571680"/>
          <a:ext cx="7696080" cy="5160960"/>
        </p:xfrm>
        <a:graphic>
          <a:graphicData uri="http://schemas.openxmlformats.org/drawingml/2006/table">
            <a:tbl>
              <a:tblPr/>
              <a:tblGrid>
                <a:gridCol w="2789280"/>
                <a:gridCol w="2004840"/>
                <a:gridCol w="2901960"/>
              </a:tblGrid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улк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с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ческие 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ючевская Соп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688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*с.ш161*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бр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64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* с.ш.42*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зу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79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*с.ш.14*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удзия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7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* с.ш.139*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к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491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4* с.ш.19* з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* с.ш.15*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улканологи – люди, изучающие вулканы</a:t>
            </a:r>
            <a:br>
              <a:rPr sz="3200"/>
            </a:b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измерение температуры п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78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99cc00"/>
                </a:solidFill>
                <a:latin typeface="Arial"/>
              </a:rPr>
              <a:t>Как предсказать предстоящее извержение? Вот некоторые 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ение сейсмическ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рчание», доносившееся из кратера вулкана и из-под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ах серы, исходящий из протекающих рядом с вулканом рек и руч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адение кислотных дож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ывающиеся время от времени из кратера газы и пе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4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320"/>
                            </p:stCondLst>
                            <p:childTnLst>
                              <p:par>
                                <p:cTn id="503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652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3720"/>
                            </p:stCondLst>
                            <p:childTnLst>
                              <p:par>
                                <p:cTn id="519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4520"/>
                            </p:stCondLst>
                            <p:childTnLst>
                              <p:par>
                                <p:cTn id="527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50_1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11280" y="1484280"/>
            <a:ext cx="82818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наком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 чрезвычайны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итуация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ного характ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ся земля сотрясла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уч метнулась гря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отрясенье земли унесло город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се оковы небес разомкнуться смог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вел разгул сотрясенья суставы                                 земл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жал он бедную землю в такие тис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то огромные скалы разбил на куск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зами Гяндже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99cc00"/>
                </a:solidFill>
                <a:latin typeface="Arial"/>
              </a:rPr>
              <a:t>Землетрясени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подземные толчки и колебание земной поверхност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cc00"/>
                </a:solidFill>
                <a:latin typeface="Arial"/>
              </a:rPr>
              <a:t>Очагом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ывают место в земных глубинах, где зарождается землетрясение, откуда во все стороны расходятся упругие сейсмические вол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cc00"/>
                </a:solidFill>
                <a:latin typeface="Arial"/>
              </a:rPr>
              <a:t>Эпицентром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ывают место на поверхности земли, наиболее близкое к очаг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иторию, где уже были или ожидаются очаги землетрясений, называю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99cc00"/>
                </a:solidFill>
                <a:latin typeface="Arial"/>
              </a:rPr>
              <a:t>сейсмической область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4:06:18Z</dcterms:created>
  <dc:creator>Шевченко Иван</dc:creator>
  <dc:description/>
  <dc:language>en-US</dc:language>
  <cp:lastModifiedBy>Дмитрий Каленюк</cp:lastModifiedBy>
  <dcterms:modified xsi:type="dcterms:W3CDTF">2013-01-24T15:32:09Z</dcterms:modified>
  <cp:revision>26</cp:revision>
  <dc:subject/>
  <dc:title>Слайд 1</dc:title>
</cp:coreProperties>
</file>