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8.jpeg" ContentType="image/jpeg"/>
  <Override PartName="/ppt/media/image7.png" ContentType="image/png"/>
  <Override PartName="/ppt/media/image1.jpeg" ContentType="image/jpe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9.wmf" ContentType="image/x-wmf"/>
  <Override PartName="/ppt/media/image14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3612-283F-45FB-BE82-A17236015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64DE-5580-461E-AED1-9A6674F6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B256-64F0-4D27-8F0C-B59737AC8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E723-A79C-4E2D-892A-D97015952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735CA-FA31-4EE8-ABA9-BFC5066FF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CD1BB-7B59-47C1-9BED-55D4E48F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F7E7-039F-4D5F-8E66-63FE9C47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0ED4-2772-4C7C-9301-E17C065C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6352-51EE-4A75-AB59-5986FB77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38C7C-52AC-42F1-9381-E68DC002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FD9A-6BFA-4B14-9ACC-EC835029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6969-7B6B-4460-A90C-5651F938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FF28-9D9F-4A8D-A3B0-F2A73C3F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D37C-689C-411D-8F8D-884A477A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C5DB-DDB2-4703-ABEB-FC004BE5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B6942-1EFB-4225-A30D-E43423F3F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9656-161E-4348-8C4D-CFFC3AA5A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C939-1FC8-4768-AD1D-2CEBD40D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FBBD-85E1-48BA-B924-EE5DBF52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8811-196C-40AF-97A5-278BC795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497F-C674-4B7D-B738-B8678AFA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21D4-73DD-4CA2-ACEE-13D01361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91D1-2908-4FCB-96A1-B1D1D664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045B-142D-47FA-B110-FBBBFAB2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3145-DFC5-4468-9C07-DC4057F79A7B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4444-A03E-4C6E-A3C4-5E12331A06F3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" TargetMode="External"/><Relationship Id="rId2" Type="http://schemas.openxmlformats.org/officeDocument/2006/relationships/hyperlink" Target="http://dietolog.com.ua/" TargetMode="External"/><Relationship Id="rId3" Type="http://schemas.openxmlformats.org/officeDocument/2006/relationships/hyperlink" Target="http://www.eda-life.ru/_Files_/Image/N_9/20071023_3(2).jpg" TargetMode="External"/><Relationship Id="rId4" Type="http://schemas.openxmlformats.org/officeDocument/2006/relationships/hyperlink" Target="http://www.tiensmed.ru/" TargetMode="External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5"/>
          <p:cNvSpPr/>
          <p:nvPr/>
        </p:nvSpPr>
        <p:spPr>
          <a:xfrm>
            <a:off x="971640" y="692280"/>
            <a:ext cx="75596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Исследовательская работ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Verdana"/>
              </a:rPr>
              <a:t>Правильное питание –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d60093"/>
                </a:solidFill>
                <a:latin typeface="Verdana"/>
              </a:rPr>
              <a:t>залог твоего здоровь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4067280" y="4221000"/>
            <a:ext cx="50767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ffff"/>
                </a:solidFill>
                <a:latin typeface="Verdana"/>
              </a:rPr>
              <a:t>Автор работы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ffff"/>
                </a:solidFill>
                <a:latin typeface="Verdana"/>
              </a:rPr>
              <a:t>Тюркина Кристин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ffff"/>
                </a:solidFill>
                <a:latin typeface="Verdana"/>
              </a:rPr>
              <a:t>учащаяся  3а класс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ffff"/>
                </a:solidFill>
                <a:latin typeface="Verdana"/>
              </a:rPr>
              <a:t>МОУ «Гимназия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ffff"/>
                </a:solidFill>
                <a:latin typeface="Verdana"/>
              </a:rPr>
              <a:t>с. Ивантеевка»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ffff"/>
                </a:solidFill>
                <a:latin typeface="Verdana"/>
              </a:rPr>
              <a:t>Руководитель: Тюренкова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ffff"/>
                </a:solidFill>
                <a:latin typeface="Verdana"/>
              </a:rPr>
              <a:t>Татьяна Викторовн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5867280" y="58053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Picture 6" descr="C:\Documents and Settings\User\Рабочий стол\фотик\фотоаппарат\IMG_0202.jpg"/>
          <p:cNvPicPr/>
          <p:nvPr/>
        </p:nvPicPr>
        <p:blipFill>
          <a:blip r:embed="rId1"/>
          <a:stretch/>
        </p:blipFill>
        <p:spPr>
          <a:xfrm>
            <a:off x="179280" y="2959200"/>
            <a:ext cx="3816360" cy="28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66"/>
                </a:solidFill>
                <a:latin typeface="Calibri"/>
              </a:rPr>
              <a:t>Немного истор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ни   рационального   питания  уходят  глубоко    в историю. По свидетельству историков и философов, древние римляне и греки были очень  умеренными в еде   и   придавали  большое   значение  пищ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форматор античной медицины  Гиппократ относи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закрепляющим  средствам вику, анис, мак, льняное семя,  рябину,  кизил,  айву,  незрелую  грушу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послабляющим - соки сельдерея, укропа, яблочный, виноградный, огуречное семя, чеснок; к мочегонным - мяту. Много внимания в своих работах уделял питанию Абу Али Ибн Сина ( Авиценна ). Современные медики   изучают   его    «Канон врачебной науки»,  в котором большое значение придается гигиене питания, усвояемости пищи, умеренности в ед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9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з истории питания человека</a:t>
            </a: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С древних времен люди понимали огромное значение питания  для здоровья. Мыслители древности Гиппократ, Уэльс, Гален и другие посвящали целые трактаты лечебным свойствам различных видов пищи и разумному  ее потреблению. Выдающийся ученый востока Абу Али. Ибн Сина (Авиценна) считал  пищу  источником  здоровья,  силы,  бодрости,  ум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10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Выдающийся ученый востока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 Абу Али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                                 Гиппокр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2870280" cy="2089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2"/>
          <a:stretch/>
        </p:blipFill>
        <p:spPr>
          <a:xfrm>
            <a:off x="6443640" y="2660760"/>
            <a:ext cx="206208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03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.И. Мечников полагал, что люди преждевременно стареют и  умирают  в связи с неправильным питанием и что человек, питающийся  естественной,  а не искусственной пищей,  может жить до 130-150 лет.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1187280" y="3429000"/>
            <a:ext cx="2953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5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Опасные       пищевые       добавк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Что происходит с организмом, когда пища попадает в него? Оседает на стенках желудка. Если попавший в организм продукт ненатуральный, то он действует разрушительно и способствует многим заболеваниям организ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468360" y="3989520"/>
            <a:ext cx="2862360" cy="2519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6443640" y="4389480"/>
            <a:ext cx="25639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80262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66"/>
                </a:solidFill>
                <a:latin typeface="Calibri"/>
              </a:rPr>
              <a:t>Схема правильного пит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4" descr="20071023_3(2)"/>
          <p:cNvPicPr/>
          <p:nvPr/>
        </p:nvPicPr>
        <p:blipFill>
          <a:blip r:embed="rId1"/>
          <a:stretch/>
        </p:blipFill>
        <p:spPr>
          <a:xfrm>
            <a:off x="728640" y="1600200"/>
            <a:ext cx="7686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95280" y="404640"/>
          <a:ext cx="8280360" cy="5965920"/>
        </p:xfrm>
        <a:graphic>
          <a:graphicData uri="http://schemas.openxmlformats.org/drawingml/2006/table">
            <a:tbl>
              <a:tblPr/>
              <a:tblGrid>
                <a:gridCol w="1209600"/>
                <a:gridCol w="3556080"/>
                <a:gridCol w="3514680"/>
              </a:tblGrid>
              <a:tr h="7160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ние витам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ункции витам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дук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862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щищает верхние дыхательные пути от болезнетворных микробов и вирусов, а заодно поддерживает остроту зр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ечень, яйца, сливочное масло, молочные продукты, рыбий жир, морковь, горох, зеленый лук, щавель, капуста, облепи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160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4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ни нужны для работы кишечника, поддерживают определенные процессы в обмене веществ, оказывают влияние на функции нервной системы, на кожу и слизистые оболочки. Недостаток витамина В12 наносит вред клеткам кров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леб, крупа, фасоль, орехи, свин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98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олоко, кисло-молочные продукты, сыр, творог, яйца, мяса, рыба, дрожж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160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рупы, хлеб, мясо, картоф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571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ясо, печень, молочные продукты, яйца, птица, сы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24000" y="333360"/>
          <a:ext cx="8496000" cy="6708960"/>
        </p:xfrm>
        <a:graphic>
          <a:graphicData uri="http://schemas.openxmlformats.org/drawingml/2006/table">
            <a:tbl>
              <a:tblPr/>
              <a:tblGrid>
                <a:gridCol w="1296720"/>
                <a:gridCol w="3621240"/>
                <a:gridCol w="3578040"/>
              </a:tblGrid>
              <a:tr h="151308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ддерживает иммунитет и повышает сопротивляемость организма простудам. Это витамин витамин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Шиповник, апельсины, черная смородина, абрикосы, клюква, капуста, зеленый лук, красный перец, лимон, томат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5088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обходим для костного обмена веществ, без этого витамина невозможно усвоение кальция, который помогает сохранить здоровыми кости и зуб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сло сливочное молоко желтки яиц, печень домашней птицы, смета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75256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тот витамин является составной частью наших клеток и выполняет важнейшую защитную функцию против вредного воздействия свободных радикалов, то есть для профилактики рака и атросклеро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рехи, масла, шпинат, подсолнечное масло и семечки, цельные зер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9244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еспечивает организм энерги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ис, пшеница твердая, арахис,  печень свиная, скумбр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1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СтатиСтатистические данныестические данные</a:t>
            </a:r>
            <a:br>
              <a:rPr sz="4000"/>
            </a:br>
            <a:br>
              <a:rPr sz="4000"/>
            </a:b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За последние годы среди выпускников российских школ не выявлено ни одного абсолютно здорового учащегося. По его данным, еще до начала обучения в школе около 50 процентов детей имеют различные отклонения в состоянии здоровья, а более 20 процентов страдают хроническими заболеваниями. </a:t>
            </a:r>
            <a:br>
              <a:rPr sz="2900"/>
            </a:br>
            <a:br>
              <a:rPr sz="2200"/>
            </a:br>
            <a:br>
              <a:rPr sz="22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740720" y="5429160"/>
            <a:ext cx="12762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Проблем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доровья  школьника в первую очередь,  стоит под  угрозой. И виной   тому   являются  современные продукты питания, которые  влияют   на хрупкий организм подростка.   Современная еда «фаст – фуд» (англ. Fust.food), что в переводе означает, блюдо, приготовленное для быстрой еды. Эти продукты питания заполонили прилавки многих магазинов.  С каждым   годом  растёт  число  заболеваний  детей. И проблема становится всё острее и острее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03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«От начальных классов к старшим доля хронических заболеваний у детей продолжает расти». С 1995 по 2005 год среди хронических заболеваний на первое место вышли болезни органов пищеварения,  в 4,5 раза выросла доля хронических болезней нервной системы, по-прежнему третье место занимают болезни костно-мышечной системы.</a:t>
            </a: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03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 словам всем известного,  доктора Рошаля, здоровье школьников было хуже только во время войны и революции.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826920" y="3573360"/>
            <a:ext cx="44658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10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Результаты после обработки анкеты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Часто ли ты ешь на завтрак молочную кашу? (да  38%), (нет 62%);   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Уходишь ли ты из школы без обеда? (да 99%), (нет 1%)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Откажешься ли ты от супа на обед, заменив его бутербродом? (да 34%), (нет 66%)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Съедаешь ли ты в день хотя бы один фрукт? (да 89%), (нет 11%)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Часто ли ты ешь перед сном? (да 17%), (нет 83%)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24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После полученных данных, были разработаны </a:t>
            </a:r>
            <a:br>
              <a:rPr sz="2900"/>
            </a:b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рекомендации ученикам, родителям, работникам школы.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ища должна быть свежей.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одукты должны быть качественными, то есть как можно более натуральными.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итание должно быть разнообразным и сбалансированным. Чем больше разных продуктов включено в рацион, тем больше биологически активных веществ поступает в организм.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9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итание школьника должно быть оптимальным. При составлении меню обязательно учитываются потребности организма, связанных с его ростом и развитием, с изменением условий внешней среды, с повышенной физической или эмоциональной нагрузк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03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рационе должны присутствовать сырые овощи и фрукты. В сырых плодах сконцентрирована живительная сила, в них сохраняется значительно больше витаминов и микроэлементов, чем в варёных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мните о сезонности питания. Весной и летом необходимо увеличивать количество растительной пищи. Зимой напротив целесообразно добавлять в рацион питания продукты, богатые белками и жир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17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граничивайтесь в питании. Переедание снижает работоспособность, вызывает усталость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втрак должен состоять  из трёх основных элементов: фрукты, зерновые и молочные продукты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10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40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о время обеда обязательно накормите ребёнка супом или борщом. Первые блюда на основе овощных или мясных бульонов являются сильными стимуляторами работы рецепторов желудка. Это способствует улучшению процесса пищеварения.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олдник и ужин должны быть лёгкими. Это могут быть овощные, фруктовые, молочные и крупяные блюда.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 детства прививайте ребёнку культуру питания, и тогда он вырастет здоровым.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66"/>
                </a:solidFill>
                <a:latin typeface="Calibri"/>
              </a:rPr>
              <a:t>Список литературы и ссыл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836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Основы кулинарии. В.И. Ермакова. 1-4кл. Москва. «Просвещение» 1993. – 192 с. и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Технология: Учебник для учащихся 7 класс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.Д. Симоненко – М.: Вентана-Графф, 2001. – 240с.: и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refcity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http:</a:t>
            </a:r>
            <a:r>
              <a:rPr b="0" lang="ru-RU" sz="2000" spc="-1" strike="noStrike">
                <a:solidFill>
                  <a:srgbClr val="ccffff"/>
                </a:solidFill>
                <a:latin typeface="Arial"/>
              </a:rPr>
              <a:t>//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www.akolo.ru/ima_p/homeImage.jp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images.google.ru/imgres?imgur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dietolog.com.ua</a:t>
            </a:r>
            <a:r>
              <a:rPr b="0" lang="ru-RU" sz="2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eda-life.ru/_Files_/Image/N_9/20071023_3(2)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www.tiensmed.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17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писок источников и литературы</a:t>
            </a: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1. Всё обо всём: Популярная энциклопедия для детей: В 14 томах.- М., 1997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2. Зайцев К.Г., Зайцев А. Г.Твоё здоровье: Укрепление организма. - СПб., 2002.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3. Изучаем «Окружающий мир» с увлечением.1-4 классы - М., 2009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4. http://www.za-partoi.ru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5. http://www.kedem.ru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6. http://www.7ya.ru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7. http://deti.mail.ru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8.  http://zdorovoe-pitanie.html</a:t>
            </a:r>
            <a:br>
              <a:rPr sz="2500"/>
            </a:b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6656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Гипотеза исследования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ы предполагаем, что неправильное питание вредит здоровь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Объект 2"/>
          <p:cNvSpPr/>
          <p:nvPr/>
        </p:nvSpPr>
        <p:spPr>
          <a:xfrm>
            <a:off x="460440" y="1268280"/>
            <a:ext cx="8229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Цель работ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Выяснить результаты правильного пита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Дать рекомендации правильного питания для сохранения здоровь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Объект 2"/>
          <p:cNvSpPr/>
          <p:nvPr/>
        </p:nvSpPr>
        <p:spPr>
          <a:xfrm>
            <a:off x="539640" y="2421000"/>
            <a:ext cx="82296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Методы исследовани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 наблюдение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 социологическое исследование (анкета)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 консультация специалиста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 сбор информации из книг, газет, журналов, сайтов Интернета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 обработка информации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Объект 2"/>
          <p:cNvSpPr/>
          <p:nvPr/>
        </p:nvSpPr>
        <p:spPr>
          <a:xfrm>
            <a:off x="457200" y="4221000"/>
            <a:ext cx="822960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Цели исследования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ктивизировать познавательную деятельность учащихся при проведении внеклассных мероприятий по здоровому образу жизни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влечь внимание к проблеме сбережения здоровья путём организации правильного пита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66"/>
                </a:solidFill>
                <a:latin typeface="Calibri"/>
              </a:rPr>
              <a:t>Схема правильного пит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20071023_3(2)"/>
          <p:cNvPicPr/>
          <p:nvPr/>
        </p:nvPicPr>
        <p:blipFill>
          <a:blip r:embed="rId1"/>
          <a:stretch/>
        </p:blipFill>
        <p:spPr>
          <a:xfrm>
            <a:off x="728640" y="1600200"/>
            <a:ext cx="7686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924000" y="2060640"/>
            <a:ext cx="48956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ругие продукты помогают строить организм и сделать его более сильным (творог, рыба, мясо, яйца, орехи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4859280" y="3716280"/>
            <a:ext cx="2879640" cy="2664000"/>
          </a:xfrm>
          <a:prstGeom prst="rect">
            <a:avLst/>
          </a:prstGeom>
          <a:ln w="0">
            <a:noFill/>
          </a:ln>
        </p:spPr>
      </p:pic>
      <p:sp>
        <p:nvSpPr>
          <p:cNvPr id="95" name="Объект 2"/>
          <p:cNvSpPr/>
          <p:nvPr/>
        </p:nvSpPr>
        <p:spPr>
          <a:xfrm>
            <a:off x="439560" y="268200"/>
            <a:ext cx="822960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дни продукты дают организму энергию, движение, влияют на умственные способности,  (мед, гречка, геркулес, изюм, масло)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9" descr="http://im8-tub-ru.yandex.net/i?id=269839724-55-72&amp;n=17"/>
          <p:cNvPicPr/>
          <p:nvPr/>
        </p:nvPicPr>
        <p:blipFill>
          <a:blip r:embed="rId2"/>
          <a:stretch/>
        </p:blipFill>
        <p:spPr>
          <a:xfrm>
            <a:off x="826920" y="1533600"/>
            <a:ext cx="2448000" cy="2076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http://im6-tub-ru.yandex.net/i?id=151849672-07-72&amp;n=15"/>
          <p:cNvPicPr/>
          <p:nvPr/>
        </p:nvPicPr>
        <p:blipFill>
          <a:blip r:embed="rId3"/>
          <a:stretch/>
        </p:blipFill>
        <p:spPr>
          <a:xfrm>
            <a:off x="836640" y="3716280"/>
            <a:ext cx="936720" cy="755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http://im5-tub-ru.yandex.net/i?id=202517640-58-72&amp;n=15"/>
          <p:cNvPicPr/>
          <p:nvPr/>
        </p:nvPicPr>
        <p:blipFill>
          <a:blip r:embed="rId4"/>
          <a:stretch/>
        </p:blipFill>
        <p:spPr>
          <a:xfrm>
            <a:off x="2195640" y="3716280"/>
            <a:ext cx="81900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03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в третьи – фрукты и овощи – содержат много витаминов и минеральных веществ, которые и помогают организму расти и развиваться (ягоды, зелень, капуста, морковь, бананы).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527040" y="3490920"/>
            <a:ext cx="3166920" cy="2319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http://4.bp.blogspot.com/-jyLJ-sqoei4/TsxJNetsOgI/AAAAAAAABtU/FpHfhYSOb2g/s728/froyta%2Bkai%2Blaxanika%2Bgia%2Bpneymatikh%2B23452.jpg"/>
          <p:cNvPicPr/>
          <p:nvPr/>
        </p:nvPicPr>
        <p:blipFill>
          <a:blip r:embed="rId2"/>
          <a:stretch/>
        </p:blipFill>
        <p:spPr>
          <a:xfrm>
            <a:off x="5435640" y="3354480"/>
            <a:ext cx="25210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03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ециалисты утверждают, что школьники 1-6 классов должны обедать каждые три часа, 7-11 классов – каждые четыре часа.     Таким образом, речь идет о 4 - 5-разовом питании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ерыв между приемами пищи должен быть 3-4 ча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учше есть 4-5 раз в ден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.Завтрак до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.Завтрак в школ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Обед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Полдн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.Ужин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6" descr="OBJ096"/>
          <p:cNvPicPr/>
          <p:nvPr/>
        </p:nvPicPr>
        <p:blipFill>
          <a:blip r:embed="rId1"/>
          <a:stretch/>
        </p:blipFill>
        <p:spPr>
          <a:xfrm>
            <a:off x="4734000" y="2217600"/>
            <a:ext cx="3865320" cy="3291120"/>
          </a:xfrm>
          <a:prstGeom prst="rect">
            <a:avLst/>
          </a:prstGeom>
          <a:ln w="0">
            <a:noFill/>
          </a:ln>
        </p:spPr>
      </p:pic>
      <p:sp>
        <p:nvSpPr>
          <p:cNvPr id="105" name="WordArt 4"/>
          <p:cNvSpPr txBox="1"/>
          <p:nvPr/>
        </p:nvSpPr>
        <p:spPr>
          <a:xfrm>
            <a:off x="1042920" y="476280"/>
            <a:ext cx="7201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 режиме питания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160560" y="3665520"/>
            <a:ext cx="180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C:\Documents and Settings\user\Рабочий стол\фото\DSC00377.JPG"/>
          <p:cNvPicPr/>
          <p:nvPr/>
        </p:nvPicPr>
        <p:blipFill>
          <a:blip r:embed="rId1"/>
          <a:stretch/>
        </p:blipFill>
        <p:spPr>
          <a:xfrm>
            <a:off x="4643280" y="3483000"/>
            <a:ext cx="4400640" cy="3300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C:\Documents and Settings\user\Рабочий стол\фото\DSC00378.JPG"/>
          <p:cNvPicPr/>
          <p:nvPr/>
        </p:nvPicPr>
        <p:blipFill>
          <a:blip r:embed="rId2"/>
          <a:stretch/>
        </p:blipFill>
        <p:spPr>
          <a:xfrm>
            <a:off x="108000" y="115920"/>
            <a:ext cx="4397400" cy="3298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C:\Documents and Settings\user\Рабочий стол\фото\DSC00376.JPG"/>
          <p:cNvPicPr/>
          <p:nvPr/>
        </p:nvPicPr>
        <p:blipFill>
          <a:blip r:embed="rId3"/>
          <a:stretch/>
        </p:blipFill>
        <p:spPr>
          <a:xfrm>
            <a:off x="4643280" y="131760"/>
            <a:ext cx="438012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20:31:37Z</dcterms:created>
  <dc:creator>школа</dc:creator>
  <dc:description/>
  <dc:language>en-US</dc:language>
  <cp:lastModifiedBy>user</cp:lastModifiedBy>
  <dcterms:modified xsi:type="dcterms:W3CDTF">2013-01-25T06:28:25Z</dcterms:modified>
  <cp:revision>71</cp:revision>
  <dc:subject/>
  <dc:title>Слайд 1</dc:title>
</cp:coreProperties>
</file>