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FE8-E6FB-4447-A968-11C36F8A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EAC-0CFA-4951-B950-7E789325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B447-ED28-4E1E-9E63-B6530713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2872-E631-44FE-BFB1-41CEEC03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D99E-CCDD-4E52-B7E3-CD37675A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C3F-3A40-440C-B97F-396F64A6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6087-E7F9-4408-B19E-10CD1AEA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FA4E-B1F3-460C-8A97-29C0B001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7D2B-A176-4490-9138-6685579C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DAA7-0C5D-41BE-A05F-37501C02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4039-28B0-4018-9F71-EB2BEFF0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DCC-8538-411E-BC4A-1445FCEF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C491-0006-4704-A310-08A0A99B3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914400"/>
            <a:ext cx="853452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Пути  дости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планируемых результат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в начальной школ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8120" y="3613320"/>
            <a:ext cx="314964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. Где накапливать оценки и отметки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таблицах образовательных результатов ( предметных, метапредметных, личностных) и в « Портфеле достижени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 Когда ставить отметки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кущие – по желанию, за тематические проверочные работы – обязательно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. По каким критериям оценить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признакам трёх уровней успешности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) необходимый ( базовый)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) повышенный                                ( программный)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) максимальный ( решение не изучавшейся в классе                   « сверхзадачи»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. Как определять итоговые оцен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53320" y="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88b"/>
                </a:solidFill>
                <a:latin typeface="Arial"/>
              </a:rPr>
              <a:t>Формы контроля и учета достижений обуч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361800"/>
          <a:ext cx="8610480" cy="6448680"/>
        </p:xfrm>
        <a:graphic>
          <a:graphicData uri="http://schemas.openxmlformats.org/drawingml/2006/table">
            <a:tbl>
              <a:tblPr/>
              <a:tblGrid>
                <a:gridCol w="1949400"/>
                <a:gridCol w="2965320"/>
                <a:gridCol w="1827360"/>
                <a:gridCol w="1868400"/>
              </a:tblGrid>
              <a:tr h="13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Обязательные формы и методы контр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Иные формы учета достиж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текущая аттес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итоговая (четверть, год) аттес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уроч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внеуроч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1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  <a:ea typeface="Calibri"/>
                        </a:rPr>
                        <a:t>· устный 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  <a:ea typeface="Calibri"/>
                        </a:rPr>
                        <a:t>· 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исьменная самостояте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· дикта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· контрольное списы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· тестовые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· графическ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· из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· докл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· творческ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  <a:ea typeface="Calibri"/>
                        </a:rPr>
                        <a:t>·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  <a:ea typeface="Calibri"/>
                        </a:rPr>
                        <a:t>диагностическая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  <a:ea typeface="Calibri"/>
                        </a:rPr>
                        <a:t>контро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· дикта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· из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· контроль техники ч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  <a:ea typeface="Calibri"/>
                        </a:rPr>
                        <a:t>анализ динамики текущей успевае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  <a:ea typeface="Calibri"/>
                        </a:rPr>
                        <a:t>· участие  в выставках, конкурсах, соревнован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· активность в проектах и программах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· творческий 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  <a:ea typeface="Calibri"/>
                        </a:rPr>
                        <a:t>· портфол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· анализ психолого-педагогических исследо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28600" y="990720"/>
          <a:ext cx="8686800" cy="5565600"/>
        </p:xfrm>
        <a:graphic>
          <a:graphicData uri="http://schemas.openxmlformats.org/drawingml/2006/table">
            <a:tbl>
              <a:tblPr/>
              <a:tblGrid>
                <a:gridCol w="295200"/>
                <a:gridCol w="1281240"/>
                <a:gridCol w="1123920"/>
                <a:gridCol w="1584360"/>
                <a:gridCol w="44020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ид  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ремя пр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ормы и виды оце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тартов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чало сентябр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пределяет актуальный уровень знаний, необходимый для продолжения обучения, а также намечает «зону ближайшего развития» и предметных знаний, организует коррекционную работу в зоне актуальных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иксируется учителем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  листе достижений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и  в  дневнике обучающегося. Определяется уровень ближайшего  развития ребёнк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зультаты работы не влияют на дальнейшую итоговую оценку младшего школьник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констатирующая оцен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иагностическ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водится на входе и выходе темы при освоении способов действия/средств в учебном предмете. Количество работ зависит от количества  учебных зад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правлена  на проверку пооперационного состава действия, которым необходимо овладеть обучающимся в рамках решения учебной за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зультаты фиксируются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  листе достижений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отдельно по каждой отдельной  операции (0-1 балл) и также не влияют на дальнейшую итоговую оценку младшего школьни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формирующая оцен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598680" y="365760"/>
            <a:ext cx="84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иды контрольно-оценочных  действий  учащихся  и  педаг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28600" y="304920"/>
          <a:ext cx="8610480" cy="5565600"/>
        </p:xfrm>
        <a:graphic>
          <a:graphicData uri="http://schemas.openxmlformats.org/drawingml/2006/table">
            <a:tbl>
              <a:tblPr/>
              <a:tblGrid>
                <a:gridCol w="512640"/>
                <a:gridCol w="1744920"/>
                <a:gridCol w="1527120"/>
                <a:gridCol w="2157480"/>
                <a:gridCol w="2668320"/>
              </a:tblGrid>
              <a:tr h="33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амостоятельная 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е более  одного раза в  меся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правлена, с одной стороны, на возможную коррекцию результатов предыдущей темы обучения, с другой стороны, на параллельную отработку и углубление текущей изучаемой учебной темы. Задания  составляются на двух  уровнях: 1 (базовый) и 2 (расширенный) по основным предметным содержательным линия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учающийся сам оценивает все задания, которые он выполнил, проводит  рефлексивную оценку своей работы: указывает достижения  и трудности в данной  работе; оценивает  уровень выполненной  работ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читель  проверяет и оценивает выполненные школьником задания отдельно по уровням, определяет процент выполненных  заданий и качество их выполнения. Далее ученик соотносит свою оценку с оценкой учителя и определяется дальнейший шаг в самостоятельной работе обучающихся. Фиксация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в  листе достиже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формирующая оцен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верочная 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водится  после решения учебной за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веряется уровень освоения  обучающимися предметных культурных способов/средств действия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се задания  обязательны для выполнения. Учитель оценивает все задания по уровням (0-1 балл) и заносит результаты в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  лист достижений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дневник ученика, в матриц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констатирующая оцен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шение  проектной  за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водится 2-3 раза в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правлена на выявление уровня освоения  универсальных учебных действ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Экспертная  оценка по специально созданным экспертным картам. По каждому критерию 0-1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констатирующая оцен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304920"/>
          <a:ext cx="8610120" cy="3740040"/>
        </p:xfrm>
        <a:graphic>
          <a:graphicData uri="http://schemas.openxmlformats.org/drawingml/2006/table">
            <a:tbl>
              <a:tblPr/>
              <a:tblGrid>
                <a:gridCol w="510120"/>
                <a:gridCol w="1745280"/>
                <a:gridCol w="1528200"/>
                <a:gridCol w="2158920"/>
                <a:gridCol w="26676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сещение консультаций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водится 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тавит задачу обучения  учащихся  задавать (инициировать) «умные» вопрос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Фиксируется учителем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в  листе достижений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 (формирующая оцен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тоговая проверочн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мплексн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нец апреля-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ключает  основные  темы учебного  года. Задания рассчитаны на проверку не только знаний, но и развивающего эффекта обучения. Задания  разного уровня по сложности (базовый, расширенны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ценивание многобалльное, отдельно  по уровням. Сравнение результатов  стартовой и итогов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констатирующая оцен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едъявление (демонстрация) достижений ученика за го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ай 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аждый обучающийся в конце года должен продемонстрировать (показать) все, на что он способен (выставка Портфолио; смотр знаний и т. д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илософия этой формы оценки в смещение акцента с того, что обучающийся не знает и не умеет, к тому, что он знает и умеет по данной теме и данному предмету; перенос педагогического ударения с оценки на самооцен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20560" y="227520"/>
            <a:ext cx="83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Критерии оценивания- по признакам трёх уровней успешности.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8600" y="762120"/>
          <a:ext cx="8686800" cy="5895720"/>
        </p:xfrm>
        <a:graphic>
          <a:graphicData uri="http://schemas.openxmlformats.org/drawingml/2006/table">
            <a:tbl>
              <a:tblPr/>
              <a:tblGrid>
                <a:gridCol w="3724200"/>
                <a:gridCol w="4091040"/>
                <a:gridCol w="8715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успеш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-балльная шк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% - я шк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е достигнут необходимый уровен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е решена типовая, много раз отработанная задач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2» (или 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иже норм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еудовлетвор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-4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еобходимый (базовый)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шение типовой задачи, подобной тем, что решали уже много раз, где требовались отработанные умения и уже усвоенные зн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3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орма, зачёт, удовлетворитель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Частично успешное решение (с незначительной, не влияющей на результат ошибкой или с посторонней помощью в какой-то момент реш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-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4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хорош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лностью успешное решение (без ошибок и полностью самостоя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0 – 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вышенный (программный) уровен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шение нестандартной задачи, где потребовалос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либо применить новые знаний по изучаемой в данный момент теме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либо уже усвоенные знания и умения, но в новой, непривычной ситу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4» 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лизко к отлично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Частично успешное решение (с незначительной ошибкой или с посторонней помощью в какой-то момент реш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0-99% и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-70% п.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тлич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лностью успешное решение (без ошибок и полностью самостоя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-100% п.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аксимальный (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еобязательный)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ен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шение задачи по материалу, не изучавшемуся в классе, где потребовалис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либо самостоятельно добытые новые знани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либо новые, самостоятельно усвоенные ум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5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Частично успешное решение (с незначительной ошибкой или с посторонней помощью в какой-то момент реш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тдельная шкала: 50-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и 5» 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евосход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лностью успешное решение (без ошибок и полностью самостоя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тдельная шкала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-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Содержимое 2"/>
          <p:cNvSpPr/>
          <p:nvPr/>
        </p:nvSpPr>
        <p:spPr>
          <a:xfrm>
            <a:off x="457200" y="762120"/>
            <a:ext cx="82296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520" y="891720"/>
            <a:ext cx="9050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иксировать цели оценочной деятельности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иентировать на достижение результ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духовно-нравственного развития и воспитания (личностные результаты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формирования универсальных учебных действий (метапредметные результаты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своения содержания учебных предметов (предметные результат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Фиксировать критерии, процедуры, инструменты оценки и формы представления её результат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Фиксировать условия и границы применения системы оцен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кие нужны новые формы и методы оцен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оцениваем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цениваем результаты – предметные, метапредметные и личнос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Кто оценивает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читель и ученик вместе определяют оценку и отмет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лгоритм самооценки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Какова была цель задания?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Удалось получить результат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Правильно или с ошибкой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Самостоятельно или с           чьей – то помощь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Сколько ставить отметок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числу решённых зада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</cp:lastModifiedBy>
  <dcterms:modified xsi:type="dcterms:W3CDTF">2012-05-17T07:19:2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