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7BF-C37C-4017-9F03-6E44BAAF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8F3-4952-4BD6-BE52-0FBFD907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8D0-A341-449B-8A07-6D0EEB05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4CB-32EE-4289-B825-2FA8837F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9B34-A825-48C2-9A15-33E6B812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FD54-CCF7-4F0E-842C-F0B2BA9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0D80-A100-4B48-ADB2-6DA2ABE9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B810-CBBC-4DC4-B1BB-DEA4100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EFC-1B24-45A3-BA44-103F49F2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C097-3EE7-445F-ABB7-E52A00A6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D0B5-1268-41A5-B212-C4A3B9A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7CD-0BBA-4EF5-952C-5661F19C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63EE-8C55-457B-ACF9-AAC54FC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7E83-8711-4101-B89B-0274274D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6D28-2DE7-458E-B43A-826761DF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DBB1-4C7D-4E6D-9DA2-B3BEE62A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14A5-B4D0-4FB7-BEA0-3B81A1D8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0DB0-4776-4A84-BBB9-F8108718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F627-8140-49CB-AB2B-5200DFB8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5439-E882-4A3F-8973-ADDF506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7319-A0BE-48C5-8ED1-A84BA72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DEA1-B0E4-44F4-8BCB-21B43D3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AAA-16CE-48F3-B988-8E2D539C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5C64-EC7C-47C3-989C-F6EE4811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F7AC-37EE-49C3-BF66-EC852C1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B420-0AF3-4750-A1BD-A8A446EB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99ED-D0CC-4D14-8096-FE1F1F8C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F1F7-CF3A-423D-84AA-905F0A39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B663-FFC6-4169-8AE9-6C960AA3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DBE65-93C1-4BE1-BBF7-80CCBBE6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6C86-3EBF-44A2-9776-C9B1F45B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A9C18-AD33-4947-BDA9-0C58FC4E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4525-C717-424D-8825-AF4B6179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624-0266-4A49-B26E-5961B0F5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FA9F-A61A-4688-BC94-CACF9181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02B3-EB9B-4BD4-89C4-19EA656B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E3E8B-0C70-4A04-AD57-2D887C8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A476-274E-43E5-A482-15E8FD2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3AB5-3F9A-4681-87A4-0BA08989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1EDB-3BB8-45A2-B1CB-4B1E04D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207D6-7FBD-445C-89F9-FDE566D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FEF0-15E4-49C2-AF2B-DFCD15CE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E00F-1FF4-4998-885F-1661F936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BD9C2-BDC9-4761-8798-1AE4C3DE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C89-394D-40EE-9F36-F23F2F16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C2DD7-ED43-4556-AB6D-240AA7F7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59D3-4700-413E-AFF9-669AE9CD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4C948-1CDA-409B-922A-45549A43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88220-83A6-498D-A42D-90FB6DB9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61BA1-1074-469C-AD6F-5096FFFA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C8E4-60B9-45E7-B834-936A686E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7EEB8-A3AB-466D-A0D2-799CEA6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97E4-8BBF-43CE-957F-7C27ED9A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F8952-FF26-4C1A-AC79-F72FC396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3174-EEBF-41CA-B1B5-C452FE02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791-19FF-4417-A8A1-3435C07B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7FE1-AA34-41BD-A99F-1C4359A1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B88-1A83-49FF-B731-D491450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6CA-10AE-4AE2-8501-6B6392B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03D-CA05-4512-9986-AB7EADF4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008D-914A-4E8C-8957-69095C7FCC7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1E08-0DDE-4FCE-AD98-5CAACBB2B7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582-4514-4D47-8577-601AF19372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705C-D939-4C42-B201-6E151BFD12C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8834-C79B-4F6A-AE6C-3CDCD3F6386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Образовательные технологии.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Их результативность и влияние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на качество знаний учащихся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562720" y="5181480"/>
            <a:ext cx="300816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747"/>
                </a:solidFill>
                <a:latin typeface="Verdana"/>
              </a:rPr>
              <a:t>Романова О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747"/>
                </a:solidFill>
                <a:latin typeface="Verdana"/>
              </a:rPr>
              <a:t>10 января 2013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Результаты анкетирования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Владение современными образовательными технологиями»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1599840"/>
            <a:ext cx="818352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1. Какие современные образовательные технологии вы знаете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.Какие образовательные технологии вы используете на уроках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8 преподавателей – пол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6 преподавателей - элеме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3. Какие технологии вы хотели бы изучить?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ульное 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проек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ное 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ию развития критического мышления через чтение и письм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спективно-опережающее 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ию программированного обу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2627280" y="573120"/>
            <a:ext cx="3640320" cy="981000"/>
          </a:xfrm>
          <a:prstGeom prst="rect">
            <a:avLst/>
          </a:prstGeom>
          <a:ln w="0">
            <a:noFill/>
          </a:ln>
        </p:spPr>
      </p:pic>
      <p:sp>
        <p:nvSpPr>
          <p:cNvPr id="225" name="Скругленный прямоугольник 5"/>
          <p:cNvSpPr/>
          <p:nvPr/>
        </p:nvSpPr>
        <p:spPr>
          <a:xfrm>
            <a:off x="457200" y="1706400"/>
            <a:ext cx="23464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ъясните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ллюстр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6"/>
          <p:cNvSpPr/>
          <p:nvPr/>
        </p:nvSpPr>
        <p:spPr>
          <a:xfrm>
            <a:off x="3160800" y="1706400"/>
            <a:ext cx="26305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ичностно-ориент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7"/>
          <p:cNvSpPr/>
          <p:nvPr/>
        </p:nvSpPr>
        <p:spPr>
          <a:xfrm>
            <a:off x="6094440" y="1714680"/>
            <a:ext cx="244152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и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8"/>
          <p:cNvSpPr/>
          <p:nvPr/>
        </p:nvSpPr>
        <p:spPr>
          <a:xfrm>
            <a:off x="426960" y="2844720"/>
            <a:ext cx="2376720" cy="2870280"/>
          </a:xfrm>
          <a:custGeom>
            <a:avLst/>
            <a:gdLst>
              <a:gd name="textAreaLeft" fmla="*/ 115920 w 2376720"/>
              <a:gd name="textAreaRight" fmla="*/ 2260800 w 2376720"/>
              <a:gd name="textAreaTop" fmla="*/ 115920 h 2870280"/>
              <a:gd name="textAreaBottom" fmla="*/ 2754360 h 2870280"/>
            </a:gdLst>
            <a:ahLst/>
            <a:rect l="textAreaLeft" t="textAreaTop" r="textAreaRight" b="textAreaBottom"/>
            <a:pathLst>
              <a:path w="21600" h="26085">
                <a:moveTo>
                  <a:pt x="3600" y="0"/>
                </a:moveTo>
                <a:arcTo wR="3600" hR="3600" stAng="16200000" swAng="-5400000"/>
                <a:lnTo>
                  <a:pt x="0" y="22485"/>
                </a:lnTo>
                <a:arcTo wR="3600" hR="3600" stAng="10800000" swAng="-5400000"/>
                <a:lnTo>
                  <a:pt x="18000" y="260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ый метод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9"/>
          <p:cNvSpPr/>
          <p:nvPr/>
        </p:nvSpPr>
        <p:spPr>
          <a:xfrm>
            <a:off x="2971800" y="2852640"/>
            <a:ext cx="2819520" cy="2862360"/>
          </a:xfrm>
          <a:custGeom>
            <a:avLst/>
            <a:gdLst>
              <a:gd name="textAreaLeft" fmla="*/ 130680 w 2819520"/>
              <a:gd name="textAreaRight" fmla="*/ 2688840 w 2819520"/>
              <a:gd name="textAreaTop" fmla="*/ 130680 h 2862360"/>
              <a:gd name="textAreaBottom" fmla="*/ 2731680 h 2862360"/>
            </a:gdLst>
            <a:ahLst/>
            <a:rect l="textAreaLeft" t="textAreaTop" r="textAreaRight" b="textAreaBottom"/>
            <a:pathLst>
              <a:path w="21600" h="21928">
                <a:moveTo>
                  <a:pt x="3421" y="0"/>
                </a:moveTo>
                <a:arcTo wR="3421" hR="3421" stAng="16200000" swAng="-5400000"/>
                <a:lnTo>
                  <a:pt x="0" y="18507"/>
                </a:lnTo>
                <a:arcTo wR="3421" hR="3421" stAng="10800000" swAng="-5400000"/>
                <a:lnTo>
                  <a:pt x="18179" y="21928"/>
                </a:lnTo>
                <a:arcTo wR="3421" hR="3421" stAng="5400000" swAng="-5400000"/>
                <a:lnTo>
                  <a:pt x="21600" y="3421"/>
                </a:lnTo>
                <a:arcTo wR="3421" hR="3421" stAng="0" swAng="-5400000"/>
                <a:close/>
              </a:path>
            </a:pathLst>
          </a:cu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техноло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ного   усво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ноуровне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дульно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0"/>
          <p:cNvSpPr/>
          <p:nvPr/>
        </p:nvSpPr>
        <p:spPr>
          <a:xfrm>
            <a:off x="5943600" y="2849400"/>
            <a:ext cx="2743200" cy="28656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65600"/>
              <a:gd name="textAreaBottom" fmla="*/ 2731680 h 2865600"/>
            </a:gdLst>
            <a:ahLst/>
            <a:rect l="textAreaLeft" t="textAreaTop" r="textAreaRight" b="textAreaBottom"/>
            <a:pathLst>
              <a:path w="21600" h="22564">
                <a:moveTo>
                  <a:pt x="3600" y="0"/>
                </a:moveTo>
                <a:arcTo wR="3600" hR="3600" stAng="16200000" swAng="-5400000"/>
                <a:lnTo>
                  <a:pt x="0" y="18964"/>
                </a:lnTo>
                <a:arcTo wR="3600" hR="3600" stAng="10800000" swAng="-5400000"/>
                <a:lnTo>
                  <a:pt x="18000" y="22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гр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бл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исковые, исследовательски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формационные     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11"/>
          <p:cNvCxnSpPr>
            <a:stCxn id="224" idx="1"/>
          </p:cNvCxnSpPr>
          <p:nvPr/>
        </p:nvCxnSpPr>
        <p:spPr>
          <a:xfrm flipH="1">
            <a:off x="1447560" y="1060560"/>
            <a:ext cx="1197360" cy="646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2" name="Прямая со стрелкой 12"/>
          <p:cNvCxnSpPr>
            <a:stCxn id="224" idx="3"/>
          </p:cNvCxnSpPr>
          <p:nvPr/>
        </p:nvCxnSpPr>
        <p:spPr>
          <a:xfrm>
            <a:off x="6245280" y="1060560"/>
            <a:ext cx="1211760" cy="646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3" name="Прямая со стрелкой 13"/>
          <p:cNvCxnSpPr/>
          <p:nvPr/>
        </p:nvCxnSpPr>
        <p:spPr>
          <a:xfrm>
            <a:off x="4462200" y="1526760"/>
            <a:ext cx="1080" cy="1882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4" name="Прямая со стрелкой 14"/>
          <p:cNvCxnSpPr/>
          <p:nvPr/>
        </p:nvCxnSpPr>
        <p:spPr>
          <a:xfrm>
            <a:off x="4444560" y="2563920"/>
            <a:ext cx="1080" cy="2894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5" name="Прямая со стрелкой 15"/>
          <p:cNvCxnSpPr/>
          <p:nvPr/>
        </p:nvCxnSpPr>
        <p:spPr>
          <a:xfrm>
            <a:off x="7455960" y="2572920"/>
            <a:ext cx="1080" cy="2894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6" name="Прямая со стрелкой 16"/>
          <p:cNvCxnSpPr/>
          <p:nvPr/>
        </p:nvCxnSpPr>
        <p:spPr>
          <a:xfrm>
            <a:off x="1523520" y="2577600"/>
            <a:ext cx="1080" cy="2894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2627280" y="573120"/>
            <a:ext cx="3640320" cy="981000"/>
          </a:xfrm>
          <a:prstGeom prst="rect">
            <a:avLst/>
          </a:prstGeom>
          <a:ln w="0">
            <a:noFill/>
          </a:ln>
        </p:spPr>
      </p:pic>
      <p:sp>
        <p:nvSpPr>
          <p:cNvPr id="238" name="Скругленный прямоугольник 5"/>
          <p:cNvSpPr/>
          <p:nvPr/>
        </p:nvSpPr>
        <p:spPr>
          <a:xfrm>
            <a:off x="457200" y="1706400"/>
            <a:ext cx="234648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ъясните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ллюстр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6"/>
          <p:cNvSpPr/>
          <p:nvPr/>
        </p:nvSpPr>
        <p:spPr>
          <a:xfrm>
            <a:off x="3160800" y="1706400"/>
            <a:ext cx="2630520" cy="863640"/>
          </a:xfrm>
          <a:prstGeom prst="roundRect">
            <a:avLst>
              <a:gd name="adj" fmla="val 16667"/>
            </a:avLst>
          </a:prstGeom>
          <a:solidFill>
            <a:srgbClr val="e69ca4"/>
          </a:soli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ичностно-ориент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7"/>
          <p:cNvSpPr/>
          <p:nvPr/>
        </p:nvSpPr>
        <p:spPr>
          <a:xfrm>
            <a:off x="6094440" y="1700280"/>
            <a:ext cx="2441520" cy="863640"/>
          </a:xfrm>
          <a:prstGeom prst="roundRect">
            <a:avLst>
              <a:gd name="adj" fmla="val 16667"/>
            </a:avLst>
          </a:prstGeom>
          <a:solidFill>
            <a:srgbClr val="e69ca4"/>
          </a:soli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и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8"/>
          <p:cNvSpPr/>
          <p:nvPr/>
        </p:nvSpPr>
        <p:spPr>
          <a:xfrm>
            <a:off x="426960" y="2844720"/>
            <a:ext cx="2376720" cy="2870280"/>
          </a:xfrm>
          <a:custGeom>
            <a:avLst/>
            <a:gdLst>
              <a:gd name="textAreaLeft" fmla="*/ 115920 w 2376720"/>
              <a:gd name="textAreaRight" fmla="*/ 2260800 w 2376720"/>
              <a:gd name="textAreaTop" fmla="*/ 115920 h 2870280"/>
              <a:gd name="textAreaBottom" fmla="*/ 2754360 h 2870280"/>
            </a:gdLst>
            <a:ahLst/>
            <a:rect l="textAreaLeft" t="textAreaTop" r="textAreaRight" b="textAreaBottom"/>
            <a:pathLst>
              <a:path w="21600" h="26085">
                <a:moveTo>
                  <a:pt x="3600" y="0"/>
                </a:moveTo>
                <a:arcTo wR="3600" hR="3600" stAng="16200000" swAng="-5400000"/>
                <a:lnTo>
                  <a:pt x="0" y="22485"/>
                </a:lnTo>
                <a:arcTo wR="3600" hR="3600" stAng="10800000" swAng="-5400000"/>
                <a:lnTo>
                  <a:pt x="18000" y="260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ый метод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9"/>
          <p:cNvSpPr/>
          <p:nvPr/>
        </p:nvSpPr>
        <p:spPr>
          <a:xfrm>
            <a:off x="2971800" y="2852640"/>
            <a:ext cx="2819520" cy="2862360"/>
          </a:xfrm>
          <a:custGeom>
            <a:avLst/>
            <a:gdLst>
              <a:gd name="textAreaLeft" fmla="*/ 130680 w 2819520"/>
              <a:gd name="textAreaRight" fmla="*/ 2688840 w 2819520"/>
              <a:gd name="textAreaTop" fmla="*/ 130680 h 2862360"/>
              <a:gd name="textAreaBottom" fmla="*/ 2731680 h 2862360"/>
            </a:gdLst>
            <a:ahLst/>
            <a:rect l="textAreaLeft" t="textAreaTop" r="textAreaRight" b="textAreaBottom"/>
            <a:pathLst>
              <a:path w="21600" h="21928">
                <a:moveTo>
                  <a:pt x="3421" y="0"/>
                </a:moveTo>
                <a:arcTo wR="3421" hR="3421" stAng="16200000" swAng="-5400000"/>
                <a:lnTo>
                  <a:pt x="0" y="18507"/>
                </a:lnTo>
                <a:arcTo wR="3421" hR="3421" stAng="10800000" swAng="-5400000"/>
                <a:lnTo>
                  <a:pt x="18179" y="21928"/>
                </a:lnTo>
                <a:arcTo wR="3421" hR="3421" stAng="5400000" swAng="-5400000"/>
                <a:lnTo>
                  <a:pt x="21600" y="3421"/>
                </a:lnTo>
                <a:arcTo wR="3421" hR="3421" stAng="0" swAng="-5400000"/>
                <a:close/>
              </a:path>
            </a:pathLst>
          </a:custGeom>
          <a:solidFill>
            <a:srgbClr val="e69ca4"/>
          </a:soli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техноло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ного   усво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ноуровне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дульно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0"/>
          <p:cNvSpPr/>
          <p:nvPr/>
        </p:nvSpPr>
        <p:spPr>
          <a:xfrm>
            <a:off x="5943600" y="2849400"/>
            <a:ext cx="2743200" cy="28656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65600"/>
              <a:gd name="textAreaBottom" fmla="*/ 2731680 h 2865600"/>
            </a:gdLst>
            <a:ahLst/>
            <a:rect l="textAreaLeft" t="textAreaTop" r="textAreaRight" b="textAreaBottom"/>
            <a:pathLst>
              <a:path w="21600" h="22564">
                <a:moveTo>
                  <a:pt x="3600" y="0"/>
                </a:moveTo>
                <a:arcTo wR="3600" hR="3600" stAng="16200000" swAng="-5400000"/>
                <a:lnTo>
                  <a:pt x="0" y="18964"/>
                </a:lnTo>
                <a:arcTo wR="3600" hR="3600" stAng="10800000" swAng="-5400000"/>
                <a:lnTo>
                  <a:pt x="18000" y="22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9ca4"/>
          </a:soli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гр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бл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исковые, исследовательски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формационные     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Прямая со стрелкой 11"/>
          <p:cNvCxnSpPr>
            <a:stCxn id="237" idx="1"/>
            <a:endCxn id="238" idx="0"/>
          </p:cNvCxnSpPr>
          <p:nvPr/>
        </p:nvCxnSpPr>
        <p:spPr>
          <a:xfrm flipH="1">
            <a:off x="1630080" y="1060560"/>
            <a:ext cx="1015200" cy="646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5" name="Прямая со стрелкой 12"/>
          <p:cNvCxnSpPr>
            <a:stCxn id="237" idx="3"/>
          </p:cNvCxnSpPr>
          <p:nvPr/>
        </p:nvCxnSpPr>
        <p:spPr>
          <a:xfrm>
            <a:off x="6244920" y="1060200"/>
            <a:ext cx="1221480" cy="611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6" name="Прямая со стрелкой 13"/>
          <p:cNvCxnSpPr/>
          <p:nvPr/>
        </p:nvCxnSpPr>
        <p:spPr>
          <a:xfrm>
            <a:off x="4462200" y="1526760"/>
            <a:ext cx="1080" cy="1882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7" name="Прямая со стрелкой 14"/>
          <p:cNvCxnSpPr/>
          <p:nvPr/>
        </p:nvCxnSpPr>
        <p:spPr>
          <a:xfrm>
            <a:off x="4444560" y="2563920"/>
            <a:ext cx="1080" cy="2894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8" name="Прямая со стрелкой 15"/>
          <p:cNvCxnSpPr/>
          <p:nvPr/>
        </p:nvCxnSpPr>
        <p:spPr>
          <a:xfrm>
            <a:off x="7465680" y="2599920"/>
            <a:ext cx="1080" cy="2894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9" name="Прямая со стрелкой 16"/>
          <p:cNvCxnSpPr/>
          <p:nvPr/>
        </p:nvCxnSpPr>
        <p:spPr>
          <a:xfrm>
            <a:off x="1614240" y="2569680"/>
            <a:ext cx="1080" cy="2894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03280" y="685440"/>
            <a:ext cx="8183520" cy="518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lnSpc>
                <a:spcPct val="14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Легко вписываются в существующую классно-урочную систем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4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Позволяют достигать поставленных программой и стандартом целей обуч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4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беспечивают внедрение основного направления педагогической стратегии - деятельностного подход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4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беспечивают интеллектуальное развитие детей, их самостоятельность, ориентированность на развитие творческой деятельно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Принципы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педагогических технологи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81080"/>
            <a:ext cx="8183520" cy="3959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lnSpc>
                <a:spcPct val="15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инцип свободы вы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инцип открыт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инцип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инцип обратной связ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инцип идеальности (высокого КП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Verdana"/>
              </a:rPr>
              <a:t>Алгоритм конструирования  урок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Verdana"/>
              </a:rPr>
              <a:t>в рамках системно - деятельностного подход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ставить урок в виде логически законченных модулей с четко определенной целью и планируемым результа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ходя из тематики урока, цели модуля,  с учетом возрастных психологических особенностей развития детей, выбрать педагогический прием или технику из банка прием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подготовки учебных задач на основе материала учебника может быть использован конструктор ситуационных задач Илюш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анализировать полученный сценарий урока с точки зрения системно-деятельностного подхода. Рассмотреть выбранные приемы или техники на предмет использования ИКТ для их реализ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249"/>
              </a:spcBef>
              <a:buClr>
                <a:srgbClr val="771f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ценить КПД урока, опираясь на принцип идеальности: максимальный эффект учебной деятельности учащихся  при минимальной деятельности учите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КОНСТРУКТОР приемов педагогической техники, формирующих универсальные учебные действия учащихс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04920" y="1504800"/>
          <a:ext cx="84582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990360"/>
                <a:gridCol w="990720"/>
                <a:gridCol w="914400"/>
                <a:gridCol w="1066680"/>
                <a:gridCol w="1143000"/>
                <a:gridCol w="914400"/>
                <a:gridCol w="838440"/>
              </a:tblGrid>
              <a:tr h="5414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У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чало уро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яснение нового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епление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аботка ум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втор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машнее зад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кончание уро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9144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ичнос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нтастическая доб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кательная ц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вляй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роченная отгад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ость те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бы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вжи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и прим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альный опр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ое за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ю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 работает на будущ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й себе помоч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квей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ое пись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«Психолог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10778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Регулятив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в случай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утанные логические це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ф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ви ошибку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 решения проб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частный днев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 предсказ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ный конспек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ите ли вы, что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шбоу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ая шпарга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и прим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ы самоконтро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ы самооц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ф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альный опр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 уровня домашнего зад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альное за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ь шляп критического мыш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анал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23048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Познаватель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1224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й опр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не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ци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1224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кус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говой штур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 остановкам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 откры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Л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1224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шбоу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1224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а Б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чение 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т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ем уче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символического ви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1224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ые и тонике 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ц-контро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1224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 – исслед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масси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ычная обыч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1224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-ит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аем домашнее за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12240">
                      <a:solidFill>
                        <a:srgbClr val="c19859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107316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771f28"/>
                          </a:solidFill>
                          <a:latin typeface="Verdana"/>
                        </a:rPr>
                        <a:t>Коммуникатив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1224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провер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-не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й опр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1224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с-конферен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ключевых с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аргум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1224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роченный от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кус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1224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ые и тонике 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ение с расшир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1224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по цепоч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трой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ный от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1224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в НП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1224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«Подводящий итог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1224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1:35:42Z</dcterms:created>
  <dc:creator>КСВУ</dc:creator>
  <dc:description/>
  <dc:language>en-US</dc:language>
  <cp:lastModifiedBy>КСВУ</cp:lastModifiedBy>
  <dcterms:modified xsi:type="dcterms:W3CDTF">2013-01-25T08:56:4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