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B4A-41D0-4680-BD4C-B6A2C48F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0C5-1BEF-44A8-A6C3-7E604BED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F7A-07F7-4C10-B6E6-7DD8D9A6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3D1-3769-4755-9265-E69E14CF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8EF-5E34-4E37-A5D4-6586B1F2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CFD-156C-48F7-99DA-7F4E9643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129-A396-4E88-944C-5DF728A4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B60-532B-465E-8B3E-0CFDB559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0F0-345D-42D5-8818-5BB7ECFC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175-4430-4400-A180-473E3C9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8A8-59C0-47B9-8B65-4C8C5AF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A2B-1DFB-4E1E-9A34-E4BEC4AE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BAD1-F16B-4854-A6D6-BA2B89957E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5660640"/>
            <a:ext cx="57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DS VTCorona Cyr"/>
              </a:rPr>
              <a:t>Civiliza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nse of Identity, basically, religion, which also expands on morals and afterlif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24000" y="3716280"/>
            <a:ext cx="4535640" cy="3027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3998" t="2847" r="0" b="0"/>
          <a:stretch/>
        </p:blipFill>
        <p:spPr>
          <a:xfrm>
            <a:off x="5940360" y="3500280"/>
            <a:ext cx="3203640" cy="335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3714840"/>
            <a:ext cx="209556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0" y="1773360"/>
            <a:ext cx="3492360" cy="196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564000" y="1700280"/>
            <a:ext cx="3024000" cy="20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rcRect l="26267" t="2711" r="19497" b="0"/>
          <a:stretch/>
        </p:blipFill>
        <p:spPr>
          <a:xfrm>
            <a:off x="6643800" y="1268280"/>
            <a:ext cx="23112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5373720"/>
            <a:ext cx="8207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rt and Architecture because the people have evolved enough to relax and to make something to just make something, not for practi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808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92720" y="-4860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Khmer (Southern Asi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492360" y="3103560"/>
            <a:ext cx="5651640" cy="375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494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 &amp; 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40" y="1853640"/>
            <a:ext cx="9107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Глагол Do используется, когда кто-либо совершает действ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занимается какой-либо деятельностью или выполняет какую-либо работ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do a crossword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– разгадывать кроссворд      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do the ironing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– утюжить что-либо</a:t>
            </a:r>
            <a:br>
              <a:rPr sz="1600"/>
            </a:b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do the laundry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– заниматься стиркой             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do the washing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– мыть что-либо</a:t>
            </a:r>
            <a:br>
              <a:rPr sz="1600"/>
            </a:b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do the washing up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– умыв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часто используется, когда речь идет о работе любого пла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do your </a:t>
            </a: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work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– делать </a:t>
            </a: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работу</a:t>
            </a:r>
            <a:br>
              <a:rPr sz="1600"/>
            </a:b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do home</a:t>
            </a: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work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– делать домашнюю </a:t>
            </a: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работу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(домашние задания)</a:t>
            </a:r>
            <a:br>
              <a:rPr sz="1600"/>
            </a:b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do house</a:t>
            </a: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work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– делать </a:t>
            </a: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работу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по дому</a:t>
            </a:r>
            <a:br>
              <a:rPr sz="1600"/>
            </a:b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do your </a:t>
            </a: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job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– делать свою </a:t>
            </a: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работу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(свои обязанност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o в качестве общей иде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Глагол Do используется, когда речь идет о чем-либо в общ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Другими словами, когда необходимо описать какое-либо действ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при этом не называя самого действия. В данном значении гла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часто используется со словами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omething, nothing, anything, everything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I'm not </a:t>
            </a: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doing </a:t>
            </a: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anything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today.   Я сегодня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ничего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не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делаю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. (= Я сегодня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ничем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не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занимаюсь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.)</a:t>
            </a:r>
            <a:br>
              <a:rPr sz="1600"/>
            </a:b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He </a:t>
            </a: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does </a:t>
            </a: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everything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for his mother.   Он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все делает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для своей матери.</a:t>
            </a:r>
            <a:br>
              <a:rPr sz="1600"/>
            </a:b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She's </a:t>
            </a: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doing </a:t>
            </a: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nothing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.  Она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ничего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не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делает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. (= Она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ничем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 не </a:t>
            </a:r>
            <a:r>
              <a:rPr b="0" i="1" lang="es-ES" sz="1600" spc="-1" strike="noStrike">
                <a:solidFill>
                  <a:srgbClr val="a50021"/>
                </a:solidFill>
                <a:latin typeface="Arial"/>
              </a:rPr>
              <a:t>занимается</a:t>
            </a:r>
            <a:r>
              <a:rPr b="0" lang="es-ES" sz="1600" spc="-1" strike="noStrike">
                <a:solidFill>
                  <a:srgbClr val="a50021"/>
                </a:solidFill>
                <a:latin typeface="Arial"/>
              </a:rPr>
              <a:t>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 &amp; 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7552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 Make используется, когда что-либо создается, сооружается, строи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dress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делать (сшить) платье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food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приготовить еду</a:t>
            </a:r>
            <a:br>
              <a:rPr sz="18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cup of tea / coffe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делать (приготовить) чашку чая / коф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ake часто используется, когда речь идет о приготовлении 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make a meal (breakfast / lunch / dinner)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 – приготовить еду (завтрак / обед / уж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несколько устойчивых выражений, в которых всегда используется глагол Mak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е всего их просто выу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rrangements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договориться, устроить что-либо</a:t>
            </a:r>
            <a:br>
              <a:rPr sz="18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believe (to pretend)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притворяться, делать вид</a:t>
            </a:r>
            <a:br>
              <a:rPr sz="18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choic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делать выбор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comment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делать замеч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decision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принять решение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n effort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приложить усилие</a:t>
            </a:r>
            <a:br>
              <a:rPr sz="18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n excus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извиниться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fortun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делать состояние</a:t>
            </a:r>
            <a:br>
              <a:rPr sz="18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friends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подружиться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fuss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поднимать шум</a:t>
            </a:r>
            <a:br>
              <a:rPr sz="18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mess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устроить беспорядок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mistak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делать ошибку</a:t>
            </a:r>
            <a:br>
              <a:rPr sz="18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money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зарабатывать деньги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mov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делать ход</a:t>
            </a:r>
            <a:br>
              <a:rPr sz="18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nois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шуметь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phone call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овершить телефонный звонок</a:t>
            </a:r>
            <a:br>
              <a:rPr sz="18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plan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оставить план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make a promis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– сделать обещание</a:t>
            </a:r>
            <a:br>
              <a:rPr sz="18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make a soun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издать зву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25596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What does the word "civilisation"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How can people learn from the p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What makes up a civilis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eople learn to control society studying the history, don't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Why is it important to develop a code of behavi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What positive aspects of learning from the past can you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Why are archaeologists' discoveries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What do you know about tools of the p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What did the first humans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Did the first humans have a system of val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hat do you want to learn about the p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 Clovis are considered the first humans in Siberia, aren't they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howcard Gothic"/>
              </a:rPr>
              <a:t>Civiliz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B52"/>
              </a:rPr>
              <a:t> </a:t>
            </a:r>
            <a:r>
              <a:rPr b="1" lang="en-US" sz="6000" spc="-1" strike="noStrike">
                <a:solidFill>
                  <a:srgbClr val="a50021"/>
                </a:solidFill>
                <a:latin typeface="B52"/>
              </a:rPr>
              <a:t>is </a:t>
            </a:r>
            <a:r>
              <a:rPr b="1" lang="ru-RU" sz="6000" spc="-1" strike="noStrike">
                <a:solidFill>
                  <a:srgbClr val="a50021"/>
                </a:solidFill>
                <a:latin typeface="B52"/>
              </a:rPr>
              <a:t>a society that has developed its own culture and instit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howcard Gothic"/>
              </a:rPr>
              <a:t>Social institu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B52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52"/>
              </a:rPr>
              <a:t>social institution</a:t>
            </a:r>
            <a:r>
              <a:rPr b="1" lang="en-US" sz="2800" spc="-1" strike="noStrike">
                <a:solidFill>
                  <a:srgbClr val="a50021"/>
                </a:solidFill>
                <a:latin typeface="B52"/>
              </a:rPr>
              <a:t> is an important human organization in a culture group that helps a society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B52"/>
              </a:rPr>
              <a:t>Anthropologists have identifi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52"/>
              </a:rPr>
              <a:t>government, religion, education, economy and family</a:t>
            </a:r>
            <a:r>
              <a:rPr b="1" lang="en-US" sz="2800" spc="-1" strike="noStrike">
                <a:solidFill>
                  <a:srgbClr val="a50021"/>
                </a:solidFill>
                <a:latin typeface="B52"/>
              </a:rPr>
              <a:t> as the five basic social institutions that are necessary for a society to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B52"/>
              </a:rPr>
              <a:t>An easy way to remember the social institutions is by using the initial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52"/>
              </a:rPr>
              <a:t>GREEF</a:t>
            </a:r>
            <a:r>
              <a:rPr b="1" lang="en-US" sz="2800" spc="-1" strike="noStrike">
                <a:solidFill>
                  <a:srgbClr val="a50021"/>
                </a:solidFill>
                <a:latin typeface="B5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 things that make up a civ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askerville Old Face"/>
              </a:rPr>
              <a:t>Politic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askerville Old Face"/>
              </a:rPr>
              <a:t>Economic base: Barter or monetar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askerville Old Face"/>
              </a:rPr>
              <a:t>Social structure: Is everybody equal and certain social n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askerville Old Face"/>
              </a:rPr>
              <a:t>Written Language that is used for record kee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askerville Old Face"/>
              </a:rPr>
              <a:t>Sense of Identity, basically, religion, which also expands on morals and after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askerville Old Face"/>
              </a:rPr>
              <a:t>Art and Architecture because the people have evolved enough to relax and to make something to    just make something, not for practi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95640" y="6120"/>
            <a:ext cx="453708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Polit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narchist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apit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ity-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mmun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ede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eud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ixed ec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ictator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irect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eritoc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arliament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resid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emi-presid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heoc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Government mind map - political doodle graph with various political systems (democracy, monarchy, dictatorship, military regime). Stock Photo - 14340992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V="1" rot="10800000">
            <a:off x="393480" y="5610600"/>
            <a:ext cx="84992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conomic base: Barter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monetary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19640" y="3068640"/>
            <a:ext cx="5580000" cy="2550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2764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05440" cy="337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5877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cial structure: Is everybody equ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ertain social n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9764" t="0" r="0" b="0"/>
          <a:stretch/>
        </p:blipFill>
        <p:spPr>
          <a:xfrm>
            <a:off x="0" y="3213000"/>
            <a:ext cx="3652920" cy="268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72080" y="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Image of social inequality"/>
          <p:cNvPicPr/>
          <p:nvPr/>
        </p:nvPicPr>
        <p:blipFill>
          <a:blip r:embed="rId5"/>
          <a:stretch/>
        </p:blipFill>
        <p:spPr>
          <a:xfrm>
            <a:off x="3419640" y="1989000"/>
            <a:ext cx="2705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8408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ritten Language that is used for        record keeping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3-01-25T14:48:59Z</dcterms:modified>
  <cp:revision>825</cp:revision>
  <dc:subject/>
  <dc:title>Diapositiva 1</dc:title>
</cp:coreProperties>
</file>