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E3BC-1998-4603-91C6-4898B81EA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9F19-A66C-4BC7-927C-307D3D91D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391A-EFD3-420A-A9BE-34D000EB3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E152-DD66-43F7-B7C2-6ADA4458E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F8FC-9A96-481A-89DF-3DC1DAB12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E917-3F21-4C6E-92CA-83D02E68F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C3E6-FCCA-4235-BD8B-9B4A26D05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1E76-06BB-466A-AFBE-5DEBF47F3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37E5-58A7-4842-86A1-FCBE4B06C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9BDD-94DA-40C3-9C01-A78B5A68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36CD-434F-4FBA-BA1C-D91FF6D3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F74C-BC60-4BE5-A1C0-57E1D94B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B0740-0CAF-4AE3-816D-4254C05CED6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1044;&#1077;&#1082;&#1072;&#1073;&#1088;&#1080;&#1089;&#1090;&#1099;.ppt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24362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5391360" y="49334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WordArt 8"/>
          <p:cNvSpPr txBox="1"/>
          <p:nvPr/>
        </p:nvSpPr>
        <p:spPr>
          <a:xfrm>
            <a:off x="0" y="4437000"/>
            <a:ext cx="3059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аботу выполнила: </a:t>
            </a:r>
            <a:endParaRPr b="0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WordArt 9"/>
          <p:cNvSpPr txBox="1"/>
          <p:nvPr/>
        </p:nvSpPr>
        <p:spPr>
          <a:xfrm>
            <a:off x="0" y="5229360"/>
            <a:ext cx="2340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уководитель: </a:t>
            </a:r>
            <a:endParaRPr b="0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2140920" y="5229360"/>
            <a:ext cx="425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лесник Татьяна Николаевн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читель истории и обществозна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987640" y="4437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ч-ца 10 класса МБОУ Сергачской СОШ№4 Польянова Ан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WordArt 12"/>
          <p:cNvSpPr txBox="1"/>
          <p:nvPr/>
        </p:nvSpPr>
        <p:spPr>
          <a:xfrm>
            <a:off x="0" y="765000"/>
            <a:ext cx="917244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«Музеи и мемориальные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ста декабристов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6" descr="24362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Музей декабристов в поселке Новоселенгинск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ткрыт в 1973 году, расположен в доме купца Д. Старцева (XIX в.), экспозиция посвящена истории каторги и ссылки в Забайкалье, основная часть посвящена жизни и деятельности декабристов братьев Бестужевых в Селенгинской Даурии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8" name="Picture 5" descr="ппп"/>
          <p:cNvPicPr/>
          <p:nvPr/>
        </p:nvPicPr>
        <p:blipFill>
          <a:blip r:embed="rId2"/>
          <a:stretch/>
        </p:blipFill>
        <p:spPr>
          <a:xfrm>
            <a:off x="1258920" y="2205000"/>
            <a:ext cx="655308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7" descr="24362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Музей декабристов г. Петровск-Забайкальск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В доме Е. И. Трубецкой. Дом был восстановлен после пожара (1974) с использованием чертежей 1842 года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1" name="Picture 5" descr="248636_original"/>
          <p:cNvPicPr/>
          <p:nvPr/>
        </p:nvPicPr>
        <p:blipFill>
          <a:blip r:embed="rId2"/>
          <a:stretch/>
        </p:blipFill>
        <p:spPr>
          <a:xfrm>
            <a:off x="0" y="3557520"/>
            <a:ext cx="4824360" cy="3300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00e5132c1121"/>
          <p:cNvPicPr/>
          <p:nvPr/>
        </p:nvPicPr>
        <p:blipFill>
          <a:blip r:embed="rId3"/>
          <a:stretch/>
        </p:blipFill>
        <p:spPr>
          <a:xfrm>
            <a:off x="4859280" y="3643200"/>
            <a:ext cx="42847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24362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Площадь Декабристов.(Санкт-Петербург)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ежние названия: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етровская пл. (1770-е — 1920-е гг.), она же Сенатская пл. (1820-е — 1920-е гг.); Исакиевская пл. (20 апреля 1738 — 1753), пл. Декабристов (1923 — 31 июля 2008)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5" name="Picture 6" descr="250px-the_bronze_horseman"/>
          <p:cNvPicPr/>
          <p:nvPr/>
        </p:nvPicPr>
        <p:blipFill>
          <a:blip r:embed="rId2"/>
          <a:stretch/>
        </p:blipFill>
        <p:spPr>
          <a:xfrm>
            <a:off x="1187280" y="2565360"/>
            <a:ext cx="67694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24362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e5ffff"/>
                </a:solidFill>
                <a:uFillTx/>
                <a:latin typeface="Tahoma"/>
              </a:rPr>
              <a:t>Монумент декабристам</a:t>
            </a: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на месте их казни в кронверке Петропавловской крепости (Санкт-Петербург)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8" name="Picture 6" descr="250px-Decembrist_execution_stella"/>
          <p:cNvPicPr/>
          <p:nvPr/>
        </p:nvPicPr>
        <p:blipFill>
          <a:blip r:embed="rId2"/>
          <a:stretch/>
        </p:blipFill>
        <p:spPr>
          <a:xfrm>
            <a:off x="539640" y="1557360"/>
            <a:ext cx="3816360" cy="5084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attach"/>
          <p:cNvPicPr/>
          <p:nvPr/>
        </p:nvPicPr>
        <p:blipFill>
          <a:blip r:embed="rId3"/>
          <a:stretch/>
        </p:blipFill>
        <p:spPr>
          <a:xfrm>
            <a:off x="5003640" y="1916280"/>
            <a:ext cx="31575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" descr="24362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Декабристов остров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      (до 1925 Голодай), в западной части Ленинграда, к северу от Васильевского острова (отделён от него р. Смоленка).</a:t>
            </a: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2" name="Picture 5" descr="800_7a7c593e682afe4a8963d89f87deb262"/>
          <p:cNvPicPr/>
          <p:nvPr/>
        </p:nvPicPr>
        <p:blipFill>
          <a:blip r:embed="rId2"/>
          <a:stretch/>
        </p:blipFill>
        <p:spPr>
          <a:xfrm>
            <a:off x="755640" y="1781280"/>
            <a:ext cx="762012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0" descr="24362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7"/>
          <p:cNvSpPr/>
          <p:nvPr/>
        </p:nvSpPr>
        <p:spPr>
          <a:xfrm>
            <a:off x="1187280" y="0"/>
            <a:ext cx="748836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У́лица Декабри́ст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до 1920-х годов — Александровский проспект) расположена в Центральном жилом районе Екатеринбурга от переулка Университетского (восточная ограда Ново-Тихвинского женского монастыря) до улицы Восточной, проходит (через Ленинский и Октябрьский районы города. Протяженность улицы с запада на восток составляет 3050 м. Современное название было дано улице в память память проезжавших через Екатеринбург декабристов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8" descr="352px-Muziy_SPb_2010_3258"/>
          <p:cNvPicPr/>
          <p:nvPr/>
        </p:nvPicPr>
        <p:blipFill>
          <a:blip r:embed="rId2"/>
          <a:stretch/>
        </p:blipFill>
        <p:spPr>
          <a:xfrm>
            <a:off x="0" y="3789360"/>
            <a:ext cx="3456000" cy="2593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dekabristov_old"/>
          <p:cNvPicPr/>
          <p:nvPr/>
        </p:nvPicPr>
        <p:blipFill>
          <a:blip r:embed="rId3"/>
          <a:stretch/>
        </p:blipFill>
        <p:spPr>
          <a:xfrm>
            <a:off x="3711600" y="3236760"/>
            <a:ext cx="5432400" cy="36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6" descr="24362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Памятник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 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декабристам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 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в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 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Красноярск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"Кандальный путь".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9" name="Picture 5" descr="big_877258"/>
          <p:cNvPicPr/>
          <p:nvPr/>
        </p:nvPicPr>
        <p:blipFill>
          <a:blip r:embed="rId2"/>
          <a:stretch/>
        </p:blipFill>
        <p:spPr>
          <a:xfrm>
            <a:off x="1187280" y="1628640"/>
            <a:ext cx="669636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1" descr="24362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Роща "Декабристов" (Ялу́торовск)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2" name="Picture 8" descr="thumbnail21"/>
          <p:cNvPicPr/>
          <p:nvPr/>
        </p:nvPicPr>
        <p:blipFill>
          <a:blip r:embed="rId2"/>
          <a:stretch/>
        </p:blipFill>
        <p:spPr>
          <a:xfrm>
            <a:off x="5425920" y="4068720"/>
            <a:ext cx="3718080" cy="2789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thumbnail16"/>
          <p:cNvPicPr/>
          <p:nvPr/>
        </p:nvPicPr>
        <p:blipFill>
          <a:blip r:embed="rId3"/>
          <a:stretch/>
        </p:blipFill>
        <p:spPr>
          <a:xfrm>
            <a:off x="2987640" y="1844640"/>
            <a:ext cx="3143160" cy="2357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clip_image014_0009"/>
          <p:cNvPicPr/>
          <p:nvPr/>
        </p:nvPicPr>
        <p:blipFill>
          <a:blip r:embed="rId4"/>
          <a:stretch/>
        </p:blipFill>
        <p:spPr>
          <a:xfrm>
            <a:off x="0" y="4292640"/>
            <a:ext cx="370836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9" descr="24362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362800" cy="18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Монументальный комплекс памяти декабристов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Ялуторовский музейный комплекс, включающий мемориальные дома декабристов Матвея Муравьева-Апостола и Ивана Якушкина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7" name="Picture 5" descr="Историко-мемориальный музей Дом декабриста И"/>
          <p:cNvPicPr/>
          <p:nvPr/>
        </p:nvPicPr>
        <p:blipFill>
          <a:blip r:embed="rId2"/>
          <a:stretch/>
        </p:blipFill>
        <p:spPr>
          <a:xfrm>
            <a:off x="5292720" y="2997360"/>
            <a:ext cx="3344760" cy="2525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Историко-мемориальный музей Дом декабриста М"/>
          <p:cNvPicPr/>
          <p:nvPr/>
        </p:nvPicPr>
        <p:blipFill>
          <a:blip r:embed="rId3"/>
          <a:stretch/>
        </p:blipFill>
        <p:spPr>
          <a:xfrm>
            <a:off x="539640" y="2976480"/>
            <a:ext cx="3384720" cy="254016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7"/>
          <p:cNvSpPr/>
          <p:nvPr/>
        </p:nvSpPr>
        <p:spPr>
          <a:xfrm>
            <a:off x="743760" y="602136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ом декабриста Матве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уравьева-Апостол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5874480" y="6021360"/>
            <a:ext cx="207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ом декабрист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вана Якушки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24362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e5ffff"/>
                </a:solidFill>
                <a:uFillTx/>
                <a:latin typeface="Tahoma"/>
              </a:rPr>
              <a:t>Мост декабристов в Санкт-Петербурге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0" y="415764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  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ст Декабристов через Крюков канал расположен по улице Декабристов. Длина моста 29 м, ширина — 23,3 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  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ервоначальное название Офицерский мост известно с 1798 г. Происходит от наименования Офицерской ул. (ныне ул. Декабристов). В конце XVIII-начале XIX в. название употреблялось также в написании Афицерский мост. На плане 1857г. обозначен и как Тюремный мост или Литовский мост. Название дано в связи с тем, что здесь стоял Литовский замок (не сохранился), в котором находилась тюрьма. Обычно так назывался соседний мост. Переименован 6 октября 1923 г. в мост Декабристов одновременно с переименованием Офицерской у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7" descr="51"/>
          <p:cNvPicPr/>
          <p:nvPr/>
        </p:nvPicPr>
        <p:blipFill>
          <a:blip r:embed="rId2"/>
          <a:stretch/>
        </p:blipFill>
        <p:spPr>
          <a:xfrm>
            <a:off x="5003640" y="1773360"/>
            <a:ext cx="3816360" cy="25430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brKruDec"/>
          <p:cNvPicPr/>
          <p:nvPr/>
        </p:nvPicPr>
        <p:blipFill>
          <a:blip r:embed="rId3"/>
          <a:stretch/>
        </p:blipFill>
        <p:spPr>
          <a:xfrm>
            <a:off x="684360" y="1700280"/>
            <a:ext cx="3456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24362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0" y="1547640"/>
            <a:ext cx="39243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екабри́сты — участники российского дворянского оппозиционного движения, члены различных тайных обществ второй половины 1810-х — первой половины 1820-х, организовавшие антиправительственное восстание 14 декабря 1825 и получившие название по месяцу восстан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первые десятилетия XIX века часть представителей русского дворянства считали самодержавие и крепостное право губительными для дальнейшего развития страны. В их среде складывалась система взглядов, реализация которых должна была изменить устои российской жизн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Декабрис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1" name="Picture 8" descr="x1-V"/>
          <p:cNvPicPr/>
          <p:nvPr/>
        </p:nvPicPr>
        <p:blipFill>
          <a:blip r:embed="rId3"/>
          <a:stretch/>
        </p:blipFill>
        <p:spPr>
          <a:xfrm>
            <a:off x="3983040" y="2781360"/>
            <a:ext cx="5160960" cy="35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" descr="24362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Иркутский областной историко-мемориальный музей декабристов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— музей в Иркутске в усадебных комплексах декабристов С. П. Трубецкого и С. Г. Волконского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4" name="Picture 5" descr="музей в иркутске"/>
          <p:cNvPicPr/>
          <p:nvPr/>
        </p:nvPicPr>
        <p:blipFill>
          <a:blip r:embed="rId2"/>
          <a:stretch/>
        </p:blipFill>
        <p:spPr>
          <a:xfrm>
            <a:off x="0" y="1413000"/>
            <a:ext cx="5184720" cy="3889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20111214_volkonskie"/>
          <p:cNvPicPr/>
          <p:nvPr/>
        </p:nvPicPr>
        <p:blipFill>
          <a:blip r:embed="rId3"/>
          <a:stretch/>
        </p:blipFill>
        <p:spPr>
          <a:xfrm>
            <a:off x="4500720" y="3517920"/>
            <a:ext cx="446400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7" descr="24362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Ялуторовский музейный комплекс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— музей в Ялуторовске (Тюменская область), посвящённый участникам движения декабристов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8" name="Picture 5" descr="ялутовский музей декабристов"/>
          <p:cNvPicPr/>
          <p:nvPr/>
        </p:nvPicPr>
        <p:blipFill>
          <a:blip r:embed="rId2"/>
          <a:stretch/>
        </p:blipFill>
        <p:spPr>
          <a:xfrm>
            <a:off x="0" y="1700280"/>
            <a:ext cx="4753080" cy="3583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музей декабристов в Ялуторовске,"/>
          <p:cNvPicPr/>
          <p:nvPr/>
        </p:nvPicPr>
        <p:blipFill>
          <a:blip r:embed="rId3"/>
          <a:stretch/>
        </p:blipFill>
        <p:spPr>
          <a:xfrm>
            <a:off x="4370400" y="3278160"/>
            <a:ext cx="477360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24362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362800" cy="16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Музей декабристов (Бурятия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еревянный двухэтажный особняк с колоннами и балконами с двух сторон. В музее хранятся уникальные старинные вещи, мебель, Святой крест, диарама "Старый и Новый Селенгинск", доломон солдата Иркутского пехотного полка 1824 г.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2" name="Picture 5" descr="i"/>
          <p:cNvPicPr/>
          <p:nvPr/>
        </p:nvPicPr>
        <p:blipFill>
          <a:blip r:embed="rId2"/>
          <a:stretch/>
        </p:blipFill>
        <p:spPr>
          <a:xfrm>
            <a:off x="1619280" y="2349360"/>
            <a:ext cx="6119640" cy="40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24362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Музей «Церковь декабристов»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—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филиал Забайкальского краевого краеведческого музея им. А.К. Кузнецова, располагается в деревянном здании бывшей Михайло-Архангельской церкви возведенной в 1776 году на пожертвования горожан в Чите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5" name="Picture 5" descr="200px-Decabrists_church"/>
          <p:cNvPicPr/>
          <p:nvPr/>
        </p:nvPicPr>
        <p:blipFill>
          <a:blip r:embed="rId2"/>
          <a:stretch/>
        </p:blipFill>
        <p:spPr>
          <a:xfrm>
            <a:off x="1619280" y="2097000"/>
            <a:ext cx="590400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24362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Туринский дом-музей декабристов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4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7 декабря 1983 года состоялось официальное торжественное открытие Дома-музея декабристов в присутствии прямых потомков рода Ивашевых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8" name="Picture 4" descr="info-dekabristy-s"/>
          <p:cNvPicPr/>
          <p:nvPr/>
        </p:nvPicPr>
        <p:blipFill>
          <a:blip r:embed="rId2"/>
          <a:stretch/>
        </p:blipFill>
        <p:spPr>
          <a:xfrm>
            <a:off x="1692360" y="2276640"/>
            <a:ext cx="6335640" cy="42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7" descr="24362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Музей декабристов в г. Минусинске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День 18 июня 1877 года и является днем основания музея – «чуда Сибири», как его потом называли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1" name="Picture 5" descr="_140"/>
          <p:cNvPicPr/>
          <p:nvPr/>
        </p:nvPicPr>
        <p:blipFill>
          <a:blip r:embed="rId2"/>
          <a:stretch/>
        </p:blipFill>
        <p:spPr>
          <a:xfrm>
            <a:off x="250920" y="1628640"/>
            <a:ext cx="4681440" cy="3511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minusinsk-musei-dekabristov"/>
          <p:cNvPicPr/>
          <p:nvPr/>
        </p:nvPicPr>
        <p:blipFill>
          <a:blip r:embed="rId3"/>
          <a:stretch/>
        </p:blipFill>
        <p:spPr>
          <a:xfrm>
            <a:off x="4500720" y="3213000"/>
            <a:ext cx="4243320" cy="31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24362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362800" cy="18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Музей декабриста В. Ф. Раевского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узей поэта, декабриста, героя Отечественной войны 1812 года В. Ф. Раевского (1795 - 1872) в селе Богословка Губкинского района Белгородской области. Здание музея расположено на территории бывшей дворянской усадьбы семьи Раевских.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5" name="Picture 4" descr="Музей декабриста В"/>
          <p:cNvPicPr/>
          <p:nvPr/>
        </p:nvPicPr>
        <p:blipFill>
          <a:blip r:embed="rId2"/>
          <a:stretch/>
        </p:blipFill>
        <p:spPr>
          <a:xfrm>
            <a:off x="1187280" y="2276640"/>
            <a:ext cx="6264360" cy="41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7:00:54Z</dcterms:created>
  <dc:creator>User</dc:creator>
  <dc:description/>
  <dc:language>en-US</dc:language>
  <cp:lastModifiedBy>ADMIN</cp:lastModifiedBy>
  <dcterms:modified xsi:type="dcterms:W3CDTF">2013-01-20T14:52:26Z</dcterms:modified>
  <cp:revision>16</cp:revision>
  <dc:subject/>
  <dc:title>Декабристы</dc:title>
</cp:coreProperties>
</file>