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25.jpeg" ContentType="image/jpeg"/>
  <Override PartName="/ppt/media/image22.gif" ContentType="image/gif"/>
  <Override PartName="/ppt/media/image18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36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3.jpeg" ContentType="image/jpeg"/>
  <Override PartName="/ppt/media/image4.png" ContentType="image/png"/>
  <Override PartName="/ppt/media/image6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3BD3-94FA-4A55-A9F4-90FC6F3D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F0FD-BA82-4F34-A2A4-1DFD69B9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AF86-ABB5-4D32-A92B-1C0251F6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C5D0-C66A-4C05-812A-015CDD87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73C-28F8-48C5-BE9E-0D70741F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8AED-B7EA-4857-A7A0-BECB3F8D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F36-2B8A-4E59-A61B-69AE101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F3B-46BD-4BEA-A272-0B06DA58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97C3-A91D-4755-A9A8-34BC6F62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4756-6AAF-4388-94B4-9E10DE35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AFD-26AB-4552-99D8-0B57489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86E5-B9DB-43D3-87E2-6F871EB7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13B-43D2-429E-BB73-C7143E8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C2C-DE68-44A0-BC63-017991CE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F135-4CD0-4785-9168-1F64916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66E8-9A0E-4EEE-9FB7-DA0AE5F9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9340-E1E5-4772-8915-A8423064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CEEC-4501-4C5F-B42A-5F19A84F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3C00-1446-4F85-9D28-73911C2A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268B-A5B6-4876-B3EB-2464CFAA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671F-A64E-4020-B821-F157D805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721F-B8AD-4C3F-85B1-32CAE79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55D7-5229-431F-BCF1-75EA9E4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451E-013A-4A98-A356-28373C2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A6C-11A5-4E15-B2A4-FFAFF1C1BB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F13F-5DC7-4329-B514-895C565642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366kpl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2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64"/>
          <p:cNvPicPr/>
          <p:nvPr/>
        </p:nvPicPr>
        <p:blipFill>
          <a:blip r:embed="rId2"/>
          <a:stretch/>
        </p:blipFill>
        <p:spPr>
          <a:xfrm>
            <a:off x="1476360" y="-5317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64"/>
          <p:cNvPicPr/>
          <p:nvPr/>
        </p:nvPicPr>
        <p:blipFill>
          <a:blip r:embed="rId3"/>
          <a:stretch/>
        </p:blipFill>
        <p:spPr>
          <a:xfrm>
            <a:off x="2484360" y="-8190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64"/>
          <p:cNvPicPr/>
          <p:nvPr/>
        </p:nvPicPr>
        <p:blipFill>
          <a:blip r:embed="rId4"/>
          <a:stretch/>
        </p:blipFill>
        <p:spPr>
          <a:xfrm>
            <a:off x="3708360" y="-3873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64"/>
          <p:cNvPicPr/>
          <p:nvPr/>
        </p:nvPicPr>
        <p:blipFill>
          <a:blip r:embed="rId5"/>
          <a:stretch/>
        </p:blipFill>
        <p:spPr>
          <a:xfrm>
            <a:off x="4427640" y="-110808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164"/>
          <p:cNvPicPr/>
          <p:nvPr/>
        </p:nvPicPr>
        <p:blipFill>
          <a:blip r:embed="rId6"/>
          <a:stretch/>
        </p:blipFill>
        <p:spPr>
          <a:xfrm>
            <a:off x="5292720" y="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64"/>
          <p:cNvPicPr/>
          <p:nvPr/>
        </p:nvPicPr>
        <p:blipFill>
          <a:blip r:embed="rId7"/>
          <a:stretch/>
        </p:blipFill>
        <p:spPr>
          <a:xfrm>
            <a:off x="6300720" y="-74772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64"/>
          <p:cNvPicPr/>
          <p:nvPr/>
        </p:nvPicPr>
        <p:blipFill>
          <a:blip r:embed="rId8"/>
          <a:stretch/>
        </p:blipFill>
        <p:spPr>
          <a:xfrm>
            <a:off x="7308720" y="-31608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64"/>
          <p:cNvPicPr/>
          <p:nvPr/>
        </p:nvPicPr>
        <p:blipFill>
          <a:blip r:embed="rId9"/>
          <a:stretch/>
        </p:blipFill>
        <p:spPr>
          <a:xfrm>
            <a:off x="7956720" y="-24300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64"/>
          <p:cNvPicPr/>
          <p:nvPr/>
        </p:nvPicPr>
        <p:blipFill>
          <a:blip r:embed="rId10"/>
          <a:stretch/>
        </p:blipFill>
        <p:spPr>
          <a:xfrm>
            <a:off x="539640" y="-5317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164"/>
          <p:cNvPicPr/>
          <p:nvPr/>
        </p:nvPicPr>
        <p:blipFill>
          <a:blip r:embed="rId11"/>
          <a:stretch/>
        </p:blipFill>
        <p:spPr>
          <a:xfrm>
            <a:off x="-468360" y="-458640"/>
            <a:ext cx="1440000" cy="2857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0" y="333360"/>
            <a:ext cx="69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Уже давно закончилась вой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Но не для Вас, седые ветеран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И в сердце вашем не зажили ран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Так много унесла с собой 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Мы поздравляем с Днем Победы В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Желаем долгой жизни и здоров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Вам, обагрившим нашу землю кро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И сохранившим Родину для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Сталинградская битва, разгром армии Паулю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зрушены горо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4" descr="s2"/>
          <p:cNvPicPr/>
          <p:nvPr/>
        </p:nvPicPr>
        <p:blipFill>
          <a:blip r:embed="rId1"/>
          <a:stretch/>
        </p:blipFill>
        <p:spPr>
          <a:xfrm>
            <a:off x="684360" y="1413000"/>
            <a:ext cx="77770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жжены деревни и сёл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4" descr="Телегиной на месте сожжённого немцами их дома в селе Сучкино 1943 г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1702"/>
          <p:cNvPicPr/>
          <p:nvPr/>
        </p:nvPicPr>
        <p:blipFill>
          <a:blip r:embed="rId1"/>
          <a:stretch/>
        </p:blipFill>
        <p:spPr>
          <a:xfrm>
            <a:off x="4660920" y="0"/>
            <a:ext cx="4483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5280" y="765000"/>
            <a:ext cx="3166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Велика Россия, а отступать некуда – позади Москв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7" descr="v_ogon"/>
          <p:cNvPicPr/>
          <p:nvPr/>
        </p:nvPicPr>
        <p:blipFill>
          <a:blip r:embed="rId2"/>
          <a:stretch/>
        </p:blipFill>
        <p:spPr>
          <a:xfrm>
            <a:off x="468360" y="4811760"/>
            <a:ext cx="25574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7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4" descr="2181"/>
          <p:cNvPicPr/>
          <p:nvPr/>
        </p:nvPicPr>
        <p:blipFill>
          <a:blip r:embed="rId1"/>
          <a:stretch/>
        </p:blipFill>
        <p:spPr>
          <a:xfrm>
            <a:off x="0" y="-162000"/>
            <a:ext cx="9360000" cy="7020000"/>
          </a:xfrm>
          <a:prstGeom prst="rect">
            <a:avLst/>
          </a:prstGeom>
          <a:ln w="0">
            <a:noFill/>
          </a:ln>
        </p:spPr>
      </p:pic>
      <p:pic>
        <p:nvPicPr>
          <p:cNvPr id="172" name="левитан голос.mp3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307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324000" y="476280"/>
            <a:ext cx="49687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2aa6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1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2aa6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79280" y="3357720"/>
            <a:ext cx="8713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шных, мучительных дне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Picture 4" descr="Орден «Великая Победа»"/>
          <p:cNvPicPr/>
          <p:nvPr/>
        </p:nvPicPr>
        <p:blipFill>
          <a:blip r:embed="rId1"/>
          <a:stretch/>
        </p:blipFill>
        <p:spPr>
          <a:xfrm>
            <a:off x="5724360" y="333360"/>
            <a:ext cx="2946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55640" y="260280"/>
            <a:ext cx="5761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гиб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0" y="1844640"/>
            <a:ext cx="8604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27 000 00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1258920" y="5013360"/>
            <a:ext cx="61214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арад победы на Красной площад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4" descr="i31"/>
          <p:cNvPicPr/>
          <p:nvPr/>
        </p:nvPicPr>
        <p:blipFill>
          <a:blip r:embed="rId1"/>
          <a:stretch/>
        </p:blipFill>
        <p:spPr>
          <a:xfrm>
            <a:off x="611280" y="160164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96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1042920" y="0"/>
            <a:ext cx="7416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Ради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1332000" y="4437000"/>
            <a:ext cx="72738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2aa68"/>
                </a:solidFill>
                <a:latin typeface="Impact"/>
              </a:rPr>
              <a:t>на земл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2aa68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Photo17"/>
          <p:cNvPicPr/>
          <p:nvPr/>
        </p:nvPicPr>
        <p:blipFill>
          <a:blip r:embed="rId1"/>
          <a:stretch/>
        </p:blipFill>
        <p:spPr>
          <a:xfrm>
            <a:off x="457200" y="1681200"/>
            <a:ext cx="4038480" cy="4368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545"/>
          <p:cNvPicPr/>
          <p:nvPr/>
        </p:nvPicPr>
        <p:blipFill>
          <a:blip r:embed="rId2"/>
          <a:srcRect l="0" t="0" r="50550" b="69627"/>
          <a:stretch/>
        </p:blipFill>
        <p:spPr>
          <a:xfrm>
            <a:off x="4932360" y="189000"/>
            <a:ext cx="3887640" cy="3087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p-2-3"/>
          <p:cNvPicPr/>
          <p:nvPr/>
        </p:nvPicPr>
        <p:blipFill>
          <a:blip r:embed="rId3"/>
          <a:stretch/>
        </p:blipFill>
        <p:spPr>
          <a:xfrm>
            <a:off x="5003640" y="3500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koleno"/>
          <p:cNvPicPr/>
          <p:nvPr/>
        </p:nvPicPr>
        <p:blipFill>
          <a:blip r:embed="rId1"/>
          <a:stretch/>
        </p:blipFill>
        <p:spPr>
          <a:xfrm>
            <a:off x="0" y="0"/>
            <a:ext cx="4951440" cy="6669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i11291-image-big.jpg"/>
          <p:cNvPicPr/>
          <p:nvPr/>
        </p:nvPicPr>
        <p:blipFill>
          <a:blip r:embed="rId2"/>
          <a:stretch/>
        </p:blipFill>
        <p:spPr>
          <a:xfrm>
            <a:off x="5219640" y="4314960"/>
            <a:ext cx="3571920" cy="2543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Rectangle 10"/>
          <p:cNvSpPr/>
          <p:nvPr/>
        </p:nvSpPr>
        <p:spPr>
          <a:xfrm>
            <a:off x="5003640" y="333360"/>
            <a:ext cx="39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f25a"/>
                </a:solidFill>
                <a:latin typeface="Tahoma"/>
              </a:rPr>
              <a:t>Победа в Великой Отечественной войне — подвиг и слава нашего народа. Как бы ни менялись за последние годы оценки и даже факты нашей истории, 9 мая — День Победы — остается неизменным.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f25a"/>
                </a:solidFill>
                <a:latin typeface="Tahoma"/>
              </a:rPr>
              <a:t>Вечная слава победителя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9" descr="Рисунок2.png"/>
          <p:cNvPicPr/>
          <p:nvPr/>
        </p:nvPicPr>
        <p:blipFill>
          <a:blip r:embed="rId1"/>
          <a:stretch/>
        </p:blipFill>
        <p:spPr>
          <a:xfrm>
            <a:off x="250920" y="115920"/>
            <a:ext cx="1996920" cy="674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Рисунок 5" descr="255755.jpg"/>
          <p:cNvPicPr/>
          <p:nvPr/>
        </p:nvPicPr>
        <p:blipFill>
          <a:blip r:embed="rId2"/>
          <a:stretch/>
        </p:blipFill>
        <p:spPr>
          <a:xfrm>
            <a:off x="2556000" y="549360"/>
            <a:ext cx="6337080" cy="452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9" name="Рисунок 4" descr="13218.jpg"/>
          <p:cNvPicPr/>
          <p:nvPr/>
        </p:nvPicPr>
        <p:blipFill>
          <a:blip r:embed="rId3"/>
          <a:stretch/>
        </p:blipFill>
        <p:spPr>
          <a:xfrm>
            <a:off x="7740720" y="3716280"/>
            <a:ext cx="981000" cy="12542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"/>
          <p:cNvSpPr/>
          <p:nvPr/>
        </p:nvSpPr>
        <p:spPr>
          <a:xfrm>
            <a:off x="2270520" y="5589720"/>
            <a:ext cx="68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чная слава и память героя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258765.jpg"/>
          <p:cNvPicPr/>
          <p:nvPr/>
        </p:nvPicPr>
        <p:blipFill>
          <a:blip r:embed="rId1"/>
          <a:stretch/>
        </p:blipFill>
        <p:spPr>
          <a:xfrm>
            <a:off x="1979640" y="0"/>
            <a:ext cx="4951440" cy="7588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7"/>
          <p:cNvSpPr/>
          <p:nvPr/>
        </p:nvSpPr>
        <p:spPr>
          <a:xfrm>
            <a:off x="2050920" y="198900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Девятое мая – великая дат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Кто знает, что было б тогда, в сорок пя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Когда бы и прадеды наши и д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Для нас не добыли великой Побед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Вечный огонь"/>
          <p:cNvPicPr/>
          <p:nvPr/>
        </p:nvPicPr>
        <p:blipFill>
          <a:blip r:embed="rId1"/>
          <a:stretch/>
        </p:blipFill>
        <p:spPr>
          <a:xfrm>
            <a:off x="-324000" y="0"/>
            <a:ext cx="1058544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7" descr="1363.jpg"/>
          <p:cNvPicPr/>
          <p:nvPr/>
        </p:nvPicPr>
        <p:blipFill>
          <a:blip r:embed="rId1"/>
          <a:stretch/>
        </p:blipFill>
        <p:spPr>
          <a:xfrm>
            <a:off x="5867280" y="333360"/>
            <a:ext cx="268776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Picture 10" descr="1941"/>
          <p:cNvPicPr/>
          <p:nvPr/>
        </p:nvPicPr>
        <p:blipFill>
          <a:blip r:embed="rId2"/>
          <a:stretch/>
        </p:blipFill>
        <p:spPr>
          <a:xfrm>
            <a:off x="611280" y="836640"/>
            <a:ext cx="3025800" cy="60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Picture 12" descr="1943"/>
          <p:cNvPicPr/>
          <p:nvPr/>
        </p:nvPicPr>
        <p:blipFill>
          <a:blip r:embed="rId3"/>
          <a:stretch/>
        </p:blipFill>
        <p:spPr>
          <a:xfrm>
            <a:off x="1763640" y="2924280"/>
            <a:ext cx="3529080" cy="706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7" name="Picture 11" descr="1942"/>
          <p:cNvPicPr/>
          <p:nvPr/>
        </p:nvPicPr>
        <p:blipFill>
          <a:blip r:embed="rId4"/>
          <a:stretch/>
        </p:blipFill>
        <p:spPr>
          <a:xfrm>
            <a:off x="1258920" y="1916280"/>
            <a:ext cx="3313080" cy="66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Picture 13" descr="1944"/>
          <p:cNvPicPr/>
          <p:nvPr/>
        </p:nvPicPr>
        <p:blipFill>
          <a:blip r:embed="rId5"/>
          <a:stretch/>
        </p:blipFill>
        <p:spPr>
          <a:xfrm>
            <a:off x="3708360" y="3860640"/>
            <a:ext cx="2160720" cy="809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Picture 14" descr="1945"/>
          <p:cNvPicPr/>
          <p:nvPr/>
        </p:nvPicPr>
        <p:blipFill>
          <a:blip r:embed="rId6"/>
          <a:stretch/>
        </p:blipFill>
        <p:spPr>
          <a:xfrm>
            <a:off x="5724360" y="4869000"/>
            <a:ext cx="2376720" cy="871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6284E-006 C -0.00799 0.01066 -0.01701 0.02131 -0.02101 0.03475 C -0.025 0.04935 -0.02708 0.06673 -0.02899 0.0841 C -0.03108 0.10148 -0.02899 0.11608 -0.02708 0.13206 C -0.025 0.14689 -0.02205 0.16288 -0.01493 0.17609 C -0.00903 0.18953 0.00104 0.20018 0.01198 0.20829 C 0.02205 0.21617 0.03403 0.2215 0.04601 0.22428 C 0.05799 0.22683 0.06997 0.22683 0.08108 0.22428 C 0.09306 0.2215 0.10399 0.21478 0.11302 0.20412 C 0.12205 0.19485 0.13004 0.18281 0.13403 0.16821 C 0.13906 0.15477 0.14097 0.13624 0.14097 0.12141 C 0.14201 0.10681 0.14097 0.08943 0.13594 0.07484 C 0.13108 0.0614 0.12205 0.05074 0.11007 0.04541 C 0.09792 0.04147 0.08594 0.0468 0.07795 0.05607 C 0.07101 0.06534 0.06597 0.08016 0.06493 0.09731 C 0.06493 0.11469 0.06597 0.13067 0.07101 0.14411 C 0.07604 0.15755 0.075 0.1601 0.09497 0.17748 C 0.11302 0.19624 0.13108 0.19092 0.14201 0.19207 C 0.15295 0.19207 0.16198 0.18675 0.17292 0.18142 C 0.18507 0.17493 0.19497 0.16288 0.20208 0.15222 C 0.20903 0.14156 0.21198 0.12813 0.21597 0.10681 C 0.21892 0.08549 0.21892 0.07484 0.21892 0.05862 C 0.21892 0.04263 0.21892 0.02664 0.21892 0.01066 E">
                                      <p:cBhvr>
                                        <p:cTn id="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2195640" y="333360"/>
            <a:ext cx="4680000" cy="329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1" name="Rectangle 6"/>
          <p:cNvSpPr/>
          <p:nvPr/>
        </p:nvSpPr>
        <p:spPr>
          <a:xfrm>
            <a:off x="179280" y="436572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кая Отечественная война прошла в своем развитии 3 крупных период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) начальный период (22 июня 1941 года-18 ноября 1942 года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) период коренного перелома (19 ноября 1942 года - конец 1943 года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) период освобождения от агрессора и разгрома фашисткой Германии (1944 год – 9 мая 1945 год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священная войн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5703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bf25a"/>
                </a:solidFill>
                <a:latin typeface="Tahoma"/>
              </a:rPr>
              <a:t>Неповторимая «катюша»</a:t>
            </a:r>
            <a:r>
              <a:rPr b="1" lang="ru-RU" sz="3800" spc="-1" strike="noStrike">
                <a:solidFill>
                  <a:srgbClr val="c00000"/>
                </a:solidFill>
                <a:latin typeface="Tahom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41"/>
          <p:cNvPicPr/>
          <p:nvPr/>
        </p:nvPicPr>
        <p:blipFill>
          <a:blip r:embed="rId1"/>
          <a:stretch/>
        </p:blipFill>
        <p:spPr>
          <a:xfrm>
            <a:off x="2627280" y="907920"/>
            <a:ext cx="2449440" cy="213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Rectangle 6"/>
          <p:cNvSpPr/>
          <p:nvPr/>
        </p:nvSpPr>
        <p:spPr>
          <a:xfrm>
            <a:off x="250920" y="3429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легендарной «катюше» - боевой машине реактивной артиллерии – кажется, известно все. О создании и применении БМ-13 написаны книги, сняты фильмы. Тем не менее в тени остался такой небезынтересный вопрос: почему немецким оружейным конструкторам так и не удалось воспроизвести подобное по мощи и эффективности супер оруж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наменитый залп катюш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Picture 4" descr="курская дуга2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8:49Z</dcterms:created>
  <dc:creator>яна</dc:creator>
  <dc:description/>
  <dc:language>en-US</dc:language>
  <cp:lastModifiedBy>яна</cp:lastModifiedBy>
  <dcterms:modified xsi:type="dcterms:W3CDTF">2013-01-25T11:37:25Z</dcterms:modified>
  <cp:revision>15</cp:revision>
  <dc:subject/>
  <dc:title>Слайд 1</dc:title>
</cp:coreProperties>
</file>