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0E5-8B4B-4645-B96D-B520D5C5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5C7-5B01-45C0-8F47-8D00B649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260-52C3-4A14-956F-C57CB414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005-CF5C-4229-BD05-743BA174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0B11-5023-4813-8573-CC2F380A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766F-D0A5-4D39-8A21-91618EE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81DC-5336-49E6-9E8B-F0F24CF9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D49-B2C5-478B-9481-F9698FE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200F-4F9A-4F04-A788-A0BD972E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4CA1-D427-4761-BF7D-B815033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AF6C-5A46-4C95-B3E8-F26EE44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A71-1AB6-46F5-96C4-F4137A82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40AC-B225-434B-9947-3FBFEA4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2F2C-9A40-4191-8757-888DE100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CFA-36B1-43C8-88A5-D1001F05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1A7A-62A8-4BE7-858E-DB965467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3F23-7A70-4B4C-8273-5A079EB6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445E-B19B-4F41-96E1-FED06053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9727-0CD3-433A-A49B-2BCBC6DA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4C4F-1E90-497D-BED0-9D64533D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6D1D-DBE3-4333-B26F-A0A936EA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C29E-0DD8-4655-A2CF-F9B79593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CC9-118D-41BF-9227-E9D8070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21CD-5FBB-43E0-8AB3-B0B0E034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C0A7-7ED0-4342-B810-D8510C26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A591-128A-4CAC-81D9-D835533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8CE8-3B51-4F48-A304-FCCAA53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4A60-7F95-4DE0-AC8B-DB602766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980D-1102-4B52-A871-B88351BA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E474-7658-4CEB-9D55-624F209D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2664-8874-45BD-B937-B9A17D84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DBE0-3E03-4391-AD8F-318BCCB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002C-2BDE-49FB-BC2D-90691842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747-11DF-4422-B423-E9E1B167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7651A-9EDF-47B1-9BA9-D5849F39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2F1C5-D560-4EAD-9EFA-7B2E821B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6482-2FF8-49D6-B4C2-C2DE9DD6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A3683-2757-452F-A93A-AE8E54C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3DF4-7554-4BF6-B9ED-AF14F812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2E25-750B-4DB7-995A-7AE6CC0A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65DD-44DA-495A-BC37-02F09670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9CA1-AD83-4C63-821E-849BBE8D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C0807-B9E2-4F3B-8051-831C8953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437F-6741-49C1-B9F7-5644402F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3D1-BDC3-469E-9B92-39122A1F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D0EF-7996-41B8-A33D-87204A03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96D2-4451-4E0E-A4DE-C85BF943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3ACE-7A28-4B2D-9C3F-DF27A4DA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5646-E8FD-45ED-92B9-1E7FA296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81814-23FC-4DC9-9681-71F5B8B5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F188-71E6-4340-A919-D78E066F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4907-A8FB-4964-AAAA-96F2251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2BFD-AFCB-4347-8BB1-1F325495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3C5A1-0194-4209-916B-D6B4D31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CD722-1716-4C9B-96BC-0BEDB303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88E-A5DA-4F7E-8C07-7D441D54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7CD6-0DE6-4071-BCE1-40493A48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EB04-BD26-4E6C-9C85-DB1E5140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A7F9-BCD8-4923-AAD4-83AA64BC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6B386-7C3F-4F7D-9D71-CC54ED4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5C447-AF9E-4CC3-B7B2-B23EAFCF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5A207-D96A-490D-9377-EC33F1CA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F6F5D-BDE9-46EC-A14A-404E6086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7173B-E3DD-4DA1-94CA-103CB524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8C5F-E886-49C8-943D-58570FB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7C571-9E1A-40EE-89E0-54934DD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001-AA70-4B39-A173-889B4CC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8EE2-6A99-4D44-B230-4CE18EA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AE055-2C6F-48E0-ADC3-CB89BF2E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FFCD-F1E1-4B7B-A49D-EA4EE862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3624-CCEC-4219-8D2D-349A28B1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DCBA-B5BE-45D1-9452-54096B90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E3540-36D2-4CBA-A662-EC1DBE89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3B767-6856-4742-908E-EB4FFF36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6C18F-D64C-4D3D-920E-49DF406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EE5FF-BFE2-44BD-877D-70D32CE1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34EA8-70B7-4274-811A-5FA9170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93C-C7F0-4614-B380-2513B39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EC6D0-EB9A-4833-82AC-40787723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66376-E7B8-4EA6-92D0-EDF11EC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48F54-0D3D-42CD-A3E3-F4B4B096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132DC-CFBB-4536-B58F-EA475AD6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CCFD7-1E95-44EE-91AE-7B9E20D0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E3E-5AEB-4283-8CF5-7984437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DCCA-EF37-4976-8C0D-69A9CACEDE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1B6E-72CD-4431-A8D3-9D7C831203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FE3D-B8CF-48F5-A5D0-E71879ACFAD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C4D0-BC53-4122-92D1-2530B988AB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3AD0-311B-46D5-B822-48FB643B5F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0E4D-4098-4A32-9BB7-946529DC29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55BB-ACBA-437B-BE47-E0EAA59C5C1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cheba.ru/vuz/6285/" TargetMode="External"/><Relationship Id="rId2" Type="http://schemas.openxmlformats.org/officeDocument/2006/relationships/hyperlink" Target="http://www.chsu.ru/" TargetMode="External"/><Relationship Id="rId3" Type="http://schemas.openxmlformats.org/officeDocument/2006/relationships/hyperlink" Target="mailto:chsu@chsu.ru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7499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                  </a:t>
            </a:r>
            <a:r>
              <a:rPr b="0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МАОУ СОШ №2   г. Кировград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Arial"/>
                <a:ea typeface="Arial"/>
              </a:rPr>
              <a:t>конкурс творческих проектов «Антология профессий»</a:t>
            </a:r>
            <a:br>
              <a:rPr sz="5900"/>
            </a:b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Тема: «Физик-ядерщик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618920" y="5157720"/>
            <a:ext cx="72435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у выполнила Кузнецова Кс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ца 9 «А» класс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13 год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3429000" cy="2226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Способнос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налитические способности (умение получать и обрабатывать нужную информацию, оценивать, сравнивать и усваивать е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клонность к рациональному, логическому анализу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тематические способ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налитические способ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орошее развитие мнемических способностей (долговременная и кратковременная память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сокий уровень концентрации внимания (способность сосредоточиваться на одном предмете или виде деятельности в течение длительного времен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Личностные качества, интересы и склонност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клонность к научно-исследовательск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амоорганизован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юбознатель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ветствен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амостоятель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моциональная устойчив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клонность к анализу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ремление к преодолению ошибок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мение хранить тайну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витая интуиция (умение делать правильные выводы из недостаточных данных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5" descr="http://im7-tub-ru.yandex.net/i?id=292088362-43-72&amp;n=21"/>
          <p:cNvPicPr/>
          <p:nvPr/>
        </p:nvPicPr>
        <p:blipFill>
          <a:blip r:embed="rId1"/>
          <a:stretch/>
        </p:blipFill>
        <p:spPr>
          <a:xfrm>
            <a:off x="6513480" y="1785960"/>
            <a:ext cx="2320920" cy="278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Качества, препятствующие эффективности профессиональной деятельности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развитость аналитического мышления и математических способносте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организованность, неумение сконцентрироваться на решаемой задач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рациональность, неосторожность, неосмотрительност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моциональная неустойчивост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умение хранить тайн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5" descr="http://im7-tub-ru.yandex.net/i?id=115950886-68-72&amp;n=21"/>
          <p:cNvPicPr/>
          <p:nvPr/>
        </p:nvPicPr>
        <p:blipFill>
          <a:blip r:embed="rId1"/>
          <a:stretch/>
        </p:blipFill>
        <p:spPr>
          <a:xfrm>
            <a:off x="1000080" y="257184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Области применения профессиональных знаний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644480" y="1356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укоемкие производства (атомные электростанции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аборатории при научно-исследовательских институтах и академиях нау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овательные учреждения (вуз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Где можно получить профессию?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ий государственный университет имени М.Ю.Ломоносо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1"/>
              </a:rPr>
              <a:t>Новосибирский государственный университе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йт вуз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0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2"/>
              </a:rPr>
              <a:t>http://www.chsu.ru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вуз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д основа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1996 г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дрес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162600, Череповец Вологодской обл., Луначарского, 5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лефон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(8202) 55-65-97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акс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(8202) 55-65-97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ая почта: </a:t>
            </a:r>
            <a:r>
              <a:rPr b="1" lang="ru-RU" sz="20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3"/>
              </a:rPr>
              <a:t>chsu@chsu.r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5" descr="http://im4-tub-ru.yandex.net/i?id=440869617-03-72&amp;n=21"/>
          <p:cNvPicPr/>
          <p:nvPr/>
        </p:nvPicPr>
        <p:blipFill>
          <a:blip r:embed="rId4"/>
          <a:stretch/>
        </p:blipFill>
        <p:spPr>
          <a:xfrm>
            <a:off x="6643800" y="285768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«Реакторы не ошибаются. Ошибаются люди.» </a:t>
            </a:r>
            <a:br>
              <a:rPr sz="36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ядерной энергетике не может быть ошибок, иначе последствия будут ужасным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Рисунок 13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4068720" cy="378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Прежде всего, это неблагоприятное воздействие на организм человека.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учевая болезнь - заболевание, возникающее в результате воздействия различных видов ионизирующих излучений характеризующаяся симптомокомплексом, зависящим от вида поражающего излучения, его дозы, локализации источника радиоактивных веществ, распределения дозы во времени и теле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амое страшное то, что болезнь передается по наследству, это значит, что у человека, страдающего лучевой болезнью, последующие поколения, тоже будут больны. Особенно остро радиация воздействует на делящиеся клетки, поэтому она особенно опасна для 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5" descr="http://im5-tub-ru.yandex.net/i?id=260080466-48-72&amp;n=21"/>
          <p:cNvPicPr/>
          <p:nvPr/>
        </p:nvPicPr>
        <p:blipFill>
          <a:blip r:embed="rId1"/>
          <a:stretch/>
        </p:blipFill>
        <p:spPr>
          <a:xfrm>
            <a:off x="357120" y="52862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Последствия облучения включают в себя</a:t>
            </a:r>
            <a:br>
              <a:rPr sz="18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115640" y="1196640"/>
            <a:ext cx="7488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клеротические процесс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лучевую катаракту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радиоканцерогенез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окращение продолжительност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жизн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нарушение обмена вещест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инфекционные заболева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злокачественные опухол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лейкоз; рак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мутац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нервно-психические расстройств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удороги, потеря созна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расстройства слух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расстройства реч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изменения в половой системе, бесплод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вестибулярные расстройств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тремор рук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5643720" y="1643040"/>
            <a:ext cx="3241440" cy="2301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71360" y="285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обные казусы происходят во всех областях ядерной физики. И так будет до тех пор, пока человек не разберется в самых мельчайших подробностях устройства мира, который его окружает. Главный парадокс науки состоит именно в том, что этого не случится никогд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4" descr="http://im2-tub-ru.yandex.net/i?id=9653854-14-72&amp;n=21"/>
          <p:cNvPicPr/>
          <p:nvPr/>
        </p:nvPicPr>
        <p:blipFill>
          <a:blip r:embed="rId1"/>
          <a:stretch/>
        </p:blipFill>
        <p:spPr>
          <a:xfrm>
            <a:off x="1357200" y="4572000"/>
            <a:ext cx="1847880" cy="1428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о не только отрицательное несет в себе ядерная энергия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71360" y="2642760"/>
            <a:ext cx="62910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Bradley Hand ITC"/>
              </a:rPr>
              <a:t>Применение 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radley Hand ITC"/>
              </a:rPr>
              <a:t>ядерной энергии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Рисунок 2" descr=""/>
          <p:cNvPicPr/>
          <p:nvPr/>
        </p:nvPicPr>
        <p:blipFill>
          <a:blip r:embed="rId1"/>
          <a:stretch/>
        </p:blipFill>
        <p:spPr>
          <a:xfrm>
            <a:off x="5572080" y="4143240"/>
            <a:ext cx="3241800" cy="230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Физик-ядерщик 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т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пециалист, эксплуатирующий и контролирующий работу оборудования АЭС, ядерных и термоядерных установок различного назначения. Профессия требует от специалиста преимущественно интеллектуальных затрат. Профессиональная деятельность, прежде всего, подразумевает осуществление контроля, поиск ошибок, выявление и устранение их причин. Специалист осуществляет деятельность как в помещении (пункте управления, рабочем кабинете, лаборатории), так и вне помещения. Для успешного выполнения деятельности необходим обмен информацией с коллегами. Обычно профессиональное общение происходит непосредственно, с помощью технических средств связ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5" descr="http://im0-tub-ru.yandex.net/i?id=31189250-01-72&amp;n=21"/>
          <p:cNvPicPr/>
          <p:nvPr/>
        </p:nvPicPr>
        <p:blipFill>
          <a:blip r:embed="rId1"/>
          <a:stretch/>
        </p:blipFill>
        <p:spPr>
          <a:xfrm>
            <a:off x="571680" y="52149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E5DB-6AE1-4947-8377-56CE4DD337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Атомная энергетика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6" descr="2072b"/>
          <p:cNvPicPr/>
          <p:nvPr/>
        </p:nvPicPr>
        <p:blipFill>
          <a:blip r:embed="rId1"/>
          <a:stretch/>
        </p:blipFill>
        <p:spPr>
          <a:xfrm>
            <a:off x="380880" y="1219320"/>
            <a:ext cx="3934080" cy="53337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Безымянный"/>
          <p:cNvPicPr/>
          <p:nvPr/>
        </p:nvPicPr>
        <p:blipFill>
          <a:blip r:embed="rId2"/>
          <a:stretch/>
        </p:blipFill>
        <p:spPr>
          <a:xfrm>
            <a:off x="4572000" y="1219320"/>
            <a:ext cx="4114800" cy="53337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8"/>
          <p:cNvSpPr/>
          <p:nvPr/>
        </p:nvSpPr>
        <p:spPr>
          <a:xfrm>
            <a:off x="1524600" y="2133720"/>
            <a:ext cx="5915520" cy="2836080"/>
          </a:xfrm>
          <a:prstGeom prst="rect">
            <a:avLst/>
          </a:prstGeom>
          <a:solidFill>
            <a:srgbClr val="ffffff"/>
          </a:solidFill>
          <a:ln w="4428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radley Hand ITC"/>
              </a:rPr>
              <a:t>Первая АЭС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1954 г.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г. Обнинск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мощность 5000 к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72A-345B-499B-9923-B880879FA8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map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Атомная</a:t>
            </a: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энергетика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4047120" y="1905120"/>
            <a:ext cx="47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ВВЭР –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одо-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одя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э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нергетический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</a:t>
            </a: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еа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4343760" y="2209680"/>
            <a:ext cx="42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РБМК – атомный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е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б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льшой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щ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а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4197240" y="4114800"/>
            <a:ext cx="455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Н – атомный реак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б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ыстрых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йтр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2945520" y="4343400"/>
            <a:ext cx="61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ЭГП – атомны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э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нергетическ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рафитовы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реа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п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ерегрево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99B1-ABDF-4489-9241-0EC516BE65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Атомная энергетика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Picture 5" descr="nigmatulin_ris2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9287-0C69-44D9-A6C0-FC25A3E3B1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В 1955 г. основано МАГАТ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Picture 4" descr="MAGATE"/>
          <p:cNvPicPr/>
          <p:nvPr/>
        </p:nvPicPr>
        <p:blipFill>
          <a:blip r:embed="rId1"/>
          <a:stretch/>
        </p:blipFill>
        <p:spPr>
          <a:xfrm>
            <a:off x="500040" y="928800"/>
            <a:ext cx="8396280" cy="539568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857160" y="838080"/>
            <a:ext cx="7715520" cy="7287480"/>
          </a:xfrm>
          <a:prstGeom prst="rect">
            <a:avLst/>
          </a:prstGeom>
          <a:solidFill>
            <a:srgbClr val="ffff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Corbel"/>
              </a:rPr>
              <a:t>МЕЖДУНАРОДНОЕ АГЕНТСТВО ПО АТОМНО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rbel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Corbel"/>
              </a:rPr>
              <a:t>(МАГАТЭ)</a:t>
            </a:r>
            <a:r>
              <a:rPr b="0" lang="ru-RU" sz="1800" spc="-1" strike="noStrike">
                <a:solidFill>
                  <a:srgbClr val="0000cc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является межправительственной организаци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торая на основе соглашения с ООН  с 1956 г. входит в общ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истему Объединенных Н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АГАТЭ уполномоче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ощрять и поддерживать изучение, развитие и прак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пользование атомной энергии во всем мире в гражданских целя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средничать в обмене услугами и материалами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воими членами по их жела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еспечивать использование материалов, услуг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борудования для развития атомной энергетики в мирных целя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ощрять обмен научной и технической информацией в сфе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ирного использования атомной энерг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дпринимать меры безопасности для предотвра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пользования ядерных материалов в военных целя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месте с отвечающими за эти вопросы органами и институ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истемы ООН определять и устанавливать нормы в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езопасности и охраны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CACDUJWH"/>
          <p:cNvPicPr/>
          <p:nvPr/>
        </p:nvPicPr>
        <p:blipFill>
          <a:blip r:embed="rId2"/>
          <a:stretch/>
        </p:blipFill>
        <p:spPr>
          <a:xfrm>
            <a:off x="214200" y="285840"/>
            <a:ext cx="590760" cy="590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76360" y="1196640"/>
            <a:ext cx="7499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ссмотрев профессии связанные с ядерной физикой я могу сделать вывод, что человек желающий заниматься данными вопросами в жизни и в профессии должен обладать логикой и знаниями, которые можно применить на практике  так, чтобы не нанести вреда себе, окружающим и природ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этому где я буду учитьс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ле окончания школы 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ще не решила.  Но выбор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ужно будет сделать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7" descr="http://im3-tub-ru.yandex.net/i?id=168239221-59-72&amp;n=21"/>
          <p:cNvPicPr/>
          <p:nvPr/>
        </p:nvPicPr>
        <p:blipFill>
          <a:blip r:embed="rId1"/>
          <a:stretch/>
        </p:blipFill>
        <p:spPr>
          <a:xfrm>
            <a:off x="5857920" y="3911760"/>
            <a:ext cx="2976480" cy="26604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История профессии</a:t>
            </a:r>
            <a:br>
              <a:rPr sz="39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42560" y="1052280"/>
            <a:ext cx="78915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же в1896 году А. Беккерель открыл явление радиоактивности. А в период с 1911 по 1932 год было установлено следующе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в центре атома находится тяжелое положительно заряженное ядро ничтожно малого по сравнению с атомом размера, в котором сосредоточена почти вся масса атом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атомное ядро состоит из протонов и нейтрон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935 году предложена идея ядерных сил, удерживающих эти частицы в ядре. В дальнейшем в ядерной физике определилось несколько направлений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ка ядерных реакци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йтронная физи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ядерная спектроскопия и д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http://im0-tub-ru.yandex.net/i?id=98546125-70-72&amp;n=21"/>
          <p:cNvPicPr/>
          <p:nvPr/>
        </p:nvPicPr>
        <p:blipFill>
          <a:blip r:embed="rId1"/>
          <a:stretch/>
        </p:blipFill>
        <p:spPr>
          <a:xfrm>
            <a:off x="7215120" y="49291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3" descr="http://im4-tub-ru.yandex.net/i?id=67125650-50-72&amp;n=21"/>
          <p:cNvPicPr/>
          <p:nvPr/>
        </p:nvPicPr>
        <p:blipFill>
          <a:blip r:embed="rId1"/>
          <a:stretch/>
        </p:blipFill>
        <p:spPr>
          <a:xfrm>
            <a:off x="5580000" y="3573360"/>
            <a:ext cx="3564000" cy="3284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826920" y="259920"/>
            <a:ext cx="7848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611617"/>
                </a:solidFill>
                <a:latin typeface="Corbel"/>
              </a:rPr>
              <a:t>Изучение деления ядер в 1940- 1950-х годах привело к открытию цепных реакций на деления ядер урана, созданию ядерных реакторов (Э. Ферми, 1942), ядерной энергетики и ядерного оружия. Был открыт также термоядерный синтез легких ядер в звездах, создано термоядерное оружие, начаты работы по осуществлению управляемого термоядерного синтеза. Результаты и методы исследования ядерной физики получили применение,                                          как в других областях физики,                                            так и в химии, биологии,                                                  геологии, технике,                                                            медицине и д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03280" y="90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ядерной физики привело к необходимости решения проблем, связанных с воздействием радиации на природную среду и человека, захоронением ядерных отходов и т. п., что стимулировало развитие разных профессий, в том числе и той, которая получила название "физик-ядерщик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офессиограмма физик-ядерщик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Наименование профессии                                            физик-атомщик, физик-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ядерщи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Доминирующий способ мышления                         приложение - диагности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Область базовых знаний №1 и их уровень         физика, химия, математика, уровень 3, высокий(теорет.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Область базовых знаний №2 и их уровень         ядерная физика, электродинамика, уровень 2, средний                  практическое использовани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знани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Профессиональная область                                           физи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Межличностное взаимодействие                               частое по типу "рядом"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Доминирующий интерес                                                  исследовательски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Дополнительный интерес                                                реалистически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Условия работы                                                                      в помещении, сидячи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Доминирующие виды деятельности профессии физик-ядерщик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служивание реакторных зал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нятие показаний приборов, расположенных на реакторах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основе полученных данных вынесение заключения о состоянии атомного реактор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случае необходимости запуск и перезагрузка атомного реакто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Что должен знать физик-ядерщик?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дерная физик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о и технология атомных реактор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актика контроля за работой оборудования, его диагностик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актическая отработка специальных норматив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3" descr="http://im2-tub-ru.yandex.net/i?id=278005377-42-72&amp;n=21"/>
          <p:cNvPicPr/>
          <p:nvPr/>
        </p:nvPicPr>
        <p:blipFill>
          <a:blip r:embed="rId1"/>
          <a:stretch/>
        </p:blipFill>
        <p:spPr>
          <a:xfrm>
            <a:off x="5076720" y="357336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Доминирующие виды деятельности профессии физик-ядерщик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служивание реакторных залов, снятие показаний приборов, расположенных на реакторах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основе полученных данных вынесение заключения о состоянии атомного реактор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случае необходимости запуск и перезагрузка атомного реакто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5" descr="http://im2-tub-ru.yandex.net/i?id=112031337-42-72&amp;n=21"/>
          <p:cNvPicPr/>
          <p:nvPr/>
        </p:nvPicPr>
        <p:blipFill>
          <a:blip r:embed="rId1"/>
          <a:stretch/>
        </p:blipFill>
        <p:spPr>
          <a:xfrm>
            <a:off x="1143000" y="47386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5:09:06Z</dcterms:created>
  <dc:creator>Titanik</dc:creator>
  <dc:description/>
  <dc:language>en-US</dc:language>
  <cp:lastModifiedBy>шк</cp:lastModifiedBy>
  <dcterms:modified xsi:type="dcterms:W3CDTF">2013-01-24T06:12:42Z</dcterms:modified>
  <cp:revision>60</cp:revision>
  <dc:subject/>
  <dc:title>Слайд 1</dc:title>
</cp:coreProperties>
</file>