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F8F-2370-46BB-907E-D0C30EAC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9A9-3A48-4D6D-A1D5-93490404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8C6-A7AB-446A-AD45-C5A4E508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6A1-6D3C-4545-BAA1-31BFD202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1889-59F8-4698-A86B-DBEFD24C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F7DF-2801-43AC-A959-E66CD2DD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1131-7263-4FB2-A51E-06313FAB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CA13-943F-4554-A023-E397509C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FFE7-0E6B-4672-9498-8FE61801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738E-5E85-43E9-8BEE-619CB342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0E4D-26DC-474A-9C96-479E7AC7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30F0-3D43-4C6B-BBAF-92FDE099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466D-8A46-4F11-AA1C-E8DEEC3D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CCF4-4CB3-4982-B40B-3F27BF78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12C8-C822-408F-8C0B-A9EEAEB0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429B-8D30-4EF3-ABFE-F00E66EA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1B7B-C48D-4665-A45C-F09310F6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9AC-AE02-4378-A2D8-78DFC0D3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5B2-2CAC-44B0-AAD5-42CA2F5E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819-C8E8-4136-B142-45D4ADBE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2F7-92C7-4ABD-96E5-D363D941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364-0406-4407-A739-AF4BC1F1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2DC-0D6F-487F-BCDB-AA7C8A03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4E1-9DC3-44BF-9093-DC252575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22F9-2242-49F3-8DA4-22074BA6D27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A4FE-A58E-47C5-9D1D-1A7B4106A87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3499920"/>
            <a:ext cx="8353440" cy="978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Фонетика</a:t>
            </a: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39640" y="4508640"/>
            <a:ext cx="8064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Гласные и согласные зву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одзаголовок 2"/>
          <p:cNvSpPr/>
          <p:nvPr/>
        </p:nvSpPr>
        <p:spPr>
          <a:xfrm>
            <a:off x="395280" y="26370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3329"/>
                </a:solidFill>
                <a:latin typeface="Arial"/>
              </a:rPr>
              <a:t>Богданова Ольга Александровна, учитель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3329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443329"/>
                </a:solidFill>
                <a:latin typeface="Georgia"/>
              </a:rPr>
              <a:t>МБОУ </a:t>
            </a:r>
            <a:r>
              <a:rPr b="1" lang="en-US" sz="2800" spc="-1" strike="noStrike">
                <a:solidFill>
                  <a:srgbClr val="443329"/>
                </a:solidFill>
                <a:latin typeface="Arial"/>
              </a:rPr>
              <a:t>СОШ №2, г.Куйбыш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Согласными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1828800"/>
            <a:ext cx="871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называются звуки, при образовании которых воздух встречает в полости рта какую-нибудь преграду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05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Согласных звуков  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1800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б]- [б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в]- [в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д]- [д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з]- [з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п]- [п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ф]- [ф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к]- [к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т]- [т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с]- [с 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6372360" y="0"/>
            <a:ext cx="1079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47640" y="112464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68360" y="1268280"/>
            <a:ext cx="1800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л]- [л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м]- [м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н]- [н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р]- [р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г]- [г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х]- [х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ж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ш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щ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27640" y="1197000"/>
            <a:ext cx="1800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ч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ц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й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155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7640" y="32839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47640" y="37155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996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263628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227592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184392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19155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1124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47640" y="407592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76720" y="105192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87640" y="400464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9235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64000" y="2564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227592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35280" y="14835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76720" y="18075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81374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Все согласные звуки делятся на группы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130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звонкие - глухие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деление по участию голоса и шум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арные согласные по звонкости-глухост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84000" y="1916280"/>
            <a:ext cx="331164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[б]- [п 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[в]- [ф 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[д]- [т 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[г]- [к 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[ж]- [ш 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[з]- [с 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02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Непарные звонкие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согласны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348000" y="1988640"/>
            <a:ext cx="194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[р]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[л]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[м]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[н]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[й ]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4284720" y="5372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02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Непарные глухи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соглас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48000" y="1989000"/>
            <a:ext cx="2519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[х]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[ц]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[ч ]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[щ ]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4076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76720" y="105192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5228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181440" y="115560"/>
            <a:ext cx="8496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твёрдые - мягкие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916280"/>
            <a:ext cx="85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различаются положением языка при произношени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828720" y="3429000"/>
            <a:ext cx="928224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вёрдые и мягкие согласные могут различать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дар – удар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гол - у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89840" cy="58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Большинство согласных звуков имеют пары по твёрдости – мягкости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Непарные твёрдые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согласные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348000" y="1989000"/>
            <a:ext cx="2519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[ж]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[ш]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[ц ]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Непарные мягкие согласны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48000" y="1989000"/>
            <a:ext cx="2736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[ч  ]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[щ ]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[й  ]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16995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00720" y="285228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27640" y="3644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125360"/>
            <a:ext cx="6870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раздел русского языка, который изучает звуки и буквы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332000" y="765000"/>
            <a:ext cx="61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Фоне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86407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Мягкость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согласных на письме обозначается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двумя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способами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) с помощью мягкого знака (борьба, огонь)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) с помощью букв е, ё, ю, я (лес, пёс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Тест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Ответьте на вопросы теста, выбрав только один правильный вариант ответа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7885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В каком ряду во всех словах есть ударный гласный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о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ёгкий, сонный, жёлт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ёрствый, дремота, просты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чём, избалованный, огнив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ёткий, донельзя, ёмк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4920" y="151920"/>
            <a:ext cx="7777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В каком ряду во всех словах есть гласный звук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2276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яч, лентяй, рья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ятой, поклон, мя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лянусь, ляжет, тя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едяной, дятел, прого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8920" y="151920"/>
            <a:ext cx="7921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В каком ряду во всех словах произносится звук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ы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Цинк, мыльный, жид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инный, цикл, демонстра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Жестяной, жильцы, цирку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иновник, крыльцо, дыши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51920"/>
            <a:ext cx="8137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. Укажите, в каком слове все согласные звуки твёрды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2276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Жив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Желтиз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Широ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Жерн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. Укажите, в каком слове все согласные мягк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Щурить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исти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ел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Щети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181440" y="404280"/>
            <a:ext cx="8317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. В каком ряду располагаются слова, в которых все согласные звонкие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оль, йод, дружб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ай, браво, драж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город, гурьба, но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Яма, бриз, бо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. В каком ряду располагаются слова, где все согласные глухие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Щука, торопиться, че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Цыц, стог, коси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Шаг, паркет, х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ёс, крот, тос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. В каком ряду во всех словах есть звук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г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ог, город, горо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рб, герань, ро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олова, гамак, доро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лушь, творог, грузчи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86025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наименьшие звуковые единицы, которые мы произносим и слыши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54936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Звуки реч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писок использованных печатных источников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Баронова М.М. Русский язык: полный справочник для подготовки к ГИА/М.М.Баронова. – М.:Астрель, 2013. – 318с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</a:rPr>
              <a:t>Буквы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- условные графические знаки, которые выражают звуки речи на письм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685800" y="152280"/>
            <a:ext cx="8206200" cy="5686200"/>
            <a:chOff x="685800" y="152280"/>
            <a:chExt cx="8206200" cy="5686200"/>
          </a:xfrm>
        </p:grpSpPr>
        <p:cxnSp>
          <p:nvCxnSpPr>
            <p:cNvPr id="161" name="_s9231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5324400" y="1889640"/>
              <a:ext cx="1137600" cy="2210400"/>
            </a:xfrm>
            <a:prstGeom prst="bentConnector3">
              <a:avLst>
                <a:gd name="adj1" fmla="val 106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9229"/>
            <p:cNvCxnSpPr>
              <a:stCxn id="165" idx="0"/>
              <a:endCxn id="163" idx="2"/>
            </p:cNvCxnSpPr>
            <p:nvPr/>
          </p:nvCxnSpPr>
          <p:spPr>
            <a:xfrm flipH="1" flipV="1" rot="5400000">
              <a:off x="3115080" y="1890360"/>
              <a:ext cx="1137600" cy="2209680"/>
            </a:xfrm>
            <a:prstGeom prst="bentConnector3">
              <a:avLst>
                <a:gd name="adj1" fmla="val 106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9225"/>
            <p:cNvSpPr/>
            <p:nvPr/>
          </p:nvSpPr>
          <p:spPr>
            <a:xfrm>
              <a:off x="2894760" y="152280"/>
              <a:ext cx="3787560" cy="22744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300" spc="-1" strike="noStrike">
                  <a:solidFill>
                    <a:srgbClr val="000000"/>
                  </a:solidFill>
                  <a:latin typeface="Comic Sans MS"/>
                </a:rPr>
                <a:t>Звуки </a:t>
              </a:r>
              <a:endParaRPr b="0" lang="en-US" sz="7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300" spc="-1" strike="noStrike">
                  <a:solidFill>
                    <a:srgbClr val="000000"/>
                  </a:solidFill>
                  <a:latin typeface="Comic Sans MS"/>
                </a:rPr>
                <a:t>речи</a:t>
              </a:r>
              <a:endParaRPr b="0" lang="en-US" sz="7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9226"/>
            <p:cNvSpPr/>
            <p:nvPr/>
          </p:nvSpPr>
          <p:spPr>
            <a:xfrm>
              <a:off x="685800" y="3564000"/>
              <a:ext cx="3787560" cy="22744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000000"/>
                  </a:solidFill>
                  <a:latin typeface="Comic Sans MS"/>
                </a:rPr>
                <a:t>Гласные</a:t>
              </a:r>
              <a:endParaRPr b="0" lang="en-US" sz="6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9228"/>
            <p:cNvSpPr/>
            <p:nvPr/>
          </p:nvSpPr>
          <p:spPr>
            <a:xfrm>
              <a:off x="5104440" y="3564000"/>
              <a:ext cx="3787560" cy="22744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Comic Sans MS"/>
                </a:rPr>
                <a:t>Согласные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68709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Гласными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называются звуки, при образовании которых воздух свободно проходит через полость рта, не встречая какой-либо преград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Гласных звуков   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37348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[а]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202320" indent="-20232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[о]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202320" indent="-20232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[э]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2023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2023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4356000" y="1844640"/>
            <a:ext cx="2373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[и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[ы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[ у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59640" y="692280"/>
            <a:ext cx="718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445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Буквы </a:t>
            </a:r>
            <a:br>
              <a:rPr sz="8000"/>
            </a:br>
            <a:r>
              <a:rPr b="0" lang="en-US" sz="8000" spc="-1" strike="noStrike" u="sng">
                <a:solidFill>
                  <a:srgbClr val="ff0000"/>
                </a:solidFill>
                <a:uFillTx/>
                <a:latin typeface="Comic Sans MS"/>
              </a:rPr>
              <a:t>е, ё, ю, я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звуками </a:t>
            </a:r>
            <a:br>
              <a:rPr sz="8000"/>
            </a:br>
            <a:r>
              <a:rPr b="0" lang="en-US" sz="8000" spc="-1" strike="noStrike">
                <a:solidFill>
                  <a:srgbClr val="000066"/>
                </a:solidFill>
                <a:latin typeface="Comic Sans MS"/>
              </a:rPr>
              <a:t>не являются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79214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се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гласные звуки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делятся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на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769608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66"/>
                </a:solidFill>
                <a:latin typeface="Comic Sans MS"/>
              </a:rPr>
              <a:t>ударные,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66"/>
                </a:solidFill>
                <a:latin typeface="Comic Sans MS"/>
              </a:rPr>
              <a:t>безударные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2:27:56Z</dcterms:created>
  <dc:creator>Admin</dc:creator>
  <dc:description/>
  <dc:language>en-US</dc:language>
  <cp:lastModifiedBy>Admin</cp:lastModifiedBy>
  <dcterms:modified xsi:type="dcterms:W3CDTF">2013-01-22T15:52:06Z</dcterms:modified>
  <cp:revision>6</cp:revision>
  <dc:subject/>
  <dc:title>Фонетика</dc:title>
</cp:coreProperties>
</file>