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D94-6A8F-4D2C-AF99-6A83D27D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D0A-7F44-47A9-997D-2195E666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18D-B85D-4BAC-A988-DD1613D1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85D-291D-4354-9287-BA40C8B8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A3A-9F87-4EF7-9249-944A919E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D132-EE1C-4F99-BC26-DBC4E1CD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8DDF-2850-4D6E-BD19-6FB1078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0549-2A72-40CC-9600-DB2F16B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7DC-A639-4DDC-8A92-99B8C66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496-3617-49DE-B308-9A427871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007F-3A38-4E07-B0A8-AA38C9F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D79-3E87-49CF-931D-75ACF4E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63D2-9474-4C64-A35C-E541412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9DB-B25E-42FF-9258-A684A7C4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208F-CBDE-4AED-9C22-5068406A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CF38-0F3B-49E5-B63D-A06FB794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3418-0C2B-4662-9603-37649EF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F248-5272-4C52-B2C7-57EE9795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FF23-AA27-4334-84A5-07188F8C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EB15-290E-427E-ACD7-AA528CA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CAB7-A62E-4DB0-BC3E-3FCD078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CED1-A6CC-4E3A-9849-EAFE4A4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D90-3C79-4E69-865A-0B9E3F6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736C-4705-4B29-A980-BD18115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9B54-4761-4135-80D9-320310A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6973-ECE4-4D8B-B38F-93E515A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65AC-446D-47A1-B406-5699EC3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DE69-0EA4-4F85-B32A-AF3A836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BC50-279D-4811-8A4A-7906A46E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92E9-CE79-47A7-A997-C710D100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600A-EB5B-47C4-B21E-95BEFD98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4642-D749-48AB-9819-2417F8B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2099-7BB2-4306-AE6A-600E1875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FA0-CE25-402B-819E-1ADF9CD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FEC2-AD96-44DD-9FFA-FF98D215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AC36-630A-4CA0-9F90-78D5D5A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8898-3F0B-4DC6-8A86-19E295A5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F8BF-1F5A-4FC5-88C4-B514CBB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CB230-3A0E-4194-89F0-A55361C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4F7B-98EE-4375-9EC9-1EECC51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B507-FE1F-400D-9592-C6F19C1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9E4C-136E-4678-8592-0FEBF1D7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94B4-A67E-429B-9A6B-E22A8DCD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D736-C23A-4B8C-B155-139C8FA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B87-E3B8-4D09-AC48-32576194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5497-0FCE-455B-9506-0130EAF9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E2DD-3E90-422E-BD23-0D551920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5AB8-7060-4856-80AC-7744372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F26C-4291-4B8F-AEB6-8C7D0281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5E982-DD4B-4BE3-B41E-E4DCD31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8D48-DB18-4EC3-B385-06D017C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3807-B101-438B-90B8-F979EAB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55FB4-94C7-4694-A467-37E918D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AB85-D512-4B68-915D-AE63C73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C5FD7-5D5A-4A12-A10B-3C249A1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B4E-FDA9-4054-BC17-43B10A6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0ABA-27FD-4FEA-910E-CB2FA1F2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45D-8E7C-47E9-88C8-8C6D1C1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AFB-E7FC-426F-96E4-96BA5F7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B9F-0639-4F62-98A0-F88E3A5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90D-9CA9-4574-9838-19E695ED64DC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4B02-3D91-4C16-B036-0E9A810F8EED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DE8-0E5D-4EA3-8E5B-4A43191118DB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D9E-C1B6-49AE-94C1-2E825E233638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2A0-20B6-475F-9B0A-88D24C5DD864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3;&#1080;&#1078;&#1085;&#1080;&#1081;_&#1053;&#1086;&#1074;&#1075;&#1086;&#1088;&#1086;&#107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iografii.ru/index.php?name=Meeting&amp;file=anketa&amp;login=Chehov_A_P" TargetMode="External"/><Relationship Id="rId3" Type="http://schemas.openxmlformats.org/officeDocument/2006/relationships/hyperlink" Target="http://www.biografii.ru/index.php?name=Meeting&amp;file=anketa&amp;login=Tolstoi_L_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ografii.ru/index.php?name=Meeting&amp;file=anketa&amp;login=nikolay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7f09"/>
            </a:gs>
            <a:gs pos="100000">
              <a:srgbClr val="9f540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6"/>
          <p:cNvSpPr txBox="1"/>
          <p:nvPr/>
        </p:nvSpPr>
        <p:spPr>
          <a:xfrm>
            <a:off x="1285920" y="857160"/>
            <a:ext cx="692928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иография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аксима Горьког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4292640"/>
            <a:ext cx="7940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полнил: Уймин Дани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ащийся 220 групп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 «Покачевск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фессиональное училище»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64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-360" y="356760"/>
            <a:ext cx="8697960" cy="1668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мерть Горького была окружена атмосферой таинственности, как и смерть его сына — Максима Пешкова. Однако версии о насильственной смерти обоих до сих пор не нашли документального подтверждения. Урна с прахом Горького помещена в Кремлевской стене в Москв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fedor2"/>
          <p:cNvPicPr/>
          <p:nvPr/>
        </p:nvPicPr>
        <p:blipFill>
          <a:blip r:embed="rId1"/>
          <a:stretch/>
        </p:blipFill>
        <p:spPr>
          <a:xfrm>
            <a:off x="642960" y="1857240"/>
            <a:ext cx="7929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0w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71680" y="500040"/>
            <a:ext cx="4643280" cy="53038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5286240" y="428760"/>
            <a:ext cx="335772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́м Го́рьк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акже известный как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лексе́й Макси́мович Го́рьк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родтлся 16 марта 1868 в Нежнем Новгороде, тогда еще Российской империи.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Tahoma"/>
                <a:hlinkClick r:id="rId2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сский писатель, прозаик, драматург. Один из самых значительных и известных в мире русских писателей и мыслетелей. На рубеже XIX и XX веков прославился как автор произведений с революционной тенденцией, лично близкий социал-демократам и находившийся в оппозиции царскому режи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6b9f2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428720" y="404640"/>
            <a:ext cx="4257720" cy="7025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ец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ксим Савватиевич Пешк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1840-1871) — сын солдата, разжалованного из офицеров, столяр-краснодеревщик. В последние годы работал управляющим пароходной конторой, умер от холе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рвара Васильевна Кашири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1842-79) — из мещанской семьи; рано овдовев, вторично вышла замуж, умерла от чахотки. Детство писателя прошло в доме деда Василия Васильевича Каширина, который в молодости бурлачил, затем разбогател, стал владельцем красильного заведения, в старости разорился. Дед обучал мальчика по церковным книгам, бабушка Акулина Ивановна приобщила внука к народным песням и сказкам, но главное — заменила мать, «насытив», по словам самого Горького, «крепкой силой для трудной жизни» («Детство»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2"/>
          <p:cNvPicPr/>
          <p:nvPr/>
        </p:nvPicPr>
        <p:blipFill>
          <a:blip r:embed="rId1"/>
          <a:stretch/>
        </p:blipFill>
        <p:spPr>
          <a:xfrm>
            <a:off x="468360" y="404640"/>
            <a:ext cx="4174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86120" y="475920"/>
            <a:ext cx="4889520" cy="67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b26b02"/>
                </a:solidFill>
                <a:latin typeface="Verdana"/>
              </a:rPr>
              <a:t>          </a:t>
            </a:r>
            <a:r>
              <a:rPr b="1" i="1" lang="ru-RU" sz="1400" spc="-1" strike="noStrike">
                <a:solidFill>
                  <a:srgbClr val="080808"/>
                </a:solidFill>
                <a:latin typeface="Verdana"/>
              </a:rPr>
              <a:t>Настоящего образования Горький не получил, закончив лишь ремесленное училище. Жажда знаний утолялась самостоятельно, он рос «самоучкой». Тяжелая работа (посудник на пароходе, «мальчик» в магазине, ученик в иконописной мастерской, десятник на ярмарочных постройках и др.) и ранние лишения преподали хорошее знание жизни и внушили мечты о переустройстве мира. «Мы в мир пришли, чтобы не соглашаться...» — сохранившийся фрагмент уничтоженной поэмы молодого Пешкова «Песнь старого дуба».</a:t>
            </a:r>
            <a:br>
              <a:rPr sz="1400"/>
            </a:br>
            <a:r>
              <a:rPr b="1" i="1" lang="ru-RU" sz="1400" spc="-1" strike="noStrike">
                <a:solidFill>
                  <a:srgbClr val="080808"/>
                </a:solidFill>
                <a:latin typeface="Verdana"/>
              </a:rPr>
              <a:t>Ненависть к злу и этический максимализм были источником нравственных терзаний. В 1887 году пытался покончить с собой. Принимал участие в революционной пропаганде, «ходил в народ», странствовал по Руси, общался с босяками. Испытал сложные философские влияния: от идей французского Просвещения и материализма И. В. Гете до позитивизма Ж. М. Гюйо, романтизма Дж. Рескина и пессимизма А. Шопенгауэра. В его нижегородской библиотеке рядом с «Капиталом» К. Маркса и «Историческими письмами» П. Л. Лаврова стояли книги Э. Гартмана, М. Штирнера и Ф. Ницш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33"/>
          <p:cNvPicPr/>
          <p:nvPr/>
        </p:nvPicPr>
        <p:blipFill>
          <a:blip r:embed="rId1"/>
          <a:stretch/>
        </p:blipFill>
        <p:spPr>
          <a:xfrm>
            <a:off x="468360" y="476280"/>
            <a:ext cx="3598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43200" y="333000"/>
            <a:ext cx="5500800" cy="759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5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нние произведения Горь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рький начинал как провинциальный газетчик (печатался под именем Иегудиил Хламида). Псевдоним М. Горький (письма и документы подписывал настоящей фамилией — А. Пешков; обозначения «А. М. Горький» и «Алексей Максимович Горький» контаминируют псевдоним с настоящим именем) появился в 1892 в тифлисской газете «Кавказ», где был напечатан первый рассказ «Макар Чудра». В 1895, благодаря помощи В. Г. Короленко, опубликовался в популярнейшем журнале «Русское богатство» (рассказ «Челкаш»). В 1898 в Петербурге вышла книга «Очерки и рассказы», имевшая сенсационный успех. В 1899 появились поэма в прозе «Двадцать шесть и одна» и первая большая повесть «Фома Гордеев». Слава Горького росла с невероятной быстротой и вскоре сравнялась с популярностью </a:t>
            </a:r>
            <a:r>
              <a:rPr b="0" lang="ru-RU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А. П. Чехова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2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Л. Н. Толстог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С самого начала обозначилось расхождение между тем, что писала о Горьком критика, и тем, что желал видеть в нем рядовой читатель. Традиционный принцип толкования произведений с точки зрения заключенного в них социального смысла применительно к раннему Горькому не срабатывал. Читателя меньше всего интересовали социальные аспекты его прозы, он искал и находил в них настроение, созвучное времени. По словам критика М. Протопопова, Горький подменил проблему художественной типизации проблемой «идейного лиризма». Его герои совмещали в себе типические черты, за которыми стояло хорошее знание жизни и литературной традиции, и особого рода «философию», которой автор наделял героев по собственному желанию, не всегда согласуясь с «правдой жизни». Критики в связи с его текстами решали не социальные вопросы и проблемы их литературного отражения, а непосредственно «вопрос о Горьком» и созданном им собирательном лирическом образе, который стал восприниматься как типический для России конца 19 — начала 20 вв. и который критика сравнивала со «сверхчеловеком» Ницше. Все это позволяет, вопреки традиционному взгляду, считать его скорее модернистом, чем реалист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8"/>
          <p:cNvPicPr/>
          <p:nvPr/>
        </p:nvPicPr>
        <p:blipFill>
          <a:blip r:embed="rId4"/>
          <a:stretch/>
        </p:blipFill>
        <p:spPr>
          <a:xfrm>
            <a:off x="179280" y="54936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211640" y="404640"/>
            <a:ext cx="4681440" cy="604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ественная позиция Горького была радикальной. Он не раз подвергался арестам, в 1902 </a:t>
            </a:r>
            <a:r>
              <a:rPr b="0" lang="ru-RU" sz="1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Николай I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распорядился аннулировать его избрание почетным академиком по разряду изящной словесности (в знак протеста Чехов и Короленко вышли из Академии). В 1905 вступил в ряды РСДРП (большевистское крыло) и познакомился с В.И.Лениным. Им оказывалась серьезная финансовая поддержка революции 1905-07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Быстро проявил себя Горький и как талантливый организатор литературного процесса. В 1901 встал во главе издательства товарищества «Знание» и вскоре стал выпускать «Сборники товарищества «Знание», где печатались И. А.Бунин, Л.Н.Андреев, А.И.Куприн, В.В.Вересаев, Е.Н.Чириков, Н.Д.Телешов, А.С.Серафимович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Вершина раннего творчества, пьеса «На дне», в огромной степени обязана своей славой постановке К. С. Станиславского в Московском художественном театре(1902; играли Станиславский, В.И.Качалов, И.М.Москвин, О.Л.Книппер-Чехова и др.) В 1903 в берлинском Kleines Theater состоялось представление «На дне» с Рихардом Валлентином в роли Сатина. Другие пьесы Горького — «Мещане» (1901), «Дачники» (1904), «Дети солнца», «Варвары» (обе 1905), «Враги» (1906) — не имели такого сенсационного успеха в России и Европ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66"/>
          <p:cNvPicPr/>
          <p:nvPr/>
        </p:nvPicPr>
        <p:blipFill>
          <a:blip r:embed="rId2"/>
          <a:stretch/>
        </p:blipFill>
        <p:spPr>
          <a:xfrm>
            <a:off x="250920" y="404640"/>
            <a:ext cx="374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71280" y="549360"/>
            <a:ext cx="7715160" cy="561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орький между двух революций    (1905-191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323232"/>
                </a:solidFill>
                <a:latin typeface="Times New Roman"/>
              </a:rPr>
              <a:t>После поражения революции 1905-07 Горький эмигрировал на остров Капри (Италия). «Каприйский» период творчества заставил пересмотреть сложившееся в критике представление о «конце Горького» (Д. В. Философов), которое было вызвано его увлечениями политической борьбой и идеями социализма, нашедшими отражение в повести «Мать» (1906; вторая редакция 1907). Он создает повести «Городок Окуров» (1909), «Детство» (1913-14), «В людях» (1915-16), цикл рассказов «По Руси» (1912-17). Споры в критике вызвала повесть «Исповедь» (1908),,высоко оцененная А. А. Блоком. В ней впервые прозвучала тема богостроительства, которое Горький с А. В. Луначарским и А. А. Богдановым проповедовал в каприйской партийной школе для рабочих, что вызвало его расхождения с Лениным, ненавидевшим «заигрывание с боженькой».</a:t>
            </a:r>
            <a:br>
              <a:rPr sz="1600"/>
            </a:br>
            <a:r>
              <a:rPr b="1" lang="ru-RU" sz="1600" spc="-1" strike="noStrike">
                <a:solidFill>
                  <a:srgbClr val="323232"/>
                </a:solidFill>
                <a:latin typeface="Times New Roman"/>
              </a:rPr>
              <a:t>Первая мировая война тяжело отразилась на душевном состоянии Горького. Она символизировала начало исторического краха его идеи «коллективного разума», к которой он пришел после разочарования ницшевским индивидуализмом (по мнению Т. Манна, Горький протянул мост от Ницше к социализму). Безграничная вера в человеческий разум, принятая как единственный догмат, не подтверждалась жизнью. Война стала вопиющим примером коллективного безумия, когда Человек был низведен до «окопной вши», «пушечного мяса», когда люди зверели на глазах и разум человеческий был бессилен перед логикой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6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66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427280" y="333000"/>
            <a:ext cx="4716360" cy="63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оды эмиграции Максима Горького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тябрьская революция подтвердила опасения Горького. В «Несвоевременных мыслях» (цикл статей в газете «Новая жизнь»; 1917-18; в 1918 вышли отдельным изданием) он обвинил Ленина в захвате власти и развязывании террора в стране. Но там же назвал русский народ органически жестоким, «звериным» и тем самым если не оправдывал, то объяснял свирепое обращение большевиков с этим народом. Непоследовательность позиции отразилась и в его книге «О русском крестьянстве» (1922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сомненной заслугой Горького была энергичная работа по спасению научной и художественной интеллигенции от голодной смерти и расстрелов, благодарно оцененная современниками (Е. И. Замятин, А. М. Ремизов, В. Ф. Ходасевич, В. Б. Шкловский и др.) Едва ли не ради этого задумывались такие культурные акции, как организация издательства «Всемирная литература», открытие «Дома ученых» и «Дома искусств» (коммун для творческой интеллигенции, описанных в романе О. Д. Форш «Сумасшедший корабль» и книге К. А. Федина «Горький среди нас»). Однако многих писателей (в т. ч. Блока, Н. С. Гумилева) спасти не удалось, что стало одной из основных причин окончательного разрыва Горького с большеви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1921 по 1928 Горький жил в эмиграции, куда отправился после слишком настойчивых советов Ленина. Поселился в Сорренто (Италия), не прерывая связей с молодой советской литературой. Написал цикл «Рассказы 1922-24 годов», «Заметки из дневника» (1924), роман «Дело Артамоновых» (1925), начал работать над романом-эпопеей «Жизнь Клима Самгина» (1925-36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13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4105080" cy="583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140000" y="404640"/>
            <a:ext cx="4824360" cy="604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i="1" lang="ru-RU" sz="1500" spc="-1" strike="noStrike">
                <a:solidFill>
                  <a:srgbClr val="080808"/>
                </a:solidFill>
                <a:latin typeface="Verdana"/>
              </a:rPr>
              <a:t>Возвращение Горького в Советский Союз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80808"/>
                </a:solidFill>
                <a:latin typeface="Verdana"/>
              </a:rPr>
              <a:t>В 1928 Горький совершил «пробную» поездку в Советский Союз (в связи с чествованием, устроенным по поводу его 60-летия), до этого вступив в осторожные переговоры со сталинским руководством. Апофеоз встречи на Белорусском вокзале решил дело; Горький возвратился на родину. Как художник он целиком погрузился в создание «Жизни Клима Самгина», панорамной картины России за сорок лет. Как политик фактически обеспечивал </a:t>
            </a:r>
            <a:r>
              <a:rPr b="0" lang="ru-RU" sz="1500" spc="-1" strike="noStrike">
                <a:solidFill>
                  <a:srgbClr val="8000c0"/>
                </a:solidFill>
                <a:latin typeface="Verdana"/>
              </a:rPr>
              <a:t>Сталину</a:t>
            </a:r>
            <a:r>
              <a:rPr b="0" lang="ru-RU" sz="1500" spc="-1" strike="noStrike">
                <a:solidFill>
                  <a:srgbClr val="080808"/>
                </a:solidFill>
                <a:latin typeface="Verdana"/>
              </a:rPr>
              <a:t> моральное прикрытие перед лицом мирового сообщества. Его многочисленные статьи создавали апологетический образ вождя и молчали о подавлении в стране свободы мысли и искусства — фактах, о которых Горький не мог не знать. Он встал во главе создания коллективной писательской книги, воспевшей строительство заключенными Беломорско-Балтийского канала им. Сталина. Организовал и поддерживал множество предприятий: издательство «Аcademia», книжные серии «История фабрик и заводов», «История гражданской войны», журнал «Литературная учеба», а также Литературный институт, затем названный его именем. В 1934 возглавил Союз писателей СССР, созданный по его инициатив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43:11Z</dcterms:created>
  <dc:creator>Aдминистратор</dc:creator>
  <dc:description/>
  <dc:language>en-US</dc:language>
  <cp:lastModifiedBy>Нина Николаевна</cp:lastModifiedBy>
  <dcterms:modified xsi:type="dcterms:W3CDTF">2012-12-12T09:03:22Z</dcterms:modified>
  <cp:revision>13</cp:revision>
  <dc:subject/>
  <dc:title>Слайд 1</dc:title>
</cp:coreProperties>
</file>