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19E-3AA3-4BF9-BB86-824DB47C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4F7-0EC1-488C-812B-2853F015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40A-B053-47AE-B03E-C50EEB7E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9DDF-0894-46F2-B53A-96B7DA5C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E799-2EC0-46B4-8C0E-597ED7FA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49EB-96A4-4E8A-804C-03A9A2C0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7190-21E6-444B-94B4-69A8968E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0785-60B5-44F9-BC72-02B1D2E5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3423-6D75-41B1-8719-8CA699DC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0E24-66F2-4B98-9CB0-A3E6C07C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5903-A0F9-4E64-9352-A983C70C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466C-DA3E-4DF6-88FA-34D11499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B548-7FFB-4065-84C2-700FBE7C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5D9F-DFB4-4FC6-B172-DA6D8388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B4BB-179E-4F0D-B6CF-085AAB66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B19C-3044-4980-8E7E-40D3E182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21DF-91F8-4DEC-BFEA-D474917E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900B8-64CD-4DBD-8F4E-207FC372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14736-389F-4B14-8188-8BA8F825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9F175-4809-4FEE-A5CC-D135D02B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3E310-0C85-40CA-857B-C3D6C7DC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998E0-DC6B-4C37-9C85-4C734333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8ABA-9EF2-4D97-BC2E-D9AC784F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F4190-E53A-46D2-A283-7F4241C0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BA7B7-130A-46E2-96A1-AF2EB1CE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D8F9D-A481-43D2-AD5C-11B4C6A9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89342-CE5B-4E32-9179-7B086BDE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D2A23-E13F-494A-9614-BC575EE9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AFD62C-7C0B-4A11-859C-4AFA837E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3C9B1-E232-4205-A45C-A68F6FD0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D883E-543C-4687-8D48-62A91D26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D263F-16D4-4171-83DD-FA8256F9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19946-E130-429E-B060-BEA9BD06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540-8924-41C4-A6FF-D0534455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DAE23-DF1B-433B-9547-AA6786EA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FA879-D55D-4B89-B761-1132768D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8B3DE-2FD3-4A68-8EBF-8D7B0B3D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6FDFD-ACD0-4D91-B4F2-0B242CCC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86A1C-86E4-4C8C-B7B3-18DB06F3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DEED2-F7D9-4282-9868-BD94DC77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B0D4B-86C5-4269-916C-E46EF23F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4D225-DC50-4CFD-9E3A-BD2EEF60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46647-AA5D-43A2-8B7F-4B776AF5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8D2A43-F9CC-4625-971C-639F5DF0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A5C3-19D9-4584-AF1F-9D9AAF2F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AAA2C4-1A9F-4DDA-B15A-D0456D1F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213E08-96E7-4DF6-8C6F-758D253C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3E42B9-3666-47BE-A49E-9B4B2E2D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F11934-D3DB-439F-A92B-70483FC5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75E7C4-1710-4762-B0E1-338E1E30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1076DD-F828-4DA1-98EF-4B32EDA4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053239-4DB2-492E-B70D-8C8BBC3F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B0B18-51F6-4EF4-85A8-3016AEF6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4E821A-666B-4545-9B0A-392CAEC1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52674-BB65-44F5-9A37-95E35C2B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AAFC-194C-4651-8624-3339B3F4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378404-3DFD-4580-A5E1-8676BDB4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2D4908-C9C8-453F-B782-349F13C2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665E4C-46D5-4DED-BC81-D4700F3E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84AC85-88E6-4E70-B5EF-C3E7D739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AFE1A7-F09C-4F22-A672-E8C99531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FB67D-F996-4CC8-9584-229085E1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A8BBCE-A3A6-468E-A4B9-E31A69CE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B52E3E-E9AC-41E6-8068-0485AAA9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3C0884-1149-412B-98AC-D6854813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13F40B-108B-4097-B4B8-99129A69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4629-A118-440E-91CD-C869D058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59B90C-25BD-48D4-9FB9-9A92952C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D81E96-1B76-4C92-8999-058EEDD7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3ECF6F-CFD8-43E9-A31B-8851E5B3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9AC242-9B92-4B9F-948F-486D9CE1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992B8F-6B60-49E4-B429-1F1E7E8B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6AB798-7994-41B9-92CB-9B9FD741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93D1FB-A252-4DCF-A5A0-324FC975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17A4B0-FD0B-43D8-A371-F4838468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030692-7D1C-4C5D-987F-59E0A61F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46CC01-3CC6-48C6-839C-77E12D78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D22-8CC4-4657-A9FC-CDE3D179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754F8E-5A0E-45DD-ACDC-701E43DF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B4570B-8EDA-4F0F-BDEE-E936D021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FE670A-2393-4A1B-8B66-94BA4128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7F6083-7B4F-4D41-9421-796320F0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BBD3A8-137A-496C-A5C1-BF20BF8F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8F34-9625-483B-B466-C64EA64A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81A8-B609-41B8-BA2F-22B1A4A08CC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C0C3-A268-47C7-9491-5D944CFF285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E9FF-A4EF-479E-BF84-F5487433E2F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413E-D5AD-4CE0-92E8-7A027B83399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203C-D0BC-485A-8B7D-C507E098F16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38D7-1C7D-4561-94AE-3AD14E36039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E224-F4F7-4D6C-903B-3070EE5A46C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f497d"/>
                </a:solidFill>
                <a:latin typeface="Century Schoolbook"/>
              </a:rPr>
              <a:t>ГРАММАТИЧЕСКИЕ НОРМЫ СОВРЕМЕННОГО РУССКОГО ЯЗЫКА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entury Schoolbook"/>
              </a:rPr>
              <a:t>Готовимся к ЕГЭ. Решаем А4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1332000" y="42228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entury Schoolbook"/>
              </a:rPr>
              <a:t>Родионова А.П., учитель русского языка и литературы МБОУ «Средняя общеобразовательная школа  №1» Елабужского муниципального райо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entury Schoolbook"/>
              </a:rPr>
              <a:t>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075520" cy="60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) Готовясь к уроку, мне попалась интересная книга. 2) В ней писатель, размышляя об охране природы, советует каждому начинать с себя и даёт хорошие рекомендации. 3)Обсудив  книгу в классе,  советы автора нам подошли. 4) Мы решили завести дневник и, отмечая в нём даты полезных дел, выполнить рекомендации автора. 5) Прикладывая определённые усилия, природа будет сохранен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81bd"/>
                </a:solidFill>
                <a:latin typeface="Century Schoolbook"/>
              </a:rPr>
              <a:t>1. Грамотно ли написан этот текст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81bd"/>
                </a:solidFill>
                <a:latin typeface="Century Schoolbook"/>
              </a:rPr>
              <a:t>2. Как называются ошибки, допущенные автором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81bd"/>
                </a:solidFill>
                <a:latin typeface="Century Schoolbook"/>
              </a:rPr>
              <a:t>3. Сколько их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81bd"/>
                </a:solidFill>
                <a:latin typeface="Century Schoolbook"/>
              </a:rPr>
              <a:t>4. Пожалуйста, отредактируйте текс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f497d"/>
                </a:solidFill>
                <a:latin typeface="Century Schoolbook"/>
              </a:rPr>
              <a:t>ДОМАШНЕЕ ЗАДАНИЕ: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907560"/>
            <a:ext cx="746748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Попробуйте самостоятельно составить алгоритм выполнения задания А6. Составьте к алгоритму таблицу или карту, подобную той, что мы заполняли на уроке. Подготовьте варианты задания для своих однокласснико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f497d"/>
                </a:solidFill>
                <a:latin typeface="Century Schoolbook"/>
              </a:rPr>
              <a:t>РЕКОМЕНДУЕМАЯ ЛИТЕРАТУРА ДЛЯ ПОДГОТОВКИ К УРОКУ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Всё для ЕГЭ. Книги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/ Мальцева Л.И., Смеречинская Н.М. Ростов-на-Дону, 2013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Русский язык. ЕГЭ 2013 / С.В.Драбкина, Д.И.Субботин. М: «Интелект-Центр», 2013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f497d"/>
                </a:solidFill>
                <a:latin typeface="Century Schoolbook"/>
              </a:rPr>
              <a:t>ЦЕЛИ УРОКА: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052280"/>
            <a:ext cx="778680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расширить представление о грамматической норме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формировать умение работать по алгоритму при выполнении задания А4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тимулировать развитие способности к самостоятельной работе с информацией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entury Schoolbook"/>
              </a:rPr>
              <a:t>ЗАДАЧИ:</a:t>
            </a:r>
            <a:endParaRPr b="0" lang="en-US" sz="4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125000"/>
            <a:ext cx="746748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повторить изученный ранее материал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научиться работать по алгоритму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научиться видеть грамматические ошибки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выявить пробелы в знания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6840" y="549000"/>
            <a:ext cx="746748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«Подъезжая к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 станции и глядя на природу в окно, у меня слетела шляпа»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И.Ярмонкин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(Из рассказа  А.П.Чехов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«Жалобная книга»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2"/>
          <p:cNvSpPr/>
          <p:nvPr/>
        </p:nvSpPr>
        <p:spPr>
          <a:xfrm>
            <a:off x="755640" y="404640"/>
            <a:ext cx="705636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 нормам, общим для устной и письменной речи, относятся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лексические нормы;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грамматические нормы;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стилистические нормы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мматические норм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елятся на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ловообразовательные, морфологические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 синтаксически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f497d"/>
                </a:solidFill>
                <a:latin typeface="Century Schoolbook"/>
              </a:rPr>
              <a:t>ЗАДАНИЕ  А4</a:t>
            </a:r>
            <a:br>
              <a:rPr sz="3000"/>
            </a:b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50560" y="1125000"/>
            <a:ext cx="828180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Формулировка задания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: укажите грамматически правильное продолжение предложе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омните!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Выбирая правильное продолжение предложения, начинающегося с деепричастного оборота, следует учитывать, что действие, о котором идёт речь в обороте, является добавочным по отношению к основному действию, речь о котором идёт в сказуемом. Следовательно, как основное, так и добавочное действие должно выполняться одним и тем же лицо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Arial"/>
              </a:rPr>
              <a:t>АЛГОРИТМ ВЫПОЛНЕНИЯ ЗАДАНИЯ А4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Найдите грамматические основы  каждого предложе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пределите, может ли подлежащее выполнить добавочное действие, обозначенное деепричастие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Если найденное вами подлежащее может выполнить действие, названное сказуемым и деепричастием, то вы нашли правильный ответ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260280"/>
            <a:ext cx="821844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81bd"/>
                </a:solidFill>
                <a:latin typeface="Arial"/>
              </a:rPr>
              <a:t>Рассуждаем вмест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Попав в кабинет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се мысли в его голове перевернулись вверх ногам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за огромным письменным столом сидел пустой костю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из кармашка костюма торчало самопишущее перо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бухгалтер первым делом уронил портфел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395280" y="260280"/>
          <a:ext cx="8220240" cy="5303880"/>
        </p:xfrm>
        <a:graphic>
          <a:graphicData uri="http://schemas.openxmlformats.org/drawingml/2006/table">
            <a:tbl>
              <a:tblPr/>
              <a:tblGrid>
                <a:gridCol w="2521080"/>
                <a:gridCol w="5699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чало предло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рамматически верное продолжение предло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еепричастный обор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зговаривая по телефону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длежащее в именительном падеже. Оно выполняет и основное,  и добавочное 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 всегда называю собеседника по и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лагол-сказуемое в форме повелительного наклонения в определённо-личном предлож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сегда называйте собеседника по и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ставное глагольное сказуемое (вспомогательный глагол + инфинитив) в значении повелительного наклонения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до всегда называть собеседника по и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лагол-сказуемое в 1-2 лице,  в изъявительном наклонении в определённо-личном предложении. Подлежащее легко восстанавливается и выполняет оба действ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сегда называю собеседника по и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18:55:15Z</dcterms:created>
  <dc:creator>user</dc:creator>
  <dc:description/>
  <dc:language>en-US</dc:language>
  <cp:lastModifiedBy>user</cp:lastModifiedBy>
  <cp:lastPrinted>2013-01-20T16:40:09Z</cp:lastPrinted>
  <dcterms:modified xsi:type="dcterms:W3CDTF">2013-01-22T11:51:55Z</dcterms:modified>
  <cp:revision>24</cp:revision>
  <dc:subject/>
  <dc:title>ГРАММАТИЧЕСКИЕ НОРМЫ</dc:title>
</cp:coreProperties>
</file>