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BBDD-9256-4DE5-9A1E-B0419601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D2BE-BDF4-43D8-81C3-A9F44CF9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B64B-8231-4AB0-9FC7-10B1AF3B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07F0-47C3-4293-A476-DEB83C16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E014-7C04-405C-94FD-ABEBDB2B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A09D-6ED0-464D-A751-C1C33714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6FA-C9B3-4F6B-AB91-843C1003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8919-732A-4183-832D-34295180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853A-D122-4F4B-9D09-EF89E058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95B7-30FF-4FC8-9B0C-4C83D276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A1B7-B227-45AB-8FCF-092D0FB4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3900-26F6-475A-9F87-C910C48C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7DB6-4A07-43C6-ACEC-0FA3B3DF9C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619280" y="1989000"/>
            <a:ext cx="5977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ook Antiqua"/>
              </a:rPr>
              <a:t>Ядовиты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 Antiqua"/>
              <a:ea typeface="Book Antiqua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2916360" y="3500280"/>
            <a:ext cx="338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ook Antiqua"/>
              </a:rPr>
              <a:t>гриб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 Antiqua"/>
              <a:ea typeface="Book Antiqua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195640" y="5950080"/>
            <a:ext cx="66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щина Эльмира Равильевна, 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ОУ СОШ №1010 г.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95280" y="475920"/>
            <a:ext cx="504036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Book Antiqua"/>
              </a:rPr>
              <a:t>Паутин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2124000" y="1994040"/>
            <a:ext cx="5040360" cy="30906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435280" y="2997000"/>
            <a:ext cx="33130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Book Antiqua"/>
              </a:rPr>
              <a:t>Мухом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378144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0755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Book Antiqua"/>
              </a:rPr>
              <a:t>Чашуйница гребенчат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968720" cy="33195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3959280" cy="3948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075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Book Antiqua"/>
              </a:rPr>
              <a:t>Пантерный мухом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4:47:40Z</dcterms:created>
  <dc:creator>Админ</dc:creator>
  <dc:description/>
  <dc:language>en-US</dc:language>
  <cp:lastModifiedBy>Admin</cp:lastModifiedBy>
  <dcterms:modified xsi:type="dcterms:W3CDTF">2013-01-25T18:16:29Z</dcterms:modified>
  <cp:revision>30</cp:revision>
  <dc:subject/>
  <dc:title>Слайд 1</dc:title>
</cp:coreProperties>
</file>