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DE3-EF96-43B3-AC27-1BE0E148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01F-E10E-412A-A767-BAFEA08A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5E5-F261-4ADA-BF5D-48F82B94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61E-EF14-46A4-B3E8-7CB6011C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B4D-F721-42E8-8669-82D3993A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391-4309-4AD9-9514-6CEF9687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CDB-FA69-4734-9584-E927F7DF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CE6-9F65-4F35-A1C5-3DE8835B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616-C11F-4655-A580-59B7AE72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0E7-691D-4EE4-9646-28CBC875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484-AFA0-403C-8895-7516AAEB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C6D-A7E4-4FD4-A45C-879D6E1B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48C8-5862-4C83-A98F-C3744D9A1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бирай только хорошо знакомые гр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Грибы срезай ножом или выкручи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Если сомневаешься – гриб в корзину не кл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432252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872400" cy="5031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2592360" cy="2552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2"/>
          <a:stretch/>
        </p:blipFill>
        <p:spPr>
          <a:xfrm>
            <a:off x="1287360" y="3357720"/>
            <a:ext cx="1916280" cy="256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"/>
          <p:cNvPicPr/>
          <p:nvPr/>
        </p:nvPicPr>
        <p:blipFill>
          <a:blip r:embed="rId3"/>
          <a:stretch/>
        </p:blipFill>
        <p:spPr>
          <a:xfrm>
            <a:off x="5508720" y="620640"/>
            <a:ext cx="2808360" cy="1722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"/>
          <p:cNvPicPr/>
          <p:nvPr/>
        </p:nvPicPr>
        <p:blipFill>
          <a:blip r:embed="rId4"/>
          <a:stretch/>
        </p:blipFill>
        <p:spPr>
          <a:xfrm>
            <a:off x="900000" y="549360"/>
            <a:ext cx="2559240" cy="1709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6299280" y="6165720"/>
            <a:ext cx="1368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ухом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1403280" y="6021360"/>
            <a:ext cx="16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антерный мухом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6227640" y="2492280"/>
            <a:ext cx="1511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аутинни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1187280" y="2349360"/>
            <a:ext cx="194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Чашуйница гребенчата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84360" y="3284640"/>
            <a:ext cx="1441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Бледная поган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635280" y="2924280"/>
            <a:ext cx="18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Ложные опя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2880000" cy="2952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732720" y="3284640"/>
            <a:ext cx="180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Желчный гри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2765520" y="3716280"/>
            <a:ext cx="3744720" cy="29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664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4:47:40Z</dcterms:created>
  <dc:creator>Админ</dc:creator>
  <dc:description/>
  <dc:language>en-US</dc:language>
  <cp:lastModifiedBy>Admin</cp:lastModifiedBy>
  <dcterms:modified xsi:type="dcterms:W3CDTF">2013-01-25T18:06:45Z</dcterms:modified>
  <cp:revision>23</cp:revision>
  <dc:subject/>
  <dc:title>Слайд 1</dc:title>
</cp:coreProperties>
</file>